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FBD-5D24-4ED0-AA88-016D560F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08A-3749-4BF1-96EF-3407912C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B41-D5A6-475F-AF4D-6E74D30E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841-FFD8-48A3-A749-DF95C499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370D-EEE1-406F-8F74-68EE85DD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5522-8ED4-43F8-933C-91E083CC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AEB7-031D-44EC-8EEB-427D028E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FFAD-988C-4328-BCE8-50A013FE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A2A9-BC4D-49F4-AC22-912FE4F9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1409-AE37-4EF8-9D05-6B333D45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5F83-8E84-4626-B501-EBBAC4AC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C26-778B-42BA-B06B-F704D93E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1EC9-D367-46DF-849A-B1DEDEE0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8ADA-83D0-483C-9D44-AD327653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765D-6679-447F-B027-0963031F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D66E-4BA4-418D-8AAD-D73EC3AF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C83B-D14E-4570-A9C6-9EF69651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35C7-EA2C-4C86-A78C-BA774EFB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6F6-B628-48F2-A50B-64C723A8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B63-C00D-483A-8BF7-C83F840D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70B-4C38-436C-810C-B3B4CB50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501-F765-4D52-BA2E-4EB1F9F8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D5F-F124-48C4-8D3E-4D3E13BC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FCC-BCDF-496F-A33D-504858DE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32B0-F5BA-41FA-BC25-FF18A480C30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06BA-7659-40CF-8A52-141BBE82D9A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19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way-Re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: 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Alice, Bob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DC: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…)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Alice, Bob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DC checks that N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the sam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DC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: 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: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…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: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timestamp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: KDC already authenticated Bo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should be unpredictable, not just a no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wise, can impersonate B to KD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nd first message: (next N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, “garbage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 forwards to KDC along with encryption of the next N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xt time A initiates a conversation, replay previous message from 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ill uses encryption for authentication…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ious attack if ECB is 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place K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with N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May discuss in more detail l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DC: 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Alice, Bo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DC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: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Bob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ticket), where ticket =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Alice, expiration tim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: ticket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tim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: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time+1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44840" y="2743200"/>
            <a:ext cx="703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tificate authorities and PKI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1-19T03:26:36Z</dcterms:modified>
  <cp:revision>1766</cp:revision>
  <dc:subject/>
  <dc:title>CMSC 414 Computer (and Network) Security</dc:title>
</cp:coreProperties>
</file>