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8EC-BAEB-4A44-A61A-D75B71F3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872-42F4-4E4C-8B39-202DD0B4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8B1-0003-4147-A481-D41EA0E6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F9F-EDAC-4FCC-A83F-75954484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5971-3932-48A7-98FE-F657DAED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B615-A44C-4B6F-879F-3A526D41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1D5E-4B8A-4561-8729-D42D1E3E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1148-9CE4-4085-9EB0-B8A56213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5584-3325-493F-9605-CD49C57D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FE37-2F77-4093-AEB7-FADA6225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AD06-B573-45CE-BB50-7CC567DA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45F-532C-494D-929F-086AF776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AC42-5848-4163-A9E0-4399B218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E34B-BAEC-48BE-B026-EF979D45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8791-18AC-4B9A-AB24-F23E6863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B461-9754-4A04-A558-217095D0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D1CB-D2A5-42ED-B023-84BB5461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E6D-D164-4E0C-8ED5-F6B042BD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700-93E5-4E51-ABE1-5D594A4A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315-605A-4ABB-AF23-B0ACE597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17D-4EE7-4E7A-A71F-47482AAC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E20-C312-4444-830A-080D85DF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3E7-2F33-4CCA-BA1B-5D924756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5BE-BEFD-44CB-BC07-C26D4BB8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A52C-95DA-40A0-B67C-4544022FCA0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44ED-9943-4426-978A-5D0958D7984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9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way-Re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: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lice, Bob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DC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…)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lice, Bob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DC checks that 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the sam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DC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: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…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timestamp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KDC already authenticated Bo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hould be unpredictable, not just a no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wise, can impersonate B to KD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nd first message: (next N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, “garbage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 forwards to KDC along with encryption of the next N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xt time A initiates a conversation, replay previous message from 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ill uses encryption for authentication…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ious attack if ECB is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place K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with N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May discuss in more detail l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DC: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lice, Bo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DC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Bob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ticket), where ticket =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lice, expiration tim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: ticket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tim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time+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44840" y="2743200"/>
            <a:ext cx="70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tificate authorities and PKI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1-19T03:26:36Z</dcterms:modified>
  <cp:revision>1766</cp:revision>
  <dc:subject/>
  <dc:title>CMSC 414 Computer (and Network) Security</dc:title>
</cp:coreProperties>
</file>