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AC7-FF65-4523-AD5D-5717681C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85F-0879-442E-A1EA-2E3E9038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218-C5DA-45C1-B23E-196B08AA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CA7-0C8F-4BED-ADF0-0EBC1A88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97D9-6DBC-45D5-9EDD-23AB85C9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761B-F7CA-4D1F-8A63-93DB83B0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298C-03B6-41DC-A0A5-149141F6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EDBF-A0C9-42D5-A6E0-F5638AA9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59F7-78D7-4BAB-97C1-A4C61B1E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82F2-AA77-4B4B-98B1-07D62D11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6ADA-8CC5-48F4-9A0D-865D8597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A53-97D7-4291-9E2A-A0524B10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C901-2088-44A6-B6FF-E5754E7C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09E1-E691-456A-BAC9-F442ED4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49DC-483E-43FB-9A5A-E76CA3E1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BB44-8038-4200-845B-35955969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2FB0-5362-4704-9258-0230EB82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D7C-2E54-4E05-8934-984D04BF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29E-2838-49C4-8753-0BEE3DD8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A58-1F82-4EDF-951A-09AF760B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04F-5896-4BF4-AA08-A49194C8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9DE-067A-49C8-B87C-6A4F7CD7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62A-0960-4B40-9F0E-3229CC05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61F-F7B0-4DC8-B90C-58BAA57E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84EF-3AA4-4D24-BF01-DE82A9EBEB3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1D85-727F-4406-A500-99CBF5426E6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confidential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rivate-key (symmetric-key)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data integr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essage authentication co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sometimes called cryptographic checksum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party (Alice) generates both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ublic k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o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ecret ke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ublic key is published; the private key is kept secr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 attacker knows the public key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ther communicating party (Bob) need not have any key of his own; knows Alice’s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chniques for this first developed in the 70’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confidential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ublic-key encryp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data integr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Digital signa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 review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dential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vate-key encryption (schem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encryption (schem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grit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ssage authentication (cod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gital signature (schem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will discuss authentication la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advantages of private-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securely share a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f you can share a key securely, why not just share the message itself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f not possibl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 to know with whom you wish to communicate in advance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(n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keys needed for point-to-point channels in an n-party net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y study private-key at al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vate-key i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muc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ore efficient (3 orders of magnitud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crypto is “harder” to get righ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eds stronger assumptions, more ma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combine private-key with public-key to get the best of both worlds (for encryp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 I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disadvantages of public-key crypt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 crypto still requires secure distribution and binding of public keys (PK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y (sometimes) be just as hard as sharing a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clear with whom you are communicating (for public-key encryptio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 more detail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 and Bob share a key 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shared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secure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mpletely rand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t be kept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mpletely secre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from attack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don’t discuss (for now) how they do th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intext - encryption - ciphertext - decryp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cryption must recover the messag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have not yet said anything about securit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items 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final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tead, 5 (more difficult) homewor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 in teams of two stud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ail TAs if you need a part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students expected to work on each portion of the home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rst homework o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items I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CE tutorial: Tuesday at 5:30. Room to be announc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96800" y="2514600"/>
            <a:ext cx="750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rything you wanted to know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bout cryptography</a:t>
            </a:r>
            <a:r>
              <a:rPr b="0" lang="en-US" sz="4400" spc="-1" strike="noStrike" baseline="30000">
                <a:solidFill>
                  <a:srgbClr val="ffcc66"/>
                </a:solidFill>
                <a:latin typeface="Times New Roman"/>
              </a:rPr>
              <a:t>*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7200" y="609588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*But perhaps were afraid to ask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ve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rything I present will be (relatively) inform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I will try not to say anything that is an outright li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graphy is about precise definitions, formal models, and rigorous proofs of security (which we will not cover her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you want more details, take CMSC 456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ypto deals primarily with three goal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grity (of dat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uthentication (of resources, people, system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goals also conside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non-repudi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-cash (e.g., double spendin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l secure multi-party compu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through obs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ways assume full details of crypto protocols and algorithms are publ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ly secret information is a 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through obscurity” is a bad idea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 vs. public-ke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many security goals, there are two types of cryptographic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vate-key / shared-key / symmetric-key / secret-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-ke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vate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parties communicating share a completely random and secret k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in point: key is not known to an attac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key must be shared (somehow) before they communic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“classical” cryptosystems are private-key ba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also be used for secure sto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09-02T20:03:40Z</dcterms:modified>
  <cp:revision>232</cp:revision>
  <dc:subject/>
  <dc:title>CMSC 414 Computer (and Network) Security</dc:title>
</cp:coreProperties>
</file>