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768B-CB3D-42EB-B7A1-0EB108932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D26F-D828-49FB-9F35-DD9E7EC2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707B-61A1-48BC-A9FC-C5590B5EC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43F9-385D-4AD3-B18B-AA29FEF8D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9076-A660-45F9-B47A-F08A2597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50CE-B84A-4AB0-8920-4A3A3432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B25E-9F22-4FE9-BA99-1F2D92F0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7D30-C8C1-450A-AAA9-49C12A2E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5FE0-2E02-44EC-972C-AE90DE9A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330E-5074-4FFA-AFF1-A5E11A09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F4F7-AAFF-4D24-BD52-5C56E383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EC89-E76C-4FB3-B1F9-2E7BCBC3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A3A3-6F78-4C40-B8E3-3982AFE9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4D83-6725-4F1B-BD86-3BBF5A34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D441-B8E2-4566-8537-88ECE9A2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173C-E8C3-48E1-A2E8-7EF58246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932D-832A-435C-AAF4-2430F76D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CBCE-E1BC-42A3-B5C4-D8F800A8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9264-6D61-4F15-BBF2-2D393154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3837-8A3D-4D3F-B1E5-06D6E6F7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BD0A-6A34-4428-9272-7E4955F4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EDA5-2EC7-437E-9483-928F4009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B85D-01F4-4BC8-98D7-30407715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1A62-14F5-4768-A791-5B69A038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CBB6-DB5E-4E1A-B451-F28BC16C608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5497-B570-4D15-8182-E8142B08918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2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vate-key cryptograph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 confidentiality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Private-key (symmetric-key) encryp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 data integrity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Message authentication cod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sometimes called cryptographic checksum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blic-key cryptograph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e party (Alice) generates both a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public ke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nd a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private ke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(or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secret ke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public key is published; the private key is kept secre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n attacker knows the public key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other communicating party (Bob) need not have any key of his own; knows Alice’s ke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chniques for this first developed in the 70’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blic-key cryptograph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 confidentiality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Public-key encryp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 data integrity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Digital signatu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o review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fidentiality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ivate-key encryption (scheme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-key encryption (scheme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grity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ssage authentication (code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gital signature (scheme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 will discuss authentication lat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vate- vs. public-key 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sadvantages of private-ke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 to securely share a ke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f you can share a key securely, why not just share the message itself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at if not possible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ed to know with whom you wish to communicate in advance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(n</a:t>
            </a:r>
            <a:r>
              <a:rPr b="0" lang="en-US" sz="28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 keys needed for point-to-point channels in an n-party networ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vate- vs. public-key 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y study private-key at all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ivate-key is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much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more efficient (3 orders of magnitud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-key crypto is “harder” to get righ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eds stronger assumptions, more mat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combine private-key with public-key to get the best of both worlds (for encryptio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vate- vs. public-key I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re disadvantages of public-key crypt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-key crypto still requires secure distribution and binding of public keys (PK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y (sometimes) be just as hard as sharing a ke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 clear with whom you are communicating (for public-key encryptio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 more detail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ice and Bob share a key 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ust be shared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securel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ust be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completely rando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ust be kept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completely secret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from attack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e don’t discuss (for now) how they do th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laintext - encryption - ciphertext - decryptio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cryption must recover the message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have not yet said anything about security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ministrative items 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 final proje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stead, 5 (more difficult) homewor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ork in teams of two stud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ail TAs if you need a partn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students expected to work on each portion of the homewor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rst homework ou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ministrative items 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CE tutorial: Tuesday at 5:30. Room to be announc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96800" y="2514600"/>
            <a:ext cx="750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verything you wanted to know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bout cryptography</a:t>
            </a:r>
            <a:r>
              <a:rPr b="0" lang="en-US" sz="4400" spc="-1" strike="noStrike" baseline="30000">
                <a:solidFill>
                  <a:srgbClr val="ffcc66"/>
                </a:solidFill>
                <a:latin typeface="Times New Roman"/>
              </a:rPr>
              <a:t>*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7200" y="6095880"/>
            <a:ext cx="43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*But perhaps were afraid to ask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ve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verything I present will be (relatively) inform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t I will try not to say anything that is an outright li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yptography is about precise definitions, formal models, and rigorous proofs of security (which we will not cover her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you want more details, take CMSC 456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ttack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ypto deals primarily with three goal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fidential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grity (of dat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uthentication (of resources, people, system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ther goals also consider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non-repudi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-cash (e.g., double spending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eneral secure multi-party comput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through obscurity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ways assume full details of crypto protocols and algorithms are publi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ly secret information is a ke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urity through obscurity” is a bad idea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vate- vs. public-ke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 many security goals, there are two types of cryptographic algorith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ivate-key / shared-key / symmetric-key / secret-ke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-ke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vate-key cryptograph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parties communicating share a completely random and secret ke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in point: key is not known to an attack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key must be shared (somehow) before they communica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l “classical” cryptosystems are private-key bas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n also be used for secure stor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Eric Gurevitz</cp:lastModifiedBy>
  <dcterms:modified xsi:type="dcterms:W3CDTF">2004-09-02T20:03:40Z</dcterms:modified>
  <cp:revision>232</cp:revision>
  <dc:subject/>
  <dc:title>CMSC 414 Computer (and Network) Security</dc:title>
</cp:coreProperties>
</file>