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F15-318D-4AA4-BA55-258AE9E2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E42-0417-4E35-B309-DAA4ECEB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AAE-B476-4C66-B89F-BBDF24E8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93E-0E89-4137-82B6-21D55B71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F42B-1A69-494F-97F5-685575C5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61F4-6906-4022-92E1-7A47BB8A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61D2-0D53-473B-9F6F-F4B16337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7E2D-E359-480C-92AE-7FD4F83C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1699-D382-4157-9E68-3B55902E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B970-6748-4FEA-82AE-B52F4A1D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DCC6-D712-4798-BF4D-9C5C447E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E1E-D92A-4907-ABCF-713300E4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6AF5-168D-455B-B1EC-5A391AC9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853A-94CE-4E4A-9C1A-B7C2BBEC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3B8E-230B-4554-A39E-F97F6C4D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54AC-4587-4590-8539-BF40F548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33AA-8479-4145-8E61-B30632EE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A4D-E86F-430B-B468-62DF817C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28E-89B7-4886-B69D-B779B945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E8A-E955-49E0-B6FC-44267CC2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AE2-61B9-4D78-A740-D4BBEAE7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5F4-3231-4C47-A225-56462C6A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4EB-FBE2-4C7D-89B6-076E21E2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89C-8E46-40F6-9382-46717942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24FC-695D-4E0E-AC1E-650C1E0B69C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7EBE-8EB9-48A4-ACB2-622EF55A495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ndling confli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flict detection databas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fore a PCA may issue a certificate to a CA, it checks for a conflict in the datab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nds a hash of the CAs dist. name, the CAs public key, and the dist. name of the P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first two fields conflict with a database entry, the two PCAs must resolve the confli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 that this only ensures uniqueness of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DN, PK) pai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ndling conflicts (in action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CAs with same dist. nam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have different public key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me CA with two different polici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use different public keys for ea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does identity mea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ltimately, identity is proved using physical me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iver’s license, fingerprint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these are compromised, then certificates are irrelevant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ificate is just a binding between external identity and (DN, PK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KI compon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ository for retrieving certific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ocation meth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thod for evaluating a chain based on known “trust anchors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Orthogonal issue: how are the keys of the trust anchors distributed?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 signs a certificate for B’s name/key, then A is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issu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B is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 wants to find a path to B’s key, then B is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targe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A is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verifi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trust anch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a public key that the verifier trusts to sign certificates (typically known to the verifier through some out-of-band mechanism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 mod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fine how a verifier chooses trust anchors, and what certification paths create a legal chain from trust anchor to targ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much to trust a particular certificat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ed 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authentication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igor with which policy is follow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ptions inherent in the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rtificate issued based on a passpo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umption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ssport not forg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ssport issued to the right pers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presenting passport is the right pers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actually checked the passport when issuing the certific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nopoly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ingle CA certifies everyo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gle point of fail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very conveni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lete monopol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monopoly not used in prac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nopoly + RA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A can appoint RA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s check identities and vouch for keys, but the CA does all actual sig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ainly more conveni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necessarily more sec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ote: RAs can be integrated into other models as wel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44840" y="2743200"/>
            <a:ext cx="70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ificate authorities and PKI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nopoly + delegated C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seen in class last tim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can issue certificates to other C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ouch for their key and also their trustworthiness as a 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legated CA can sign certificates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ote: delegation can be incorporated into other models as wel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ligarc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ltiple trust anch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multiple keys pre-configured in 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can add/remove trust anch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su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ss resistant to compromis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o says the user trusts the trust anchor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user be tricked into adding or using a “bad” anchor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rchy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s responsible for defining the trust anchors they want to 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alabil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much trust to place in a certificate cha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KI in prac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KIs are implemented in web browser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not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ertificate is meaningless without verifying the name in the certific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ertificate from an unknown CA is usel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ust” is only as good as your trust anch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 you know who your trust anchors ar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ming and certifi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ers correspond to princip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uniquely identify the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Real) names alone are not enough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.g., X.509 certifi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tinguished nam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dentify a princip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ies of fields, each with key and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 /O=University of Maryland/OU=College Park/OU=Computer Science/CN=J. Kat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” - organization; “OU” - organizational unit; “CN” = common na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ifi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ification authorities vouch for the identity of the principal to whom a certificate is issu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A authentication polic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ermines the level of authentication needed to identify the principal before the certificate is issu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A issuance polic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describes the principals to whom the CA will issue certific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single CA can “act” as multiple CAs, each with their own policies…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Verisign (1996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e levels of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ication of valid email addr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ication of name/addr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ckground che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erent authentication policies; same issuance policy (individua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other issuance policy was for issuing certificates to web serv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ificate infra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erarchical structure of CA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des correspond to 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ldren of a CA are constrained by the policies of their par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li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a single CA issues certificates under different polic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a CA issues a certificate tied to an email address, but the owner of this address chang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two CAs have the same dist. nam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two different CAs issue certificates for the same distinguished name (to different principals)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asy solu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organizational certificates, the last type of conflict can be prevented by incorporating CA name into distinguished na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es not solve the other problems, in general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1-19T17:43:45Z</dcterms:modified>
  <cp:revision>1766</cp:revision>
  <dc:subject/>
  <dc:title>CMSC 414 Computer (and Network) Security</dc:title>
</cp:coreProperties>
</file>