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E55-1098-43F3-BB58-F673DCEE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9B9-7431-4585-B8A8-68190D01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5C0-E4AF-4778-ACA3-F92B6369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196-8D71-4EC5-A1E5-52A90716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D469-6277-4567-9575-0D0B326D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1BBE-08F1-4ECE-A7BE-6876B0E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5A4-A9A2-4513-87F6-1EB56632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A87-D775-48C1-AE64-45DFE29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9C19-1A60-4FEA-8E54-0D1DE6CC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E4B8-7E1F-4ACF-A117-8EA2B32C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3D03-41D8-4BAE-A7FB-5F083F9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14D-BC70-4C99-BD49-2F79BDCE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4DF8-E944-429C-8524-00BC72ED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8557-6029-4624-B6AB-1771390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4E21-B06C-4FED-BE47-3178CBAF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6B3-FD4A-487C-A179-2FCDB50C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053C-827B-4361-B08A-6BB21DF3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7AE-42BA-484E-A134-88FB5490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C42-4D78-438D-99E0-C573C79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4D-0E31-4D43-AE2B-BC73B2CB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A11-DCB0-4D3A-B81B-D5D33E8E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32E-76ED-4E18-A812-72556C9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A76-E710-4668-AC3E-86B0B78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A34-6F10-4847-BECA-8CC61F7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660-C2DE-4272-9620-5D075A23B1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077-766C-4048-88DB-35904B02A5D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0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confli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lict detection databas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fore a PCA may issue a certificate to a CA, it checks for a conflict in the data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nds a hash of the CAs dist. name, the CAs public key, and the dist. name of the P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first two fields conflict with a database entry, the two PCAs must resolve the confli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this only ensures uniqueness of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N, PK) pa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conflicts (in actio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CAs with same dist. nam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have different public key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ame CA with two different polic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use different public keys for ea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identity mea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ltimately, identity is proved using physical me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iver’s license, fingerprin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se are compromised, then certificates are irreleva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e is just a binding between external identity and (DN, PK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ository for retrieving certifica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ocation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 for evaluating a chain based on known “trust anchors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Orthogonal issue: how are the keys of the trust anchors distributed?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signs a certificate for B’s name/key, then A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issu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B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A wants to find a path to B’s key, then B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arge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A is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verifi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trust anch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a public key that the verifier trusts to sign certificates (typically known to the verifier through some out-of-band mechanism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ine how a verifier chooses trust anchors, and what certification paths create a legal chain from trust anchor to targ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much to trust a particular certificat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authentication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gor with which policy is follow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ptions inherent in the poli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tificate issued based on a pass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ump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port not forg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ssport issued to the right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 presenting passport is the right pers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actually checked the passport when issuing the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ngle CA certifies every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ngle point of fail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very conven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ete monopoly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monopoly not used in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RA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A can appoint R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s check identities and vouch for keys, but the CA does all actual sig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ainly more conveni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necessarily more sec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e: RAs can be integrated into other models as we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44840" y="2743200"/>
            <a:ext cx="70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authorities and PKI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nopoly + delegated 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seen in class last tim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 can issue certificates to other C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uch for their key and also their trustworthiness as a 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legated CA can sign certificates it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ote: delegation can be incorporated into other models as we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igarc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trust anch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multiple keys pre-configured in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an add/remove trust anch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ss resistant to compromis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says the user trusts the trust anchor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user be tricked into adding or using a “bad” anchor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rchy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s responsible for defining the trust anchors they want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b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alabilit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much trust to place in a certificate cha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KI in prac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KIs are implemented in web browser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not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ertificate is meaningless without verifying the name in the certifica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ertificate from an unknown CA is usel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ust” is only as good as your trust ancho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you know who your trust anchors ar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ing and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ers correspond to princip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uniquely identify the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eal) names alone are not enough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.g., X.509 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tinguished nam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dentify a princip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ies of fields, each with key and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 /O=University of Maryland/OU=College Park/OU=Computer Science/CN=J. Kat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” - organization; “OU” - organizational unit; “CN” = common na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ification authorities vouch for the identity of the principal to whom a certificate is issu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authentication polic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termines the level of authentication needed to identify the principal before the certificate is issu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A issuance polic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describes the principals to whom the CA will issue certific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single CA can “act” as multiple CAs, each with their own policies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Verisign (1996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levels of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cation of valid email addr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ication of name/addr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ckground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authentication policies; same issuance policy (individua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other issuance policy was for issuing certificates to web serv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tificate infra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erarchical structure of CA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des correspond to 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of a CA are constrained by the policies of their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fli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a single CA issues certificates under different polic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a CA issues a certificate tied to an email address, but the owner of this address chang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CAs have the same dist. nam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if two different CAs issue certificates for the same distinguished name (to different principals)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asy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organizational certificates, the last type of conflict can be prevented by incorporating CA name into distinguished n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solve the other problems, in genera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jkatz</cp:lastModifiedBy>
  <dcterms:modified xsi:type="dcterms:W3CDTF">2004-11-19T17:43:45Z</dcterms:modified>
  <cp:revision>1766</cp:revision>
  <dc:subject/>
  <dc:title>CMSC 414 Computer (and Network) Security</dc:title>
</cp:coreProperties>
</file>