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8680-4174-4FF0-BEB5-B7335F9FF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3BE8-D814-469A-85D0-07F931859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05A7-D75A-4C06-B4C2-1B074109A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AE6E-95E7-4723-9C43-E28BD91B4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9CD09-7B39-4B9F-ABD7-6D6E7E913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F2D01-D122-4CE2-BAE9-08A72DB6E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519D0-69FB-405A-A05A-587FC67EE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DDE5E-A9B6-410F-84BB-00B48B876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53AB4-C60D-46BE-ACA8-2845AF0C4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5BDE8-D232-4A30-AF1F-09579645D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B1718-AB9B-406F-A752-45E2A8695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796F-4C37-4AC9-A96B-1A6688481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F762F-2BC7-4668-8244-FC6F2DA94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738CA-FFF7-4E98-93F9-A56F0E9BE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D519F-5AF9-483C-9428-B477A146B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06B19-20D7-422F-89EB-1F57C395A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E79B6-FA96-4DBE-9D19-861D1797A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A3AC-A111-4D85-885F-4A8DB768A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68A9-83BD-4A0D-A7EA-C365BA1FA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2366-5A3D-48D6-9D8D-201D63A1C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3931-1AA9-45BD-BAF1-99E3A24D4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2686-8478-455E-BC0B-6BF84065D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7F76-6DA9-4784-82AC-D4B866FA9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24EF-D657-4EFE-BA9C-93979C0D6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05600" indent="-271440">
              <a:spcBef>
                <a:spcPts val="15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085760" indent="-217080">
              <a:spcBef>
                <a:spcPts val="15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19920" indent="-217080">
              <a:spcBef>
                <a:spcPts val="15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1954440" indent="-217080">
              <a:spcBef>
                <a:spcPts val="15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1954440" indent="-217080">
              <a:spcBef>
                <a:spcPts val="15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1954440" indent="-217080">
              <a:spcBef>
                <a:spcPts val="15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1914A-D461-4677-9770-61CA85F0980B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96B30-9DCB-4E98-8265-D487BE7E48E1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CMSC 414</a:t>
            </a:r>
            <a:br>
              <a:rPr sz="4000"/>
            </a:b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Computer and Network Security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Lecture 21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13372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Jonathan Katz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Levels of anonymit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ere is a scale of anonymit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anges from no anonymity (complete identification), to partial anonymity (e.g., crowds),to complete anonymit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seudonymity is an orthogonal issue…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nonymizer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roxies that clients can connect to, and use to forward their communica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rimarily used for email, http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an also provide pseudonymit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is may lead to potential security flaws if mapping is compromise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ust trust the anonymizer…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an limit this by using multiple anonymizers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raffic analysi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f messages sent to remailers are not encrypted, it is easy to trace the sende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ven if encrypted, may be possible to perform traffic analysi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iming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essage siz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eplay attack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Http anonymizer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wo approach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entralized proxy/prox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rowds…”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mplications of anonymity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s anonymity good or bad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Unclear…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an pseudonymity help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ookies”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ookies are tokens containing state information about a transac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ay contain (for example)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ame/value; expiration tim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ntended domain (cookie is sent to any server in that domain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o requirement that cookie is sent </a:t>
            </a:r>
            <a:r>
              <a:rPr b="0" i="1" lang="en-US" sz="2400" spc="-1" strike="noStrike">
                <a:solidFill>
                  <a:srgbClr val="eaeaea"/>
                </a:solidFill>
                <a:latin typeface="Times New Roman"/>
              </a:rPr>
              <a:t>by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that domai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ecurity violations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ookies potentially violate privac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.g., connecting to one server results in a cookie that will be transmitted to another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toring authentication information in a cookie is also potentially dangerous (unless cookie is kept confidential, or other methods are used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Revoca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evocation is a key component of a PKI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ret keys stolen/compromised, user leaves organization, etc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s is 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Times New Roman"/>
              </a:rPr>
              <a:t>in addition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to expiration dates included in certificat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ertificate might need to be revoked before expiration dat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xpiration dates improve efficienc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ert. revocation lists (CRLs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A issues signed list of (un-expired) revoked key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ust be updated and released periodicall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ust include timestamp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Verifier must obtain most recent CRLs before verifying a certificat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Using “delta CRLs” improves efficiency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OLR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On-line revocation server”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Verifier queries an OLRS to find out if a certificate is still vali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f OLRS has its own key, it can certify that a certificate is valid at a certain tim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Good lists”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e previous approaches basically use lists of “bad” certificat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lso possible to use a list containing only “good” certificat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Likely to be less efficien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irectori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KIs do not require director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Users can store and present their own certificate chains to a trust ancho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irectories can make things easier, and enable non-interactive setup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Finding certificate chain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wo approaches: work “forward” from target toward a trust anchor, or “backward” from trust anchor to targe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e better approach depends on implementation detail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or example, in system with name constraints, easier to work “backward”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791880" y="2743200"/>
            <a:ext cx="273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nonymity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nonymity vs. pseudonymit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nonymit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o one can identify the source of any messag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an be achieved via the use of “persona” certificates (with “meaningless” DNs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seudonymit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o one can identify the source of a set of messages…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…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ut they can tell that they all came from the same pers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4T23:33:06Z</dcterms:created>
  <dc:creator>jkatz</dc:creator>
  <dc:description/>
  <dc:language>en-US</dc:language>
  <cp:lastModifiedBy>jkatz</cp:lastModifiedBy>
  <dcterms:modified xsi:type="dcterms:W3CDTF">2004-11-24T02:02:55Z</dcterms:modified>
  <cp:revision>1791</cp:revision>
  <dc:subject/>
  <dc:title>CMSC 414 Computer (and Network) Security</dc:title>
</cp:coreProperties>
</file>