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ED7-39FD-4796-82FB-CFBEFB7A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CC0-28F6-4E4D-BD7C-B1312FD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415-9F1D-41B0-B5B4-2F36F762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513-352B-421D-8FD8-FED782CD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E3B-65AF-4790-863F-AED5D6C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AF74-4DC6-44ED-8BDE-650FF5CD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9D5-4CE9-47AD-A096-FC134DB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0850-80BD-41FA-B68E-64978A22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04E5-1D5A-41F3-BFE2-FD74E09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4093-C2A0-4988-A66D-B68E5A6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7D9D-FB6E-481B-AB18-16F3AD9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950-9704-4DF5-A8B6-01DF2B6F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B22-94EB-44DE-A234-2CA43FE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408-CF97-401F-9CFF-6E2987B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0ED6-4E81-4A85-AABE-D05E1388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F07-B200-43E3-8562-AB108131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CA3-141B-4A01-9C55-F4B3E65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CD-9A6B-443D-9F6C-663A988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CF8-C6FB-42E0-972B-32A47231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908-AA46-42A9-89F2-D8861AF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70A-0312-479D-9736-2994FFD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BB8-E089-4022-9B15-E39C000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D52-0AE5-4199-B4A4-C353A22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1AB-6801-42C9-BF5E-06A68881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F3A-326E-4C93-9448-84F3B0F260B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E27-AF06-480F-A827-8FC4C49B9D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1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vels of 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is a scale of an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nges from no anonymity (complete identification), to partial anonymity (e.g., crowds),to complete an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eudonymity is an orthogonal issu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xies that clients can connect to, and use to forward their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marily used for email, htt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provide pseud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may lead to potential security flaws if mapping is compromi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st trust the anonymiz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limit this by using multiple anonymize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ffic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messages sent to remailers are not encrypted, it is easy to trace the sen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n if encrypted, may be possible to perform traffic analy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siz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play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ttp anonymiz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ntralized proxy/prox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owds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ications of anonym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anonymity good or ba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pseudonymity help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okie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s are tokens containing state information about a trans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 contain (for example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me/value; expiration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nded domain (cookie is sent to any server in that domai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 requirement that cookie is sent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hat doma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violatio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okies potentially violate priva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connecting to one server results in a cookie that will be transmitted to anoth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oring authentication information in a cookie is also potentially dangerous (unless cookie is kept confidential, or other methods are us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cation is a key component of a PK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ret keys stolen/compromised, user leaves organiza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 addi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o expiration dates included in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e might need to be revoked before expiration d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iration dates improve ef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. revocation lists (CRL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issues signed list of (un-expired) revoked ke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updated and released periodic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include timesta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er must obtain most recent CRLs before verifying a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ing “delta CRLs” improves efficienc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-line revocation server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rifier queries an OLRS to find out if a certificate is still val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OLRS has its own key, it can certify that a certificate is valid at a certain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od list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revious approaches basically use lists of “bad”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possible to use a list containing only “good”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kely to be less effic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recto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KIs do not require direct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an store and present their own certificate chains to a trust anch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rectories can make things easier, and enable non-interactive set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certificate chai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approaches: work “forward” from target toward a trust anchor, or “backward” from trust anchor to targ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etter approach depends on implementation detai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example, in system with name constraints, easier to work “backward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91880" y="274320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 vs. pseud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can identify the source of any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achieved via the use of “persona” certificates (with “meaningless” DN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seudonym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one can identify the source of a set of messag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they can tell that they all came from the same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24T02:02:55Z</dcterms:modified>
  <cp:revision>1791</cp:revision>
  <dc:subject/>
  <dc:title>CMSC 414 Computer (and Network) Security</dc:title>
</cp:coreProperties>
</file>