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054-0604-4C8E-A260-034E1D34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4A1-2FFE-4A4D-81C2-9ACF90C8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C8D-DBAF-428C-AA93-1636EDAC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E14-AC2D-4E67-A214-22E0B52A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9635-1F0D-4ADA-8C76-5E44A35A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C013-1EDA-400C-B6BF-3ED6D7F9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48D8-C27C-4D3B-AB6D-D8A75C7D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4768-599D-457F-93FC-77A32FA5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F6A4-2909-477D-92BD-0F5A93DB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12C5-CBF2-4121-AB04-30BE14D8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FEE9-8A52-431F-AF9C-21160815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4824-CB32-4F76-9A6B-C33A31CA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D737-C9A2-4A50-8456-3DAAFDB6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A80E-9587-4AED-A828-F18BDDEC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0F98-5039-446C-AB9A-0861C91E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F325-D02F-475C-98B2-DD7FB731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21A5-36A7-4D90-A0E3-6F663DB4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B9B-0B5C-437F-B0EC-B0AAE397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38C-5B0B-48E0-AF1F-1817C846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76E-C07C-4097-ADE5-FD951DB5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AAE-80E9-4746-8C24-D84DB70E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4BF-530D-442D-892C-FF14B904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FCD-02BF-43D1-B400-DE1CEDED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CC0-92B9-4E16-B458-08EC3FF5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08576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1992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954440" indent="-217080">
              <a:spcBef>
                <a:spcPts val="15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E756-101F-42CA-89EC-20DACCB8FF0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4113-A916-4737-86E4-A499782E19A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MSC 414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puter and Network Securit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ecture 22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nathan Kat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ake home message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st solution may involve changes at both the OS and applications lay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“best” solution i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run SSL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Psec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uld have been better to design system with security in mind from the beginning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Keep in mind for future systems…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84320" y="2743200"/>
            <a:ext cx="454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Psec: AH and ES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Psec consists of two compon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H/ES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d once a key is established (either using IKE or out-of-band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K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 be used to establish a ke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associations (SA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 SA is a crypto-protected conne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SA in each direction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 each end, the SA contains a key, the identity of the other party, the sequence number, and crypto paramet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Psec header indicates which SA to 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osen by destin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n’t go into more detail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on SA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ies will maintain a database of SAs for currently-open conne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d both to send and receive packe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H vs. ES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uthentication header (AH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ides integrity on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apsulating security payload (ESP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ides encryption and/or integ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th provide cryptographic protection of everything beyond the IP header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H additionally provides integrity protection of some fields of the IP hea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port vs. tunnel m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Transport mod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add IPsec information between IP header and rest of pack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P header | IPsec | pack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st logical when IPsec used end-to-e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port vs. tunnel m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Tunnel mod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keep original IP packet intact; add new header inform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 IP header | IPSec | old header | pack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be used when IPSec is applied at intermediate point along path (e.g., for firewall-to-firewall traffi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.g., change source/destination info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ults in slightly longer pack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e that data may be encrypted multiple tim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rewalls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blem if data used for decision-making (like higher-layer information) is encrypted end-to-e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guments pro and con as to whether this data should be encrypted or no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on A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H provides integrity protection on head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t some fields chang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en rout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ly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immutabl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fields are included in the integrity che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Mutable but predictabl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fields are also included in the integrity che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payload leng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fin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value of the field is u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890000" y="2743200"/>
            <a:ext cx="65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work security in practic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on AH vs. ES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call that ESP provides encryption and/or authent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 why do we need AH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H also protects the IP hea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ort restri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rewalls need some high-level data to be unencryp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e of these are compelling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future of IPsec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e long run, it seems that AH will become obsole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tter to encrypt everything anyw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real need for A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ertain performance disadvant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H is complex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Psec is still evolv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work lay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l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po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wor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ata lin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ysic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oughly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Application laye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the communicating processes themselves and the actual messages transmit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Transport laye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handles transmissions on an “end-to-end” ba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Network laye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 handles transmissions on a “hop-by-hop” ba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lication layer: PGP, SS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port layer: SSL/T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twork layer: IPse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not usually provided at the data link layer, except possible within closed networks (e.g., military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urity at the physical layer? (Shielded wires…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in what layer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pends on the purpose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nformation needs to be protecte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is the attack model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o shares keys in advance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ould the user be involve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.g., a network-layer protocol cannot authenticate two end-users to each oth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 application-layer protocol cannot protect IP header inform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so affects efficiency, ease of deployment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: PGP vs. SSL vs. IPse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GP is an application-level protocol for “secure email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provide security on “insecure” syst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s choose when to use PGP; user must be involv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ice’s signature on an email proves that Alice actually generated the message, and it was received unaltered; also non-repudi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contrast, SSL would secure “the connection” from Alice’s compu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: PGP vs. SSL vs. IPse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SL sits “on top of” the transport lay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d-to-end security, best for connection-oriented sess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 does not need to be involv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OS does not have to be chang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sy to modify applications to use SS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SSL rejects packet accepted by TCP, then TCP rejects “correct” packet when it arrive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SL must then close the connection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: PGP vs. SSL vs. IPse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Psec sits “on top of” the network lay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d-to-end or hop-by-hop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est for connectionless channe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to modify 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applications are “protected” by default, without requiring any change to applications or actions on behalf of us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only authenticate hosts, not us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r completely unaware that IPsec is run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23:33:06Z</dcterms:created>
  <dc:creator>jkatz</dc:creator>
  <dc:description/>
  <dc:language>en-US</dc:language>
  <cp:lastModifiedBy>Eric Gurevitz</cp:lastModifiedBy>
  <dcterms:modified xsi:type="dcterms:W3CDTF">2004-12-02T17:10:37Z</dcterms:modified>
  <cp:revision>1816</cp:revision>
  <dc:subject/>
  <dc:title>CMSC 414 Computer (and Network) Security</dc:title>
</cp:coreProperties>
</file>