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B04-7091-46A0-BA6F-8E3445B6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72B-1208-4A76-9258-6C9AE88A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CD5-904F-4442-97B5-6B4ED54B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420-886B-4046-BCCD-8948241A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AB9F-A4D7-4AA7-94E9-E5769501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EB35-BEA9-4D0F-AD04-A4F21F4A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D05C-08FC-403E-A889-C5E5CF68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CFE1-550B-442D-B3A1-BD8F48AB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151C-7ED3-4473-A419-5D7A2500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EEB5-ABAA-4E33-9CA3-F0CD1BE8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59F4-A7BF-4FB2-8337-014811E6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E80-2214-491C-9F32-246C234A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BE15-EDE8-4E7C-B639-3C814F8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651B-06C5-4B1D-9CFE-719D281A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EEDA-AA85-4913-B44E-999722D0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D3FC-AE50-4BB8-B802-3965F5A8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11A0-5A7A-4488-93D0-56940F0B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D9A-2284-4AAC-B2DD-110C7D72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8D0-DCE3-46C5-AF91-E6024C4C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75D-51C7-4752-82D4-89095682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18B-A10C-4558-A10D-15987883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6F0-85BE-4478-9731-E0B46808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490-F8C1-4882-8908-4D03F65C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1A5-9365-476E-8B18-ED611A8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232F-9EB6-414B-9C7B-D7CD3A7EF48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B713-15CA-4767-B629-0029515788F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2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ake home messag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st solution may involve changes at both the OS and applications lay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“best” solution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run SSL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Psec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uld have been better to design system with security in mind from the beginning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Keep in mind for future systems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84320" y="2743200"/>
            <a:ext cx="454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Psec: AH and ES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Psec consists of two compon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H/ES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d once a key is established (either using IKE or out-of-ban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used to establish a 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associations (SA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SA is a crypto-protected conn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SA in each directio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each end, the SA contains a key, the identity of the other party, the sequence number, and crypto parame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Psec header indicates which SA to 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sen by dest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n’t go into more detail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on SA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ies will maintain a database of SAs for currently-open conne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d both to send and receive packe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H vs. ES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thentication header (AH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s integrity on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apsulating security payload (ES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s encryption and/or integ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th provide cryptographic protection of everything beyond the IP header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H additionally provides integrity protection of some fields of the IP hea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port vs. tunnel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ransport mod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add IPsec information between IP header and rest of pac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P header | IPsec | pa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st logical when IPsec used end-to-e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port vs. tunnel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unnel mod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keep original IP packet intact; add new header infor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IP header | IPSec | old header | pa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used when IPSec is applied at intermediate point along path (e.g., for firewall-to-firewall traffi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change source/destination info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ults in slightly longer pa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 that data may be encrypted multiple ti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rewall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blem if data used for decision-making (like higher-layer information) is encrypted end-to-e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guments pro and con as to whether this data should be encrypted or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on A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H provides integrity protection on hea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some fields chang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en rout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ly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mmutab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fields are included in the integrity che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Mutable but predictab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fields are also included in the integrity che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payload leng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value of the field is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90000" y="2743200"/>
            <a:ext cx="65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 security in practic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on AH vs. ES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all that ESP provides encryption and/or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 why do we need AH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H also protects the IP hea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ort restri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ewalls need some high-level data to be unencryp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e of these are compelling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uture of IPsec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long run, it seems that AH will become obsole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ter to encrypt everything anyw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real need for A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ain performance disadvant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H is complex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Psec is still evol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 lay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po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ata lin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ysic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ughly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plication laye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the communicating processes themselves and the actual messages transmit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ransport laye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handles transmissions on an “end-to-end” b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Network laye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handles transmissions on a “hop-by-hop” b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lication layer: PGP, SS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port layer: SSL/T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work layer: IPse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not usually provided at the data link layer, except possible within closed networks (e.g., military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at the physical layer? (Shielded wires…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in what laye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ends on the purpos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nformation needs to be protect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s the attack model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o shares keys in advanc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uld the user be involv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a network-layer protocol cannot authenticate two end-users to each o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application-layer protocol cannot protect IP header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affects efficiency, ease of deployment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PGP vs. SSL vs. IPs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GP is an application-level protocol for “secure email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provide security on “insecure”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choose when to use PGP; user must be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’s signature on an email proves that Alice actually generated the message, and it was received unaltered; also non-repudi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ontrast, SSL would secure “the connection” from Alice’s compu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PGP vs. SSL vs. IPs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SL sits “on top of” the transport lay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d-to-end security, best for connection-oriented ses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does not need to be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S does not have to be chang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sy to modify applications to use SS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SSL rejects packet accepted by TCP, then TCP rejects “correct” packet when it arrive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SL must then close the connection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PGP vs. SSL vs. IPs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Psec sits “on top of” the network lay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d-to-end or hop-by-hop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st for connectionless channe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modify 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pplications are “protected” by default, without requiring any change to applications or actions on behalf of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only authenticate hosts, not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completely unaware that IPsec is run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4-12-02T17:10:37Z</dcterms:modified>
  <cp:revision>1816</cp:revision>
  <dc:subject/>
  <dc:title>CMSC 414 Computer (and Network) Security</dc:title>
</cp:coreProperties>
</file>