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94B-2481-46BF-A636-FC7AA648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95D-535A-4201-8100-3BF7B0A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E57-227C-4ECF-AD11-89E9FA91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9D4-F6C6-405F-A90D-21F0AEF5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113-C6C4-4FCF-9B9E-783C10D7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EFFC-D4E3-4620-8A25-C28F6437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173F-D1F0-4838-8D7D-AC50D31A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8834-FCD7-45BC-A7C7-D0F064AB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0C7A-3335-434F-9C84-80E1795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3802-EEF3-4752-BDF9-6AAB529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97FB-7FA0-484A-B4BE-D6B7D4C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ED6-FA2C-4612-842B-61D51E5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9D81-42E4-4997-9B6B-D4F2958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BCA2-32B4-4A38-8370-CB4200A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141-2619-4A1A-81CA-32D991D8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788-C319-4756-BEB3-1D36016C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4577-8B0C-479F-8709-0FD3DB69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100-0303-4523-BADE-4E51427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F38-1DE8-4DF8-969D-96C405C1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339-371F-4F0A-8404-131DA8A1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E8C-27A9-4956-8BE4-98DB6EA9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3F9-7082-4243-8F54-025CF02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9D9-6C4A-40FC-A859-A5EF91F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0A4-0E85-42EC-802A-B93602E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D965-DE31-4F4C-9AE8-E54AF6CE333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F5D0-2E29-4D6D-82DE-C99AF0CA15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3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ase 1 session ke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session keys are defined in phase 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each for encryption/authent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keys are used to protect the final phase 1 messages as well as all phase 2 mess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keys are derived from the DH key using has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ails in the book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ggressive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sends 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“Alice”, crypto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choices are restricted by this mess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b sends 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choice of crypto algorithm, “proof” that he is really B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Bob does not support any of the suggested algorithms, he simply does not rep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there is no way to authenticate a refusal, since no session key yet establish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sends “proof” that she is Al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n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otiate crypto algorithms (2 round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and Bob do anonymous Diffie-Hellman key exchange (2 round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sends “Alice” plus a proof that she is Alice, all encrypted using 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b does similarly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ofs” of ident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end on which type of long-term shared key is being u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ilar (in spirit) to the authentication protocols discussed in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ails in book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KE seems to be overly comple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 almost certainly be replaced with an updated stand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012200" y="2743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SL/T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ief histor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SLv2 deployed in Netscape 1.1 (199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crosoft improved upon i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scape deployed SSLv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commonly deploy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ETF introduced T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ilar, but incompatibl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re, we just say “SSL”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oad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SL runs on top of TCP, in a user-level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all, does not require changes to the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ing TCP rather than UDP simplifies th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all, this opens a potential DoS atta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protocol 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(client) sends “hello”, supported crypto, and nonce 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b (server) sends a certificate, selects crypto, and sends nonce R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ice encrypts S with Bob’s public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/Bob derive key(s) from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R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careful about which encryption scheme is used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flow, continued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each authenticate the initial handshake using the shared key(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keys are used to encrypt/authenticate all subsequent commun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parate keys shared for encryption and authenticatio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n each dir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for IVs… (but this is a flaw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quence numbers used to prevent repl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49840" y="2743200"/>
            <a:ext cx="261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Psec: IK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t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described, SSL only provides only one-way authentication (server-to-clien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generally common for clients to have public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do mutual authentication over SSL using, e.g., a pass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SL also allows for clients to have public ke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ssion resum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cause it was designed with http traffic in mind, one “session” can be used to derive many secure “connection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assigns a session_id and stores that along with the master secret key; sends session_id to client during handshake protoc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nection keys” can be derived from the master key (assumes the client remembers it) and fresh no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always re-derive a master key (expensive!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attacks (and fixe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-in-the-middle can downgrade the acceptable crypto in Alice’s first mess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of the problems with negotiating crypto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xed by authenticating handshake ph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adversary could also close a connection early (TCP close_connection_request was not integrity-protect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xed by adding “finish” message which is authentic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 of 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KE provides mutual authentication, establishes shared key, and creates 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s a long-term shared key, and uses this to establish a session key (as well as to provide authentica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Key typ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signature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encryption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mmetric ke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KE ph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ase 1: long-term keys used to derive a session key (and provide authenticatio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ase 2: session key used to derive S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…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theory, can run phase 1 once, followed by multiple executions of phase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practice, this rarely happ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KE phas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ggressive m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 mo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 mess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ditional featur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onym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gotiation of crypto parame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nym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ocols can be designed so that identities of parties are hidden from eavesdropp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while providing authentication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protect anonymity of one side against active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m to protec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itiator: since responder’s identity is know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ponder: since otherwise it is easy to get anyone’s ident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ty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mentioned earlier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 are there two PK opt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ature-based o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scr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gal rea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-based o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used to provide anonymity in both dire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s tremendously to the complex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ypto parameter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ice of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ryption method (DES, 3DES, 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sh function (MD5, SHA-1, 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method (e.g., key type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ie-Hellman group (e.g., (g, p), etc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mplete set of protocols (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ui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must be spec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gotiating paramet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y protocols allow parties to negotiate cryptographic algorithms and parame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users to migrate to stronger crypto; increases inter-operability (somewha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, opens up a potential attack if not authenticated somehow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so makes for more complicated implemen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2-06T15:21:15Z</dcterms:modified>
  <cp:revision>1838</cp:revision>
  <dc:subject/>
  <dc:title>CMSC 414 Computer (and Network) Security</dc:title>
</cp:coreProperties>
</file>