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F6F-0FB5-4FA4-8FCA-0CC03994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7C4-EB27-482F-A90A-C1FB9BFC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27D-490D-4749-BE93-FDCC31D7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F1A-3422-499E-8D65-81EEA608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F18C-44E4-4018-A558-76D0EE34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76B-C5CA-42D2-AB03-13448E7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1DB5-FDC0-42FF-AF55-4254675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2A0-03E3-4933-8449-6511FD77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028-C40F-496C-85E2-CEA7B8C3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0C9-EB64-4F08-8498-ED60967B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E0A0-5425-437F-95DB-D87FB5F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78C-EBC9-4033-B2DA-61CD5BEB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097E-95BA-4797-95B1-22262F0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D79-E8AB-4EBF-851B-D0C7072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89F-77CE-4DC7-BEC3-2E44E5E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B15F-5B0F-4F99-A70D-6B862593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461D-65D2-41F2-BE9C-4E5571C0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899-98DA-4278-8E3D-41C000D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9B2-C7CB-451F-B7A0-411A5B6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218-9E42-4BEB-AA6D-B86FC035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6BF-B77C-4E44-A44D-1F32963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2D7-852B-4F5A-9AE9-3A0FDD3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091-7030-4E7D-A86F-4B0DD2D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FFA-2558-4379-9637-6DA2AD7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087-DF73-45B6-B667-5B4B875D376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5B7-98BA-465E-A74A-DEDEC5189EC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ase 1 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session keys are defined in phase 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each for encryption/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keys are used to protect the final phase 1 messages as well as all phase 2 mess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keys are derived from the DH key using has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ails in the boo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gressive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sends 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“Alice”, crypto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choices are restricted by this mess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b sends 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choice of crypto algorithm, “proof” that he is really B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Bob does not support any of the suggested algorithms, he simply does not re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there is no way to authenticate a refusal, since no session key yet establish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sends “proof” that she is Al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otiate crypto algorithms (2 roun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and Bob do anonymous Diffie-Hellman key exchange (2 roun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sends “Alice” plus a proof that she is Alice, all encrypted using 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b does similarl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ofs” of ident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end on which type of long-term shared key is being u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ilar (in spirit) to the authentication protocols discussed in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ails in book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KE seems to be overly comple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 almost certainly be replaced with an updated stand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12200" y="2743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SL/T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ief histor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SLv2 deployed in Netscape 1.1 (199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crosoft improved upon i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scape deployed SSLv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commonly deploy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ETF introduced T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, but incompatib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e, we just say “SSL”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oad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SL runs on top of TCP, in a user-level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all, does not require changes to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ing TCP rather than UDP simplifies th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all, this opens a potential DoS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rotocol 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(client) sends “hello”, supported crypto, and nonce 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b (server) sends a certificate, selects crypto, and sends nonce 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encrypts S with Bob’s public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/Bob derive key(s) from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careful about which encryption scheme is us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flow,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each authenticate the initial handshake using the shared key(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keys are used to encrypt/authenticate all subsequent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parate keys shared for encryption and authentic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n each dir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for IVs… (but this is a flaw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quence numbers used to prevent repl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49840" y="2743200"/>
            <a:ext cx="261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IK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described, SSL only provides only one-way authentication (server-to-clien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generally common for clients to have public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do mutual authentication over SSL using, e.g., a pass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SL also allows for clients to have public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resum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cause it was designed with http traffic in mind, one “session” can be used to derive many secure “connection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assigns a session_id and stores that along with the master secret key; sends session_id to client during handshake protoc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nection keys” can be derived from the master key (assumes the client remembers it) and fresh no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ways re-derive a master key (expensive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attacks (and fixe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-in-the-middle can downgrade the acceptable crypto in Alice’s first mess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of the problems with negotiating crypto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xed by authenticating handshake ph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adversary could also close a connection early (TCP close_connection_request was not integrity-protect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xed by adding “finish” message which is authentic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 of 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KE provides mutual authentication, establishes shared key, and creates 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s a long-term shared key, and uses this to establish a session key (as well as to provide authenti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Key ty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signature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encryption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mmetric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KE ph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ase 1: long-term keys used to derive a session key (and provide authentica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ase 2: session key used to derive S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…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ory, can run phase 1 once, followed by multiple executions of phase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practice, this rarely happ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KE phas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gressive m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m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itional featur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otiation of crypto parame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ocols can be designed so that identities of parties are hidden from eavesdropp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while providing authentica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protect anonymity of one side against active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m to protec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itiator: since responder’s identity is know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der: since otherwise it is easy to get anyone’s ident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mentioned earlier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 are there two PK op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ature-based o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scr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gal rea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-based o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used to provide anonymity in both dire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s tremendously to the complex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 parameter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ice of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method (DES, 3DES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 function (MD5, SHA-1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method (e.g., key type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ie-Hellman group (e.g., (g, p)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lete set of protocols (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ui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must be spec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gotiating parame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y protocols allow parties to negotiate cryptographic algorithms and parame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users to migrate to stronger crypto; increases inter-operability (somewha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, opens up a potential attack if not authenticated somehow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so makes for more complicated implemen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2-06T15:21:15Z</dcterms:modified>
  <cp:revision>1838</cp:revision>
  <dc:subject/>
  <dc:title>CMSC 414 Computer (and Network) Security</dc:title>
</cp:coreProperties>
</file>