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733-CB08-4CC3-A132-94C8EB24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36A-68CA-4991-BA94-0F9D910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574-2A6B-4B62-AA08-A7D446D9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AB3-4863-4689-B6A0-E81B9EF5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B6F-09BB-45D8-BD02-79B0C3DE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974-0A7E-4E63-9330-585DBD4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8A0A-AA84-4DDE-B9C4-3EF4B5E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23D-B1E0-4EBF-B468-DE8F8EFE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5092-61C7-4D80-9872-3D68C87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8EB-20D1-41F7-A27A-372902F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6FE3-5885-4CDF-9DD9-8B47BCB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FBD-2E83-4516-842D-B9A81859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B323-B278-40C6-A965-6AB3DE6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D50E-F5EA-40B4-9F15-A40304B3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2687-60E9-4255-B2BA-3785D5CD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689E-4472-4E6B-A008-5724D81D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401F-9C26-4E19-9C6F-5E0A682D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5A5-DE83-41C7-9D64-317E1D3B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303-718A-4D90-9941-FBA13C6A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DFF-6846-4F51-856D-D148C53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597-A921-4CDD-AD11-7583354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980-1E88-401A-95BA-45F9A6B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1AD-18A6-4E23-B0E9-4E8E33C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9F6-11B9-4E20-9FF3-06AF378D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F004-A47C-43A2-82C5-040FFF4C7D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6D3-9AD9-4F2F-B5A6-B7FE6167CC0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oss-site scrip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olation of privac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 rule: always check inputs from untrusted sourc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e-to-check vs. time-of-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ization/synchronization” fla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resenting command; then changing command while it is being ver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vert chann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ally inserted by programmers into software, to later leak informa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s in book…e.g., spacing information in printed page, forma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examples: “file lock” channel, existence/non-existence of file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covert chann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ed resource matrix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bulates subjects and the resources thave have access 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ormation flow analysis (in source c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B = A” supports info. flow from A to 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(D == 1) then B = A” supports info. flow from D to B also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ce information flow throughout program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ing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word checking routin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ca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44960" y="2743200"/>
            <a:ext cx="58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/preventing flaw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netration testing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ed to finding/patching existing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not be used to guarantee that software is free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ching flaws in this way has its own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rrows focus to fixing a specific flaw, rather than addressing issues more broad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introduce new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omated te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cessful to some ex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to catch al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ditional program verification/testing focuses on what a program should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, we are concerned with things a program shoul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ques for preventing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programm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mental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programming langu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compi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fault iso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qu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erring tru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rce authentication/code sig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of-carrying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S contr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dbox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-call interposition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boot of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52800" y="2743200"/>
            <a:ext cx="60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contr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ular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roves ability to locate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verify/fix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apsulation/information hi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er review/testing/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omated code 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79000" y="2743200"/>
            <a:ext cx="7960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programming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Based on: “Programming Secure Applic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Unix-Like Systems,” David Wheel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e all in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buffer overflo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intern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ful calls to other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d info back intellig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e., programming-language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ious focus was on protocols and algorithms to preven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y implemented correctl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, focus is on programming errors and how to deal with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ing/eliminating/finding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ing damage resulting from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ying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a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backdoor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ntentiona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rogrammer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0% of reported vulner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flowing a buffer results in data written elsewhe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’s data space/program ar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data/program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luding the stack, or memory hea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occur in other contex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rameters passed via UR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se a web server contains a function:</a:t>
            </a:r>
            <a:br>
              <a:rPr sz="28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void func(char *str) {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char buf[128]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strcpy(buf, str);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do-something(buf);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the function is invoked the stack looks lik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 </a:t>
            </a:r>
            <a:r>
              <a:rPr b="1" lang="en-US" sz="2800" spc="-1" strike="noStrike">
                <a:solidFill>
                  <a:srgbClr val="200b5b"/>
                </a:solidFill>
                <a:latin typeface="Courier New"/>
              </a:rPr>
              <a:t>*st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is  136 bytes long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41480" y="4213080"/>
            <a:ext cx="6003720" cy="751680"/>
            <a:chOff x="1941480" y="4213080"/>
            <a:chExt cx="6003720" cy="751680"/>
          </a:xfrm>
        </p:grpSpPr>
        <p:sp>
          <p:nvSpPr>
            <p:cNvPr id="102" name=""/>
            <p:cNvSpPr/>
            <p:nvPr/>
          </p:nvSpPr>
          <p:spPr>
            <a:xfrm>
              <a:off x="5824440" y="4439160"/>
              <a:ext cx="46728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3040" y="4439160"/>
              <a:ext cx="106308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ret-add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15680" y="4439160"/>
              <a:ext cx="50976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f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78120" y="4435200"/>
              <a:ext cx="1544760" cy="37656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buf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4880" y="443520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84880" y="48117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1480" y="444024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1480" y="48117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2960" y="4213080"/>
              <a:ext cx="732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top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of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ac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083040" y="4962240"/>
              <a:ext cx="3201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41480" y="5749920"/>
            <a:ext cx="6003720" cy="751680"/>
            <a:chOff x="1941480" y="5749920"/>
            <a:chExt cx="6003720" cy="751680"/>
          </a:xfrm>
        </p:grpSpPr>
        <p:grpSp>
          <p:nvGrpSpPr>
            <p:cNvPr id="113" name=""/>
            <p:cNvGrpSpPr/>
            <p:nvPr/>
          </p:nvGrpSpPr>
          <p:grpSpPr>
            <a:xfrm>
              <a:off x="1941480" y="5749920"/>
              <a:ext cx="6003720" cy="751680"/>
              <a:chOff x="1941480" y="5749920"/>
              <a:chExt cx="6003720" cy="751680"/>
            </a:xfrm>
          </p:grpSpPr>
          <p:sp>
            <p:nvSpPr>
              <p:cNvPr id="114" name=""/>
              <p:cNvSpPr/>
              <p:nvPr/>
            </p:nvSpPr>
            <p:spPr>
              <a:xfrm>
                <a:off x="5824440" y="5976000"/>
                <a:ext cx="467280" cy="368280"/>
              </a:xfrm>
              <a:prstGeom prst="rect">
                <a:avLst/>
              </a:prstGeom>
              <a:solidFill>
                <a:srgbClr val="eeb00b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str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84880" y="59720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84880" y="63482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41480" y="597672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41480" y="63482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12960" y="5749920"/>
                <a:ext cx="73224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top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of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stack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083040" y="6499080"/>
                <a:ext cx="320184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78120" y="5976720"/>
                <a:ext cx="3052800" cy="37152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*str                      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22880" y="5976720"/>
                <a:ext cx="0" cy="371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18240" y="5976720"/>
                <a:ext cx="0" cy="371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18240" y="5976720"/>
              <a:ext cx="1012680" cy="37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2720" y="597204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ahoma"/>
                </a:rPr>
                <a:t>re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explo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se stack looks lik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1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  </a:t>
            </a: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unc(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exits,  user will be given a shell  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 attack code run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 s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2147760"/>
            <a:ext cx="6705000" cy="1641600"/>
            <a:chOff x="1371600" y="2147760"/>
            <a:chExt cx="6705000" cy="1641600"/>
          </a:xfrm>
        </p:grpSpPr>
        <p:sp>
          <p:nvSpPr>
            <p:cNvPr id="129" name=""/>
            <p:cNvSpPr/>
            <p:nvPr/>
          </p:nvSpPr>
          <p:spPr>
            <a:xfrm>
              <a:off x="6416640" y="26809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16640" y="30571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26859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0571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4360" y="2458800"/>
              <a:ext cx="732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top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of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ac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513160" y="3207960"/>
              <a:ext cx="3201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8240" y="2685960"/>
              <a:ext cx="4208400" cy="371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      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*str                 ret    Code for 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5300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4800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2292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8000" y="2147760"/>
              <a:ext cx="619200" cy="539640"/>
            </a:xfrm>
            <a:custGeom>
              <a:avLst/>
              <a:gdLst/>
              <a:ahLst/>
              <a:rect l="l" t="t" r="r" b="b"/>
              <a:pathLst>
                <a:path w="390" h="340">
                  <a:moveTo>
                    <a:pt x="0" y="340"/>
                  </a:moveTo>
                  <a:cubicBezTo>
                    <a:pt x="12" y="292"/>
                    <a:pt x="24" y="244"/>
                    <a:pt x="48" y="196"/>
                  </a:cubicBezTo>
                  <a:cubicBezTo>
                    <a:pt x="72" y="148"/>
                    <a:pt x="104" y="84"/>
                    <a:pt x="144" y="52"/>
                  </a:cubicBezTo>
                  <a:cubicBezTo>
                    <a:pt x="184" y="20"/>
                    <a:pt x="254" y="8"/>
                    <a:pt x="288" y="4"/>
                  </a:cubicBezTo>
                  <a:cubicBezTo>
                    <a:pt x="322" y="0"/>
                    <a:pt x="331" y="14"/>
                    <a:pt x="347" y="30"/>
                  </a:cubicBezTo>
                  <a:cubicBezTo>
                    <a:pt x="363" y="46"/>
                    <a:pt x="378" y="64"/>
                    <a:pt x="384" y="100"/>
                  </a:cubicBezTo>
                  <a:cubicBezTo>
                    <a:pt x="390" y="136"/>
                    <a:pt x="385" y="208"/>
                    <a:pt x="384" y="244"/>
                  </a:cubicBezTo>
                  <a:cubicBezTo>
                    <a:pt x="383" y="280"/>
                    <a:pt x="378" y="303"/>
                    <a:pt x="377" y="318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2840" y="3390480"/>
              <a:ext cx="43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Program P:   </a:t>
              </a:r>
              <a:r>
                <a:rPr b="1" lang="en-US" sz="2000" spc="-1" strike="noStrike">
                  <a:solidFill>
                    <a:srgbClr val="200b5b"/>
                  </a:solidFill>
                  <a:latin typeface="Courier New"/>
                </a:rPr>
                <a:t>exec( “/bin/sh” 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63280" y="3824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Comic Sans MS"/>
              </a:rPr>
              <a:t>(exact shell code by Aleph On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ckers find buffer overflows as follow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 web server on local mach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 requests with long tags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long tags end with    “$$$$$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b server crashes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arch core dump for  “$$$$$” to fi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flow lo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plete medi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changing symbolic link between checking and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arameters passed via UR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rameters may be checked at client-sid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checking still necessary server-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changing prices in URL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8T05:01:26Z</dcterms:modified>
  <cp:revision>2007</cp:revision>
  <dc:subject/>
  <dc:title>CMSC 414 Computer (and Network) Security</dc:title>
</cp:coreProperties>
</file>