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AD9-9548-4501-A135-9891884E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C34F-B7F4-432B-A558-47A88C0B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AE1-20A9-458F-8BFD-6DA0B0D9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A10C-C377-49CA-9FCD-164202A1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242E-5535-402E-92D7-9E20F903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DF3F-276B-478F-BDCE-9BCCCD13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E584-2CDE-40F0-9F17-C19DAB09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F60E-D00E-440E-8EA4-EF6FD6C7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C35D-E166-444B-A782-60684C7F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B856-5FDE-4FF2-8C28-DF2ABF8B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96FA-907F-4198-AFDE-1B97AED0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B06-D1CD-48F3-A8C4-F15E877C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A53C-DA54-468E-91DB-1B02F25D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CFD4-9CD4-4D28-ABCC-31144B97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A171-B20B-4BB3-9DC7-2B0E0EB0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8FC9-8200-4767-AD48-FE86D481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88A7-BFFB-4F7A-9B92-13F6C888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6733-DC8F-4D35-AFF4-AD155AF9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D6E-E33E-496B-8632-6303B4BC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3AA-EED3-4C62-902B-D76BC4C2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542-DAF9-4007-8532-CE7DC586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72B7-2DCE-41BD-A8FA-F71DA52D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ED8-C7B1-430C-935B-19D3EA33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FB4-7766-4A52-ABBF-0C3DDD0D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FFFE-AB8A-45AE-877F-5E06A632D7F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6C5A-8586-4496-8455-498978F81F6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5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urce code scann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d to check source co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flawfinder, cqu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atic” analysis vs. “dynamic” analy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perf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ynamic analysis can slow down execution, lead to bloated c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ll see examples of dynamic analysis later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37680" y="2743200"/>
            <a:ext cx="604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gher-level” techniqu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dressing buffer overflo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ic stack exploit can be prevented by marking 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ck segment as non-executable, or randomizing stack locati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de patches exist for Linux and Solari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me complications on x86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blem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 not defend against `return-to-libc’ exploi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verflow sets ret-addr to address of libc function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me apps need executable stack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(e.g. LISP interpreters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 not block more general overflow exploit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verflow on heap:  overflow buffer next to func pointer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atch not shipped by default for Linux and Solar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un-time checking: StackGua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bed “canaries” in stack frames and verify their integrity prior to function retur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41920" y="4158360"/>
            <a:ext cx="46728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t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68520" y="4158360"/>
            <a:ext cx="48708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re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2800" y="4158360"/>
            <a:ext cx="50976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f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1800" y="4154400"/>
            <a:ext cx="1047600" cy="37620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lo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22320" y="3917880"/>
            <a:ext cx="7322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top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of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88480" y="4908600"/>
            <a:ext cx="70138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02720" y="3917880"/>
            <a:ext cx="0" cy="749520"/>
          </a:xfrm>
          <a:prstGeom prst="line">
            <a:avLst/>
          </a:prstGeom>
          <a:ln w="381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59400" y="4154400"/>
            <a:ext cx="1020600" cy="376200"/>
          </a:xfrm>
          <a:prstGeom prst="rect">
            <a:avLst/>
          </a:prstGeom>
          <a:solidFill>
            <a:srgbClr val="ff33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canar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9960" y="4158360"/>
            <a:ext cx="46728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t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36560" y="4158360"/>
            <a:ext cx="48708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re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40840" y="4158360"/>
            <a:ext cx="50976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f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88840" y="4159080"/>
            <a:ext cx="1047960" cy="37656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lo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86240" y="3917880"/>
            <a:ext cx="0" cy="749520"/>
          </a:xfrm>
          <a:prstGeom prst="line">
            <a:avLst/>
          </a:prstGeom>
          <a:ln w="381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27080" y="4159080"/>
            <a:ext cx="1020960" cy="371520"/>
          </a:xfrm>
          <a:prstGeom prst="rect">
            <a:avLst/>
          </a:prstGeom>
          <a:solidFill>
            <a:srgbClr val="ff33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canar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7936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Frame 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2028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Frame 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93880" y="3917880"/>
            <a:ext cx="0" cy="749520"/>
          </a:xfrm>
          <a:prstGeom prst="line">
            <a:avLst/>
          </a:prstGeom>
          <a:ln w="381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nary ty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Random canary: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(used in Visual Studio 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2003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oose random string at program startup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sert canary string into every stack fram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erify canary before returning from functi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corrupt random canary, attacker must learn current random string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Terminator canary:</a:t>
            </a:r>
            <a:br>
              <a:rPr sz="24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ary =  0, newline, linefeed, EO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ring functions will not copy beyond terminat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ttacker cannot use string functions to corrupt sta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naries, continue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ackGuard implemented as a GCC pat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gram must be recompil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nimal performance effect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 foolproof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un-time checking: Libsaf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cepts calls to  strcpy (dest, sr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alidates sufficient space in current stack frame: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|frame-pointer – dest| &gt; strlen(sr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so, does strcpy.  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therwise, terminates appl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5161680"/>
            <a:ext cx="84132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des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03600" y="5161680"/>
            <a:ext cx="106308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ret-add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64400" y="5161680"/>
            <a:ext cx="50976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f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315040"/>
            <a:ext cx="836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10280" y="5532480"/>
            <a:ext cx="836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2320" y="4935600"/>
            <a:ext cx="7322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top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of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5160240"/>
            <a:ext cx="53172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r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12080" y="5156280"/>
            <a:ext cx="836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40480" y="5308560"/>
            <a:ext cx="836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2560" y="5160240"/>
            <a:ext cx="152100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bu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47000" y="5160240"/>
            <a:ext cx="106308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ret-add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800" y="5160240"/>
            <a:ext cx="509760" cy="368280"/>
          </a:xfrm>
          <a:prstGeom prst="rect">
            <a:avLst/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f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41480" y="4935600"/>
            <a:ext cx="0" cy="74916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91360" y="4935600"/>
            <a:ext cx="0" cy="74916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97480" y="609912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libsaf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73120" y="606600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30440" y="5549400"/>
            <a:ext cx="4343400" cy="211680"/>
            <a:chOff x="1630440" y="5549400"/>
            <a:chExt cx="4343400" cy="211680"/>
          </a:xfrm>
        </p:grpSpPr>
        <p:sp>
          <p:nvSpPr>
            <p:cNvPr id="154" name=""/>
            <p:cNvSpPr/>
            <p:nvPr/>
          </p:nvSpPr>
          <p:spPr>
            <a:xfrm>
              <a:off x="1630440" y="5549760"/>
              <a:ext cx="0" cy="21132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30440" y="5761080"/>
              <a:ext cx="4343400" cy="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973840" y="5549400"/>
              <a:ext cx="0" cy="21132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200400" y="4876560"/>
            <a:ext cx="1219320" cy="285840"/>
            <a:chOff x="3200400" y="4876560"/>
            <a:chExt cx="1219320" cy="285840"/>
          </a:xfrm>
        </p:grpSpPr>
        <p:sp>
          <p:nvSpPr>
            <p:cNvPr id="158" name=""/>
            <p:cNvSpPr/>
            <p:nvPr/>
          </p:nvSpPr>
          <p:spPr>
            <a:xfrm flipV="1">
              <a:off x="3200400" y="4876560"/>
              <a:ext cx="0" cy="28548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4876560"/>
              <a:ext cx="1217520" cy="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17920" y="4876920"/>
              <a:ext cx="1800" cy="28548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rot="16200000">
            <a:off x="1631880" y="4911480"/>
            <a:ext cx="164880" cy="2210040"/>
          </a:xfrm>
          <a:custGeom>
            <a:avLst/>
            <a:gdLst>
              <a:gd name="textAreaLeft" fmla="*/ 105480 w 164880"/>
              <a:gd name="textAreaRight" fmla="*/ 165240 w 1648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5470560" y="4655880"/>
            <a:ext cx="207720" cy="2763720"/>
          </a:xfrm>
          <a:custGeom>
            <a:avLst/>
            <a:gdLst>
              <a:gd name="textAreaLeft" fmla="*/ 132840 w 207720"/>
              <a:gd name="textAreaRight" fmla="*/ 208080 w 207720"/>
              <a:gd name="textAreaTop" fmla="*/ 72000 h 2763720"/>
              <a:gd name="textAreaBottom" fmla="*/ 2691720 h 27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methods 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dress obfus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rypt return address on stack by XORing with random string.  Decrypt just before returning from func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tacker needs decryption key to set return address to desired valu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X ASL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 Randomize location of lib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tacker cannot jump directly to exec fun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ftware fault iso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ition code into data and code seg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de inserted before each load/store/jum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y that target address is saf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be done at compiler, link, or run 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reases program size, slows down execu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for mobile c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bile code is particularly dangerou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ndbox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mit the ability of code to do harmful thin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de-sig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chanism to decide whether code should be trusted or no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veX uses code-signing, Java uses sandboxing (plus code-signing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9000" y="2743200"/>
            <a:ext cx="79606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e programming techniqu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Based on: “Programming Secure Application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Unix-Like Systems,” David Wheel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de sig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de producer signs co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inary notion of tru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f code producer compromised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ck of PKI =&gt; non-scalable approa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of-carrying code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put: code, safety policy of cli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put: safety proof for co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of generation expens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of verification cheap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e once, use everywhere (with same polic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er/compiler need not be trus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ly need to trust the verifi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ndboxing in Jav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cus on preventing system modification and violations of user priva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nial of service attacks much harder to prevent, and not handled all that wel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will discuss some of the basics, but not all the most up-to-date variants of the Java security mod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ndbox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default sandbox applied to untrusted co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s can change the default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also define “larger” sandboxes for “partially trusted” c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ust in code determined using code-signing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example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fault sandbox prevent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ding/writing/deleting files on client syst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sting directory cont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eating new network connections to other hosts (other than originating hos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ndbox compon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erifier, Class loader, and Security Manag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an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f these fail, security may be compromi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erifi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ava program is compiled to platform-independent Java byte co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s code is verified before it is ru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vents, for example, malicious “hand-written” byte c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 gains by checking code before it is run, rather than constantly checking it while run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erifier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eck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te code is well-format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forged poin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violation of access restri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incorrect typ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 course, cannot be perfect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ass loa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lps prevent “spoofed” classes from being load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external class claiming to be the security manag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never a class needs to be loaded, this is done by a class loa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lass loader decides where to obtain the code for the cl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manag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tricts the way an applet uses Java API ca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calls to the OS are mediated by the security manag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managers are browser-dependent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lidate all inp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buffer overflow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gram internal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reful calls to other 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d info back intelligent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call monito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itor all system ca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force particular poli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licy may be loaded in kern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nd-tune policy for individual applic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milar to Java security manag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fference in where implemen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449440" y="2743200"/>
            <a:ext cx="542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ruses/malicious cod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ruses/malicious c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rus – passes malicious code to other non-malicious progra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 documents with “executable” compon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ojan horse – software with unintended side effec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orm – propagates via net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ypically stand-alone software, in contrast to viruses which are attached to other progra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ru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insert themselves before program, can surround program, or can be interspersed throughout program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 last case, virus writer needs to know about the specifics of the other progr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ways to “insert” viru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ert virus in memory at (old) location of original progr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nge pointer structur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ruse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ot sector viru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a virus is loaded early in the boot process, can be very difficult (impossible?) to det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ory-resident viru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 that virus might complicate its own det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removing virus name from list of active programs, or list of files on dis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examp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AIN vir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cates itself in upper memory; resets the upper memory bound below it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aps “disk reads” so that it can handle any requests to read from the boot sect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inherently malicious, although some variants we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ris worm (1988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ource exhaustion (unintende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as supposed to have only one copy running, but did not work correctly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read in three wa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ploited buffer overflow flaw in finge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ploited flaw in sendmail debug m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uessing user passwords(!) on current networ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otstrap loader would be used to obtain the rest of the w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ernobyl virus (1998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n infected program run, virus becomes resident in memory of mach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booting does not hel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rus writes random garbage to hard dr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mpts to trash FLASH BI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hysically destroys the hardwar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lissa virus/worm (1999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ord macro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file opened, would create and send infected document to names in user’s Outlook Express mailbox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ipient would be asked whether to disable macros(!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macros enabled, virus would laun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de red (200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pagated itself on web server running Microsoft’s Internet Information Serv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ection using buffer overflow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agation by checking IP addresses on port 80 of the PC to see if they are vulner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alidating inpu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termine acceptable input, check for match --- don’t just check against list of “non-matches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mit maximum leng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tch out for special characters, escape char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eck bounds on integer val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sendmail bug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tecting viru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try to look for “signature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nreliable unless up-to-d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crypted viru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ymorphic viru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ine stor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zes of files, “jump” instruction at beginning of c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be hard to distinguish from normal softw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eck for (unusual) execution patter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rd to distinguish from normal software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alidating inpu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lenam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allow *, ..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tml, URLs, cook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f. cross-site scripting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and-line argu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n argv[0]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fig fi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ing buffer overflo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arrays instead of pointers (cf. Jav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strcpy(), strcat()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strncpy(), strncat(), inste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n these are not perfect… (e.g., no null termina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buffers (slightly) longer than necessary to avoid “off-by-one” err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gram internal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void race condi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authorizing file access, then opening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tch out for temporary files in shared directories (e.g., /tmp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tch out for “spoofed” IP addresses/email address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mple, open design; fail-safe defaults; completge mediation;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write your own crypto algorith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crypto appropriate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lling other resour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only “safe” library routi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mit call parameters to valid val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void metacharac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calling the she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r outpu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nimize feedb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explain failures to untrusted u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release version number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offer “too much” help (suggested filenames, etc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use printf(userInpu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printf(“%s”, userInput) instead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2-09T20:46:20Z</dcterms:modified>
  <cp:revision>2009</cp:revision>
  <dc:subject/>
  <dc:title>CMSC 414 Computer (and Network) Security</dc:title>
</cp:coreProperties>
</file>