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889-0763-4547-A3EF-449605D1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E19-1065-4AF7-A04A-08B02167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06A-7A11-45D3-B368-FD1DA557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CD7-8319-4321-A6F7-6082ACE2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AD72-2F49-44FF-829B-8C9D93B0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F80F-4FD4-48F1-ABF9-0163876E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9828-FEAE-4A85-8A6C-DA6B5003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AC67-1502-465E-87FB-7E60C868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7190-C965-451D-901C-C025FFE1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A857-2D7D-4743-B519-32BC3DCE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668A-C473-4D31-8AEF-9BB9671F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85A-4EDC-430B-87CC-B9633542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AE7E-3235-4019-8009-C0FF1DAA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4E2E-490D-4824-9B5F-F7394AC2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8E04-73DA-4DA6-BEAC-4D6CF4FA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66F9-20A9-4238-AD5F-11FDC637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A763-A1EC-4E8F-A928-EB5CEDA2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14E-668D-4DDB-96BD-9AAE2F7A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22F-80A2-44A6-9142-7F8633F8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F51-843F-4674-B695-FEDCC471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551-E09B-4292-B1E2-8DE9F45A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28D-BDD3-4F47-9DCA-8121EB69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F9D-DE5A-4F0F-8E60-E03764FB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4D7-7E86-40D2-9CC3-6E8B7BAD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5A4E-C389-40C6-8656-EEBB64C4495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517E-2A14-4C08-B0B7-600C723068B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5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urce code scann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d to check source c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flawfinder, cqu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atic” analysis vs. “dynamic” analy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perf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ynamic analysis can slow down execution, lead to bloated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see examples of dynamic analysis later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37680" y="2743200"/>
            <a:ext cx="604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gher-level” techniqu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dressing buffer overflo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ic stack exploit can be prevented by marking 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ck segment as non-executable, or randomizing stack loca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de patches exist for Linux and Solari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e complications on x86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blem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 not defend against `return-to-libc’ explo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verflow sets ret-addr to address of libc function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e apps need executable stack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(e.g. LISP interpreters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 not block more general overflow exploit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verflow on heap:  overflow buffer next to func pointer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atch not shipped by default for Linux and Solar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un-time checking: StackGu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bed “canaries” in stack frames and verify their integrity prior to function retu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41920" y="4158360"/>
            <a:ext cx="46728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t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68520" y="4158360"/>
            <a:ext cx="48708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re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2800" y="4158360"/>
            <a:ext cx="50976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f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1800" y="4154400"/>
            <a:ext cx="1047600" cy="37620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lo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22320" y="3917880"/>
            <a:ext cx="7322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top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of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88480" y="4908600"/>
            <a:ext cx="70138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02720" y="3917880"/>
            <a:ext cx="0" cy="749520"/>
          </a:xfrm>
          <a:prstGeom prst="line">
            <a:avLst/>
          </a:prstGeom>
          <a:ln w="381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59400" y="4154400"/>
            <a:ext cx="1020600" cy="376200"/>
          </a:xfrm>
          <a:prstGeom prst="rect">
            <a:avLst/>
          </a:prstGeom>
          <a:solidFill>
            <a:srgbClr val="ff33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canar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9960" y="4158360"/>
            <a:ext cx="46728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t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36560" y="4158360"/>
            <a:ext cx="48708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re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40840" y="4158360"/>
            <a:ext cx="50976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f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88840" y="4159080"/>
            <a:ext cx="1047960" cy="37656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lo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86240" y="3917880"/>
            <a:ext cx="0" cy="749520"/>
          </a:xfrm>
          <a:prstGeom prst="line">
            <a:avLst/>
          </a:prstGeom>
          <a:ln w="381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27080" y="4159080"/>
            <a:ext cx="1020960" cy="371520"/>
          </a:xfrm>
          <a:prstGeom prst="rect">
            <a:avLst/>
          </a:prstGeom>
          <a:solidFill>
            <a:srgbClr val="ff33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canar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7936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Frame 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2028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Frame 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93880" y="3917880"/>
            <a:ext cx="0" cy="749520"/>
          </a:xfrm>
          <a:prstGeom prst="line">
            <a:avLst/>
          </a:prstGeom>
          <a:ln w="381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nary ty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Random canary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(used in Visual Studio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2003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oose random string at program startup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sert canary string into every stack fram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rify canary before returning from func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corrupt random canary, attacker must learn current random strin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Terminator canary:</a:t>
            </a:r>
            <a:br>
              <a:rPr sz="24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ary =  0, newline, linefeed, EO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ring functions will not copy beyond terminat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tacker cannot use string functions to corrupt st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naries, 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ackGuard implemented as a GCC pat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 must be recompil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nimal performance effect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 foolproof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un-time checking: Libsaf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cepts calls to  strcpy (dest, sr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alidates sufficient space in current stack frame: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|frame-pointer – dest| &gt; strlen(sr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so, does strcpy.  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wise, terminates appl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5161680"/>
            <a:ext cx="84132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des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03600" y="5161680"/>
            <a:ext cx="106308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ret-add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64400" y="5161680"/>
            <a:ext cx="50976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f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315040"/>
            <a:ext cx="836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10280" y="5532480"/>
            <a:ext cx="836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2320" y="4935600"/>
            <a:ext cx="7322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top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of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5160240"/>
            <a:ext cx="53172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r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12080" y="5156280"/>
            <a:ext cx="836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40480" y="5308560"/>
            <a:ext cx="836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2560" y="5160240"/>
            <a:ext cx="152100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bu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47000" y="5160240"/>
            <a:ext cx="106308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ret-add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800" y="5160240"/>
            <a:ext cx="50976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f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41480" y="4935600"/>
            <a:ext cx="0" cy="74916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91360" y="4935600"/>
            <a:ext cx="0" cy="74916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97480" y="60991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libsa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73120" y="606600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30440" y="5549400"/>
            <a:ext cx="4343400" cy="211680"/>
            <a:chOff x="1630440" y="5549400"/>
            <a:chExt cx="4343400" cy="211680"/>
          </a:xfrm>
        </p:grpSpPr>
        <p:sp>
          <p:nvSpPr>
            <p:cNvPr id="154" name=""/>
            <p:cNvSpPr/>
            <p:nvPr/>
          </p:nvSpPr>
          <p:spPr>
            <a:xfrm>
              <a:off x="1630440" y="5549760"/>
              <a:ext cx="0" cy="2113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30440" y="5761080"/>
              <a:ext cx="4343400" cy="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973840" y="5549400"/>
              <a:ext cx="0" cy="2113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200400" y="4876560"/>
            <a:ext cx="1219320" cy="285840"/>
            <a:chOff x="3200400" y="4876560"/>
            <a:chExt cx="1219320" cy="285840"/>
          </a:xfrm>
        </p:grpSpPr>
        <p:sp>
          <p:nvSpPr>
            <p:cNvPr id="158" name=""/>
            <p:cNvSpPr/>
            <p:nvPr/>
          </p:nvSpPr>
          <p:spPr>
            <a:xfrm flipV="1">
              <a:off x="3200400" y="4876560"/>
              <a:ext cx="0" cy="28548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4876560"/>
              <a:ext cx="1217520" cy="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17920" y="4876920"/>
              <a:ext cx="1800" cy="28548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rot="16200000">
            <a:off x="1631880" y="4911480"/>
            <a:ext cx="164880" cy="2210040"/>
          </a:xfrm>
          <a:custGeom>
            <a:avLst/>
            <a:gdLst>
              <a:gd name="textAreaLeft" fmla="*/ 105480 w 164880"/>
              <a:gd name="textAreaRight" fmla="*/ 165240 w 164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5470560" y="4655880"/>
            <a:ext cx="207720" cy="2763720"/>
          </a:xfrm>
          <a:custGeom>
            <a:avLst/>
            <a:gdLst>
              <a:gd name="textAreaLeft" fmla="*/ 132840 w 207720"/>
              <a:gd name="textAreaRight" fmla="*/ 208080 w 207720"/>
              <a:gd name="textAreaTop" fmla="*/ 72000 h 2763720"/>
              <a:gd name="textAreaBottom" fmla="*/ 2691720 h 27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methods 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dress obfus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 return address on stack by XORing with random string.  Decrypt just before returning from func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tacker needs decryption key to set return address to desired valu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X ASL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 Randomize location of lib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tacker cannot jump directly to exec fun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ftware fault iso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ition code into data and code seg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de inserted before each load/store/jum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y that target address is saf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be done at compiler, link, or run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reases program size, slows down exec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for mobile c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bile code is particularly dangerou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ndbox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mit the ability of code to do harmful thin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de-sig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chanism to decide whether code should be trusted or n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veX uses code-signing, Java uses sandboxing (plus code-signing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9000" y="2743200"/>
            <a:ext cx="7960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e programming techniqu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Based on: “Programming Secure Applicatio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Unix-Like Systems,” David Wheel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de sig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de producer signs c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inary notion of tru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f code producer compromise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ck of PKI =&gt; non-scalable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of-carrying code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put: code, safety policy of cli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: safety proof for c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of generation expens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of verification cheap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once, use everywhere (with same polic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er/compiler need not be trus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ly need to trust the verifi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ndboxing in Jav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cus on preventing system modification and violations of user priva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nial of service attacks much harder to prevent, and not handled all that we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will discuss some of the basics, but not all the most up-to-date variants of the Java security mod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ndbox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default sandbox applied to untrusted c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s can change the default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lso define “larger” sandboxes for “partially trusted”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ust in code determined using code-signing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example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fault sandbox prevent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ding/writing/deleting files on client syst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sting directory cont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ing new network connections to other hosts (other than originating hos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ndbox compon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erifier, Class loader, and Security Manag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f these fail, security may be compromi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erifi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ava program is compiled to platform-independent Java byte c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code is verified before it is ru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vents, for example, malicious “hand-written” byte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 gains by checking code before it is run, rather than constantly checking it while run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erifier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eck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te code is well-format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forged poin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violation of access restri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incorrect typ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 course, cannot be perfect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 loa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lps prevent “spoofed” classes from being load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external class claiming to be the security manag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ever a class needs to be loaded, this is done by a class loa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lass loader decides where to obtain the code for the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manag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tricts the way an applet uses Java API ca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calls to the OS are mediated by the security manag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managers are browser-dependent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lidate all inp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buffer overflo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gram internal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eful calls to other 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d info back intelligent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 monito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itor all system ca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force particular poli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licy may be loaded in kern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nd-tune policy for individual applic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milar to Java security manag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fference in where implemen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49440" y="2743200"/>
            <a:ext cx="542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ruses/malicious cod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ruses/malicious c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rus – passes malicious code to other non-malicious progra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 documents with “executable” compon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ojan horse – software with unintended side effe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orm – propagates via net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ypically stand-alone software, in contrast to viruses which are attached to other progra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ru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insert themselves before program, can surround program, or can be interspersed throughout program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last case, virus writer needs to know about the specifics of the other progr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ways to “insert” viru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ert virus in memory at (old) location of original progr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nge pointer structur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ruse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ot sector viru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a virus is loaded early in the boot process, can be very difficult (impossible?) to det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ory-resident viru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 that virus might complicate its own det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removing virus name from list of active programs, or list of files on dis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exam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IN vir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cates itself in upper memory; resets the upper memory bound below it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ps “disk reads” so that it can handle any requests to read from the boot sect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inherently malicious, although some variants we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ris worm (1988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ource exhaustion (unintende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as supposed to have only one copy running, but did not work correctly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read in three wa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loited buffer overflow flaw in finge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loited flaw in sendmail debug m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uessing user passwords(!) on current networ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otstrap loader would be used to obtain the rest of the w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ernobyl virus (1998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infected program run, virus becomes resident in memory of mach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booting does not hel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rus writes random garbage to hard dr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s to trash FLASH BI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ysically destroys the hardwar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lissa virus/worm (1999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ord macro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file opened, would create and send infected document to names in user’s Outlook Express mailbox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ipient would be asked whether to disable macros(!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macros enabled, virus would laun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de red (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pagated itself on web server running Microsoft’s Internet Information Serv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ection using buffer overflow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agation by checking IP addresses on port 80 of the PC to see if they are vulner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alidating inp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termine acceptable input, check for match --- don’t just check against list of “non-matches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mit maximum leng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tch out for special characters, escape char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eck bounds on integer val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sendmail bug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tecting viru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try to look for “signature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nreliable unless up-to-d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crypted viru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ymorphic viru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ine stor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zes of files, “jump” instruction at beginning of c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hard to distinguish from normal softw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eck for (unusual) execution patter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rd to distinguish from normal software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alidating inp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lenam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allow *, ..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tml, URLs, cook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f. cross-site scripting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and-line argu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argv[0]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ig fi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ing buffer overflo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arrays instead of pointers (cf. Jav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strcpy(), strcat()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strncpy(), strncat(), inste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these are not perfect… (e.g., no null termin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buffers (slightly) longer than necessary to avoid “off-by-one” err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gram internal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oid race cond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authorizing file access, then opening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tch out for temporary files in shared directories (e.g., /tm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tch out for “spoofed” IP addresses/email addres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ple, open design; fail-safe defaults; completge mediation;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write your own crypto algorith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crypto appropriate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lling other resour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only “safe” library routi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mit call parameters to valid val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oid metacharac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calling the she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r outp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nimize feedb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explain failures to untrusted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release version number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offer “too much” help (suggested filenames, etc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use printf(userInpu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printf(“%s”, userInput) instead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2-09T20:46:20Z</dcterms:modified>
  <cp:revision>2009</cp:revision>
  <dc:subject/>
  <dc:title>CMSC 414 Computer (and Network) Security</dc:title>
</cp:coreProperties>
</file>