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D4E9-8C0A-44BA-9506-D2238087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DFCA-7536-442E-B799-EFA3B007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56FC-ED68-418E-9855-93D63E1B6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2881-F508-4B96-AE03-8643BA2A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F7E2-F4CF-47F5-B28F-C5D57A91A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323F-FB71-46D0-95B3-0DA79F86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4644-58FB-4148-851D-FDDF7162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3988-10BD-486A-8538-42DD0A4B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EDE9-FA2E-421C-9973-6BBDEB37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E347-59E6-46D5-A302-3F451E4E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AD66-287C-4437-9B22-38A658D5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4741-52FE-49D9-B7C6-3F490284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782B-ABA5-4FAC-ADA1-0E3C4D31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6E91-DEDC-4256-AFC9-AEA64DDD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EE4F-A9DF-4B9A-B6D0-F9EA7519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C995-F332-4BDC-A6CC-91B9EFD07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246F-FE85-4952-A7F1-631BAA198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CC98-5191-4722-BBBC-400CA1FA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90B8-1AF9-48F4-BD86-57EAF929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CED1-8D3E-4234-BE35-40E4088D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72CF-3FD9-42EA-A731-6A683446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F11F-AB25-449B-A970-3BEB8732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0593-A704-4FD8-B1DD-590DCF9D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30D7-5E14-41FF-9F22-5C49C345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E4E1-65CA-4835-935D-562E1E94644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60DD-FF2D-42CD-9832-DD3ACA93B4F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3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goal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versary unable to recover the ke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cessary, but meaningless on its own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versary unable to recover entire plaintex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ood, but is it enough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versary unable to determine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any information at all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about the plaintex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unds great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we achieve i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ne-time pa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One-time pad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perties of one-time pad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hieves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perfec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secre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eavesdropper (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no matter how powerfu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 can determin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an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nformation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whatsoev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bout the plaintex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Essentially) useless in practice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ong key leng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only be used once (hence the name!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vate-key encryp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ice and Bob share a key 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st be shared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secure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st b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completely rando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st be kept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completely secre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from attack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 don’t discuss (for now) how they do th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intext - encryption - ciphertext - decryptio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cryption must recover the message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through obscurity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ways assume full details of crypto protocols and algorithms are publi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ly secret information is a ke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urity through obscurity” is a bad idea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hift ciph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tack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y space is too small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secure against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ciphertext-only atta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requency analy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dex of coincid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an attacker can recover the key, a scheme is clearly insec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at about the converse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ltiple other attacks and proble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bstitution ciph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tack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ch larger key spa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finitely not secure against known-plaintext atta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so not secure against ciphertext-only attack (frequency analysis, digrams, trial and erro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aving a large key space is necessary, but not sufficient, to guarantee security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Note that adversary can still recover the key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ttack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typical standard is security against chosen-plaintext attac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urity against chosen-ciphertext attacks is increasingly requir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te that the one-time pad is insecure against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known-plaintext attac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al of the story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n’t use “simple” schem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oroughly analyze schemes before us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tter yet, use schemes that other, smarter people have already analyzed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good definition of security is critic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-thinking the problem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do we mean by security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.e., not being able to determine the key?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ypes of att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fect secur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e-time p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putational secur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lock ciphers and modes of encryp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S and A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otions of Secur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constitutes a “break”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kind of attack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te: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alway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assume adversary knows full details of the scheme (except the key…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Nev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im for “security through obscurity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Eric Gurevitz</cp:lastModifiedBy>
  <dcterms:modified xsi:type="dcterms:W3CDTF">2004-09-07T19:47:12Z</dcterms:modified>
  <cp:revision>294</cp:revision>
  <dc:subject/>
  <dc:title>CMSC 414 Computer (and Network) Security</dc:title>
</cp:coreProperties>
</file>