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AD6-D56B-4D59-94D6-C82AE2FB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0AC-C732-4EF4-BB9E-E4B0DF4A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AED-FEA0-4D74-B4F6-B1378285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BB57-B0B3-4A87-821A-BCB33590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1CC2-11C8-49DA-9087-ACE73B83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B7CC-A5E6-481B-B25E-0842DD10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1475-5DF8-4545-A8E7-677B24A1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5163-AAFC-406D-B084-2EF2B0E5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8915-820F-48E7-BF94-B619A816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D8AC-4213-45D4-9E1E-4E799164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AEF1-4B93-4E44-A002-DAD8123D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731-74FB-4413-80E8-0631DF71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D586-6BE7-4C88-8DDD-6FE4768F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7AA4-002A-4EFA-AC62-A7AB0F5D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0FAE-C21F-47A5-89F8-60EB743E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AA56-7CB3-48FC-976C-D278D041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954D-827B-4470-AF47-5F1BB0F3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A2C-B67A-48F1-859E-5FCFBEF1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07B-1282-4440-A4D4-DBDAD615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55D-6BFD-4059-AFBB-093E3102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900-511D-45B5-8FFC-A0D1905F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082-1042-44A6-92AC-71C97942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DC6-D85A-42C3-AFBD-753C2627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384-5DD6-4B65-98FA-ACAA5B30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BA59-D3DC-427A-B2CA-4E1CD3D6FAC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62A9-D84D-424D-A13C-5767F28FB0A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3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goal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ersary unable to recover the k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cessary, but meaningless on its ow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ersary unable to recover entire plaintex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od, but is it enough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ersary unable to determin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ny information at al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bout the plaintex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unds great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we achieve i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-time pa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One-time pa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erties of one-time pad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hieves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perfe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secre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eavesdropper (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no matter how powerfu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can determin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n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formatio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whatsoev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bout the plaintex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Essentially) useless in practic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ng key leng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only be used once (hence the name!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key encry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ice and Bob share a key 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share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ecure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ompletely rand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kept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ompletely secre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rom attack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don’t discuss (for now) how they do th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intext - encryption - ciphertext - decrypt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cryption must recover the message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through obscur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ways assume full details of crypto protocols and algorithms are publ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ly secret information is a 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through obscurity” is a bad idea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hift ciph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ack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y space is too small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ecure against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iphertext-only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equency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dex of coincid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an attacker can recover the key, a scheme is clearly insec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about the convers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ltiple other attacks and probl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bstitution ciph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ack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ch larger key sp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itely not secure against known-plaintext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so not secure against ciphertext-only attack (frequency analysis, digrams, trial and erro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ving a large key space is necessary, but not sufficient, to guarantee securit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Note that adversary can still recover the ke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tack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ypical standard is security against chosen-plaintext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against chosen-ciphertext attacks is increasingly requ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 that the one-time pad is insecure agains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known-plaintext att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al of the stor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use “simple” schem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oroughly analyze schemes before us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tter yet, use schemes that other, smarter people have already analyzed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good definition of security is critic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-thinking the problem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do we mean by securit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.e., not being able to determine the key?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ypes of attac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fect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-time p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utational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lock ciphers and modes of encry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S and A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tions of 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constitutes a “break”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kind of attack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: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ssume adversary knows full details of the scheme (except the key…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im for “security through obscurity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Eric Gurevitz</cp:lastModifiedBy>
  <dcterms:modified xsi:type="dcterms:W3CDTF">2004-09-07T19:47:12Z</dcterms:modified>
  <cp:revision>294</cp:revision>
  <dc:subject/>
  <dc:title>CMSC 414 Computer (and Network) Security</dc:title>
</cp:coreProperties>
</file>