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555-7D34-4D3D-BE87-60276743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4A4-4627-4603-B8C0-11793135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BBD-8CEF-4963-A3A8-D6F4CF15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B87-6109-4303-ACF9-A38F316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CAAF-F984-4FFF-97CD-C04DEA8F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50B-BE34-481B-AE27-D052E0C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8440-EC00-4AAF-95F6-3DBCDF06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7A0-6E34-4A81-88CB-627B2E93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B2D1-84D9-4F8B-B894-41457C6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A65-8341-4EB5-A508-E6B4BE6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92AB-F1D7-466E-BE96-74B3AC3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264-D875-4CF1-9BC6-E79B74C9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DB37-1A26-4D5D-BB13-EDFC284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B07-0B99-4F16-BFEB-06D852CB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00E3-704A-4FC3-B20E-6DADD25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043-EF06-4DE3-A105-B133C971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CDD0-9C52-4EF8-8541-F080B287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C5E-F420-46C9-8805-4CE8A5F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035-BD5B-4D48-8F78-C8EFC3D8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F89-C8CA-4B8C-9289-CF84C1D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C99-EA25-4CC9-93F6-589F0D3E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0C1-5A69-4403-959E-C863189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725-87AB-4D4E-A2E4-4976A90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883-9038-4B4F-A54F-A299367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C7C0-498B-4A4D-A4E4-4E11E6834E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FF5E-308D-4F3C-9E4A-0B23EC02DC7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4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s of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B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B (stream cipher m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FB (stream cipher mo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; 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z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previous modes (except ECB) are secure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B is deterministic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time p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ne-time pad achieves perfect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t, it has a number of 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y size equal to message siz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be used o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ecure under chosen-plaintext atta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fortunately, these drawbacks ar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her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f we want perfect secre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weaker security guarant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ead of requiring tha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dversary can lear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ythin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bout the plaintext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 that no adversary running in a “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reasonable amount of tim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 can learn anything about the plaintext except with “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ery small probabil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sonable time” =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yea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y small probability” = 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-6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mputatio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ecurit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impler character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quivalent to the following, simpler defini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a ciphertext C which is known to be an encryption of either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or 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no adversary running in a reasonable amount of time can guess correctly which message was encrypted with probability significantly better than ½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ake-home mes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akening the definition slightly allows us to construct much more efficient schem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ictly speaking, no longer 100% absolutely guaranteed to be sec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urity of encryption now depends on security of building blocks (which are analyzed extensively, and are assumed to be secu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iven enough time, the scheme can be brok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always, we can couple our security notion with a variety of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iphertext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n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plaintex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ciphertext (includes chosen plaintext attack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tack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default standard is security against chosen-plain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gainst chosen-ciphertext attacks is increasingly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that the one-time pad is insecure even  agains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known-plaintext att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andomized encry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be secure against chosen-plaintext attack, encryption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st be randomiz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will see later how this comes into pl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al: always use randomized encryptio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ock ciph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yed permutation; input/output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rge key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led as a (family of) random permutation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 – “trivial” encrypti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 = 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is not randomized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09T21:09:13Z</dcterms:modified>
  <cp:revision>312</cp:revision>
  <dc:subject/>
  <dc:title>CMSC 414 Computer (and Network) Security</dc:title>
</cp:coreProperties>
</file>