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FDD-D42B-4AC1-BF3F-EEDB212E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F8E-8F3E-4E28-B8F6-03B0B6D1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26F-72E8-4CE4-B1A2-32AA38D4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66C-8B3A-46FC-8061-CCA45536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EAC1-EB61-4A72-983C-066CD927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0869-0A7F-4862-AC97-585B89FD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4717-D860-4302-AD3F-08234A90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130A-12DC-4DB3-8E39-49FAAA60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3F7B-45F3-478B-B10E-2E434578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7055-1D3A-442A-8A64-532DA843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C1C2-EB82-4B2B-8AD7-7AB57205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5ED-2E25-4F93-9735-7BF684D2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F5E5-B8BA-4737-A76E-469A3D49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294E-7D27-4069-935B-8BC7191F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A9A8-2F3A-41B6-9832-676FCF76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C86B-6FA4-46DD-8DAB-0E25148D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3723-81B5-4A34-AB3C-BA4BF05E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EEB1-47F9-498A-8CEA-F9F02480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8F5-09B3-4025-9D4F-D353C4B8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05A-C37E-4A4D-8B39-7F617ABA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1F9A-B171-49CD-8078-65C3EF57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DE7-7C72-4A9F-878B-56F83C8F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B6E-D1F8-49CA-B093-F4C5F2C0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6A7-2967-421C-A66C-33CBF51E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B828-FC71-46B6-BE0B-3F3B84CE398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A1A5-B582-4D79-9A1E-1FB865C0CFE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4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des of encryp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C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B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-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B (stream cipher mo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z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-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; 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z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FB (stream cipher mo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-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; 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z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previous modes (except ECB) are secure against chosen-plaintext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CB is deterministic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-time pa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one-time pad achieves perfect secre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, it has a number of drawb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y size equal to message siz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only be used o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ecure under chosen-plaintext 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fortunately, these drawbacks ar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inhere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f we want perfect secre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weaker security guarante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tead of requiring that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dversary can lear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nything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bout the plaintext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ire that no adversary running in a “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reasonable amount of tim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” can learn anything about the plaintext except with “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very small probabilit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sonable time” = 10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yea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y small probability” = 2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-6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Computation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ecurit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impler characteriz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quivalent to the following, simpler defini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iven a ciphertext C which is known to be an encryption of either 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or 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no adversary running in a reasonable amount of time can guess correctly which message was encrypted with probability significantly better than ½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ake-home mess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akening the definition slightly allows us to construct much more efficient scheme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ictly speaking, no longer 100% absolutely guaranteed to be sec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of encryption now depends on security of building blocks (which are analyzed extensively, and are assumed to be secur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iven enough time, the scheme can be brok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ttac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 always, we can couple our security notion with a variety of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iphertext on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nown plaintex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sen plaintex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sen ciphertext (includes chosen plaintext attack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ttack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default standard is security against chosen-plaintext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against chosen-ciphertext attacks is increasingly requi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e that the one-time pad is insecure even  against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known-plaintext att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andomized encryp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be secure against chosen-plaintext attack, encryption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must be randomiz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will see later how this comes into pl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al: always use randomized encryptio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lock ciph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yed permutation; input/output leng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rge key s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deled as a (family of) random permutation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 – “trivial” encryp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 = 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m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is not randomized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Eric Gurevitz</cp:lastModifiedBy>
  <dcterms:modified xsi:type="dcterms:W3CDTF">2004-09-09T21:09:13Z</dcterms:modified>
  <cp:revision>312</cp:revision>
  <dc:subject/>
  <dc:title>CMSC 414 Computer (and Network) Security</dc:title>
</cp:coreProperties>
</file>