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34F-CB7C-4D07-848C-B56217BE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B6B-A035-4822-A146-5AA35E26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445-449F-4D86-BFDD-99BE6151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DD0-4CDE-479E-A10B-ED874915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136E-F9D3-402F-A5AE-13515338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2516-F4F8-4E72-99AA-A9C02456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FA7B-C5EB-438D-B460-4BC5AF18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B9BB-FD8F-4171-9212-F55F8CB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A267-6F5C-4EBA-946B-86A85D45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AC2F-DF01-4E44-8649-DF9F6BE0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1D47-2647-4F99-9252-0BC1A6A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75B-1B78-4E9F-9A3D-8D64B43A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6698-74DF-41F2-9CF4-FAFC951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25ED-BCCA-4811-8CEB-A37E72A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7186-6C5D-453B-A5A0-C9EEF82C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6386-D140-434A-B7B6-324EFFED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3DF6-651D-47E8-A446-EA962D27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4E6-5348-4FE0-BA9E-C878AF37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9E1-EE80-44A8-BF43-3E0C93A3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A52-AC67-40BE-AF27-BDCD87B4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F08-B05E-445D-B9E3-5694595A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EB7-CDDC-432C-8CDB-C788ECD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B3F-703C-412A-909A-55833EB7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602-712A-4559-B60A-13B7279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BB5-7484-49B7-B576-1C253E84362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3565-77C2-4AFF-8F76-77E8139A82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basic number the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ular arithmetic, Z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nd Z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e computations with large numb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), Fermat’s theor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stu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CE 1.4.2 avail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tension for HW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e HW1 FAQ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te randomness yourself (not using KeyGenerator) using SecureRandom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lement modes yourself, using only calls to DES (via “hack” using ECB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Encryption Standard (DE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ed in 1977 by NB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6-bit key, 64-bit input/outp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64-bit key is derived from 56 random b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bit in each octet is a parity-check b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short” key length is a major concern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erns about 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rt key leng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 “cracker”, built for $250K, can break DES in d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tributing the computation makes it fa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es not mean “DES is insecur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me (theoretical) attacks have been f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public design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-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ands the key leng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w, key K = (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; |K| = 1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“new” block cipher is jus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1,K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) = DES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DES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-1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DES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))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is a permutation, and invert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irly slow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contest sponsored by NIST in ’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rrowed to 5 final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 years of intense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 and security taken into accou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8-bit key length and 128-bit block size (minimu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ijndael selected as the A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pports variety of block/key siz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block ciphe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compelling reason to use anything other than AES, in gener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less (possibly) you have very specific performance requir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then, think tw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osen-ciphertext 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of the DES modes of encryption are secure against chosen-cipher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ne-time pad is not secure against chosen-ciphertext attacks eith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ryption does not provide integrity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95520" y="2666880"/>
            <a:ext cx="67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Encryption, RSA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14T20:56:10Z</dcterms:modified>
  <cp:revision>308</cp:revision>
  <dc:subject/>
  <dc:title>CMSC 414 Computer (and Network) Security</dc:title>
</cp:coreProperties>
</file>