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83B-0772-4E6F-B957-2640E1C6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DB4-1A29-452A-B94D-83901023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26C-519A-4803-8AA7-89FFCE5D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76B-D77C-49BF-BCD8-37753514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110C-56AD-4B43-9B07-9C55BAF6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2659-FDAB-43C0-AD82-A7DA14BE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D8AF-C1FF-49AD-B887-ED12F02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6095-926F-446B-97C4-47677470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6E1A-1406-4077-ACB6-159CFA59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7C80-6F73-4D16-884A-38015434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7D75-6722-4BFC-A346-69F18CDD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088-68F2-4C07-83DF-EB851E80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9C5D-93EC-43C1-BB2C-5C6CEB9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58D3-DF5E-422B-97D7-DD495A94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58FE-36D9-4C8C-8A38-F83CDBF1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B73-25E3-41A1-9746-5C4BB50F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F1B4-FDDD-45ED-88B3-3CDB768E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5B9-1FDF-4B2F-B6EE-6EC8E22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FDB-9BCF-4E63-9F02-50DF05AA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AA2-07A6-4AF0-A8A1-D4C01FF2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B0D-DDAD-4A8E-A451-56DF1750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DBD-9156-4EBC-9146-4D38F60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BF9-B70E-428D-BC49-F6A1FF0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9F4-92D7-4B2B-ABD8-E7E91556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C7B-6B98-42FE-A25F-24F2C63F1B9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7E62-36FD-4D0F-81B2-9799B2E3E68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5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basic number the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ular arithmetic, Z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and Z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e computations with large numb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), Fermat’s theor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 stu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CE 1.4.2 avail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tension for HW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e HW1 FAQ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erate randomness yourself (not using KeyGenerator) using SecureRandom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lement modes yourself, using only calls to DES (via “hack” using ECB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Encryption Standard (DE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ed in 1977 by NB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6-bit key, 64-bit input/outpu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64-bit key is derived from 56 random b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bit in each octet is a parity-check b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short” key length is a major concern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erns about 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rt key leng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 “cracker”, built for $250K, can break DES in d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tributing the computation makes it fa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es not mean “DES is insecur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me (theoretical) attacks have been f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public design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-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ands the key leng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w, key K = (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K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; |K| = 1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“new” block cipher is jus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1,K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) = DES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DES</a:t>
            </a:r>
            <a:r>
              <a:rPr b="0" lang="en-US" sz="2800" spc="-1" strike="noStrike" baseline="30000">
                <a:solidFill>
                  <a:srgbClr val="eaeaea"/>
                </a:solidFill>
                <a:latin typeface="Times New Roman"/>
              </a:rPr>
              <a:t>-1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DES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K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m))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is a permutation, and invert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irly slow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contest sponsored by NIST in ’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rrowed to 5 final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 years of intense analy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 and security taken into accou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8-bit key length and 128-bit block size (minimu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ijndael selected as the A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pports variety of block/key siz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block cipher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compelling reason to use anything other than AES, in gener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less (possibly) you have very specific performance requir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 then, think tw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osen-ciphertext atta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of the DES modes of encryption are secure against chosen-ciphertext atta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s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ne-time pad is not secure against chosen-ciphertext attacks either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ryption does not provide integrity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95520" y="2666880"/>
            <a:ext cx="67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Encryption, RSA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09-14T20:56:10Z</dcterms:modified>
  <cp:revision>308</cp:revision>
  <dc:subject/>
  <dc:title>CMSC 414 Computer (and Network) Security</dc:title>
</cp:coreProperties>
</file>