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B3F-5E7B-475B-8DEC-714D7165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F03-09FD-4C78-9CF3-AA360F1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16D-E6A1-4F97-97F0-B737E6EC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E01-E277-40F7-856E-632F4403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4FF8-0EFA-4B9F-9717-8C7BCD85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81EA-955A-4CCC-A2B0-D8D4C31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3F53-F7A1-47AD-8D96-DF044060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59EF-5654-4216-91BD-0B19967E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624A-872B-4185-A8CF-6C799B82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57DA-E6EE-4CDF-BBE3-EB4F8A0D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B94-0E52-440A-9197-E99C477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18C-699B-4D7A-B335-9832D83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0EE-428C-4AE6-B9B5-CC4E6DD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EF9B-2346-4215-9C54-29D87D3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2E52-C7A8-4E85-B591-20CB93ED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2F9F-4331-4D86-9B43-A3D1BD1E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310B-15DF-4180-BDBD-02BACB37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986-52D1-4FC3-B8A4-7D2A7DF5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943-8D7C-48C9-946F-4BFC8E5A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133-91D2-4038-915D-06809EA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685-DB30-4EDD-9326-B634FC8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364-C903-4922-B493-AFE1245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940-5346-4F17-A081-C493E53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912-F2C8-487A-A0D8-13752A53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74F6-6D9F-4A5C-9579-2C578F3ECF5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6444-D7C1-49AB-8A56-3C2EB3EB03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8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cryptographic integrity pro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does not provide authentica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ing redundancy does not help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specially when a linear checksum is 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when the checksum is key-independ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used to provide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easy spoofing after eavesdropp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IP redirection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TCP “reaction” attacks --- chosen-ciphertext attack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paper should scare you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gnitude of possible attacks by vo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just the security flaws, but also the reaction of Diebold and govt. official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through obscurity does not help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is case, code was leak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or cryptograph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rtcards have no cryptographic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ryptographic protection against multiple voting; improper audit mechanism for detecting overvo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ryptographic protection for admin c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a weak PIN…if 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sible to shut down the election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cryptograph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data stored without any integ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asy to modify ballot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d-coded, non-random DES ke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sed for multiple versions!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BC mode with IV set to 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blems with deterministic encryption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king voters to vot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cryptographic integrity mech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audit tr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mitations of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can be difficult to get righ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expertise; “a little knowledge can be a dangerous thing…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uld be integrated from the begi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will not solve all security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implemented correc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mgmt; social engineering; insider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(appropriate) attack/trust mod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analyze weak link in the chai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man fac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 needs to be easy to use both for end-users and administra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e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ly, crypto isn’t just “plug-and-play” --- need to know what you are do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for detection, audit, and reco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addition to other security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cific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“security through obscurity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s a process, not a produ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ris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ryption does not provide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good sources of random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de channels and other unexpected avenues of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so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apers demonstrate the importance of security in real-world application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pe you found them fun to read, also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cking can be fun!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Cryptosystems Fai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ed disclosure of crypto failur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ider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bank clerks, maintenance engineers,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or prevention/detection mechanis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or key manage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d mode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ilure to take into account chosen-plaintext attacks; live/test systems using same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d trust mode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antly changing threat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Cryptosystems Fai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or cryptograph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ryptographic redundancy on ATM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authenticated authorization respons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authentication of ATM machine to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IN not tied to account numb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d “randomnes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mote PIN verif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orrect key lengt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-brewed” encryption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P encryption protocol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IV, RC4(IV, k)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M, c(M)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this secure against chosen-plaintext 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is randomiz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how is the IV chose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24 bits lo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t to 0 upon re-initia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sed on header informa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nd IP traffic/e-mail to the mobile ho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mit broadcast messages to access poi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spoof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28T19:35:20Z</dcterms:modified>
  <cp:revision>1210</cp:revision>
  <dc:subject/>
  <dc:title>CMSC 414 Computer (and Network) Security</dc:title>
</cp:coreProperties>
</file>