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87F-3F08-4F2F-871A-58F0C87B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381-F21A-4548-A758-17F3062A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583-C654-49C6-BE01-A9CA3AAB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AD8-AAB0-46C8-BC43-205E136A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F996-F00A-4EB9-8497-118DDE8D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67A2-C85B-46F5-B466-F1A6FF85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568A-40BE-40FC-82A9-6A048CD6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A45E-1EAA-484A-8255-E9F73E4C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DB12-0990-4AD2-9139-355B1632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1E80-B767-40E4-8D4A-9E706AB9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342F-10F6-484F-9F76-7431CFA1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8F4-9E86-4ECC-A916-AF8152E8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40AF-575B-4DA9-9E2F-86BC4E13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98E1-26F9-44A9-8538-07C89ABD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0B7E-A99D-491C-898A-D47053E9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A739-1FA3-4B41-8C57-8424313E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F82F-0ACC-4A65-9EB4-02A2CBAA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200-6B87-4EF4-B894-727C5A74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333-9D0D-4C0B-8BF2-2493390D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E84-7DBD-4BE1-833A-4EC262A7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29D-781C-4922-BF5D-24BCAA30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68E-F8E3-4F14-8E94-F71F0FAF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E8D-DED2-407E-A229-EDCE731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138-ACC1-4B63-B9FD-EDF8771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9D49-9A3B-492E-925C-04D4130482D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B096-7101-4CCA-B41C-F6AEBBF2C17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8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ity of 802.11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cryptographic integrity prot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does not provide authenticatio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ing redundancy does not help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specially when a linear checksum is u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d when the checksum is key-independ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used to provide 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s easy spoofing after eavesdropp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s IP redirection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s TCP “reaction” attacks --- chosen-ciphertext attack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E-Voting System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paper should scare you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gnitude of possible attacks by vo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just the security flaws, but also the reaction of Diebold and govt. official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through obscurity does not help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is case, code was leak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E-Voting System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or cryptograph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martcards have no cryptographic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ryptographic protection against multiple voting; improper audit mechanism for detecting overvo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ryptographic protection for admin c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ly a weak PIN…if 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sible to shut down the election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 of E-Voting System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cryptograph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data stored without any integ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asy to modify ballot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rd-coded, non-random DES ke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sed for multiple versions!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BC mode with IV set to 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blems with deterministic encryption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king voters to vot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cryptographic integrity mechan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audit tr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mitations of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 can be difficult to get righ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expertise; “a little knowledge can be a dangerous thing…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uld be integrated from the begi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 will not solve all security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implemented correct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mgmt; social engineering; insider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 (appropriate) attack/trust mod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analyze weak link in the chai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man fac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ypto needs to be easy to use both for end-users and administrat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ucate us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lly, crypto isn’t just “plug-and-play” --- need to know what you are do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for detection, audit, and reco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addition to other security meas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cific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“security through obscurity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as a process, not a produ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 ris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ryption does not provide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good sources of randomn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de channels and other unexpected avenues of att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so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papers demonstrate the importance of security in real-world application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pe you found them fun to read, also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cking can be fun!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Cryptosystems Fai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mited disclosure of crypto failur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ider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y bank clerks, maintenance engineers,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or prevention/detection mechanis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or key manage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d mode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ilure to take into account chosen-plaintext attacks; live/test systems using same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d trust mode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tantly changing threat mod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Cryptosystems Fai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or cryptograph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ryptographic redundancy on ATM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authenticated authorization respons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authentication of ATM machine to c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IN not tied to account numb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d “randomnes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mote PIN verif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orrect key length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me-brewed” encryption algorith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ity of 802.11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P encryption protocol: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IV, RC4(IV, k)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M, c(M)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this secure against chosen-plaintext attack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is randomiz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how is the IV chose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ly 24 bits lo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et to 0 upon re-initializ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security of 802.11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n-plain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sed on header informa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sen-plain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nd IP traffic/e-mail to the mobile ho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nsmit broadcast messages to access poi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spoof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09-28T19:35:20Z</dcterms:modified>
  <cp:revision>1210</cp:revision>
  <dc:subject/>
  <dc:title>CMSC 414 Computer (and Network) Security</dc:title>
</cp:coreProperties>
</file>