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75D-737B-49CD-A4D6-537375A6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6C5-CF3B-4549-9C8B-B5F82FC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CF0-639E-4C4E-A1DD-D14882A5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829-7AEB-4705-A372-876F7A59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1C99-C964-4701-8EBF-9DD392C0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9311-DBAC-4BAF-8694-8638CDA5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D838-58FF-4871-8BBA-B40EE87A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7A1F-2E70-4244-9014-B93804C1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A0E-91C7-423B-95DF-78F73B5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F30-E404-4562-9528-4ABBCC9C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06AC-A2CC-41D1-8521-63BFFDAF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D77-7031-4613-A07B-002EFECD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C3B-A7C6-4D63-A847-44FC7C1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19B2-6340-4DD7-827B-24BAC6B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80EA-DC56-4B10-9E2E-77A391C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860F-3D7C-485B-AE5B-7DA42DDD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927D-074B-471F-8FCD-429C07B7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F17-0231-4CE4-B7F4-2A17AB08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73A-8E48-4772-8C1C-5BE3F624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1E4-3948-4606-B9C2-398CDD5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6CC-33AD-4EF8-A84D-31E4924D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932-1AAB-423B-8C48-067CF93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201-A78A-468C-8D01-C435983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ECF-ADD6-44C0-B279-942B1ED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AA2B-0CDF-43FC-9AA8-6038DB81A44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72B-7C9E-4FF2-82A4-E701D2C210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9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possible 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 systems for different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mporal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run processes at different ti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h of the above use resources poor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ogical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graphic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gical separation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iso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ll users/processes unaware of any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r nothing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ther a file is completely public or priv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, users either aware of each other or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ess contr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fine-grained; determines access at the subject/objec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ynamic access control (capabilitie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may depend on the context, or on more complicated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ed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object is limited: e.g., read but not modif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of granularity is import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er granularity more “secure” but more difficult to impl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nce”: restricts access to portions of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redefined memory address where OS resides; users disallowed from modifying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enforced at the hardwar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difficult if OS is supposed to be “modifiable”; e.g., if systems must support multiple O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tion is to have a “fence register” which stores the address of the protected portion of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ed portion can dynamically 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opportunity for security breach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nce registers have other advant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 easy “relocation” by simple addition (in hardwa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two such registers: base register and bounds regi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ends to allow separation of memory space for multipl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xt switching also updates base/bounds regis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rther exten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this only protects users from each o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prevent error within one user’s memory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dd additional base/bounds regis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one set for instructions and one for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ory, can extend this; in practice it is difficult to have more than two sets per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gged archite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/bounds registers offer very course-grained pro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, have the restriction that different sections of memory space must be contigu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ible to improve this by tagging every, e.g., word of memory via protected o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wasteful of bit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s changes at the hardwar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gm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components divided into logical segment (e.g., code of a single procedur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segment has a unique name; items within segment addressed by (name, offse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segment stored anywhere in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handles mapping; transparent to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implement protection for each seg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controls which programs have which entries in their segment address t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s of segmenta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can guess memory lo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can generate (name, offset) where the offset is larger than the segment siz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imagine fixing this, but this is ineffic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y fragm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ress table lookup can be slo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dterm exam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Thursd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 notes/book/et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you should need are your no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outs of case studies might be helpful, but not necessary if you have read/understand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HW2 is ou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policy classifies system states as “secure” or “insecur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state” may potentially include everyth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ecure system starts in a “secure” state and cannot enter an “insecure” st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each of security” occurs when a system enters an “insecure”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echanis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ecurity mechanism enforces (part of) the security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procedural/operational controls, not just technical contro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who may enter the room in which backup tapes are sto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new accounts are establish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security at the OS lev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is not the only possible mech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tivating example: secrecy of user fi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general, these files are not encryp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ead, access to users’ files is controlled by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offers protection against other user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does not offer protection if the hard drive is physically compromised, or against a sys admin who may have the ability to read all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issu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le confidentiality is not the only iss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identiality of actions or temporary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uld allow file sharing when called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rity of system-wide fi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ource sharing (cycles, bandwidth, disk space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various requirements stem from the fact that modern OSs use multi-programm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user’s actions can affect other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ed entities: “objects”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objects: “subjects” S (i.e., users/process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subjects are also ob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s/objects can b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ctions/variables (within a progra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base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orization vs.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ssues are orthog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is a means of proving to the system that you are a particular user (or belong to a particular group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orization assumes that you have already been properly authenticated, and is concerned with controlling your acces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discuss authentication l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05T20:23:26Z</dcterms:modified>
  <cp:revision>1414</cp:revision>
  <dc:subject/>
  <dc:title>CMSC 414 Computer (and Network) Security</dc:title>
</cp:coreProperties>
</file>