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E0-DF65-4A09-92F7-C399217C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289-46A9-4442-A5BE-6D6F116B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071-562C-4A22-8AB6-0E833FA8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304-1852-49EB-BD28-28266ACB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8577-3E26-47DD-A50C-94EB0A03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E03-6962-4FB6-8F67-1525533B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9E7E-0077-4AD6-BADB-81B3FC9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6C55-985B-4C09-8067-1A23723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5B7-D4BA-4EFA-868E-2041EB0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2B88-1A03-4CE5-885A-42362C8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2643-DFCF-42B4-A71F-D7C08A99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74F-A94B-4973-B616-33C09574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F461-4CAE-4CA8-B26C-B1DF353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368-2239-401E-8653-54D3851B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6A7A-BADD-4A1C-B763-DAA05B6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CF4-8CD4-4AC0-866D-3A4CBD06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2882-F440-4B7C-A2C5-DF6D3A36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D83-26CD-478B-ABDF-C0414EC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A82-7C26-4DC3-B0C8-0742C75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F4F-CCFA-4A72-AFFB-864C9F74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470-4809-4E87-B4D6-CB5C6DA4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689-A401-48BA-BDDB-80F2863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E54-0414-4247-A20B-849323DB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45E-17AC-457C-A7DB-2AF014C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394-882F-41E1-9077-9439D3B3E6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950-F9E7-4E2E-9F87-44BA64F00B1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9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possible approach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 systems for different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mporal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run processes at different ti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th of the above use resources poor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Logical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graphic sepa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gical separation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iso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ll users/processes unaware of any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r nothing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ther a file is completely public or priv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, users either aware of each other or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ess contr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fine-grained; determines access at the subject/object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ynamic access control (capabilitie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may depend on the context, or on more complicated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ed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object is limited: e.g., read but not modif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vel of granularity is import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er granularity more “secure” but more difficult to impl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nce”: restricts access to portions of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redefined memory address where OS resides; users disallowed from modifying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enforced at the hardwar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difficult if OS is supposed to be “modifiable”; e.g., if systems must support multiple O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tion is to have a “fence register” which stores the address of the protected portion of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ed portion can dynamically chan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opportunity for security breach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nce registers have other advant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 easy “relocation” by simple addition (in hardwa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have two such registers: base register and bounds regi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tends to allow separation of memory space for multipl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xt switching also updates base/bounds regis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rther exten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this only protects users from each o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prevent error within one user’s memory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dd additional base/bounds regis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one set for instructions and one for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ory, can extend this; in practice it is difficult to have more than two sets per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gged archite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/bounds registers offer very course-grained pro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, have the restriction that different sections of memory space must be contiguo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ible to improve this by tagging every, e.g., word of memory via protected o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wasteful of bit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s changes at the hardwar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gm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components divided into logical segment (e.g., code of a single procedur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segment has a unique name; items within segment addressed by (name, offse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segment stored anywhere in memo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handles mapping; transparent to us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implement protection for each seg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controls which programs have which entries in their segment address t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backs of segmentatio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can guess memory lo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can generate (name, offset) where the offset is larger than the segment siz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imagine fixing this, but this is ineffic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y fragmen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ress table lookup can be slo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dterm exam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Thursd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 notes/book/et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you should need are your no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outs of case studies might be helpful, but not necessary if you have read/understand th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HW2 is ou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policy classifies system states as “secure” or “insecure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ystem state” may potentially include everyth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ecure system starts in a “secure” state and cannot enter an “insecure” st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each of security” occurs when a system enters an “insecure” st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echanis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ecurity mechanism enforces (part of) the security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ludes procedural/operational controls, not just technical control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who may enter the room in which backup tapes are stor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 new accounts are establish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security at the OS lev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is not the only possible mech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tivating example: secrecy of user fi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general, these files are not encryp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ead, access to users’ files is controlled by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offers protection against other user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ut does not offer protection if the hard drive is physically compromised, or against a sys admin who may have the ability to read all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issu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le confidentiality is not the only iss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identiality of actions or temporary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uld allow file sharing when called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rity of system-wide fi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ource sharing (cycles, bandwidth, disk space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various requirements stem from the fact that modern OSs use multi-programm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user’s actions can affect other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tected entities: “objects”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objects: “subjects” S (i.e., users/process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te that subjects are also ob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bjects/objects can b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ctions/variables (within a progra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base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thorization vs. authent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ssues are orthog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is a means of proving to the system that you are a particular user (or belong to a particular group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orization assumes that you have already been properly authenticated, and is concerned with controlling your access to obje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discuss authentication l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05T20:23:26Z</dcterms:modified>
  <cp:revision>1414</cp:revision>
  <dc:subject/>
  <dc:title>CMSC 414 Computer (and Network) Security</dc:title>
</cp:coreProperties>
</file>