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9B4A-FCFA-47CC-9854-AE2CE21B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0D07-F336-4344-ABA8-C188D9D3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7955-EF97-4B91-A353-79258D36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685-196F-467D-8C37-79B0B55F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9AF1-923A-4D28-A9EF-677C172A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3CB3-8E7B-4312-8FDD-D233987B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FE90-EF72-4818-A79B-41B42B44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8FCE-44A3-4DB8-9935-DD27DC2D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3C0D-38E1-4F47-A4A9-90038A1F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5B93-1A28-457E-BBF7-3C0A1CDC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2666-DA5C-4E9A-A8B4-CD6457A9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82F3-58B4-4625-8F96-1CD8E2D8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8A3E-2956-4AA3-B3A1-6EC5CE92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C046-3B43-4551-8779-88F52336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4583-3742-4644-8B59-D0EDF282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1225-B34A-4035-99E4-C483A093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D94A-ABFA-4827-9409-08E42DA6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2D1-4607-4972-9D07-727CBCC0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E17-2A27-4729-BD85-A43C794F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C9D-792B-41B2-9484-67D9AC82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24ED-C81D-43CD-A65E-B5AAF9CC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3D5-ACFE-4C9E-A3FB-808ACEE9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07B9-CD1E-422C-AB59-B1CBE67E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616A-B5DC-4CD9-B23B-FC3BB244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4D77-3564-4685-A645-8B50D830A98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B1B2-ECC6-42E7-9D84-F25CDBFBAFC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CMSC 456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ntroduction to Cryptography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pter 7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dular arithmetic, group theory, cyclic groups, generat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Z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erating random prim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ctoring assumption, RSA assumption, discrete logarithm assumption, Diffie-Hellman assump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-way functions, examp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are the limitations of private-key crypto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 did we bother studying private-key crypto at all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y exchan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finition of secu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ffie-Hellman key exchan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pter 10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-key encryp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fini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distinguishability = CPA-secu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terministic encryption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CA-secu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hy importan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ybrid encryp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pter 10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SA encryp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extbook RS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hy is it insecure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added RS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l Gamal encryp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assumption is it based on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pter 12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gital signat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vantages relative to MAC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finition of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SA signat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extbook RS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hy is it insecure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ashed RS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pter 12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sh-and-sig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-time signatures, Lamport’s sche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KI, certific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real worl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seudorandom functions (block cipher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ES, 3D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llision-resistant hash fun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A-1, others (NIST competitio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vate-key encryp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CBC mode, others for CPA-secu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crypt-then-authenticate for CCA-secu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ssage authentication cod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MAC, CBC-MAC, oth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real worl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y exchan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Authenticated) Diffie-Hellm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-key encryp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Variants of) padded RS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l Gamal encryp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CA-secure schem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gnature schem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Variants of) hashed RS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SS (we did not cover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 of exa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exam i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cumulati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re emphasis on material covered in the second half of the 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cus on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understanding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application,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ss on being clev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lease read instructions, and describe attacks or constructions clearly and unambiguous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pter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istorical private-key encryption schem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y did we talk about thes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dern cryptograp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ssump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of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Perfect secre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one-time p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mitations of perfect secre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ey as long as the mess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ey can only be used o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No security against chosen-plaintext attack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ed pre-shared key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pter 3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Computation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vate-key encryp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finition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distinguishability in the presence of an eavesdropp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ltiple-message indistinguishabil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PA-secu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CA-secu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pter 3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mitiv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seudorandom generato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seudorandom functions (block cipher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ES, 3DES, (DES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ryption schem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seudo one-time pad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terministic encryption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ic CPA-secure encryption sche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des of encryp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pter 4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ssage authentication codes, defining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llision-resistant hash fun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A-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rthday attacks (other applications?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stru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ic construction for short messag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MA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BC-MA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pter 4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vacy + message authentication, CCA-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crypt-then-authentica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y are the other alternatives problematic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6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finition of pseudorandomnes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6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crete security requireme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6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6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bstitution-permutation networ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6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ttacks on reduced-round SP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6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6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eistel networ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6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ttacks on reduced-round Feistel networ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6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6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creasing key leng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6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D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6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et-in-the-middle attac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10-12-08T21:22:46Z</dcterms:modified>
  <cp:revision>434</cp:revision>
  <dc:subject/>
  <dc:title>CMSC 414 Computer (and Network) Security</dc:title>
</cp:coreProperties>
</file>