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AEB5-037F-4936-B35A-44BD716BC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3450-73F6-4280-BB93-08FBB2CF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C2DD-8372-457D-8E61-C099C0AB0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3CD0-E2C5-4A53-AB9D-807345CE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0796-7C84-4297-B225-AD647DC6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F820-E6CD-40D8-A8EC-648BDAD9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D50A-8EF6-4CFC-83AD-E9803B94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6B9C-B1EF-4100-BF11-D6A641F7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A021-6DE1-4BA4-91F8-1609C7ED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006D-0395-4672-B06E-1480EB87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8E46-E43B-45A8-9E40-D68432F6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D7DF-6BB4-49C5-B55B-35E70C60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6C44-BF6A-45E9-BC91-10CB6545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F5F1-3587-4B82-BA8D-B95915DD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DBB5-B095-4307-9AB2-D90F2931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D76D-5849-4AFC-84D5-2AE4EE9C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577B-7695-4E52-9803-21BA995BF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A5FA-2799-4FF3-AD8B-F868EED3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3F6F-DDBC-451B-8670-007C296F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C0AE-FE1A-4456-8AD1-4D454C45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D3CC-6FAF-4CCC-B46D-6EE400F9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948B-F8B8-417A-B0CE-40E87DB6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735F-7B00-44D0-9CC6-E28E6808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07BB-C9AE-415C-BD2E-9F3BF759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1465-8756-4EF0-9DB5-F91DCC1ECFC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E9D1-14E6-4A9B-AA06-5A6D53CE8D5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412360" y="2819520"/>
            <a:ext cx="483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urse Organiz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af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act information, office hours, listed on course webp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urse webpa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ttp://www.cs.umd.edu/~jkatz/security/s08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ains course organization, updated syllabus, various links, 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so links to papers and news articles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lides will be posted for convenience, but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they are not a substitute for attending lectu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meworks distributed from the course webp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eck daily for updates, announcements, 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wsgroup/wiki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xtbooks and readin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fortunately, hard to find a good textbook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quired text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twork Security…” by Kaufman, Perlman, and Speciner (most recent edition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will less frequently us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mputer Security…” by Stallings and Brow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ill supplement with other readings (distributed on class webpag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ass participation and readin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search papers and news articles will be posted on the course webp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ad these before class and come prepared to discu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terial from these readings is fair game for the exams, even if not covered in class (unless stated otherwis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lease suggest (via email) other papers or relevant news articles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urse require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mewor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bout 4-5 throughout the semes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gramming portion will be done with a partn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tails about projects to come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ach student will receive a computer account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ccounts will be assigned in the next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requisi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 will cover some (basic) cryptograph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will assume you remember Discrete Mat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ter we will cover network secu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assume that everyone has taken CMSC 417, or is taking it this semester, or understands the OSI (network layer) mod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lease let me know if 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412000" y="2819520"/>
            <a:ext cx="568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yllabus (very tentative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yllabus 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troduction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s security achievable…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s security everything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ome basic security principl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ryptograph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e basics (take CMSC 456 or read my book for more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If you took 456 </a:t>
            </a: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with me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, you can ski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ryptography is not the whole solution…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but it is an important part of the solu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long the way, we will see why cryptography can’t solve all security problem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yllabus 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ystem secu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eneral princip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urity 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ccess control; confidentiality/integr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S secur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rusted computing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roduction and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is computer/network security? Why is it important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urse philosophy and goa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urse organization and inform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igh-level overview of topic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y security isn’t everyth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yllabus I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twork secu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dent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uthentication and key exchange protoco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assword and biometric authentic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nonymity and pseudonym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ome real-world protocols (IPSec/SSL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ireless secur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yllabus IV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scelaneou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-mail security (PGP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eb-based security (phishing, spoofing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uffer overflows and secure programm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iruses, worms, and malicious co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andom cool topics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848600" y="2819520"/>
            <a:ext cx="65678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nderstanding Securit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(without really talking about security)*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51760" y="6172200"/>
            <a:ext cx="26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Or, “let’s get meta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nderstanding secur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ity not limited to comput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y is (computer) security hard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hard is it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 security the answer to computer security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arn to think with a “security mindset” in gener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at is “the system”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at is the weakest point of attack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at threats am I trying to address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ow effective will a given countermeasure be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at is the trade-off between security, cost, and usability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 example: airline secur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k: what is the cost (economic and otherwise) of current airline security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k: do existing rules (e.g., banning liquids) make sens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k: are the tradeoffs worth it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Why do we not apply the same rules to train travel?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k: how would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you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get a weapon on board a plan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I will not give you the answer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s is a thought experiment only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 example closer to hom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73920" y="2225520"/>
            <a:ext cx="1055520" cy="171000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2336760" y="2516040"/>
            <a:ext cx="1511280" cy="1279440"/>
            <a:chOff x="2336760" y="2516040"/>
            <a:chExt cx="1511280" cy="127944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2336760" y="2516040"/>
              <a:ext cx="1360080" cy="12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 rot="2760000">
              <a:off x="3447000" y="3475080"/>
              <a:ext cx="385560" cy="20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"/>
          <p:cNvGrpSpPr/>
          <p:nvPr/>
        </p:nvGrpSpPr>
        <p:grpSpPr>
          <a:xfrm>
            <a:off x="3742920" y="2811240"/>
            <a:ext cx="2425680" cy="563040"/>
            <a:chOff x="3742920" y="2811240"/>
            <a:chExt cx="2425680" cy="563040"/>
          </a:xfrm>
        </p:grpSpPr>
        <p:sp>
          <p:nvSpPr>
            <p:cNvPr id="146" name=""/>
            <p:cNvSpPr/>
            <p:nvPr/>
          </p:nvSpPr>
          <p:spPr>
            <a:xfrm flipH="1">
              <a:off x="3742920" y="2819520"/>
              <a:ext cx="2120760" cy="104760"/>
            </a:xfrm>
            <a:prstGeom prst="line">
              <a:avLst/>
            </a:prstGeom>
            <a:ln w="57240">
              <a:solidFill>
                <a:srgbClr val="cc27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21388800">
              <a:off x="3854160" y="2881440"/>
              <a:ext cx="23032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aeaea"/>
                  </a:solidFill>
                  <a:latin typeface="Arial"/>
                  <a:ea typeface="Arial"/>
                </a:rPr>
                <a:t>What is your mother’s maiden name?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849840" y="3521160"/>
            <a:ext cx="2160360" cy="358200"/>
            <a:chOff x="3849840" y="3521160"/>
            <a:chExt cx="2160360" cy="358200"/>
          </a:xfrm>
        </p:grpSpPr>
        <p:sp>
          <p:nvSpPr>
            <p:cNvPr id="149" name=""/>
            <p:cNvSpPr/>
            <p:nvPr/>
          </p:nvSpPr>
          <p:spPr>
            <a:xfrm rot="21474600">
              <a:off x="4241520" y="3593880"/>
              <a:ext cx="147888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aeaea"/>
                  </a:solidFill>
                  <a:latin typeface="Arial"/>
                  <a:ea typeface="Arial"/>
                </a:rPr>
                <a:t>It’s XXYYZZ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3849840" y="3521160"/>
              <a:ext cx="2160360" cy="109440"/>
            </a:xfrm>
            <a:prstGeom prst="line">
              <a:avLst/>
            </a:prstGeom>
            <a:ln w="57240">
              <a:solidFill>
                <a:srgbClr val="cc27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2774160" y="4952880"/>
            <a:ext cx="45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ow would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you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attack this system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47800" y="5486400"/>
            <a:ext cx="656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ich of these attacks are worth defending against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ne good attac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 public records to get someone’s maiden na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problem is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hat the information is publi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problem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hat we use mothers’ maiden names for authenti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milar issues with SSNs, credit card #s, etc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e: “the system” here is not just the computer, nor is it just the network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security is not just about computer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member: what is “the system”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hysical secu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cial engineer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ribes for passwor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licious code in email attachmen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ternal” means of getting inform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egal recor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rash ca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as a trade-of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t is relatively easy to build a secure database, or a secure computer system, or spam-resistant emai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ow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goal is not (usually) “to make the system as secure as possible”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t instead, “to make the system as secure as possibl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within certain constraint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” (cost, usability, convenienc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assword examp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st of computer science is concerned with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achieving desired behavi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ity is concerned with preventing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u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sired behavi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ifferent way of thinking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n enemy/opponent/hacker/adversary may be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actively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maliciously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trying to circumvent any protective measures you put in pla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st-benefit analy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mportant to evaluate what level of security is necessary/appropria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st of mounting a particular attack vs. value of attack to an adversa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st of damages from an attack vs. cost of defending against the attac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ikelihood of a particular attac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 may revisit this later in the semes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e” security not always bet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point in putting a higher post in the ground when the enemy can go around it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 to identify th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weakest lin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ity of a system is only as good as the security at its weakest point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ity is not a “magic bullet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ity is a process, not a produ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s security 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answer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iven the inherent tradeoffs, it seems that almost all deployed systems will have some vulnerabil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ore security” is not a sufficient answ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tection and respon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ow do you know when you are being attacked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ow quickly can you stop the attack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you prevent the attack from recurring?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cove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be much more important than preven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ity is a process, not a product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system” is not just a computer or a networ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evention is not the only go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st-benefit analy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tection, response, recove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vertheless…in this course, we will focus on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comput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security, and primarily on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f you want to be a security expert, you need to keep the rest in min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217600" y="2819520"/>
            <a:ext cx="584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sting trust”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(or: why security is hard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sting trust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om do you trust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es one really need to be this paranoid?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bably 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ometimes, y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hows that security is complex…and essentially impossib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es back to risk/benefit trade-off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862360" y="2819520"/>
            <a:ext cx="455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Next time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egin cryptograph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ne illustration of the differen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ftware testing determines whether a given program implements a desired functional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est I/O characterist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Q/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do you test whether a program does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llow for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undesire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functionality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enetration testing helps, but only up to a poi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is complex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raws on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(?) areas of C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ory (especially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cryptography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perating system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atabas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I/learning theo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mputer architecture/hardw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gramming languages/compil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CI, psycholog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ften not easy to assign topics to one area; the field is inherently interdisciplina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is increasingly importa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873080" y="1766880"/>
            <a:ext cx="6280200" cy="4253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828800" y="1557360"/>
            <a:ext cx="6324480" cy="4462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576600" y="1905120"/>
            <a:ext cx="33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0b5b"/>
                </a:solidFill>
                <a:latin typeface="Arial"/>
              </a:rPr>
              <a:t>Security incidents (reported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puters are pervasiv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lectronic bank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Pods, cell phones, PD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utomobi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ppliances, TV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meras, picture frames(!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e http://www.securityfocus.com/news/1149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se can all potentially be attack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hilosophy of this cour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 ar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going to be able to cover everyth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in goa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sampling of many different aspects of secur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“mindset” of security: a new way of think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ecome familiar with basic crypto, acronyms (RSA, SSL, PGP, etc.), and “buzzwords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ecome an educated security consumer/us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ry to keep it interesting with real-world examples and research pap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rad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mewhat difficult to test on this materi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nfortunately, there will be some memoriz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ut I hope you find the untested material compelling and worthwhi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am happy to give everyone an “A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ut you will have to demonstrate knowledge of what is covered in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omeworks/projects will count for a substantial portion of the gra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lass participation will be taken into accou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onathan Katz</cp:lastModifiedBy>
  <dcterms:modified xsi:type="dcterms:W3CDTF">2008-01-31T13:37:56Z</dcterms:modified>
  <cp:revision>309</cp:revision>
  <dc:subject/>
  <dc:title>CMSC 414 Computer (and Network) Security</dc:title>
</cp:coreProperties>
</file>