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F1C-B1F5-4B6F-B13A-15D30397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E50-B36A-4370-9CBD-25B8C9AE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953-225B-4F43-A348-93215A4F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969-731A-498C-B580-4C65AD42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075B-7D4A-40E0-955E-A8C00E97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3369-3663-44CB-B23F-9A9D5A94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C110-CC84-4642-943F-76D8F6E3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3F50-704F-4A54-BEEF-5FA192AE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57D3-FE87-408F-BBE9-FA5B5440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D26E-E33F-4C51-8362-395386F7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C7AD-6B59-465C-A3DC-3C57B92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F44-FF2F-4849-A1DF-8BC0DA80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A983-DC1E-41FD-B5F1-2B400390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964D-BE2A-4278-A140-E2EF7E84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1A5C-03BE-482E-895B-12E82308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7066-A87C-4805-A142-319E2F3D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859B-730C-4566-BA06-69EB7599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488-3469-4D65-A301-F604B7E5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977-936D-4D09-A434-B79287D1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3B0-942A-4161-90ED-E16FEE66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C43-210E-4F4B-BF87-12E82D44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38A-DE18-4213-8575-113F8B1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781-4CF4-41DC-990B-6C57859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248-2477-4E20-9A4F-475F0DE5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B948-8F58-4EC2-BBA0-FE3ECEEA115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4B6E-0E0C-4522-905F-311451E2EC7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S can be treated as a subject with all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Alice logs in 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reate shell process p with rights appropriate for Ali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legate ownership of p to Ali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Alice creates a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S creates file f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S delegates {own, read, write} to Alice on file 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rawbacks of access control matrix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mber of subjects/objects is very lar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entries blank/defau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central matrix modified every time subjects/objects are created/deleted or rights are modifi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mall’ change can result in “many” changes to the access control matri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making a file publicly read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control lists (ACL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viewed as storing the columns of the access control matrix with the appropriate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ally, one list per object showing all subjects with access and their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ssing subjects given “default” ac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asy to make an object publ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Ls in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gain, full granularity may not be suppor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unix allows permissions set for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own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f the file,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group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which the owner belongs, and everyone else 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lict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a mechanism for handling confli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what if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group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as fewer rights tha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olution (in uni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user = owner then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owne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permi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se if user in group then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group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permi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s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permi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general, could have been done different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viewed as storing the rows of the access control matrix with the appropriate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burden for implementing protection placed on the user rather than just the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alogy: user has a “ticket” which grants access to an obj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capability is an unforgeable token giving user access to an object and describing the level of allowable ac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pabilities can specify new types of right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ies: two approach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cket is held by OS, which returns to the subject a pointer to the ti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cket is held by the user, but protected from forgery by cryptographic mechanis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…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wo possibilities: ticket verified by the object or by the OS it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o holds the key in each case…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Ls vs. 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L associated with each obj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n request, check user/group against the AC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ies on authentication of the u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passed from one user/process to ano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on request, check validity of capa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o need to know the identity of the user/process making the requ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Ls vs. 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would delegation be handled using ACLs vs. using capabil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L: run process using the name of the caller, or OS can explicitly support deleg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pabilities: allow delegation “for fre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can a user make a file public when capabilities are us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ybe it is a good thing that this is hard to do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revoke capabil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e later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use of 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om “The Confused Deputy,” by Har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iler in directory S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can provide file for debugging out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iler can write statistics to SYS/st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mpiler given ability to write to SY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set debugging file to SYS/bil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ed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verwrote billing fil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W review: private-key encryp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the definition of an encryption schem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 a ciphertext that is longer than the plaintext allow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es CTR mode work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s the ciphertex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a reasonable definition of security for an encryption schem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lying problem: authority from two sources: static + authority of cal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solve this problem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eck filenames explicitl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y can change…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egitimate access to SYS files…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 specific list of condition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omplexity grow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Ls do not work… (why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ggested s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capabil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 compiler capability to write to SYS/st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mpiler does not even need to be aware of the filename it is writing to; the capability takes care of th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ller can provide additional capabilities, as need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iler must explicitly designate capabilities to use in a particular situ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W review --- problem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00800" y="2514600"/>
            <a:ext cx="652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cretionary access contro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control matri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rix indexed by all subjects and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aracterizes rights of each subject with respect to each obj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mally: set of objects O and subjects S, set of possible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rix A with subjects labeling the rows and objects labeling the colum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entry (s,o) contains the rights for s on 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: read/write/execute/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90920" y="2184480"/>
          <a:ext cx="6324480" cy="406404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067040"/>
                <a:gridCol w="1066680"/>
                <a:gridCol w="990720"/>
                <a:gridCol w="9903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ile 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ile 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ile 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ile 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ser 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,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,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ser 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,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ser 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ser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,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1201680" y="1446120"/>
            <a:ext cx="7713360" cy="4802400"/>
            <a:chOff x="1201680" y="1446120"/>
            <a:chExt cx="7713360" cy="4802400"/>
          </a:xfrm>
        </p:grpSpPr>
        <p:sp>
          <p:nvSpPr>
            <p:cNvPr id="102" name=""/>
            <p:cNvSpPr/>
            <p:nvPr/>
          </p:nvSpPr>
          <p:spPr>
            <a:xfrm rot="16200000">
              <a:off x="1505160" y="3691800"/>
              <a:ext cx="48528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ahoma"/>
                </a:rPr>
                <a:t>Subjec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1960" y="2184480"/>
              <a:ext cx="152280" cy="40640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5840 h 4064040"/>
                <a:gd name="textAreaBottom" fmla="*/ 3958200 h 40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5676480" y="-1104840"/>
              <a:ext cx="152640" cy="63244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64880 h 6324480"/>
                <a:gd name="textAreaBottom" fmla="*/ 6159600 h 63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5563440" y="1191960"/>
              <a:ext cx="48528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ahoma"/>
                </a:rPr>
                <a:t>Objec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legation (one approach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augment the access control matrix to include subjects as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[S,S] = “control” alwa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[S,S’] = “control” if S created S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S creates S’, a new column and row is created; A[S,S’] is set to “control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ghts on other objects can also come with or without a “copy flag” s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s delegation, either with or w/o delegation of copy fla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note by 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legation (by 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legate {r, r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 on X to S’ allowed if any of the following h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[S,X] = r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S has right r on X, and copy flag se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[S,X] = “owner” (S owns X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[S,X] = r and A[S,S’] = “control” (S has right r on X, and S created S’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lete {r} on X from S’ allowed if any of the following h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[S,X] = “owner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[S,S’] = “control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eating a new subje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 creates S’, why not populate row S’ with the same access rights that are in row 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ast privileg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2-28T20:31:32Z</dcterms:modified>
  <cp:revision>697</cp:revision>
  <dc:subject/>
  <dc:title>CMSC 414 Computer (and Network) Security</dc:title>
</cp:coreProperties>
</file>