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FAF-523E-4E6C-BA02-97E48D50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DC0-0333-4AB6-BAC3-E5C3EE05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159-45F9-4CFB-AC13-02E8D384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306-FBE8-4CCC-A994-A5C78EA7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86FF-1A2C-4D4C-B705-0A63CE25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9C30-12C0-4583-B3E9-FC5211F9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B05B-ACAA-4C32-B7EC-44B847D8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4340-42D8-419F-89BF-A38027E2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2858-1013-42D3-9EFD-C8D8783D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6508-DABD-48A9-A494-BC8F54FD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8A39-4094-4949-BAA6-DFA10DB7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6DE-ACF5-4CA3-A5D6-72926398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846A-CA02-4CFA-9F32-10F828E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5E64-F56D-4000-97CF-EB026EC4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7D2A-799A-4E46-B70A-EFB06C6D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B1CB-3126-47B4-988B-3CB778AC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B41C-AF58-4D71-B079-E01EEB7B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EDA-1752-4AC7-AF08-B73D736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699-A9F2-4F77-917B-AAAC8064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C9A-120D-414C-AC84-D787DE06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45F-54B3-4E87-9D0E-3AB017CA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B2D-4C35-4DDF-BE9A-5B35AB8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90F-58F4-4094-A72A-31A7F02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0F7-97FD-49BB-ABC0-27CB292D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E8A9-143D-465D-89E1-2AEA9CCD48F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045C-582F-43EF-A7F2-18F97EFADC4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1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ing “confused deputy”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puty” = program managing authorities from multiple sour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example we have seen, the problem was not the compiler having the wrong authority, but of exercising its authority for the wrong purpo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used deputy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give the ability to identify the authority a subject is us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designate use of the authority for a specific purpo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also tie together designation and autho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’t “know” about a resource if you don’t have the capability to access it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 request to access a resource must include the necessary authority to do so --- “deputy” can now examine the context of the reque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h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ocation more difficu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olling delegation more difficu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ing files world-readable more difficult (impossible?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96360" y="2514600"/>
            <a:ext cx="59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datory access contro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security policy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marily concerned with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bjects given “classification”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s given “clearance”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know” 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bject with clearance (r, C) dominates object with classification (r’, C’) only if r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r’ and C’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ines a lattice … classifications/clearance not necessarily hierarchi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l-LaPadula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dentifies allowable communication flow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cerned primarily with ensuring secre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ba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cerned primarily with “trustworthiness”/integrity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nese wa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veloped for commercial appl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ll-LaPadula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imple security condi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S can read O if and only if l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l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*-proper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S can write O if and only if l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l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down; write up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ormation flows upw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ynamic righ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uld consider dynamic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a process reads a file at one security level, cannot write to any file at a lower security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security theor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 system begins in a secure state, and always preserves the simple security condition and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*-property, then the system will always remain in a secure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information never flows dow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unicating down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communicate from a higher security level to a lower on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x. security level vs. current security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ximum security level must always dominate the current security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 security level to write dow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curity theorem no longer hol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t rely on users to be security-conscio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te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osed book, closed no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vers material through today’s le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rything linked from the course syllab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W2 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ercial vs. military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ell-LaPadula model does not work well for commercial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given access to data as need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cretionary access control vs. mandatory access contro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ould require large number of categories and classif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ntralized handling of “security clearances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ba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cerned with integ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ual” of Bell-LaPadula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higher the level, the more confid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confidence that a program will act correct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confidence that a subject will act appropriat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confidence that data is trustworth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grity levels may be independent of security classific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fidentiality vs. trustworthin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ormation flow vs. information modif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ba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imple integrity condi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S can read O if and only if I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enote the integrity leve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(Integrity) *-proper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S can write O if and only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I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information obtained from a subject cannot be more trustworthy than the subject it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up; write down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ormation flows downw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theor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information transfer path is a sequence of objects 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…, 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subjects s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…, s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such that, for all i, s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an read 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write to 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+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ormation can be transferred from 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o 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via a sequence of read-write oper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orem: If there is an information transfer path from 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then I(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(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ormally: information transfer does not increase the trustworthiness of the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says nothing about secrec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w-water-mark”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riation of “pure” Biba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s reads o, then the integrity level of s is changed to min(I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ubject may be relying on data less trustworthy than it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, its integrity level is lower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back: the integrity level of a subject is non-increasing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inese w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nded to prevent conflicts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ghts are dynamically updated based on actions of the su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inese wall -- basic setu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25146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nk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5146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nk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25146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ool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25146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ool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2670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ool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76160" y="3124080"/>
            <a:ext cx="53316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312408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42900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312408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3124080"/>
            <a:ext cx="53316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86728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312408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46748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312408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705360" y="4876920"/>
            <a:ext cx="53316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487692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487692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510552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96080" y="510552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1440" y="144792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any datas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285640" y="1828800"/>
            <a:ext cx="2971800" cy="60948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495320" y="1828800"/>
            <a:ext cx="762120" cy="68580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1828800"/>
            <a:ext cx="1066680" cy="68580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1828800"/>
            <a:ext cx="2743200" cy="68580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60958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981080"/>
            <a:ext cx="4190760" cy="2438640"/>
          </a:xfrm>
          <a:prstGeom prst="ellipse">
            <a:avLst/>
          </a:prstGeom>
          <a:noFill/>
          <a:ln cap="sq" w="255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1676520"/>
            <a:ext cx="3886200" cy="4190760"/>
          </a:xfrm>
          <a:prstGeom prst="ellipse">
            <a:avLst/>
          </a:prstGeom>
          <a:noFill/>
          <a:ln cap="sq" w="255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629040" y="5562360"/>
            <a:ext cx="609480" cy="60948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238880" y="5562360"/>
            <a:ext cx="0" cy="60948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238880" y="5562360"/>
            <a:ext cx="609840" cy="60948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4040" y="529920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flict of interest (CI)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24080" y="4419360"/>
            <a:ext cx="0" cy="99036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24080" y="4572000"/>
            <a:ext cx="2286000" cy="83808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inese wall ru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 S is allowed to read from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t most o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ompany dataset in any CI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rule is dynamically updated as accesses occ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e next slid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5146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nk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5146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nk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146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ool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25146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ool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42670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6600cc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ool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676160" y="3124080"/>
            <a:ext cx="53316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12408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42900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312408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124080"/>
            <a:ext cx="53316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728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12408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46748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312408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312408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58200" y="335268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705360" y="4876920"/>
            <a:ext cx="53316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4876920"/>
            <a:ext cx="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4876920"/>
            <a:ext cx="533520" cy="2286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510552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510552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96080" y="5105520"/>
            <a:ext cx="228600" cy="4572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981080"/>
            <a:ext cx="4190760" cy="2438640"/>
          </a:xfrm>
          <a:prstGeom prst="ellipse">
            <a:avLst/>
          </a:prstGeom>
          <a:noFill/>
          <a:ln cap="sq" w="255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1676520"/>
            <a:ext cx="3886200" cy="4190760"/>
          </a:xfrm>
          <a:prstGeom prst="ellipse">
            <a:avLst/>
          </a:prstGeom>
          <a:noFill/>
          <a:ln cap="sq" w="255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38360" y="3809520"/>
            <a:ext cx="0" cy="121932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3680" y="4917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1600200"/>
            <a:ext cx="0" cy="3124080"/>
          </a:xfrm>
          <a:prstGeom prst="line">
            <a:avLst/>
          </a:prstGeom>
          <a:ln w="38160">
            <a:solidFill>
              <a:srgbClr val="200b5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4724280"/>
            <a:ext cx="1905120" cy="0"/>
          </a:xfrm>
          <a:prstGeom prst="line">
            <a:avLst/>
          </a:prstGeom>
          <a:ln w="38160">
            <a:solidFill>
              <a:srgbClr val="200b5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480" y="60199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715000" y="5638680"/>
            <a:ext cx="1447920" cy="45720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4038480"/>
            <a:ext cx="3657600" cy="0"/>
          </a:xfrm>
          <a:prstGeom prst="line">
            <a:avLst/>
          </a:prstGeom>
          <a:ln w="38160">
            <a:solidFill>
              <a:srgbClr val="200b5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914400"/>
            <a:ext cx="0" cy="3124080"/>
          </a:xfrm>
          <a:prstGeom prst="line">
            <a:avLst/>
          </a:prstGeom>
          <a:ln w="38160">
            <a:solidFill>
              <a:srgbClr val="200b5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inese wall rules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 can write to O only i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 can read O 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 objects that S can read are in the same dataset as 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intended to prevent an indirect flow of information that would cause a conflict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S reads from Bank A and writes to School 1; S’ can read from School 1 and Bank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’ may find out information about Banks A and B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S can write to at most one datase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y myths…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Equivalence myt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ACLs and capabilities are “just” two views of the AC matri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nfinement myt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Capability systems cannot enforce confin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at is, cannot restrict deleg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Irrevocability myt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Capabilities cannot be revok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quivalence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Ls have “arrows” from objects to subjects; capabilities have “arrows” from subjects to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do not require subjects to “know” object name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 prior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do not require subjects to “know” whether they have autho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have authority by virtue of the fact that they have a capabilit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contrast, with ACLs how do I obtain a list of all files I am allowed to rea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quivalence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allow for finer-grained treatment of su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ses rather than user accou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Ls potentially require objects to be aware of all su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allow greater flexibility to delegate permis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ACLs, usually all-or-noth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capability-based systems, can delegate a subset of the rights you ha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inement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yth: Capabilities can be delegated “at will” and therefore cannot be confin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…can be set up so that A can delegate a capability to B only if A is authorized to pass capabilities to 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B is untrusted, then the latter capability will not ex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igin of confinement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taken assumption that the ability to write/read files translates into the ability to read/write capabil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pabilities should not be viewed as “just” files; they can b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typ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by the 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solution: indir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pabilities name an entry in a table, rather than the object it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revoke access to object, invalidate or change the entry in the t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fficult to revoke access of a single u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can also expire with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OS stores capabilities, can delete upon requ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quires object to recall to whom capabilities giv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of 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at enforcing “principle of least privilege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ide access to minimal resources, to the minimal set of subje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have seen already that capabilities allow much finer-grained control over subjects (process-level instead of user-leve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3-04T20:29:58Z</dcterms:modified>
  <cp:revision>702</cp:revision>
  <dc:subject/>
  <dc:title>CMSC 414 Computer (and Network) Security</dc:title>
</cp:coreProperties>
</file>