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E8BE-5DFB-42A4-A213-5BDCDF1F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1C6-FA0F-4BFD-A118-AE40652C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BC99-632A-4FEF-B1B1-61262FDC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7D20-D229-4ED9-A766-B24CA1F4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E6C8-5DC3-4B6E-B9E5-8D95480B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B7DC-DFD2-47D2-AA13-F7442900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2FB1-B9F5-41B5-B04E-5550CD21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138D-844A-41E2-B12F-5153A97A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AE57-0D83-4E35-8032-FB436452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E2E3-CCC3-495E-A010-B4FAF16E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97CC-B85D-4244-87D5-9E8FA6A7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1D9-2ABD-4C68-B270-0CB02E6E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B75F-9FB6-4C88-B941-375D8C94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710D-49D1-4DEC-A2E4-25CBB528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A17B-8659-4906-9B71-AEB71E3F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C5A5-73E2-4B1B-A357-FE4E4CF9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7AB1-D9B7-4154-BA9D-BCB2A7C1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5183-7C2F-41B1-8A0F-21339B68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DABF-6FF9-4822-937C-D5425774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7BEA-19B7-43E4-B0A9-F3C1A40A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B74-226B-498D-899B-2A4636D3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2BD1-28CF-403F-BDB6-65960891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5F47-A281-4F66-98E9-27DCCA7E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1B32-4807-4290-8939-445F6AFC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71FF-FD05-4A47-B327-2E54638FA3B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C08D-8EAD-4211-8ABD-5B4E6E313BC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2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BAC2 (continued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requisi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ndates that a user can be assigned some role only if already assigned some other ro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be used to enforce least privilege – a user can specify a weaker role when certain permissions are not need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aring DAC/MAC/RBA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would an access control matrix look like in each cas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890080" y="2514600"/>
            <a:ext cx="455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ed Computin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e hardware (“TPM”) installed in compu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a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e bo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ftware verific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ttest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crypted stor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is already deploy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sclaim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intent of the following is to give the high-level ideas, rather than completely correct low-level detai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ull specification available on-li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CG consorti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PM chip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1905120"/>
            <a:ext cx="6019560" cy="3352680"/>
          </a:xfrm>
          <a:prstGeom prst="rect">
            <a:avLst/>
          </a:prstGeom>
          <a:solidFill>
            <a:srgbClr val="ffcc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3657600"/>
            <a:ext cx="54100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3352680"/>
            <a:ext cx="609480" cy="685800"/>
          </a:xfrm>
          <a:prstGeom prst="rect">
            <a:avLst/>
          </a:prstGeom>
          <a:solidFill>
            <a:srgbClr val="cc99ff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/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99720" y="4119480"/>
            <a:ext cx="2155680" cy="825480"/>
          </a:xfrm>
          <a:prstGeom prst="rect">
            <a:avLst/>
          </a:prstGeom>
          <a:solidFill>
            <a:srgbClr val="cc99ff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ypto Tool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A, SHA-1,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62720" y="36576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14800" y="3276720"/>
            <a:ext cx="0" cy="380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29400" y="3276720"/>
            <a:ext cx="0" cy="3808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87000" y="2138400"/>
            <a:ext cx="2001960" cy="1130400"/>
          </a:xfrm>
          <a:prstGeom prst="rect">
            <a:avLst/>
          </a:prstGeom>
          <a:solidFill>
            <a:srgbClr val="cc99ff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 Volati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a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&gt; 1280 bytes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12680" y="2507040"/>
            <a:ext cx="2233440" cy="764640"/>
          </a:xfrm>
          <a:prstGeom prst="rect">
            <a:avLst/>
          </a:prstGeom>
          <a:solidFill>
            <a:srgbClr val="cc99ff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R  Regist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 registers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on-volatile stor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dorsement keys (EK) [RSA]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reated at manufacturing time, bound to compu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gning keys; used for attest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orage root key (SRK) [RSA]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reated by user; can be chang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d to encrypt d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C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latform Configuration Registers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0 bytes; hold SHA-1 outpu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only be modified in two ways (enforced by the hardware)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PM_Startup        (initialize the contents of the PCR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PM_Extend(D):   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CR  =  SHA-1 ( PCR  ||  D  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d to obtain an “image” of the loaded softwar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CM us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2666880"/>
            <a:ext cx="1066680" cy="990720"/>
          </a:xfrm>
          <a:prstGeom prst="ellipse">
            <a:avLst/>
          </a:prstGeom>
          <a:solidFill>
            <a:srgbClr val="6600cc">
              <a:alpha val="1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BIOS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boot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bloc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2819520"/>
            <a:ext cx="762120" cy="6094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BI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2666880"/>
            <a:ext cx="914400" cy="838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S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oad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19920" y="2895480"/>
            <a:ext cx="609480" cy="5335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2920" y="2819520"/>
            <a:ext cx="1371600" cy="6094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pplicat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57600" y="4343400"/>
            <a:ext cx="990720" cy="457200"/>
          </a:xfrm>
          <a:prstGeom prst="rect">
            <a:avLst/>
          </a:prstGeom>
          <a:solidFill>
            <a:srgbClr val="6600cc">
              <a:alpha val="1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P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1676520"/>
            <a:ext cx="121896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ardwar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38280" y="3124080"/>
            <a:ext cx="6858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86200" y="3124080"/>
            <a:ext cx="6858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312408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29400" y="312408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2971800" y="2133360"/>
            <a:ext cx="457200" cy="68580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77120" y="4375080"/>
            <a:ext cx="6858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91520" y="4191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measuring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505320"/>
            <a:ext cx="1447920" cy="83808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81280" y="3429000"/>
            <a:ext cx="304920" cy="91440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114800" y="3352680"/>
            <a:ext cx="533520" cy="99072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343400" y="3352680"/>
            <a:ext cx="1752480" cy="99072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77120" y="4756320"/>
            <a:ext cx="68580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91520" y="45720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Extend PC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67640" y="556272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ollision resistance of SHA1 ensures “uniqueness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nex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are computed value with reference val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e bo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ftware valid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erify signa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l this verifies is the sour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crypt da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crypt only if in known configur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ttest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ve to a third party that you are in a good configur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66120" y="2514600"/>
            <a:ext cx="59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ole-based access contro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ncrypted da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crypt AES key K with SRK; encrypt bulk data with 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ybrid encryption!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en encrypting the AES key, embed current PCR valu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.g., Sign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EK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PCR, Enc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SRK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K)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This is not actually the way it is done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en decrypting, check that the embedded value matches the current valu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efuse to decrypt if not the case!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also incorporate a user password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ttest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Goa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prove to a remote party what software is running on my machi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pplication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ve to company network that no viruses are running on my ma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ve to another player that I am running an unmodified version of Quak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ve to Apple that I am running iTunes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ide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gn PCR value with E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ctually, sign with attestation identity key (AIK) validated with EK (ignore this for now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sume third party knows E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re is actually a PK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prevent replay, use nonce provided by the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part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party verifies signature; verifies that PCR corresponds to “good” st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overs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ss of anonym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gnature using EK uniquely identified the machine it came fr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parties can tell what software you are runn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ss of contro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if google says you need to have google desktop installed in order to use their search engin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if Sony says you must use their music player to download their music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BA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ss controls assigned based on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ro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use an access matrix, where “subjects” are ro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s assigned to different ro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be static or dynam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user can have multiple roles assign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use “access matrix” with users as rows, and roles as colum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ill, in general, be more compact than a full-blown access control matri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BAC: basic ide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48840" y="16765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Us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69400" y="16765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Ro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71320" y="167652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Resour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587600" y="2522520"/>
            <a:ext cx="228600" cy="609480"/>
            <a:chOff x="1587600" y="2522520"/>
            <a:chExt cx="228600" cy="609480"/>
          </a:xfrm>
        </p:grpSpPr>
        <p:grpSp>
          <p:nvGrpSpPr>
            <p:cNvPr id="100" name=""/>
            <p:cNvGrpSpPr/>
            <p:nvPr/>
          </p:nvGrpSpPr>
          <p:grpSpPr>
            <a:xfrm>
              <a:off x="1587600" y="2522520"/>
              <a:ext cx="228600" cy="609480"/>
              <a:chOff x="1587600" y="2522520"/>
              <a:chExt cx="228600" cy="60948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1633320" y="2670120"/>
                <a:ext cx="137160" cy="461880"/>
                <a:chOff x="1633320" y="2670120"/>
                <a:chExt cx="137160" cy="4618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633320" y="2670120"/>
                  <a:ext cx="0" cy="46188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633320" y="3132000"/>
                  <a:ext cx="608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694160" y="2873160"/>
                  <a:ext cx="0" cy="2588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709640" y="2873160"/>
                  <a:ext cx="0" cy="2588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709640" y="3132000"/>
                  <a:ext cx="608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770480" y="2670120"/>
                  <a:ext cx="0" cy="46188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633320" y="2670120"/>
                  <a:ext cx="1371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694160" y="2873160"/>
                  <a:ext cx="151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1587600" y="2651760"/>
                <a:ext cx="30240" cy="221400"/>
                <a:chOff x="1587600" y="2651760"/>
                <a:chExt cx="30240" cy="2214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617840" y="2670120"/>
                  <a:ext cx="0" cy="20304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587600" y="2651760"/>
                  <a:ext cx="0" cy="22140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587600" y="2873160"/>
                  <a:ext cx="30240" cy="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587600" y="2651760"/>
                  <a:ext cx="30240" cy="1836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1785960" y="2651760"/>
                <a:ext cx="30240" cy="221400"/>
                <a:chOff x="1785960" y="2651760"/>
                <a:chExt cx="30240" cy="2214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1785960" y="2670120"/>
                  <a:ext cx="0" cy="20304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816200" y="2651760"/>
                  <a:ext cx="0" cy="22140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>
                  <a:off x="1785960" y="2873160"/>
                  <a:ext cx="30240" cy="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>
                  <a:off x="1785960" y="2651760"/>
                  <a:ext cx="30240" cy="1836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1663560" y="2522520"/>
                <a:ext cx="76320" cy="1292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87600" y="2651760"/>
                <a:ext cx="2286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17840" y="2670120"/>
                <a:ext cx="1512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70480" y="2670120"/>
                <a:ext cx="1512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1587600" y="2660760"/>
              <a:ext cx="228600" cy="470880"/>
              <a:chOff x="1587600" y="2660760"/>
              <a:chExt cx="228600" cy="470880"/>
            </a:xfrm>
          </p:grpSpPr>
          <p:sp>
            <p:nvSpPr>
              <p:cNvPr id="125" name=""/>
              <p:cNvSpPr/>
              <p:nvPr/>
            </p:nvSpPr>
            <p:spPr>
              <a:xfrm>
                <a:off x="1635840" y="2674440"/>
                <a:ext cx="131760" cy="1936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635840" y="2785320"/>
                <a:ext cx="55440" cy="3463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712160" y="2785320"/>
                <a:ext cx="55440" cy="3463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587600" y="2674440"/>
                <a:ext cx="27720" cy="1936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88480" y="2674440"/>
                <a:ext cx="27720" cy="1936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15320" y="2660760"/>
                <a:ext cx="187200" cy="136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1587600" y="3411360"/>
            <a:ext cx="228600" cy="609840"/>
            <a:chOff x="1587600" y="3411360"/>
            <a:chExt cx="228600" cy="609840"/>
          </a:xfrm>
        </p:grpSpPr>
        <p:grpSp>
          <p:nvGrpSpPr>
            <p:cNvPr id="132" name=""/>
            <p:cNvGrpSpPr/>
            <p:nvPr/>
          </p:nvGrpSpPr>
          <p:grpSpPr>
            <a:xfrm>
              <a:off x="1587600" y="3411360"/>
              <a:ext cx="228600" cy="609480"/>
              <a:chOff x="1587600" y="3411360"/>
              <a:chExt cx="228600" cy="60948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1633320" y="3558960"/>
                <a:ext cx="137160" cy="461880"/>
                <a:chOff x="1633320" y="3558960"/>
                <a:chExt cx="137160" cy="4618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633320" y="3558960"/>
                  <a:ext cx="0" cy="46188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633320" y="4020840"/>
                  <a:ext cx="608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694160" y="3762000"/>
                  <a:ext cx="0" cy="2588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709640" y="3762000"/>
                  <a:ext cx="0" cy="2588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709640" y="4020840"/>
                  <a:ext cx="608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770480" y="3558960"/>
                  <a:ext cx="0" cy="46188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633320" y="3558960"/>
                  <a:ext cx="1371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694160" y="3762000"/>
                  <a:ext cx="151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1587600" y="3540600"/>
                <a:ext cx="30240" cy="221760"/>
                <a:chOff x="1587600" y="3540600"/>
                <a:chExt cx="30240" cy="2217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617840" y="3558960"/>
                  <a:ext cx="0" cy="20340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87600" y="3540600"/>
                  <a:ext cx="0" cy="22176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587600" y="3762360"/>
                  <a:ext cx="30240" cy="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587600" y="3540600"/>
                  <a:ext cx="30240" cy="1836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785960" y="3540600"/>
                <a:ext cx="30240" cy="221760"/>
                <a:chOff x="1785960" y="3540600"/>
                <a:chExt cx="30240" cy="221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785960" y="3558960"/>
                  <a:ext cx="0" cy="20340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816200" y="3540600"/>
                  <a:ext cx="0" cy="22176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1785960" y="3762360"/>
                  <a:ext cx="30240" cy="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>
                  <a:off x="1785960" y="3540600"/>
                  <a:ext cx="30240" cy="1836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1663560" y="3411360"/>
                <a:ext cx="76320" cy="1292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587600" y="3540600"/>
                <a:ext cx="2286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617840" y="3558960"/>
                <a:ext cx="1512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770480" y="3558960"/>
                <a:ext cx="1512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587600" y="3549960"/>
              <a:ext cx="228600" cy="471240"/>
              <a:chOff x="1587600" y="3549960"/>
              <a:chExt cx="228600" cy="471240"/>
            </a:xfrm>
          </p:grpSpPr>
          <p:sp>
            <p:nvSpPr>
              <p:cNvPr id="157" name=""/>
              <p:cNvSpPr/>
              <p:nvPr/>
            </p:nvSpPr>
            <p:spPr>
              <a:xfrm>
                <a:off x="1635840" y="3563640"/>
                <a:ext cx="131760" cy="1940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635840" y="3674520"/>
                <a:ext cx="55440" cy="3466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712160" y="3674520"/>
                <a:ext cx="55440" cy="3466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587600" y="3563640"/>
                <a:ext cx="27720" cy="1940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788480" y="3563640"/>
                <a:ext cx="27720" cy="1940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615320" y="3549960"/>
                <a:ext cx="187200" cy="136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1587600" y="4300560"/>
            <a:ext cx="228600" cy="609480"/>
            <a:chOff x="1587600" y="4300560"/>
            <a:chExt cx="228600" cy="609480"/>
          </a:xfrm>
        </p:grpSpPr>
        <p:grpSp>
          <p:nvGrpSpPr>
            <p:cNvPr id="164" name=""/>
            <p:cNvGrpSpPr/>
            <p:nvPr/>
          </p:nvGrpSpPr>
          <p:grpSpPr>
            <a:xfrm>
              <a:off x="1587600" y="4300560"/>
              <a:ext cx="228600" cy="609480"/>
              <a:chOff x="1587600" y="4300560"/>
              <a:chExt cx="228600" cy="60948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1633320" y="4448160"/>
                <a:ext cx="137160" cy="461880"/>
                <a:chOff x="1633320" y="4448160"/>
                <a:chExt cx="137160" cy="461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1633320" y="4448160"/>
                  <a:ext cx="0" cy="46188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633320" y="4910040"/>
                  <a:ext cx="608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694160" y="4651200"/>
                  <a:ext cx="0" cy="2588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709640" y="4651200"/>
                  <a:ext cx="0" cy="2588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709640" y="4910040"/>
                  <a:ext cx="608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770480" y="4448160"/>
                  <a:ext cx="0" cy="46188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633320" y="4448160"/>
                  <a:ext cx="1371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694160" y="4651200"/>
                  <a:ext cx="151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1587600" y="4429800"/>
                <a:ext cx="30240" cy="221400"/>
                <a:chOff x="1587600" y="4429800"/>
                <a:chExt cx="30240" cy="2214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1617840" y="4448160"/>
                  <a:ext cx="0" cy="20304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587600" y="4429800"/>
                  <a:ext cx="0" cy="22140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587600" y="4651200"/>
                  <a:ext cx="30240" cy="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587600" y="4429800"/>
                  <a:ext cx="30240" cy="1836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785960" y="4429800"/>
                <a:ext cx="30240" cy="221400"/>
                <a:chOff x="1785960" y="4429800"/>
                <a:chExt cx="30240" cy="2214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785960" y="4448160"/>
                  <a:ext cx="0" cy="20304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816200" y="4429800"/>
                  <a:ext cx="0" cy="22140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1785960" y="4651200"/>
                  <a:ext cx="30240" cy="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1785960" y="4429800"/>
                  <a:ext cx="30240" cy="1836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1663560" y="4300560"/>
                <a:ext cx="76320" cy="1292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587600" y="4429800"/>
                <a:ext cx="2286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617840" y="4448160"/>
                <a:ext cx="1512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770480" y="4448160"/>
                <a:ext cx="1512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1587600" y="4438800"/>
              <a:ext cx="228600" cy="470880"/>
              <a:chOff x="1587600" y="4438800"/>
              <a:chExt cx="228600" cy="470880"/>
            </a:xfrm>
          </p:grpSpPr>
          <p:sp>
            <p:nvSpPr>
              <p:cNvPr id="189" name=""/>
              <p:cNvSpPr/>
              <p:nvPr/>
            </p:nvSpPr>
            <p:spPr>
              <a:xfrm>
                <a:off x="1635840" y="4452480"/>
                <a:ext cx="131760" cy="1936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635840" y="4563360"/>
                <a:ext cx="55440" cy="3463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712160" y="4563360"/>
                <a:ext cx="55440" cy="3463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587600" y="4452480"/>
                <a:ext cx="27720" cy="1936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788480" y="4452480"/>
                <a:ext cx="27720" cy="1936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615320" y="4438800"/>
                <a:ext cx="187200" cy="136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1587600" y="5189400"/>
            <a:ext cx="228600" cy="609840"/>
            <a:chOff x="1587600" y="5189400"/>
            <a:chExt cx="228600" cy="609840"/>
          </a:xfrm>
        </p:grpSpPr>
        <p:grpSp>
          <p:nvGrpSpPr>
            <p:cNvPr id="196" name=""/>
            <p:cNvGrpSpPr/>
            <p:nvPr/>
          </p:nvGrpSpPr>
          <p:grpSpPr>
            <a:xfrm>
              <a:off x="1587600" y="5189400"/>
              <a:ext cx="228600" cy="609480"/>
              <a:chOff x="1587600" y="5189400"/>
              <a:chExt cx="228600" cy="6094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1633320" y="5337000"/>
                <a:ext cx="137160" cy="461880"/>
                <a:chOff x="1633320" y="5337000"/>
                <a:chExt cx="137160" cy="461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633320" y="5337000"/>
                  <a:ext cx="0" cy="46188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633320" y="5798880"/>
                  <a:ext cx="608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694160" y="5540040"/>
                  <a:ext cx="0" cy="2588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709640" y="5540040"/>
                  <a:ext cx="0" cy="2588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709640" y="5798880"/>
                  <a:ext cx="608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770480" y="5337000"/>
                  <a:ext cx="0" cy="46188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633320" y="5337000"/>
                  <a:ext cx="1371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694160" y="5540040"/>
                  <a:ext cx="151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1587600" y="5318640"/>
                <a:ext cx="30240" cy="221760"/>
                <a:chOff x="1587600" y="5318640"/>
                <a:chExt cx="30240" cy="2217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617840" y="5337000"/>
                  <a:ext cx="0" cy="20340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587600" y="5318640"/>
                  <a:ext cx="0" cy="22176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587600" y="5540400"/>
                  <a:ext cx="30240" cy="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587600" y="5318640"/>
                  <a:ext cx="30240" cy="1836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785960" y="5318640"/>
                <a:ext cx="30240" cy="221760"/>
                <a:chOff x="1785960" y="5318640"/>
                <a:chExt cx="30240" cy="2217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785960" y="5337000"/>
                  <a:ext cx="0" cy="20340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816200" y="5318640"/>
                  <a:ext cx="0" cy="22176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1785960" y="5540400"/>
                  <a:ext cx="30240" cy="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>
                  <a:off x="1785960" y="5318640"/>
                  <a:ext cx="30240" cy="1836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1663560" y="5189400"/>
                <a:ext cx="76320" cy="1292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587600" y="5318640"/>
                <a:ext cx="2286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17840" y="5337000"/>
                <a:ext cx="1512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70480" y="5337000"/>
                <a:ext cx="1512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587600" y="5328000"/>
              <a:ext cx="228600" cy="471240"/>
              <a:chOff x="1587600" y="5328000"/>
              <a:chExt cx="228600" cy="47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1635840" y="5341680"/>
                <a:ext cx="131760" cy="1940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35840" y="5452560"/>
                <a:ext cx="55440" cy="3466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712160" y="5452560"/>
                <a:ext cx="55440" cy="3466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587600" y="5341680"/>
                <a:ext cx="27720" cy="1940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788480" y="5341680"/>
                <a:ext cx="27720" cy="1940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15320" y="5328000"/>
                <a:ext cx="187200" cy="136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7" name=""/>
          <p:cNvSpPr/>
          <p:nvPr/>
        </p:nvSpPr>
        <p:spPr>
          <a:xfrm>
            <a:off x="4168800" y="25146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researc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91760" y="38656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market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23680" y="521640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admi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server"/>
          <p:cNvSpPr/>
          <p:nvPr/>
        </p:nvSpPr>
        <p:spPr>
          <a:xfrm>
            <a:off x="7378560" y="2522520"/>
            <a:ext cx="371520" cy="75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server"/>
          <p:cNvSpPr/>
          <p:nvPr/>
        </p:nvSpPr>
        <p:spPr>
          <a:xfrm>
            <a:off x="7378560" y="3703680"/>
            <a:ext cx="371520" cy="75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server"/>
          <p:cNvSpPr/>
          <p:nvPr/>
        </p:nvSpPr>
        <p:spPr>
          <a:xfrm>
            <a:off x="7378560" y="4884840"/>
            <a:ext cx="371520" cy="75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36760" y="266688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rver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36760" y="502920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rver 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736760" y="384804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rver 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92160" y="2751120"/>
            <a:ext cx="213372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892160" y="2903400"/>
            <a:ext cx="2057400" cy="9144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92160" y="5494320"/>
            <a:ext cx="22100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968480" y="4199040"/>
            <a:ext cx="213372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95840" y="2903400"/>
            <a:ext cx="155412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595840" y="3055680"/>
            <a:ext cx="1478160" cy="96516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595840" y="4046400"/>
            <a:ext cx="1478160" cy="2286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792760" y="3360600"/>
            <a:ext cx="1357200" cy="19814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799240" y="4427640"/>
            <a:ext cx="1198440" cy="9144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99240" y="5342040"/>
            <a:ext cx="1350720" cy="2286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Question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re might RBAC make more sense than DAC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re might DAC make more sense than RBAC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vantages of RBA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rs change more frequently than ro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BAC reference mode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BAC0 – basic mod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BAC1 – Adds role hierarchies to RBAC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BAC2 – Adds constraints to RBAC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BAC3 – incorporates RBAC1 and RBAC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BAC0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s, roles, and permiss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user may have multiple roles, a role may be granted multiple permiss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ps a user to a set of roles to which the user is currently assign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inciple of least privile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le-to-permission mapping can be fine-grain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list/modify but not create; append but not modif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BAC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fine a partial order (not total order) on the ro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herit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role r’ is subordinate to role r, then r has all the permissions that r’ does (and possibly mor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BAC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ds constraints to user-to-role mapp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tually exclusive ro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set of roles R such that a user can be assigned to at most one role in this set, either overall (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static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 or per session (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dynamic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forces separation of du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rdina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x. users assigned to a role (e.g., superuser); max  roles per user (or per session); or max roles having a certain permiss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onathan Katz</cp:lastModifiedBy>
  <dcterms:modified xsi:type="dcterms:W3CDTF">2008-03-11T19:23:02Z</dcterms:modified>
  <cp:revision>730</cp:revision>
  <dc:subject/>
  <dc:title>CMSC 414 Computer (and Network) Security</dc:title>
</cp:coreProperties>
</file>