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94E-FD05-4E5A-8A52-6A23290C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F0B-4273-4579-8429-2EC3B84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896-B56B-41DA-A42E-8826E51D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DC7-66E2-4049-81DC-E9CEB9AE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DF2D-022A-4B78-A515-02725840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A03-87E8-4261-AFBA-FBA46391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A81E-FE7E-46D3-8945-C3089A29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6C72-E7FC-466F-A024-B2DD988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1B30-5B9D-45F6-8696-822E9AA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836D-AA3B-45D3-9D86-4A81521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7EEB-3C65-414E-B562-AC92BDB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DC0-F733-47A7-940D-5CE5B8BC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DF96-9F66-43DD-A278-248D2DDE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CEAD-C305-4191-95A2-85ED8E9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E489-1B81-45A0-8E55-3BBC8451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CB13-FD26-464C-ADB0-EDADB105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71B-EA68-4716-A761-C1B72427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E56-79AF-4921-BC41-3A679BC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4E3-6B29-4640-A0CE-CD7504BB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4D4-621E-4974-9FE4-98D96C3D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E46-A74F-4307-92D1-3A4B1249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253-D80A-4711-A6B0-F2A7E3FE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49D-F903-46A4-AAA7-06565491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697-1683-40E4-931D-50AE7CF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C983-8420-4E76-8BBE-709327A71F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B288-5730-4FD2-8E22-41740E9751B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s of segmenta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can guess memory lo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can generate (name, offset) where the offset is larger than the segment siz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fix this by storing current segment length in the segment address table, but this is ineffic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mory fragm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ress table lookup can be sl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g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ilar to segmentation, but with fixed-size segments calle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ressing via (page, offset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voids fragmentation problem…and “large offset” iss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mer need not be aware of pages (in contrast to segments, which were logical uni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-paging” causes potential security problems as data is shifted from one page to anoth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n be difficult to describe desired protection, since pages are no longer logical uni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ing the 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gmentation better for security; paging better for ef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bine to get best of bo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 divided into logical segments; each segment broken into fixed-size p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94920" y="2514600"/>
            <a:ext cx="41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7720" y="2514600"/>
            <a:ext cx="668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: an Overview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ing the identity of another 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authenticating to another compu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son authenticating to a local compu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son authenticating to a remote compu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issu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authentication information is stored (at both end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uthentication protocol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may be based 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you kn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you ha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you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consider two-facto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tual authentication vs. unidirectiona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ortant to be clear about what is being authentic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use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machin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user’s rol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dat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ssumptions are being mad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login on untrusted termi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 taxon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iv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mperso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-in-the-midd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comprom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 attacks may be easier/more difficult in different sett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ress-based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sometimes used (e.g., uni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generally not very 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atively easy to forge source addresses of network pack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 sta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dian: 7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ter gra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85-100: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5-85: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50-65: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&lt; 50: D/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word-based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 system based on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low-entrop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shared secret (note: different from book definitions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tinguish on-line attacks vs. off-lin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 sel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selection of passwords is typically very wea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wer entropy password makes dictionary attacks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 password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rived from account names or userna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ctionary words, reversed dictionary words, or small modifications of dictionary wo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tter password sel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alphanumeric charac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nger phr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try to enforce good password selec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these types of passwords are difficult for people to memorize and typ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passwords to key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potentially use passwords to derive symmetric or public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s the entropy of the resulting ke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ten allows off-line dictionary attacks on the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2240" y="2514600"/>
            <a:ext cx="454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ually think of multi-user security in terms of files, but memory protection must also be d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hind the scenes…handled by OS automatical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forc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ogical sepa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s operate under the illusion that no other user’s processes are running, and in fact are unable to access objects outside some permitted doma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nce”: restricts access to portions of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roduced in single-user systems to prevent (accidental) destruction of OS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redefined memory address where OS resides; users disallowed from modify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enforced at the hardwar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xed space allocated for 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OS is supposed to be “modifiable”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waste sp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riation is to have a “fence register” which stores the address of the protected portion of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 easy “relocation” by simple addition (in hardwa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tected portion can dynamically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opportunity for security breach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e/bounds regis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two registers: base register and bounds regi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ory access restricted to lie between these tw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nts of these registers will be changed by the OS, per-user, as part of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ntext swit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have an additional base/bounds register for each user, to logically separat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struc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vent accidental overwriting of executable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gged archite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e/bounds registers offer very course-grained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, have the restriction that different sections of memory space must be contigu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sible to improve this by tagging every, e.g., word of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label each word read/write/execu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wasteful of memor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s changes at the hardwar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gm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 components divided into logical segments (e.g., code of a single procedure; local variab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ch segment has a unique name; items in segment addressed by (name, offs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ch segment may be stored anywhere in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S handles mapping; transparent to us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n implement diff. protection for each seg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S controls which programs have which entries in their segment address tab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ple users can potentially be given access to the same seg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lete medi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3-13T19:41:49Z</dcterms:modified>
  <cp:revision>762</cp:revision>
  <dc:subject/>
  <dc:title>CMSC 414 Computer (and Network) Security</dc:title>
</cp:coreProperties>
</file>