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FD9-30A6-448F-8C17-219AA0AF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3E3-D117-45EB-9A05-6278C81D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8DE-5AF9-48D4-9894-E8860086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47E-1B2C-4127-A961-C02F2000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E1D3-5799-464C-AD33-60115709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583-9CD8-4DC2-BF8B-3D3696AD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FA7C-8FF3-4652-B625-738E8846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EC5-1CB1-483C-A0FE-D420005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4ED9-555F-4D5D-8588-441BD45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41D7-36D9-4EB6-A1FD-E11060C3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5F18-3D67-438B-843C-0629380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D60-20E3-4AE9-9A80-E97C0827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D7F0-F926-46BF-9B6C-CBB68AC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DBA-DF3E-4D1E-A568-67E161D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1A58-E816-423B-9221-7867938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C9A0-49BE-4C36-8FFC-5AD99295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BECD-12DC-4F38-9024-77C91609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AD3-CE6C-4AE3-AD05-F976D390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523-9237-4228-9214-A0EE806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42F-6902-4AFD-BB6D-9CA4057E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C62-D6FF-49CC-A244-3653C3FD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499-C424-42E8-85D2-4DB0D73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742-F28A-45C4-90A2-70D9FDA2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B26-2C88-4C70-A435-CF5E6FF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DA7E-A57A-46E8-A2F5-B6083182DB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33CC-7B75-4E0C-B85B-A87375CC84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ter(?)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6560" y="2590920"/>
            <a:ext cx="839520" cy="99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853600" y="17733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581280"/>
            <a:ext cx="320040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4240" y="17715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55560" y="4359240"/>
            <a:ext cx="71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-bit difference in the scanned fingerpri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ults in a failed authentica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91320" y="2666880"/>
            <a:ext cx="2621880" cy="990720"/>
            <a:chOff x="3091320" y="2666880"/>
            <a:chExt cx="2621880" cy="9907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495600" y="2666880"/>
              <a:ext cx="8395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091320" y="284616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H(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44760" y="2846160"/>
              <a:ext cx="146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aeaea"/>
                  </a:solidFill>
                  <a:latin typeface="Arial"/>
                </a:rPr>
                <a:t>, nonce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514600" y="2438280"/>
            <a:ext cx="3200400" cy="0"/>
          </a:xfrm>
          <a:prstGeom prst="line">
            <a:avLst/>
          </a:prstGeom>
          <a:ln w="255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800" y="189396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8120" y="2854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=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41160" y="2590920"/>
            <a:ext cx="3024720" cy="990360"/>
            <a:chOff x="6041160" y="2590920"/>
            <a:chExt cx="3024720" cy="990360"/>
          </a:xfrm>
        </p:grpSpPr>
        <p:grpSp>
          <p:nvGrpSpPr>
            <p:cNvPr id="130" name=""/>
            <p:cNvGrpSpPr/>
            <p:nvPr/>
          </p:nvGrpSpPr>
          <p:grpSpPr>
            <a:xfrm>
              <a:off x="6041160" y="2590920"/>
              <a:ext cx="3024720" cy="990360"/>
              <a:chOff x="6041160" y="2590920"/>
              <a:chExt cx="3024720" cy="9903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444000" y="2590920"/>
                <a:ext cx="2621880" cy="990360"/>
                <a:chOff x="6444000" y="2590920"/>
                <a:chExt cx="2621880" cy="990360"/>
              </a:xfrm>
            </p:grpSpPr>
            <p:pic>
              <p:nvPicPr>
                <p:cNvPr id="1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8280" y="2590920"/>
                  <a:ext cx="83952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6444000" y="2769840"/>
                  <a:ext cx="555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H(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97440" y="2769840"/>
                  <a:ext cx="146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eaeaea"/>
                      </a:solidFill>
                      <a:latin typeface="Arial"/>
                    </a:rPr>
                    <a:t>, nonce)</a:t>
                  </a:r>
                  <a:endParaRPr b="0" lang="en-US" sz="2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6041160" y="2778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eaeaea"/>
                    </a:solidFill>
                    <a:latin typeface="Arial"/>
                  </a:rPr>
                  <a:t>h=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249960" y="259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password-based protocol is potentially vulnerable to an “on-line” dictionary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-line attacks can be detected and limi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f-line attacks can never be prevented, but protocols can be made secure against such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password-based protocol is vulnerable to off-line attack if the server is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the server is compromised, why do we ca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s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Use a password-based protocol which is secure against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off-line attack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hen server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fortunately, this has not been the case in practice (e.g., telnet, cell phones, etc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a difficult problem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the clear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sh of password (done correctl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oesn’t always achieve anything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kes adversary’s job hard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tentially protects users who choose good passwor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lt”-ed hash of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kes bulk dictionary attacks harder, but no harder to attack a particular passwor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ed passwords? (What attack is this defending against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tralized server stores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reshold password sto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ntralized 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storage n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tral server stores password; servers request the password to authenticate 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. facilitator n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ntral server stores password; servers send information from user to be authenticated by the central 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communication with the central server must be authenticat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tok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SA Secure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IN-protected memory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graphic smart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addin eTok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ill need a secure protocol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1646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omet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much entropy is the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private are the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reliable are the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oc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omet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icult to use secur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-unif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need a secure protoco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can you securely authenticate yourself to a remote server using your fingerpri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vial soluti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ometric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0760" y="345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191120"/>
            <a:ext cx="3200400" cy="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4760" y="3276720"/>
            <a:ext cx="839520" cy="99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480" y="3449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5400" y="472428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o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480" y="5716440"/>
            <a:ext cx="60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ly vulnerable to eavesdropping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08840" y="3200400"/>
            <a:ext cx="839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3-25T20:15:23Z</dcterms:modified>
  <cp:revision>800</cp:revision>
  <dc:subject/>
  <dc:title>CMSC 414 Computer (and Network) Security</dc:title>
</cp:coreProperties>
</file>