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0B62-D8D9-4DCA-B71B-3AEE47BF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331-C9E4-4EA4-AD83-ADE8A303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EFB8-F63E-4037-8AE0-6D14775F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7B6-076A-4093-AA33-ECDE3F37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DD40-3761-4204-9404-D67C47A7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F659-4E50-49E3-AA96-526AA2C7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DFE3-74FF-478F-B08E-71635219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0CEC-9092-4074-9936-E6FBB05E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AD3D-4DD3-47A8-9489-3CB2873F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1BF6-638C-40E5-B412-DF2E059A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69BC-8453-4AF6-A93F-120426C4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BECD-B03C-4C2C-8B75-D5DC3BAA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5BD2-B51A-4C53-A977-1BCBD142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69D1-304A-486D-BB95-99C1BD53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F030-CA37-4DE5-90EA-5C73179E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337F-07F4-4774-9CBA-F6804374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B57F-BACF-444B-896D-1FE4E1E5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27FE-679D-40C5-A102-2C2CEA5B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933D-D579-4FB5-B1BF-A43F40C7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FD39-1301-4C41-AAC6-5A28A7A9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303D-E1DB-446F-A546-92B7EA7B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79CD-1AA2-4E72-9DA5-D6097DD9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6F1A-9444-4DEE-88F0-CCA82916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9AD4-E174-4CCD-9FE3-62C83B47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5F52-BD52-43B2-B33E-742354900BC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428D-27D5-4229-B9BC-BE95563E998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15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ding key exchan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 sufficient to simply “add on” key establishment before/after authent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plicing attack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 “authenticated key exchange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D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y Distribution Cent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dvantages of symmetric-key crypto, without O(n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 ke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ut requires a trusted intermediary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ngle point of failure/attac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will see an example (Kerberos) la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ultiple intermedia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ows users in different domains to communicate secure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multiple KDC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have all pairs of KDCs share a ke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re likely, there will be a hierarchy of KD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77000" y="2743200"/>
            <a:ext cx="576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uthentication Protocol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Chapter 11, KPS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tocol design is subt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mall changes can make a protocol insecure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storically, designed in an “ad-hoc” way, by checking protocol for known weakness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eat example of where provable security helps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llenge-respon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ent and server share a key 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nerically: server sends R; user sends f(k, 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which f will this be secur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f R is non-repeating, but predictab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awb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mutual authentic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key exchan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ctionary attack if k is low entrop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secure against server compromi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nounc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yone interested in a summer internship at NIST related to programming in support of quantum key distribution (no prior knowledge of QM required), please contact 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authentication protocol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ver stores H(pw); user sends p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ure” against server compromise, but not eavesdropping (or replay attack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ver stores pw, sends R; user sends F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pw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f pw is a high-entropy key, then this is secure against eavesdropping (but not server compromis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f pw is a password, then this is insecure against an off-line dictionary attac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public-key protoc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ver stores pk; user stores s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ver sends R; user signs 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ing a secure signature scheme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this secure against eavesdropping/server compromis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if we had used encryption instead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we achieve security against eavesdropping and server compromise without public-key crypto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amport’s protoc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ver stores H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pw), sends n; user sends H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n-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pw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rver updates user’s entry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also add “salt” to has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rver sends salt to user as first flo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lows user to use same password on different si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use same password (but different salt) when password “expires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tects against pre-comput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ployed as S/Ke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me drawback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ret expires at some point and a new secret must be shar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against active attack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use “paper-and-pencil” method to prevent this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ut at that point, better solutions are also possible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ssion key establish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re are very few applications for which authentication alone is sufficient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you think of any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do you do once you are authenticated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nerally, need to establish a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session ke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authenticate (and encrypt) subsequent commun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so efficiency advantages to using symmetric-key techniques if public-key authentication is us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dvantages even if a symmetric key is already shared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ssion key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duces effectiveness of cryptanaly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key compromised, only one session affec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vents replay of messages from other sess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key exchan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-key based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ffie-Hellman key exchan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ure against passive eavesdropping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ut insecure against a man-in-the-middle attac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onathan Katz</cp:lastModifiedBy>
  <dcterms:modified xsi:type="dcterms:W3CDTF">2008-03-27T19:37:17Z</dcterms:modified>
  <cp:revision>897</cp:revision>
  <dc:subject/>
  <dc:title>CMSC 414 Computer (and Network) Security</dc:title>
</cp:coreProperties>
</file>