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C6B2-71A9-43C8-98D0-FF0BE379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9AC4-93F5-4F86-BC52-45831B68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B06-9A3F-4928-9BC6-4CBC1CD8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182F-07F9-45C4-AB85-86DC2E58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EDE6-1DC0-42DE-9F95-99AE1206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880A-A665-410F-829C-FE68025E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BB35-6491-4ECE-926E-F14D9A9E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647C-C5D2-4ACB-83E2-2C3BF8E6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6A14-DE06-4307-8330-CEFF3B4E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E663-8F5D-4BD9-9F9E-FDEA2CAA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DC22-ECB7-429A-845E-BE4AF14F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4B6-9E20-4C07-8F48-BD262386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181B-B822-41F1-9360-147C98E9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955D-A849-49FC-B4F6-17903FDA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D170-BC0A-4F21-8B40-F9D06968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1807-BD80-489B-A03B-4A7407E0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72B3-BCDF-412E-A874-8AC16AA9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5216-7464-498E-9BB1-0E7367A5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39C-4A36-4897-9A88-1819FA93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945-2AF3-41F1-8819-AED11CA9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DE8-631E-4994-9406-725695F0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15A-A375-4947-88A9-FE62E6F5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747-C338-43C3-B4A6-FFFD070A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7D1-C6B5-43F5-BD15-116C1D4E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6A6A-C968-47AF-A04B-834822B47EA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BD19-80FD-4DC6-BF19-5CE15BE3658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6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public-key protoc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ent sends Enc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pk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sends R, Enc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pk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R’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ent sends R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ulnerable to chosen-ciphertext attacks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ems better to use signat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does the client obtain pks and skc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e option is to download “credentials” from another site using a passwo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stablishing a session ke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the (secure) double challenge-response protocol from earlier; let the session key be F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R+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s this secur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w to fix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Note: the fix suggested in the book is ba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blic-key based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clude E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p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session-key) in protocol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authentication of the ciphertex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rypt session-key and sign the resul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forward secrecy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tentially vulnerable to replay attac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ent sends E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pk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; server sends E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pk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; session key is R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+R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asonable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y isn’t it a problem that the ciphertexts are not authenticated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mplicit vs. explicit authenti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henticated Diffie-Hellma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d signatures/MACs and nonces to Diffie-Hellman protoco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e: achieves forward secrec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lot of subtle details involved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uthentication with password + public key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y that only the server has a known public key (e.g., SSL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rver sends 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lient sends E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pk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R, password, session-ke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secure in general!!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t secure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if encryption scheme is chosen appropriate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be extended to give mutual authent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llenge-respon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ent and server share a key 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erically: server sends R; user sends f(k, 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which f will this be secur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R is non-repeating, but predictab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wb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mutual authenti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key exchan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ctionary attack if k is low entrop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secure against server compromi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verse” challenge-respon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sends f(k, R) and client sends 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.e., send a ciphertext and have user decrypt i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tual authentication (if decrypts “validly”)?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ich f are suitab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akness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s encryption for authenti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Note that a MAC cannot, in general, be used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ulnerable to dictionary attack just by false attempted login (not eavesdropping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uthentication of server assumes no replay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ngle-flow protoc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time instead of a server-generated challen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r sends &lt;time, MAC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time)&gt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hat if she had used encryption, or a hash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hat about just sending MAC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time)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server state; single mess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sideration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equires (loosely) synchronized clock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t guard against replay…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hat if user has same key on multiple server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lock reset attacks; clock DoS attacks!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No mutual authentica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blic-key protoc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we instantiate challenge-response or reverse challenge-response with signatures or public-key encrypti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s it secur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ssible resistance to server compromise (as we have seen alread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it a problem that the adversary can get the client to sign an arbitrary valu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different keys for different purpo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ding mutual authent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uble challenge-response in 4 roun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ent sends their na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sends a nonce 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ent sends f(k, R) and R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sends f(k, R’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gain, what f should be used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utual authentication in 3 rounds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we compress the previous protocol to 3 round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lient sends their name, R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rver sends f(k, R’) and 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lient sends f(k, R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ems ok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tual authentication in 3 roun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secure! (reflection attack using two server connections…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so vulnerable to off-line password guessing without eavesdropp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 improve security, make protocol asymmetr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such attack on original protoco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curity principle: let initiator prove its identity firs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good illustration that designing secure protocols is very subtle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other warning against modifying existing protocols even in seemingly “innocuous” wa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ing timestamp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 sends &lt;time, MAC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time)&gt;, server responds with MAC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time+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f they used encryption instead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ulnerabiliti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ymmetric protocol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4-01T23:53:59Z</dcterms:modified>
  <cp:revision>916</cp:revision>
  <dc:subject/>
  <dc:title>CMSC 414 Computer (and Network) Security</dc:title>
</cp:coreProperties>
</file>