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6AA3-9848-4505-99A4-00AB46369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746C-D89D-4576-85A9-5E681FC4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A7D0-ED2F-4067-9209-77B100F08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2AAB-6610-4A97-840B-30D1F90F9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DC6D-AC2D-42A9-92E0-821E78082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A4C0-AEC0-4034-821E-373931DC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3EBB-53EC-4BEB-8E86-D5EFF06B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211B-126E-47F7-8E46-1DBF7446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A8285-72EC-46E5-A3A8-F5E85634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D85D-12A4-4A93-90BD-943362F5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48D5-A4B1-49ED-BC11-FB9149A4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ED2A-E67C-4FCC-9F96-29A3BB13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AFBE-5FD0-4389-AF82-B3573900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2572-C089-4067-B288-7D5BAB9B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7DA5-D07D-4F01-95E7-F13FCCB6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2171-6929-46DE-A8F4-CC068587A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D87D-A609-4312-9EF8-990C60AFB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D81C-7600-46D0-B905-476B41EE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E28B-BBAA-4AB2-B78B-F861F784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7F7D-5DC4-4FBC-AB95-5D5F449A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B0E4-1448-47DF-A4BA-FE76E1DC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6674-385C-405E-9952-2249F7C8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01FF-0D2E-49B3-8B70-CB61717A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4392-9E50-4471-A8BA-E576938E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8D62-22FC-40C9-BEF2-7EDC4203552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A195-4BC8-43A2-A444-6100EA104BB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17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alysi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y does Alice believe she is talking to Bob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y does Bob believe he is talking to Alic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te: N should be unpredictable, not just a no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therwise, can falsely authenticate Bob to Ali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siderata and summ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is not an exhaustive list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se are concerns to be aware of; in some cases you may decide that certain threats are acceptab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tter to formally define a security model and prove security (but here we will be informal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siderata and summ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dversary initiating session as cli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Easiest attack to carry out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 impersonation (obviously!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 off-line password guess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hould not learn information that will subsequently allow impersonation of server to clie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e aware of server decrypting/signing unauthenticated challeng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plicing messages into the sess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milar for adversary accepting connections from client (though this is a harder attack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siderata and summ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avesdropp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hould not learn information that would allow for later impersonation (possibly to another replica of Bob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ssages should be encrypt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 off-line dictionary attack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rver compromi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hould not learn client’s passwor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orward secrec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mpersonation of client to server(?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923120" y="2743200"/>
            <a:ext cx="64792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os and Don’ts of Client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uthentication on the Web”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(Fu, et al.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uthentication using “cookies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ngle sign-on” for users accessing a si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ull-fledged key-exchange not practical due to limited client (and server!) comput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 public keys, no third parties, deployability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dea: use “authenticators” stored as cook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 client-side computation at a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t…must do this securely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inimal level of security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y such scheme must be secure against “interrogative attacks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se are trivial to mount by legitimate use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 contrast to eavesdropping, server impersonation, and man-in-the-middle attacks that are more difficul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fidentiality is an orthogonal issue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ne-grained vs. coarse-grained authentic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oes the system care who the user is, or just that they are legitimate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model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istential forgery vs. selective forger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former may typically be sufficient; the latter is wors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Essentially) adaptive chosen-message atta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r can sign up for different account under different names, with different levels of servi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ant no existential forgery even after adaptive chosen-message atta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e have seen this before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“hints”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 appropriate amount of secur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o you need fine-grained knowledge of the user-id or not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s confidentiality, etc. required or not?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 published schemes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 security through obscurity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 cryptographic tools appropriate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ing crypt( ) as a hash or MAC…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utput of crypt only depends on the first 8 characters of its inpu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rypt(username | key) provides no protection if the username is 8 characters long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rypto(user | key) = crypt(user’ | key) if the first 8 chars of user match the first 8 chars of user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ow can you determine the 8 character key using an adaptive chosen-message attack and ~2</a:t>
            </a:r>
            <a:r>
              <a:rPr b="0" lang="en-US" sz="2400" spc="-1" strike="noStrike" baseline="30000">
                <a:solidFill>
                  <a:srgbClr val="eaeaea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work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Authentication with password + public key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ay that only the server has a known public key (e.g., SSL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rver sends 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lient sends E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pk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R, password, session-key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secure in general!!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ut secure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if encryption scheme is chosen appropriatel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be extended to give mutual authentic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e “hints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 careful of composing security schem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using same key for two purposes or schem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different authentication schemes for account management and purchasing; break in one allowed recovery of password for the oth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tect user password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on’t send in the clear, or include in UR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nly let cookies be sent over SS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-authenticate before changing passwor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void predictable session identifi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piration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simple and secure approach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 secure MAC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pute MAC over entire cooki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okie = (username/data, expiration, MAC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sing session key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enerally, want to provide both secrecy and integrity for subsequent convers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 authenticated encryption (e.g., encrypt-then-MAC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 sequence numbers to prevent replay attack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 a directionality bi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eriodically refresh the session ke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354760" y="2743200"/>
            <a:ext cx="5607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ediated authentica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(using a KDC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ediated authentic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mple protocol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ice requests to talk to Bo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DC generates K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AB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and sends it to Alice and Bob, encrypted with their respective key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 authentication here, but impostor can’t determine K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ther drawback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DC has to initiate session with Bo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ice’s message to Bob may arrive before KDC’s message to Bo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mprovement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ave KDC send to Alice the encryption of K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under Bob’s ke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duces communication load on KD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silient to message delays in networ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b and Alice follow with mutual authentication and key exchan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edham-Schroed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DC: N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Alice, Bob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DC</a:t>
            </a:r>
            <a:r>
              <a:rPr b="0" lang="en-US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: K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{N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“Bob”, K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ticket}, where ticket = K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{K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“Alice”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: ticket, K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{N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: K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{N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-1, N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: K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{N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-1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alysi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assures Alice that she is talking to KD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events key-replay; helps prevent attack when Bob’s key is compromised and then chang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ob” authenticated in message 2, and “Alice” in ticke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s encryption to authenticate… </a:t>
            </a:r>
            <a:r>
              <a:rPr b="0" lang="en-U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eads to flaw if, e.g., ECB mode is used in round 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ulnerable if Alice’s key (even an old one) compromis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ticket is eternally vali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ix using timestamps, or by requesting an (encrypted) nonce from Bob at the very beginning of the protoco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tway-Re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: N, “Alice”, K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{N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N, “Alice”, “Bob”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DC: K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{N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N, “Alice”, “Bob”},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             K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{N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N, “Alice”, “Bob”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DC</a:t>
            </a:r>
            <a:r>
              <a:rPr b="0" lang="en-US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: N, K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{N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K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, K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{N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K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: K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{N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K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: K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timestamp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onathan Katz</cp:lastModifiedBy>
  <dcterms:modified xsi:type="dcterms:W3CDTF">2008-04-03T19:43:07Z</dcterms:modified>
  <cp:revision>923</cp:revision>
  <dc:subject/>
  <dc:title>CMSC 414 Computer (and Network) Security</dc:title>
</cp:coreProperties>
</file>