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336-8951-4F12-93EB-2DD20C09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83B-F18D-47AF-9608-596BDD44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901-FDDB-404B-B6DD-EFB487DA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006-B9EF-4732-A550-47D0ABF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12F3-E3ED-4270-82F6-376D9A59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76E-AD61-4D04-BCC1-8D0683EA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26F-1A1D-4388-B4FB-6D0601A5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7686-8FFC-4C03-9C0F-B92FC0C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BC20-9296-497A-AF3E-D361B108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354-73B1-44EB-ACD6-F4498DA6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D49E-B339-4D40-9DDD-A94EED4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9CE-B4A7-4460-AE3D-B526F7D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ACFE-A1CF-4EF5-97B1-293DB1F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3C2-51DB-46E3-A545-D627866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79E-6710-4D00-83ED-5A90F60E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083B-E5B4-4A91-A922-77B91604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4E9-B908-4F3B-9242-A53AF8DB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9D4-6440-4D21-8209-F5DD995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65A-43CE-4589-8347-FE7810A4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A74-212E-44A0-8B0E-FC52E440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270-422F-4EFC-B9AC-3D1AF82C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F69-653F-411D-899F-3F23141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982-1F6A-4C55-9629-6F92C2F4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417-2444-4B8B-B9E8-4309070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14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947-FEAE-4922-93DE-C5198ACA631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582D-FC3E-4422-99EE-2816799DBD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ributing the keys of the “trust anchor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eans for retrieving certificat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CA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aming convention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rust model/method for evaluating a certificate chai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evo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 and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ertificate authority (CA) is just a widely used trust anch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authentication polic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s the level of authentication needed to identify the principal before the certificate is issu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issuance polic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escribes the principals to whom the CA will issue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 CA can “act” as multiple CAs, each with their own policies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distinct public keys (with different securit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Verisign (199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e levels of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ication of valid email add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ication of name/add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ckground che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authentication policies; same issuance policy (individuals onl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issuance policy was for issuing certificates to corporations/web serv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iers correspond to princip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uniquely identify the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Real) names alone are not enough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eed disambigu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principal may have multiple identifi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pending on that principal’s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ork/pers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.g., X.509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istinguished nam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dentify 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ies of fields, each with key and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.g. /O=University of Maryland/OU=College Park/OU=Computer Science/CN=J. Kat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” - organization; “OU” - organizational unit; “CN” = common nam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identity mea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ltimately, identity is proved using physical me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iver’s license, fingerprint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these are compromised, then certificates are irrelevan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rtificate is just a binding between external identity and (DN, P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much to trust a particular certificat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ed 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authentication poli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igor with which policy is fo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umptions inherent in the poli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valid trust anchors, how a verifier chooses trust anchors, and what certification paths create a legal chain from trust anchor to targ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 CA certifies every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ngle point of fail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very conven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lete monopol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monopoly not used in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RA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A can appoint R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s check identities and vouch for keys, but the CA does all actual sig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rtainly more conveni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necessarily more sec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ote: RAs can be integrated into other models as wel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 April 2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d on material through April 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xt HW out later today, will be Exercises rather than a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more project (buffer overflows) later in the seme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delegated 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can issue certificates to other 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uch for their key and their trustworthiness as a 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legated CA can sign certificates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must now obtain a certificate cha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Note: delegation can be incorporated into other models as wel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 hierarc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erarchical structure of C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des correspond to 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ldren of a CA are constrained by the policies of their par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li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CAs have the same distinguished na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different CAs issue certificates for the same distinguished name (but to different principals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easy way to address these is to have hierarchical names for CAs, and to incorporate CA distinguished name into issued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igarc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trust anch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multiple keys pre-configured in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r can add/remove trust anch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ss resistant to compromis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says the user trusts the trust anchor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users be tricked into using “bad” trust anchor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suer name may be bog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public keys of “good” trust anchors be changed in the softwa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rch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responsible for defining the trust anchors they want to 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alability/usabilit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much trust to place in a certificate ch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KIs are implemented in web brow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ertificate is meaningless without verifying the name in the certific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ertificate from an unknown CA is usel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ust” is only as good as your trust anch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o you know who your trust anchors ar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GP “web of trust”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GP keyser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reShark demons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YTimes sends the password in the cl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ew SSL/TLS se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 (insecure) Yahoo! emai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4840" y="274320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authorities and PKI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our discussion of public-key crypto, we have assumed users know each others’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how can public keys be reliably distribut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wnload from web page insecure against man-in-the-middle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obtained from CD-ROM or in person, but this is impractical in gene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solution: bootstrap new public keys from public keys you already know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ertificat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vouch for binding of public keys to na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party can vouch for the public key of an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(A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) = Sig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SK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“B”, P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inf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fo” can contain expiration time, restriction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view this as a directed edge in a graph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know A’s public key (and trust its certification), you can learn B’s public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657600" y="3886200"/>
            <a:ext cx="2590560" cy="914400"/>
            <a:chOff x="3657600" y="3886200"/>
            <a:chExt cx="2590560" cy="914400"/>
          </a:xfrm>
        </p:grpSpPr>
        <p:sp>
          <p:nvSpPr>
            <p:cNvPr id="102" name=""/>
            <p:cNvSpPr/>
            <p:nvPr/>
          </p:nvSpPr>
          <p:spPr>
            <a:xfrm>
              <a:off x="3657600" y="3886200"/>
              <a:ext cx="914400" cy="914400"/>
            </a:xfrm>
            <a:prstGeom prst="ellipse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3760" y="3886200"/>
              <a:ext cx="914400" cy="914400"/>
            </a:xfrm>
            <a:prstGeom prst="ellipse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4343400"/>
              <a:ext cx="76176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itivity/“certificate chain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learn keys via multiple hop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mantics are slightly different here: you may trust A to certify B, but do you trust A to certify that B can certify other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286000"/>
            <a:ext cx="6553080" cy="2057400"/>
            <a:chOff x="2057400" y="2286000"/>
            <a:chExt cx="6553080" cy="2057400"/>
          </a:xfrm>
        </p:grpSpPr>
        <p:grpSp>
          <p:nvGrpSpPr>
            <p:cNvPr id="108" name=""/>
            <p:cNvGrpSpPr/>
            <p:nvPr/>
          </p:nvGrpSpPr>
          <p:grpSpPr>
            <a:xfrm>
              <a:off x="2743200" y="2286000"/>
              <a:ext cx="4267080" cy="914400"/>
              <a:chOff x="2743200" y="2286000"/>
              <a:chExt cx="426708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2743200" y="2286000"/>
                <a:ext cx="914400" cy="914400"/>
              </a:xfrm>
              <a:prstGeom prst="ellipse">
                <a:avLst/>
              </a:prstGeom>
              <a:solidFill>
                <a:srgbClr val="eeb00b"/>
              </a:solidFill>
              <a:ln cap="sq"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PK</a:t>
                </a:r>
                <a:r>
                  <a:rPr b="0" lang="en-US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19720" y="2286000"/>
                <a:ext cx="914400" cy="914400"/>
              </a:xfrm>
              <a:prstGeom prst="ellipse">
                <a:avLst/>
              </a:prstGeom>
              <a:solidFill>
                <a:srgbClr val="eeb00b"/>
              </a:solidFill>
              <a:ln cap="sq"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PK</a:t>
                </a:r>
                <a:r>
                  <a:rPr b="0" lang="en-US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57600" y="2743200"/>
                <a:ext cx="762120" cy="0"/>
              </a:xfrm>
              <a:prstGeom prst="line">
                <a:avLst/>
              </a:prstGeom>
              <a:ln cap="sq" w="25560">
                <a:solidFill>
                  <a:srgbClr val="eaeaea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2286000"/>
                <a:ext cx="914400" cy="914400"/>
              </a:xfrm>
              <a:prstGeom prst="ellipse">
                <a:avLst/>
              </a:prstGeom>
              <a:solidFill>
                <a:srgbClr val="eeb00b"/>
              </a:solidFill>
              <a:ln cap="sq"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PK</a:t>
                </a:r>
                <a:r>
                  <a:rPr b="0" lang="en-US" sz="2400" spc="-1" strike="noStrike" baseline="-25000">
                    <a:solidFill>
                      <a:srgbClr val="eaeaea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4120" y="2743200"/>
                <a:ext cx="761760" cy="0"/>
              </a:xfrm>
              <a:prstGeom prst="line">
                <a:avLst/>
              </a:prstGeom>
              <a:ln cap="sq" w="25560">
                <a:solidFill>
                  <a:srgbClr val="eaeaea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057400" y="3733920"/>
              <a:ext cx="2362320" cy="533160"/>
            </a:xfrm>
            <a:prstGeom prst="wedgeRoundRectCallout">
              <a:avLst>
                <a:gd name="adj1" fmla="val 34273"/>
                <a:gd name="adj2" fmla="val -230060"/>
                <a:gd name="adj3" fmla="val 16667"/>
              </a:avLst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ert(A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3809880"/>
              <a:ext cx="2361960" cy="533520"/>
            </a:xfrm>
            <a:prstGeom prst="wedgeRoundRectCallout">
              <a:avLst>
                <a:gd name="adj1" fmla="val -66666"/>
                <a:gd name="adj2" fmla="val -244347"/>
                <a:gd name="adj3" fmla="val 16667"/>
              </a:avLst>
            </a:prstGeom>
            <a:noFill/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ert(B</a:t>
              </a:r>
              <a:r>
                <a:rPr b="0" lang="en-U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itiv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infer trust from multiple (disjoint?) paths to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ublic key for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ges may also hav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eigh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ndicating level of t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difficult problem in gene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05320" y="3657600"/>
            <a:ext cx="4267080" cy="914400"/>
            <a:chOff x="3505320" y="3657600"/>
            <a:chExt cx="4267080" cy="914400"/>
          </a:xfrm>
        </p:grpSpPr>
        <p:sp>
          <p:nvSpPr>
            <p:cNvPr id="119" name=""/>
            <p:cNvSpPr/>
            <p:nvPr/>
          </p:nvSpPr>
          <p:spPr>
            <a:xfrm>
              <a:off x="3505320" y="3657600"/>
              <a:ext cx="914400" cy="914400"/>
            </a:xfrm>
            <a:prstGeom prst="ellipse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840" y="3657600"/>
              <a:ext cx="914400" cy="914400"/>
            </a:xfrm>
            <a:prstGeom prst="ellipse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4114800"/>
              <a:ext cx="76212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657600"/>
              <a:ext cx="914400" cy="914400"/>
            </a:xfrm>
            <a:prstGeom prst="ellipse">
              <a:avLst/>
            </a:prstGeom>
            <a:solidFill>
              <a:srgbClr val="eeb00b"/>
            </a:solidFill>
            <a:ln cap="sq"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K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6240" y="4114800"/>
              <a:ext cx="761760" cy="0"/>
            </a:xfrm>
            <a:prstGeom prst="line">
              <a:avLst/>
            </a:prstGeom>
            <a:ln cap="sq" w="25560">
              <a:solidFill>
                <a:srgbClr val="eaeaea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505320" y="4876920"/>
            <a:ext cx="914400" cy="914400"/>
          </a:xfrm>
          <a:prstGeom prst="ellipse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876920"/>
            <a:ext cx="914400" cy="914400"/>
          </a:xfrm>
          <a:prstGeom prst="ellipse">
            <a:avLst/>
          </a:prstGeom>
          <a:solidFill>
            <a:srgbClr val="eeb00b"/>
          </a:solidFill>
          <a:ln cap="sq"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334120"/>
            <a:ext cx="761760" cy="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95880" y="4495320"/>
            <a:ext cx="914400" cy="838440"/>
          </a:xfrm>
          <a:prstGeom prst="line">
            <a:avLst/>
          </a:prstGeom>
          <a:ln cap="sq" w="255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581280"/>
            <a:ext cx="1447920" cy="2438640"/>
          </a:xfrm>
          <a:prstGeom prst="rect">
            <a:avLst/>
          </a:prstGeom>
          <a:noFill/>
          <a:ln w="255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6960" y="60199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keys I already kn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age of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 anchors” = set of public keys already known (and trusted to certify ot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obtain certificat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possibili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“collects” certificate(s) for itself, sends these all when starting a conne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finds certificates/certificate chains beginning at its own trust anchors and terminating at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ells B its trust anchors, B (finds and) sends certificates or certificate chains beginning at those trust anchors and terminating at itsel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onathan Katz</cp:lastModifiedBy>
  <dcterms:modified xsi:type="dcterms:W3CDTF">2008-04-08T19:53:01Z</dcterms:modified>
  <cp:revision>1035</cp:revision>
  <dc:subject/>
  <dc:title>CMSC 414 Computer (and Network) Security</dc:title>
</cp:coreProperties>
</file>