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9793-BE5C-4F0B-A4F5-CA31096DA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C1F9-70EF-4C4D-A941-019898242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BEA4-337D-4B75-8E46-C373B9C3C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91D3-4924-41F6-8E29-8D6B7B8F8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D582D-785A-4E6B-81DE-BE439B6E1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AF4F8-6B48-4A97-BC77-F29B0C7EB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B5697-8512-4388-B5B6-9CDC96FAC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43A40-282A-4A74-AE08-869574514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E376F-7607-493D-8B8A-7AE697CB3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33EFE-6780-435A-8A94-59B1A91EE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D96F9-DFFC-43D1-BBA3-3423F8BA4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5BA9-5AF9-4F43-A199-75CA3093E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DB5C9-34CC-42F6-A26C-BE0590F13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0FD72-7DF8-44C7-8D90-47E9FDFCA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544D9-7164-410D-B72B-FBE20D40E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82CF3-3EE6-4C8C-ACB3-D06FBBEA1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EB3D8-63E6-49DD-9B19-14A04EF27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939D-82F9-408D-98EE-F5EC0E99C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F93C-70BC-46E6-9E5C-9F5F4E1DF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7837-834F-446F-B071-420B0205B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1EFD-CC1C-4911-961D-41E0252CB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59A7-039F-488B-AD4E-169F0B40C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1AC2-6F5A-4642-A7A1-13CC3FA16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DC61-46DA-4D11-A6E3-B8C4422C9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14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14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14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14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14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14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7178C-4C35-4A24-AF16-0010CC7DF9D0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01D5D-9373-49A6-A4BD-B6036C734FA8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MSC 414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omputer and Network Security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Lecture 19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72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Jonathan Katz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ecrecy is not everyth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eniabili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o irrefutable evidence that you communicated with someone, </a:t>
            </a: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even if that party is maliciou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nonymity/pseudonymity/privac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o indication (to an external adversary) that you communicated with someon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o linkability, even to party with whom you are communicating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o information leakage beyond what is necessar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Standard crypto tools do not suffice!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xample: unidirectional authentic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uthenticated Diffie-Hellman leaves a trace that you communicated with a particular serv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s trace is </a:t>
            </a: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something that could be fabricated!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t could be used as evidence in a court of law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Standard crypto tools do not suffice!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xample: signatur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 signed message from A to B leaves irrefutable evidence of the fact that you signed the messag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lso leaves evidence of the fact that you signed </a:t>
            </a: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something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Standard crypto tools do not suffice!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xample: encryp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at if A encrypts a message to B (using public-key crypto) and then a court order requires B to reveal its secret key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Standard crypto tools do not suffice!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xample: credential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 obtain a digital certificate from the MVA that proves I am over 21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.g., a signature on an appropriate statemen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en I show this credential to someone else, it also reveals my name and addres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n this be avoided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Standard crypto tools do not suffice!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xample: e-cas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ow can I spend electronic cash securely yet anonymously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n the one hand, need signatures for securit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n the other hand, I don’t want the signature to be traced back to m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Standard crypto tools do not suffice!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xample: receipt freeness/coercibility (voting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 can encrypt its vote to the central server, but what if A saves its randomness (or uses 0s for its randomness) and uses this as proof of its vote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Standard crypto tools do not suffice!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xample: traffic analysi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ven if A encrypts its communication to B, an adversary monitoring the network can see that A and B are communicat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ay be problematic whe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ommunication with B is not allowe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ommunication reveals location of B (e.g., military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 does not want to reveal its identity to B (e.g., voting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eniabilit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e need a protocol that A and B can execute such that, after running the protocol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 is convinced it is talking to A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ut B could have generated the transcript on its own!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s this possible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n analogy…“Ali Baba’s cave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ackground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et N denote a product of two (large) primes p, q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quadratic residue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in Z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eaeaea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is a squar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.e., y is a quadratic residue if y = x</a:t>
            </a:r>
            <a:r>
              <a:rPr b="0" lang="en-US" sz="2400" spc="-1" strike="noStrike" baseline="30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mod N for some x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very quadratic residue has 4 square roo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t can be proved that computing square roots of random quadratic residues modulo N is as hard as factor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(This is in contrast to RSA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dministrativ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xam April 22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d on material through April 1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f you submit code for part 2 of HW2, please name it “HW3” to prevent collisio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clude name of whose implementation you attack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W3 ou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 public-key auth. protoco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 user’s public key is (N, y), where y is a random quadratic residu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ser’s secret key is x, where y = x</a:t>
            </a:r>
            <a:r>
              <a:rPr b="0" lang="en-US" sz="2800" spc="-1" strike="noStrike" baseline="30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mod 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protocol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ser sends a = r</a:t>
            </a:r>
            <a:r>
              <a:rPr b="0" lang="en-US" sz="2400" spc="-1" strike="noStrike" baseline="30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mod N for random 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erver sends a bit 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ser responds with c = r x</a:t>
            </a:r>
            <a:r>
              <a:rPr b="0" lang="en-US" sz="2400" spc="-1" strike="noStrike" baseline="30000">
                <a:solidFill>
                  <a:srgbClr val="eaeaea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mod 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erver checks that c</a:t>
            </a:r>
            <a:r>
              <a:rPr b="0" lang="en-US" sz="2400" spc="-1" strike="noStrike" baseline="30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= a y</a:t>
            </a:r>
            <a:r>
              <a:rPr b="0" lang="en-US" sz="2400" spc="-1" strike="noStrike" baseline="30000">
                <a:solidFill>
                  <a:srgbClr val="eaeaea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mod 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epeat many times (in parallel, say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y is this secure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ook at any one iter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f an adversary can answer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both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possible challenges, then it “must know” a square root of 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ut computing square roots of y is har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y is this deniable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e can generate honest-looking transcripts as follows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hoose random bit b and random c in Z</a:t>
            </a:r>
            <a:r>
              <a:rPr b="0" lang="en-US" sz="2400" spc="-1" strike="noStrike" baseline="-25000">
                <a:solidFill>
                  <a:srgbClr val="eaeaea"/>
                </a:solidFill>
                <a:latin typeface="Times New Roman"/>
              </a:rPr>
              <a:t>N</a:t>
            </a:r>
            <a:r>
              <a:rPr b="0" lang="en-US" sz="2400" spc="-1" strike="noStrike" baseline="30000">
                <a:solidFill>
                  <a:srgbClr val="eaeaea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et a = c</a:t>
            </a:r>
            <a:r>
              <a:rPr b="0" lang="en-US" sz="2400" spc="-1" strike="noStrike" baseline="30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/y</a:t>
            </a:r>
            <a:r>
              <a:rPr b="0" lang="en-US" sz="2400" spc="-1" strike="noStrike" baseline="30000">
                <a:solidFill>
                  <a:srgbClr val="eaeaea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mod 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n execution (with an honest server) does not leave any evidence that could not be fabricated by the server itself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xtensions…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argument for deniability assumes an honest serv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n develop protocols that are deniable even against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dishonest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serv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n also look at extensions of this idea to other settings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Zero-knowledge protocol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(Informally:) 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n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prove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something (e.g., that a given statement is true, that you “know” some value, etc.) to a verifier without revealing anything else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.g., proving knowledge of a square root of 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ore generally, for any NP language L, can prove that x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L without revealing anything about the witness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.g., by reducing to 3-colorability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KI in practice: web of trus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GP “web of trust” mod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Key distribu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GP keyserv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evoc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vocation is a key component of a PKI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ecret keys stolen/compromised, user leaves organization, etc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is is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in addition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to expiration dates included in certificat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ertificate might need to be revoked before expiration dat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xpiration dates improve efficienc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evocation may not be implemente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ert. revocation lists (CRLs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 issues signed list of (un-expired) revoked key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ust be updated and released periodicall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ust include timestamp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Verifier must obtain most recent CRL before verifying a certificat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sing “delta CRLs” improves efficiency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L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n-line revocation server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Verifier queries an OLRS to find out if a certificate is still vali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LRS somewhat mitigates advantages of public-key mod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ut OLRS is not 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Times New Roman"/>
              </a:rPr>
              <a:t>as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security sensitive as a KDC/CA, and certs can be used even if OLRS is unavailabl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f OLRS has its own key, it can certify for the target that its certificate is valid at a certain tim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Good lists”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previous approaches basically use lists of “bad” certificat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lso possible to use a list containing only “good” certificat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Likely to be less efficien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elf revoc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ign a message revoking your own public key; propagate throughout the network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is is essentially how revocation is done in the web of trust mod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eposit revocation into keyserv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873080" y="2743200"/>
            <a:ext cx="6573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eyond secrecy: deniability,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nonymity, and privacy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4T23:33:06Z</dcterms:created>
  <dc:creator>jkatz</dc:creator>
  <dc:description/>
  <dc:language>en-US</dc:language>
  <cp:lastModifiedBy>Jonathan Katz</cp:lastModifiedBy>
  <dcterms:modified xsi:type="dcterms:W3CDTF">2008-04-10T19:47:42Z</dcterms:modified>
  <cp:revision>1114</cp:revision>
  <dc:subject/>
  <dc:title>CMSC 414 Computer (and Network) Security</dc:title>
</cp:coreProperties>
</file>