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A0C-0B0B-4AB5-88D4-C5DF62C4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B221-1C3A-4B2F-AFB8-4E11EC16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53C-7FDB-4B93-B278-49DA1D9E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C7D-47B7-4251-B7B8-61560745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6D80-29DC-4872-A970-B4D3B970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8FE8-C64D-4DF1-96D0-E3C37120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2E0A-870D-4ED1-BE21-752A31AF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DB1C-16AB-4B05-B1D0-2C7C136B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51A9-4A22-4A00-A343-00B9B7BF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1805-0C21-4C0E-8138-75D48509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4F27-5B35-4C74-A240-AAD180CD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DBF-458A-4B97-9DEA-D2B24BF7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6649-6FD6-4BC7-B328-F99043D6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395C-FC61-4476-B3E2-6C788081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2340-00C6-403C-A980-087A14D3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55B0-DEA5-4FA6-83AB-A2BC2D33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4968-E86B-4B5C-A474-97B0FB09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89B-83C6-4470-BB2F-9CB718E6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5972-0461-458D-B106-8956AF99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570-C958-4EA5-955F-D94DB741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365-C558-41E7-9619-A98BF091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781-4D7F-4757-88DF-88B4F083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CEC-2EA3-4229-870C-0615CDE6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95B-F367-4A0C-A37E-989A7058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00E9-FCCB-44D7-8BEE-EF6F27D5CDD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3F24-0297-4FDA-913F-06C4D4BE99B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nonical applic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(or more) distinct parties communicating over an insecure netwo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secure commun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single party who is communicating “with itself” over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secure stor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057400" y="1811160"/>
            <a:ext cx="1219320" cy="1374840"/>
            <a:chOff x="2057400" y="1811160"/>
            <a:chExt cx="1219320" cy="13748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2057400" y="2178000"/>
              <a:ext cx="121932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48200" y="181116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Alic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238880" y="1676520"/>
            <a:ext cx="1219320" cy="1509120"/>
            <a:chOff x="7238880" y="1676520"/>
            <a:chExt cx="1219320" cy="150912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7238880" y="2057400"/>
              <a:ext cx="1219320" cy="112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487640" y="167652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Bo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451040" y="242424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shared inf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209680"/>
            <a:ext cx="3581280" cy="914400"/>
          </a:xfrm>
          <a:prstGeom prst="leftRightArrow">
            <a:avLst>
              <a:gd name="adj1" fmla="val 50000"/>
              <a:gd name="adj2" fmla="val 77968"/>
            </a:avLst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5680" y="243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44160" y="240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548000" y="4024440"/>
            <a:ext cx="7277760" cy="1509120"/>
            <a:chOff x="1548000" y="4024440"/>
            <a:chExt cx="7277760" cy="1509120"/>
          </a:xfrm>
        </p:grpSpPr>
        <p:grpSp>
          <p:nvGrpSpPr>
            <p:cNvPr id="120" name=""/>
            <p:cNvGrpSpPr/>
            <p:nvPr/>
          </p:nvGrpSpPr>
          <p:grpSpPr>
            <a:xfrm>
              <a:off x="1548000" y="4159080"/>
              <a:ext cx="1730160" cy="1374120"/>
              <a:chOff x="1548000" y="4159080"/>
              <a:chExt cx="1730160" cy="137412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2058840" y="4159080"/>
                <a:ext cx="1219320" cy="1374120"/>
                <a:chOff x="2058840" y="4159080"/>
                <a:chExt cx="1219320" cy="137412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58840" y="4525560"/>
                  <a:ext cx="1219320" cy="1007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"/>
                <p:cNvSpPr/>
                <p:nvPr/>
              </p:nvSpPr>
              <p:spPr>
                <a:xfrm>
                  <a:off x="2249640" y="4159080"/>
                  <a:ext cx="839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Arial"/>
                    </a:rPr>
                    <a:t>Alice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1548000" y="48621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7237440" y="4024440"/>
              <a:ext cx="1588320" cy="1509120"/>
              <a:chOff x="7237440" y="4024440"/>
              <a:chExt cx="1588320" cy="150912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7237440" y="4024440"/>
                <a:ext cx="1219320" cy="1509120"/>
                <a:chOff x="7237440" y="4024440"/>
                <a:chExt cx="1219320" cy="1509120"/>
              </a:xfrm>
            </p:grpSpPr>
            <p:pic>
              <p:nvPicPr>
                <p:cNvPr id="12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7440" y="4405320"/>
                  <a:ext cx="1219320" cy="112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"/>
                <p:cNvSpPr/>
                <p:nvPr/>
              </p:nvSpPr>
              <p:spPr>
                <a:xfrm>
                  <a:off x="7486200" y="4024440"/>
                  <a:ext cx="72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Arial"/>
                    </a:rPr>
                    <a:t>Bob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8442360" y="4827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1676520" y="3809880"/>
            <a:ext cx="7315200" cy="0"/>
          </a:xfrm>
          <a:prstGeom prst="line">
            <a:avLst/>
          </a:prstGeom>
          <a:ln w="316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5014800"/>
            <a:ext cx="3276720" cy="0"/>
          </a:xfrm>
          <a:prstGeom prst="line">
            <a:avLst/>
          </a:prstGeom>
          <a:ln w="316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743200" y="1676520"/>
            <a:ext cx="1588680" cy="1509120"/>
            <a:chOff x="2743200" y="1676520"/>
            <a:chExt cx="1588680" cy="1509120"/>
          </a:xfrm>
        </p:grpSpPr>
        <p:grpSp>
          <p:nvGrpSpPr>
            <p:cNvPr id="133" name=""/>
            <p:cNvGrpSpPr/>
            <p:nvPr/>
          </p:nvGrpSpPr>
          <p:grpSpPr>
            <a:xfrm>
              <a:off x="2743200" y="1676520"/>
              <a:ext cx="1219320" cy="1509120"/>
              <a:chOff x="2743200" y="1676520"/>
              <a:chExt cx="1219320" cy="1509120"/>
            </a:xfrm>
          </p:grpSpPr>
          <p:pic>
            <p:nvPicPr>
              <p:cNvPr id="1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43200" y="2057400"/>
                <a:ext cx="1219320" cy="112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2991960" y="16765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Arial"/>
                  </a:rPr>
                  <a:t>Bo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948480" y="2403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495680" y="2438280"/>
            <a:ext cx="1981440" cy="3276720"/>
          </a:xfrm>
          <a:custGeom>
            <a:avLst/>
            <a:gdLst>
              <a:gd name="textAreaLeft" fmla="*/ 265320 w 1981440"/>
              <a:gd name="textAreaRight" fmla="*/ 1716120 w 198144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743200" y="1676520"/>
            <a:ext cx="1588680" cy="1509120"/>
            <a:chOff x="2743200" y="1676520"/>
            <a:chExt cx="1588680" cy="1509120"/>
          </a:xfrm>
        </p:grpSpPr>
        <p:grpSp>
          <p:nvGrpSpPr>
            <p:cNvPr id="139" name=""/>
            <p:cNvGrpSpPr/>
            <p:nvPr/>
          </p:nvGrpSpPr>
          <p:grpSpPr>
            <a:xfrm>
              <a:off x="2743200" y="1676520"/>
              <a:ext cx="1219320" cy="1509120"/>
              <a:chOff x="2743200" y="1676520"/>
              <a:chExt cx="1219320" cy="1509120"/>
            </a:xfrm>
          </p:grpSpPr>
          <p:pic>
            <p:nvPicPr>
              <p:cNvPr id="14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43200" y="2057400"/>
                <a:ext cx="1219320" cy="112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2991960" y="16765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Arial"/>
                  </a:rPr>
                  <a:t>Bo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3948480" y="2403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781680" y="3200400"/>
            <a:ext cx="685800" cy="1219320"/>
          </a:xfrm>
          <a:prstGeom prst="flowChartMagneticDisk">
            <a:avLst/>
          </a:prstGeom>
          <a:noFill/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31214E-007 L 0.00469 0.3785 E">
                                      <p:cBhvr>
                                        <p:cTn id="10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will specify the exact threat model being addres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will also specify the security guarantees that are ensured, within this threat mod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ere: informally; CMSC 456: formal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ucial to understand these issues before crypto can be successfully deployed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ke sure the stated threat model matches your appl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ke sure the security guarantees are what you ne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through obscur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ways assume that the full details of crypto protocols and algorithms are publ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own as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Kerckhoffs’ princip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ly secret information is a 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through obscurity” is a bad idea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ue in general; even more true in the case of cryptograph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me-brewed solutions are BA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ndardized, widely-accepted solutions are GOO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07040" y="2514600"/>
            <a:ext cx="529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key encryp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nctional defin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ion algorith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es a key and a message (plaintext), and outputs a ciphertex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E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cryption algorith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es a key and a ciphertext, and outputs a message (or perhaps an error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 = D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c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rrectness: for all K, we have D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E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)) = 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have not yet said anything about securit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2057400" y="1811160"/>
            <a:ext cx="1219320" cy="1374840"/>
            <a:chOff x="2057400" y="1811160"/>
            <a:chExt cx="1219320" cy="137484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2057400" y="2178000"/>
              <a:ext cx="121932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248200" y="181116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Alic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238880" y="1676520"/>
            <a:ext cx="1219320" cy="1509120"/>
            <a:chOff x="7238880" y="1676520"/>
            <a:chExt cx="1219320" cy="150912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7238880" y="2057400"/>
              <a:ext cx="1219320" cy="112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487640" y="167652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Bo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451040" y="242424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shared inf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2209680"/>
            <a:ext cx="3581280" cy="914400"/>
          </a:xfrm>
          <a:prstGeom prst="leftRightArrow">
            <a:avLst>
              <a:gd name="adj1" fmla="val 50000"/>
              <a:gd name="adj2" fmla="val 77968"/>
            </a:avLst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5680" y="243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444160" y="240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48000" y="4024440"/>
            <a:ext cx="7277760" cy="1509120"/>
            <a:chOff x="1548000" y="4024440"/>
            <a:chExt cx="7277760" cy="1509120"/>
          </a:xfrm>
        </p:grpSpPr>
        <p:grpSp>
          <p:nvGrpSpPr>
            <p:cNvPr id="162" name=""/>
            <p:cNvGrpSpPr/>
            <p:nvPr/>
          </p:nvGrpSpPr>
          <p:grpSpPr>
            <a:xfrm>
              <a:off x="1548000" y="4159080"/>
              <a:ext cx="1730160" cy="1374120"/>
              <a:chOff x="1548000" y="4159080"/>
              <a:chExt cx="1730160" cy="137412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2058840" y="4159080"/>
                <a:ext cx="1219320" cy="1374120"/>
                <a:chOff x="2058840" y="4159080"/>
                <a:chExt cx="1219320" cy="1374120"/>
              </a:xfrm>
            </p:grpSpPr>
            <p:pic>
              <p:nvPicPr>
                <p:cNvPr id="16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58840" y="4525560"/>
                  <a:ext cx="1219320" cy="1007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>
                  <a:off x="2249640" y="4159080"/>
                  <a:ext cx="839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Arial"/>
                    </a:rPr>
                    <a:t>Alice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1548000" y="48621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237440" y="4024440"/>
              <a:ext cx="1588320" cy="1509120"/>
              <a:chOff x="7237440" y="4024440"/>
              <a:chExt cx="1588320" cy="150912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7237440" y="4024440"/>
                <a:ext cx="1219320" cy="1509120"/>
                <a:chOff x="7237440" y="4024440"/>
                <a:chExt cx="1219320" cy="1509120"/>
              </a:xfrm>
            </p:grpSpPr>
            <p:pic>
              <p:nvPicPr>
                <p:cNvPr id="1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7440" y="4405320"/>
                  <a:ext cx="1219320" cy="112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7486200" y="4024440"/>
                  <a:ext cx="72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Arial"/>
                    </a:rPr>
                    <a:t>Bob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8442360" y="4827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1676520" y="3809880"/>
            <a:ext cx="7315200" cy="0"/>
          </a:xfrm>
          <a:prstGeom prst="line">
            <a:avLst/>
          </a:prstGeom>
          <a:ln w="316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5014800"/>
            <a:ext cx="3276720" cy="0"/>
          </a:xfrm>
          <a:prstGeom prst="line">
            <a:avLst/>
          </a:prstGeom>
          <a:ln w="316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4320" y="4537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16720" y="5638680"/>
            <a:ext cx="131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48240" y="564516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=D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c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classic example: shift ciph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ume the English uppercase alphabet (no lowercase, punctuation, etc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ew letters as numbers in {0, …, 25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key is a random letter of the alphab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ion done by addition modulo 2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is secur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haustive key sear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utomated determination of the 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nother example: substitution ciph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key is a random permutation of the alphab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e: key space is huge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ion done in the natural w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is secur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equency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large key space is necessary, but not sufficient, for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CE tutori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lass next Tuesd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nother example: Vigenere ciph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complicated version of shift cip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to be secure for over 100 yea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it secur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dex of coincidence metho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al of the stor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use “simple” sche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use schemes that you design your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chemes that other people have already designed and analyzed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fundamental prob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fundamental problem with “classical” cryptography is that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o definition of security was ever specifi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t was not even clear what it would mean for an encryption scheme to be “secure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 a consequence,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roving security was not even an o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 how can you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know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when something is secur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ng secur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s a good defini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goal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versary unable to recover the 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cessary, but meaningless on its own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versary unable to recover entire plaintex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ood, but is it enough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versary unable to determin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ny information at al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bout the plaintex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maliz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unds great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we achieve it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given our definition, we need to consider the threat mod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ltiple messages or a single messag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assive/active adversar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osen-plaintext attack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820160" y="2514600"/>
            <a:ext cx="6680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Next tim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: the one-time pad;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ts limitations;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coming these limitatio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65280" y="2514600"/>
            <a:ext cx="537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igh-level survey of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yptograph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ve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rything I present will be (relatively) inform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may simplify, but I will try not to say anything that is an outright lie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yptography is about precise definitions, formal models, and rigorous proofs of security (which we will not cover her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 more details, take CMSC 456 with me (or read my book)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oals of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ypto deals primarily with three goal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fidential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egrity (of dat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uthentication (of resources, people, system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 goals also consider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non-repudi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-cash (e.g., double spending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neral secure multi-party comput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onym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 vs. public-key sett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the basic goals of confidentiality and integrity, there are two setting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ivate-key / shared-key / symmetric-key / secret-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-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rivate-key setting is the “classical” one (thousands of years ol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ublic-key setting dates to the 1970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key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ommunicating parties share some information that is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and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cr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shared information is called a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y is not known to an attack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key must be shared (somehow) in advance of their commun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o emphasiz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 and Bob share a key 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be shared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secure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be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completely rand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be kept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completely secre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from attack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don’t discuss (for now) how they do thi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You can imagine they meet on a dark street corner and Alice hands a USB device (with a key on it) to Bo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key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confidentiality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Private-key (symmetric-key) encryp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data integrity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Message authentication cod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archaic: cryptographic checksum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Eric Gurevitz</cp:lastModifiedBy>
  <dcterms:modified xsi:type="dcterms:W3CDTF">2008-02-06T23:15:38Z</dcterms:modified>
  <cp:revision>306</cp:revision>
  <dc:subject/>
  <dc:title>CMSC 414 Computer (and Network) Security</dc:title>
</cp:coreProperties>
</file>