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5EC4-88CA-444E-B6AE-3CEF3B393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C96D-D963-4EB2-9541-33DDF7606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5A55-700A-4BEE-BD8C-C186A258B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1E62-C92D-47A4-A353-65F3587B1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70F4B-31D8-4629-BC1A-8C6A32D58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E6DCB-8F3C-4832-A5BB-DD54029CA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BB0FD-5300-42F9-ABB2-CDA0A0F25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D7676-D1DC-4AE3-83A6-4C0ACED84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A84C0-16AF-497E-9E47-A90BBC8E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D0E30-40B5-4A99-9D28-28C8BCE21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6000A-E94B-4729-9FF0-3C15B357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9831-7DAC-4C25-954C-997B7F0D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11C1C-D6F2-42B3-9A37-23A65672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4113C-A91F-454C-BD7A-2933DBF0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2EBC6-97E8-4161-B4FE-3617B656E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6A718-E6CB-4A2F-9DC8-A7FC32D02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427C9-DB41-4134-9465-C628FFC00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F5B5-C4C4-4F83-85A5-53DB83A82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8222-208D-416C-9C3E-06D09F2C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466A-9821-44CF-A69E-AECBDC58A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E843-64F6-434B-8D40-A9D190545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EB47-74E0-41D0-9AF2-137E338F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5ED2-CB3D-4809-A305-02B4BC3B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264D-ACF7-4CF8-8BBE-9414D5BD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14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AE3F2-DA2E-46B5-AFF8-F69ACA70007B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37C9E-4BF0-4BFE-BDE1-30E42BF60837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MSC 414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mputer and Network Security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Lecture 20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7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Jonathan Katz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dministrative item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idterm next wee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d on everything from last midterm through toda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Zero knowledge (ZK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ZK proofs can offer deniability and secrec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 zero-knowledge protocol for graph 3-colorabil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Warning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: the aim here is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simplicity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and many subtleties and details are purposely being ignor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pplications of zero-knowledg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Deniable) authentic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eneralization of the protocol we saw last tim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gain, many subtleties and details omitted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onymous credential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roup signatures/trusted comput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nonymity vs. pseudonymit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onym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o one can identify the source of any messag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nlinkability – cannot even tell that messages originated from the same pers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seudonym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o one can identify the source of a set of messages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ut they can tell that they all came from the same person, with a known pseudony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re is a broad scale of achievable anonymity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est you can hope for is limited by the network size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affic analys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y be possible to learn who is communicating with whom using traffic analysi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ypically, even if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communication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is encrypted the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header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are no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eed unencrypted headers for rout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ow is it possible to communicate anonymously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nonymous communic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You are sitting around a table with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peop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ow do you send an anonymous message to another person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ow do you broadcast a message to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everyon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without revealing your identity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Linear-round protocol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nstant-round protocol (DC-nets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s this secure only for “honest-but-curious” behavior, or also for malicious behavior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nonymize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ingle anonymizer proxy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ow to achieve bidirectional communic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ote: one side need not know the oth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onymizers already exist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mai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ttp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nonymize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ssues/drawbacks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obustne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seful for hiding the source from the destination; less useful for preventing full-fledged traffic analysis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Unless encryption is used, which it typically would not b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ossible attack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Latency vs. timing correl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0-latency solution using spurious messages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ne user sending multiple messages to the same serv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essage siz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play attack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4T23:33:06Z</dcterms:created>
  <dc:creator>jkatz</dc:creator>
  <dc:description/>
  <dc:language>en-US</dc:language>
  <cp:lastModifiedBy>Jonathan Katz</cp:lastModifiedBy>
  <dcterms:modified xsi:type="dcterms:W3CDTF">2008-04-15T19:48:52Z</dcterms:modified>
  <cp:revision>1294</cp:revision>
  <dc:subject/>
  <dc:title>CMSC 414 Computer (and Network) Security</dc:title>
</cp:coreProperties>
</file>