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1FE-454F-4F57-9EEB-43F75AA8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321-7D12-47CE-BB9E-8498F0D0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8A7-0AA4-4267-88F0-AC5C8A8B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F40-C859-4B49-9DAE-E728DFED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B207-1EBD-4B17-BC7D-FAD33E32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FF3-581E-48F2-B569-64D1D2C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DFE0-CB24-4C40-AD06-B4A41188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6BC1-BDAC-4EF4-A487-A9D75A6D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5CA7-7BCA-4426-A62C-A52F4FE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0B6E-3FF6-46DF-A5CB-89367D9C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D3C3-C473-45E5-85D0-79275EF7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750-5323-45A0-9475-378BD15D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E1D5-FB8A-480D-804D-7BD48801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30D4-DFA5-4032-A8EB-D906CC46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9539-26E9-4635-B059-1769BC1C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64EB-5E85-4E30-BE2A-81D5E255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6229-970D-4A86-A7DB-24A3079B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E9C-441D-4D92-BE3D-552A01F0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D3C-F092-4CD8-9EB8-7EA94001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99A-D183-4664-8B02-F33992A0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DD5-9F8F-44D0-AD3D-21A18CC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9EB-30DD-4169-A9EF-9E6765AD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6AF-63C0-4DA3-AE64-52858CF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8F9-EDBF-4EE0-9E29-8F39E2F1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EEA1-ADDB-455C-85E0-D1776514711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9366-2109-4EFE-80AA-7A7A69B8410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1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vert chann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nymous communication is also possible using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vert chann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 not even leak the fact that communication is happening at all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 be a route for communication that is dis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nding a print jo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CP timestamps/sequence numb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meslic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gan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embed messages into low-order bits of im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securely, us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rejection sampl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n any sou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le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bed a covert channel (into crypto software/hardware) that leaks the secret ke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n to be possible for standard crypto algorithm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i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term next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d on everything from last midterm through tod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ussion of HW2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87480" y="2743200"/>
            <a:ext cx="654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ous communic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gle anonymizer prox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achieve bidirectional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: one side need not know the o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nymizers already exis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/drawback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ful for hiding the source from the destination; less useful for preventing full-fledged traffic analysi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less encryption is used, which it typically would not b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ssible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tency vs. timing cor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0-latency solution using spurious message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user sending multiple messages to the same 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ssage siz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play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ion rou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multiple server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nd “onions”; strip off a layer at each ho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the initiator knows the entire rout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idirectional communica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outing t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ply onions (pre-compute keying materi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ssu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yload sizes? (Use random padd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ward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 it suspicious to contact an onion route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er-to-peer 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 node can act as an onion route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does this improve anonym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nodes also act as prox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otiate pairwise keys between lin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ward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tes maintained for ~10 minutes, then refresh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the initiator does not know the pa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x Ne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ful as a tool within specific protoc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marily vo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mix-net server receives a set of encrypted votes, “randomizes” and permutes them, and forwards then along to the next ser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to prove correctnes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4-17T19:33:22Z</dcterms:modified>
  <cp:revision>1309</cp:revision>
  <dc:subject/>
  <dc:title>CMSC 414 Computer (and Network) Security</dc:title>
</cp:coreProperties>
</file>