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CD1-3D2B-4467-8556-27B699D0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8F7-F72E-4A9C-A281-5EB479C2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52F-400D-4632-A501-492B8AF0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2E6-72EF-47E2-BA0D-A6F7C6AE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0E2F-DA7D-4290-8615-21C8E62A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6C3-1A58-4AC1-A457-620829D8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467-46C0-42B9-AD6C-1D346E0F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402D-8B1F-4096-AF74-9AB269C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6D22-421E-4E67-838A-5721DF5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D3F-42DF-47D3-B79C-48AF38C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31FC-C78E-4D1A-BC35-DA0ADB1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7FD-D936-451B-B3B5-098EBE8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8E34-EF57-4BDF-B11C-BA8490D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DD41-1DF6-4E48-B3DC-A21D2DE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793-6439-4669-9685-78FB220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43BB-5B26-4955-9BB1-BA2C3715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CD2-533A-4B06-998F-8B89F755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08A-7177-454F-BF88-4C5FE989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945-AD50-4C27-9571-F0347E0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36F-B4AA-44DC-93C3-B9DE5B0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E99-1AE0-4637-9DAC-4C54B9F1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45A-D9CD-4F3F-AF1F-8E83297D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23B-A345-4D1D-8ADC-092DE4C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9CF-937E-443D-8515-9641851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33E2-1E55-4BE6-9039-05B5D2A16C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C22-E810-4CB8-BFBE-2C656D78DE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etup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user (or group of users) has authorized access to certain data in a database, but not to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ser is allowed to learn certain entries on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ser is allowed to lear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ggregate dat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ut no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ndividual dat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e.g., allowed to learn the average salary but not individual salari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llowed to learn trends (i.e., data mining) but not individual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we are assuming that authentication/access control is taken care of alread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interactive data disclos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given access to “all data” (possibly after the data is anonymized in some wa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active mechanis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given the ability to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he databas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will mostly focus on this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user may be able to learn unauthorized information vi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fer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bining multiple pieces of authorized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bining authorized data with “out-of-band” knowled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87% of people identified by ZIP code + gender + date of birt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ven ZIP+DOB, may be able to infer gender from other entri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 (potentially) serious real-world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the article by Sweeney for many exa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not allowed to learn any individual’s sal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00200" y="2678040"/>
          <a:ext cx="7010280" cy="3189240"/>
        </p:xfrm>
        <a:graphic>
          <a:graphicData uri="http://schemas.openxmlformats.org/drawingml/2006/table">
            <a:tbl>
              <a:tblPr/>
              <a:tblGrid>
                <a:gridCol w="1409400"/>
                <a:gridCol w="1333440"/>
                <a:gridCol w="2286000"/>
                <a:gridCol w="1981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U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Years of serv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l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65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harl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7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bb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8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v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ran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8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371600" y="3429000"/>
            <a:ext cx="7467480" cy="14479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Alice’s sal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9080" y="3886200"/>
            <a:ext cx="4952880" cy="1447920"/>
          </a:xfrm>
          <a:prstGeom prst="rect">
            <a:avLst/>
          </a:prstGeom>
          <a:solidFill>
            <a:srgbClr val="ff0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quest deni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00200" y="1752480"/>
          <a:ext cx="7010280" cy="3189240"/>
        </p:xfrm>
        <a:graphic>
          <a:graphicData uri="http://schemas.openxmlformats.org/drawingml/2006/table">
            <a:tbl>
              <a:tblPr/>
              <a:tblGrid>
                <a:gridCol w="1409400"/>
                <a:gridCol w="1333440"/>
                <a:gridCol w="2286000"/>
                <a:gridCol w="1981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U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Years of serv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l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65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harl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7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bb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8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v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ran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8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371600" y="2514600"/>
            <a:ext cx="7467480" cy="14479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the list of all na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819520"/>
            <a:ext cx="7467480" cy="144756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the list of all sala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191120"/>
            <a:ext cx="2133720" cy="251460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li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bbi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an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191120"/>
            <a:ext cx="2133720" cy="251460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65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4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7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8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8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86280" y="457200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6280" y="493704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530208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86280" y="566892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86280" y="603396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6280" y="6400800"/>
            <a:ext cx="396216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029200"/>
            <a:ext cx="7467480" cy="14479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ution: return data in order that is indepen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the table (e.g.: random, sort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191120"/>
            <a:ext cx="2133720" cy="251460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4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8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65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7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8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00200" y="1523880"/>
          <a:ext cx="7010280" cy="3189240"/>
        </p:xfrm>
        <a:graphic>
          <a:graphicData uri="http://schemas.openxmlformats.org/drawingml/2006/table">
            <a:tbl>
              <a:tblPr/>
              <a:tblGrid>
                <a:gridCol w="1409400"/>
                <a:gridCol w="1333440"/>
                <a:gridCol w="2286000"/>
                <a:gridCol w="1981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U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Years of serv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l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65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harl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7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bb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8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v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ran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8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371600" y="2362320"/>
            <a:ext cx="7467480" cy="106668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all names and UI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666880"/>
            <a:ext cx="7467480" cy="106704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all UIDs and sala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191120"/>
            <a:ext cx="2133720" cy="243828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lice, 00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Bob, 0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harlie, 0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ebbie, 1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Evan, 10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Frank, 1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4191120"/>
            <a:ext cx="2133360" cy="243828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001, $65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010, $40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011, $70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100, $80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101, $50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110, $58,0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9440" y="525780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9440" y="563868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601992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9440" y="640080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87692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19440" y="4495680"/>
            <a:ext cx="2895840" cy="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1687680"/>
          <a:ext cx="7010280" cy="3189240"/>
        </p:xfrm>
        <a:graphic>
          <a:graphicData uri="http://schemas.openxmlformats.org/drawingml/2006/table">
            <a:tbl>
              <a:tblPr/>
              <a:tblGrid>
                <a:gridCol w="1409400"/>
                <a:gridCol w="1333440"/>
                <a:gridCol w="2286000"/>
                <a:gridCol w="1981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UI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Years of serv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li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65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o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4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harl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1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7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bbi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8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v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0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ran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$58,0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371600" y="2286000"/>
            <a:ext cx="7467480" cy="14479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all names with their years of serv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191120"/>
            <a:ext cx="2133720" cy="243828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lice, 1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Bob,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harlie, 2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ebbie, 3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Evan, 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Frank, 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7467480" cy="14479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 me the list of all sala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191120"/>
            <a:ext cx="2133360" cy="2514600"/>
          </a:xfrm>
          <a:prstGeom prst="rect">
            <a:avLst/>
          </a:prstGeom>
          <a:solidFill>
            <a:srgbClr val="008000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4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58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65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7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$80,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2781360"/>
            <a:ext cx="5257800" cy="1219320"/>
          </a:xfrm>
          <a:prstGeom prst="rect">
            <a:avLst/>
          </a:prstGeom>
          <a:solidFill>
            <a:srgbClr val="200b5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knowledg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years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higher p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4571640"/>
            <a:ext cx="3353040" cy="30492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52680" y="4952880"/>
            <a:ext cx="3657600" cy="99072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52680" y="5333760"/>
            <a:ext cx="3657600" cy="99036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495680"/>
            <a:ext cx="3505320" cy="114300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5257800"/>
            <a:ext cx="3276720" cy="76212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5562720"/>
            <a:ext cx="3353040" cy="761760"/>
          </a:xfrm>
          <a:prstGeom prst="line">
            <a:avLst/>
          </a:prstGeom>
          <a:ln cap="sq" w="3168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an unsolved (unsolvable?)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techniques to mitigate the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erence during database desig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recognize dependencies between colum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lit data across several databases (next slid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erence detection at query ti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ore the set of all queries asked by a particular user, and look for disallowed inferences before answering any que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te: will not prevent collusion among multiple us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n also store the set of all queries asked by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anyone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and look for disallowed inference the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always, tradeoff security and function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several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B1 stores (name, address), accessible to 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B2 stores (UID, salary), accessible to 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B3 stores (name, UID), accessible to adm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I want to add data for “start-date” (and make it accessible to all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ing to DB2 can be problematic (why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ing to DB1 seems ok (can we prove this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istical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base that only provides data of a statistical nature (average, standard deviation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re statistical database: only stores statistical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stical access to ordinary database: stores all data but only answers statistical que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cus on the second typ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m is to preven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nferen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bout any particular piece of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wo general approaches: query restriction and data/output perturb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t of the semester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day: database priva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 2-3 lectures: PL security, buffer overflows, malicious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uesday’s class will cover material relevant for HW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ursday’s class will be a guest lecture – material will still be covered on the fi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st 2-3 lectures: Topics in network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 security in prac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ic idea: only allow queries that involve more than some threshold t of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Say we want to hide individual sala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allow queries about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verag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alary of a set S of people, where |S| &gt; 20 (s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ery restriction itself may reveal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say averages released only if there are at least 2 data points being averag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quest the average salary of all employees whose GPA i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response means that there are fewer than 2 employees with GPA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query(GPA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X) answered but query(GPA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X+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is not, there is at least one employee whose GPA lies between X and X+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ery restriction alone doesn’t work when multiple queries are allowed, or when the database chan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 a person’s salary using two que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 a person’s salary after a ra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more complicated forms of query restriction based on all prior hi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if query for S was asked, do not allow query for a set S’ if |S’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| is “small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intaining the entire query history is expens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cult to specify what constitutes a privacy “breach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P-complete (in general) to determine whether a breach has occurred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address adversary’s external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ng queries pairwise may not be enoug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y you want information about user 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t S, T be arbitrary sets (that are very different), not containing 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k for Avg(S), Avg(T), and Avg(S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{i}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erence can be very difficult to detect and preven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y query restriction globally, or per-use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the former, usability lim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the latter, security can be compromised by colluding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say we do not want an adversary to learn any value exactl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ider the table with x = y = z = 1, where it is known that x, y, z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{0,1,2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requests sum(x, y, z), gets response 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requests max(x, y, 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user learns the answer, can deduce that x = y = z =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if the request is denied, the user ca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duce that x = y = z = 1 (!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can try to “look ahead”, and not respond to any query for which there is a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ubsequ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query that will reveal information regardless of whether we respond or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1680" y="31240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(x, y, z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4840" y="4343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(x, y, z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05520" y="4765680"/>
            <a:ext cx="1904760" cy="873000"/>
            <a:chOff x="5105520" y="4765680"/>
            <a:chExt cx="1904760" cy="873000"/>
          </a:xfrm>
        </p:grpSpPr>
        <p:sp>
          <p:nvSpPr>
            <p:cNvPr id="181" name=""/>
            <p:cNvSpPr/>
            <p:nvPr/>
          </p:nvSpPr>
          <p:spPr>
            <a:xfrm>
              <a:off x="5105520" y="4800600"/>
              <a:ext cx="1904760" cy="83808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71240" y="47656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deny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786760" y="4800600"/>
            <a:ext cx="2318760" cy="838080"/>
            <a:chOff x="2786760" y="4800600"/>
            <a:chExt cx="2318760" cy="838080"/>
          </a:xfrm>
        </p:grpSpPr>
        <p:sp>
          <p:nvSpPr>
            <p:cNvPr id="184" name=""/>
            <p:cNvSpPr/>
            <p:nvPr/>
          </p:nvSpPr>
          <p:spPr>
            <a:xfrm flipH="1">
              <a:off x="3200400" y="4800600"/>
              <a:ext cx="1905120" cy="83808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86760" y="48006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respond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743200" y="5753160"/>
            <a:ext cx="762120" cy="762120"/>
          </a:xfrm>
          <a:prstGeom prst="noSmoking">
            <a:avLst>
              <a:gd name="adj" fmla="val 12500"/>
            </a:avLst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5753160"/>
            <a:ext cx="761760" cy="762120"/>
          </a:xfrm>
          <a:prstGeom prst="noSmoking">
            <a:avLst>
              <a:gd name="adj" fmla="val 12500"/>
            </a:avLst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72120" y="3581280"/>
            <a:ext cx="1292760" cy="838440"/>
            <a:chOff x="5172120" y="3581280"/>
            <a:chExt cx="1292760" cy="838440"/>
          </a:xfrm>
        </p:grpSpPr>
        <p:sp>
          <p:nvSpPr>
            <p:cNvPr id="189" name=""/>
            <p:cNvSpPr/>
            <p:nvPr/>
          </p:nvSpPr>
          <p:spPr>
            <a:xfrm>
              <a:off x="5172120" y="3581280"/>
              <a:ext cx="0" cy="83844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82200" y="3699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respond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H="1">
            <a:off x="2590920" y="3429000"/>
            <a:ext cx="1676160" cy="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34800" y="30132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Query restriction with “look-aheads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need to look more than 1 level dee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ationally infeasible, even if only looking 1 level dee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it even wor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nying the request for sum(x, y, z) reveals that x = y = 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answers don’t uniquely reveal a value, they may leak lots of partial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can we prove about 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ery restric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different approach is to use “simulatable auditing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ny query if there is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atabase for which that query would leak inform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fixes the previous problem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arning sum(x, y, z) = 3 and then seeing that max(x, y, z) is denied no longer proves that x = y = z =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more computationally expens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tricts us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ain, can we claim that it even work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89520" y="2514600"/>
            <a:ext cx="41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posely add “noise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perturbation: add noise to entire table, then answer queries accordingly (or release entire perturbed datas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 perturbation: keep table intact, but add noise to answ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316" t="7159" r="2316" b="17898"/>
          <a:stretch/>
        </p:blipFill>
        <p:spPr>
          <a:xfrm>
            <a:off x="5105520" y="1523880"/>
            <a:ext cx="3951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de-off between privacy and utilit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randomization – bad privacy but perfect ut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 randomization – perfect privacy but no ut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technique: data swap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bstitute and/or swap values, while maintaining low-order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791320" y="3352680"/>
          <a:ext cx="2666520" cy="2921040"/>
        </p:xfrm>
        <a:graphic>
          <a:graphicData uri="http://schemas.openxmlformats.org/drawingml/2006/table">
            <a:tbl>
              <a:tblPr/>
              <a:tblGrid>
                <a:gridCol w="1023480"/>
                <a:gridCol w="1077480"/>
                <a:gridCol w="565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sy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sy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23880" y="3352680"/>
          <a:ext cx="2895840" cy="2921040"/>
        </p:xfrm>
        <a:graphic>
          <a:graphicData uri="http://schemas.openxmlformats.org/drawingml/2006/table">
            <a:tbl>
              <a:tblPr/>
              <a:tblGrid>
                <a:gridCol w="1122120"/>
                <a:gridCol w="1181520"/>
                <a:gridCol w="59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sy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i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E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sy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648320" y="44956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technique: (re)generate the table based on derived distrib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each sensitive attribute, determine a probability distribution that best matches the recorded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te fresh data according to the determined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pulate the table with this fresh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eries on the database can never “learn” more than what was learned initi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cleaning/scrubbing: remove sensitive data, or data that can be used to breach an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k-anonym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ensure that any “identifying information” is shared by at lea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embers of the data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2-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95480" y="1447920"/>
          <a:ext cx="4038480" cy="5138640"/>
        </p:xfrm>
        <a:graphic>
          <a:graphicData uri="http://schemas.openxmlformats.org/drawingml/2006/table">
            <a:tbl>
              <a:tblPr/>
              <a:tblGrid>
                <a:gridCol w="990360"/>
                <a:gridCol w="914400"/>
                <a:gridCol w="106704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ZI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moke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Cancer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895480" y="1828800"/>
            <a:ext cx="1905120" cy="47242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5400000"/>
          </a:gra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895480" y="1828800"/>
          <a:ext cx="1904760" cy="4743360"/>
        </p:xfrm>
        <a:graphic>
          <a:graphicData uri="http://schemas.openxmlformats.org/drawingml/2006/table">
            <a:tbl>
              <a:tblPr/>
              <a:tblGrid>
                <a:gridCol w="993960"/>
                <a:gridCol w="910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2895480" y="1828800"/>
            <a:ext cx="1905120" cy="47242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5400000"/>
          </a:gra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95480" y="1828800"/>
          <a:ext cx="1904760" cy="474336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28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28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28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28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rd to find the right balance between what is “scrubbed” and utility of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clear what security guarantees it provi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example, what if I know that someone Asian in ZIP Code 0214x smok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ain, does not deal with out-of-band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nt to be able to discern statistical trends without violating priva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es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obtain the raw data in the first plac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maintain privacy of the data while still making it useful for data mining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ious real-world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dical databases are protected by Federal la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mining on credit card transactions, web brow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flix data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taining sensitive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get people to give honest answers to sensitive question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ll we try i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pondent flips a coin/rolls a di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answers the questi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correct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th some known probability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he result of the die toss is not known to the interview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oes this preserve privac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Pr[yes | answer yes]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randomized 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ing an estimate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y the fraction of “yes” in the population is 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[“yes”] = p(1-q) + (1-p)q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ve for p given q and Pr[“yes”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q=1/4 gives: p = 2Pr[“yes”] – 0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ll we try it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variants that provide better estim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nsions to provide estimators of other stat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orrelations between respon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4920" y="2514600"/>
            <a:ext cx="77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cy-preserving data mining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24T20:09:18Z</dcterms:modified>
  <cp:revision>595</cp:revision>
  <dc:subject/>
  <dc:title>CMSC 414 Computer (and Network) Security</dc:title>
</cp:coreProperties>
</file>