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465-7A22-4051-8A49-01065107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559-E2E4-4FC0-BFCA-C5963E8F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0F9-D0BE-4185-9F63-EB35DC26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BE2-5D89-4C8E-BBCF-5D0FC1C1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E901-B12A-449D-B119-AEDD341E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1D6C-A3E8-4A2E-8E6C-0646AEF3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CD98-F186-40EC-9F21-D1B35475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AEE5-918D-4C4A-BEE6-7516B0C2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BBA9-18CB-43CE-B57B-FEAA90D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9F6C-C95A-445D-8C84-E927C7A5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01DA-FDA6-43FC-B6F1-53D401D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7DD-8746-467F-83FC-392C7DF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5735-F281-4911-AC5E-FD410119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C38C-E40B-4D44-BD39-D23422A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D633-B4F3-4B55-BFF6-3008EC02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E98-2295-40D2-B433-E4E7198F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0648-0334-4994-BC75-87C53345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00D-88A1-4AAA-93B6-B64E7AB1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7C6-D666-411C-8ECE-E7C71F8E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590-67E8-49E3-9FA3-15D63055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C8D-7D9F-4FAB-AD15-E4B05DFE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F31-014D-430D-B140-C671BD95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D8E-86A2-4C8D-922D-FB26174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576-AA1C-48BF-AC0A-28F2DA7F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F439-007F-406C-9CC4-B9DC28AF6DD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6AA9-2AD3-43FE-9617-99FF56BEC39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3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hieving priva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“converse” to the Dinur-Nissim result is that adding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carefully-generated) noise, and limiting the number of queries appropriately,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 proven to achieve priva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rrently an active area of re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57560" y="2514600"/>
            <a:ext cx="58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gramming language/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 level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L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ious focus in this class has been on secu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otocol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algorithm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real-world security, it is not enough for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otocol/algorith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be secure, but also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mplement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ust be se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ce of the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amount of time we are devoting to the problem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dicative of its relative import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practice, attacks that exploit implementation flaws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uc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ore common than attacks that exploit protocol fla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mage from such flaws also typically much grea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ruses/worms almost always exploit such flaw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ever program security-sensitive applications, learn about secure progr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ce of the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common cause of Interne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ver 50% of CERT advisories related to buffer overflow vulnerabil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ris worm (1988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6,000 machines infec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deRed (200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00,000 machines infected in 14 hou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QL slammer worm (2003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75,000 machines infected in 10 minutes(!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L 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of the most common PL attacks come down to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 properly validating input from (untrusted) users before u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ffer overflow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string vulnerabili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oss-site scripting (XSS)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QL injection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other PL security issues as well, but we will not cover these in this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xed-sized buffer that is to be filled with unknown data, usually provided directly by us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more data “stuffed” into the buffer than it can hold, that data spills over into adjacent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this data is executable code, the victim’s machine may be tricked into running 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verflow buffer on the stack or the heap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ck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function that is executed is allocated its ow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fra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n the s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one function calls another, a new frame is initialized and placed 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ush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on the s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a function is finished executing, its frame is taken off 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opp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the s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nction fra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022560"/>
            <a:ext cx="64026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708360"/>
            <a:ext cx="647856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058840" y="2870280"/>
            <a:ext cx="335304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20600" y="2666880"/>
            <a:ext cx="2158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Stack grows this wa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09640" y="3022560"/>
            <a:ext cx="2286000" cy="685800"/>
          </a:xfrm>
          <a:prstGeom prst="rect">
            <a:avLst/>
          </a:prstGeom>
          <a:solidFill>
            <a:srgbClr val="ffcccc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locals va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11480" y="3022560"/>
            <a:ext cx="746280" cy="685800"/>
          </a:xfrm>
          <a:prstGeom prst="rect">
            <a:avLst/>
          </a:prstGeom>
          <a:solidFill>
            <a:srgbClr val="eeb00b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eb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73600" y="3022560"/>
            <a:ext cx="746280" cy="685800"/>
          </a:xfrm>
          <a:prstGeom prst="rect">
            <a:avLst/>
          </a:prstGeom>
          <a:solidFill>
            <a:srgbClr val="eeb00b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r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add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35720" y="3022560"/>
            <a:ext cx="745920" cy="685800"/>
          </a:xfrm>
          <a:prstGeom prst="rect">
            <a:avLst/>
          </a:prstGeom>
          <a:solidFill>
            <a:srgbClr val="cc99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ar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299840" y="3512880"/>
            <a:ext cx="152640" cy="762120"/>
          </a:xfrm>
          <a:custGeom>
            <a:avLst/>
            <a:gdLst>
              <a:gd name="textAreaLeft" fmla="*/ 0 w 152640"/>
              <a:gd name="textAreaRight" fmla="*/ 5508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16200" y="10799"/>
                  <a:pt x="21600" y="10799"/>
                </a:cubicBezTo>
                <a:cubicBezTo>
                  <a:pt x="162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2240" y="3124080"/>
            <a:ext cx="129564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00ff"/>
                </a:solidFill>
                <a:latin typeface="Tahoma"/>
              </a:rPr>
              <a:t>Frame of th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00ff"/>
                </a:solidFill>
                <a:latin typeface="Tahoma"/>
              </a:rPr>
              <a:t>calling func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5061960" y="3589200"/>
            <a:ext cx="152640" cy="60948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16200" y="10799"/>
                  <a:pt x="21600" y="10799"/>
                </a:cubicBezTo>
                <a:cubicBezTo>
                  <a:pt x="162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962520"/>
            <a:ext cx="1143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Execut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code 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this addres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after func(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finis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93040" y="4016520"/>
            <a:ext cx="889920" cy="551880"/>
          </a:xfrm>
          <a:prstGeom prst="wedgeRectCallout">
            <a:avLst>
              <a:gd name="adj1" fmla="val -65402"/>
              <a:gd name="adj2" fmla="val -1551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Pointer t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fra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mple” buffer overfl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flow one variable into an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ts(colo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I type “blue    1”  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Actually, need to be more clever than thi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51040" y="2590920"/>
            <a:ext cx="6478560" cy="1526400"/>
            <a:chOff x="1751040" y="2590920"/>
            <a:chExt cx="6478560" cy="1526400"/>
          </a:xfrm>
        </p:grpSpPr>
        <p:sp>
          <p:nvSpPr>
            <p:cNvPr id="143" name=""/>
            <p:cNvSpPr/>
            <p:nvPr/>
          </p:nvSpPr>
          <p:spPr>
            <a:xfrm>
              <a:off x="1827360" y="2590920"/>
              <a:ext cx="64022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51040" y="3276720"/>
              <a:ext cx="64785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1040" y="2590920"/>
              <a:ext cx="1262160" cy="6858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ff"/>
                  </a:solidFill>
                  <a:latin typeface="Tahoma"/>
                </a:rPr>
                <a:t>colo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86360" y="2590920"/>
              <a:ext cx="745920" cy="685800"/>
            </a:xfrm>
            <a:prstGeom prst="rect">
              <a:avLst/>
            </a:prstGeom>
            <a:solidFill>
              <a:srgbClr val="eeb00b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ff"/>
                  </a:solidFill>
                  <a:latin typeface="Tahoma"/>
                </a:rPr>
                <a:t>ebp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8120" y="2590920"/>
              <a:ext cx="746280" cy="685800"/>
            </a:xfrm>
            <a:prstGeom prst="rect">
              <a:avLst/>
            </a:prstGeom>
            <a:solidFill>
              <a:srgbClr val="eeb00b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ahoma"/>
                </a:rPr>
                <a:t>ret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ff"/>
                  </a:solidFill>
                  <a:latin typeface="Tahoma"/>
                </a:rPr>
                <a:t>addr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10240" y="2590920"/>
              <a:ext cx="746280" cy="68580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ff"/>
                  </a:solidFill>
                  <a:latin typeface="Tahoma"/>
                </a:rPr>
                <a:t>arg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77120" y="2666880"/>
              <a:ext cx="129528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6600ff"/>
                  </a:solidFill>
                  <a:latin typeface="Tahoma"/>
                </a:rPr>
                <a:t>Frame of th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6600ff"/>
                  </a:solidFill>
                  <a:latin typeface="Tahoma"/>
                </a:rPr>
                <a:t>calling functio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03400" y="2590920"/>
              <a:ext cx="1176480" cy="6858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ff"/>
                  </a:solidFill>
                  <a:latin typeface="Tahoma"/>
                </a:rPr>
                <a:t>pric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745360" y="2365920"/>
              <a:ext cx="297000" cy="2286000"/>
            </a:xfrm>
            <a:custGeom>
              <a:avLst/>
              <a:gdLst>
                <a:gd name="textAreaLeft" fmla="*/ 0 w 297000"/>
                <a:gd name="textAreaRight" fmla="*/ 107280 w 2970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16200" y="10799"/>
                    <a:pt x="21600" y="10799"/>
                  </a:cubicBezTo>
                  <a:cubicBezTo>
                    <a:pt x="162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33280" y="365760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ahoma"/>
                </a:rPr>
                <a:t>locals var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89520" y="2514600"/>
            <a:ext cx="414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devious exampl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cpy(buf, st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str has more than buf can hol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: strcpy does not check that str is shorter than bu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306520"/>
            <a:ext cx="670572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3017880"/>
            <a:ext cx="670572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60480" y="2306520"/>
            <a:ext cx="2286000" cy="685800"/>
          </a:xfrm>
          <a:prstGeom prst="rect">
            <a:avLst/>
          </a:prstGeom>
          <a:solidFill>
            <a:srgbClr val="ffcccc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bu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62320" y="2306520"/>
            <a:ext cx="746280" cy="685800"/>
          </a:xfrm>
          <a:prstGeom prst="rect">
            <a:avLst/>
          </a:prstGeom>
          <a:solidFill>
            <a:srgbClr val="eeb00b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sf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24440" y="2306520"/>
            <a:ext cx="746280" cy="685800"/>
          </a:xfrm>
          <a:prstGeom prst="rect">
            <a:avLst/>
          </a:prstGeom>
          <a:solidFill>
            <a:srgbClr val="eeb00b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r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add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86560" y="2332080"/>
            <a:ext cx="745920" cy="685800"/>
          </a:xfrm>
          <a:prstGeom prst="rect">
            <a:avLst/>
          </a:prstGeom>
          <a:solidFill>
            <a:srgbClr val="cc99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st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451040" y="279720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16200" y="10799"/>
                  <a:pt x="21600" y="10799"/>
                </a:cubicBezTo>
                <a:cubicBezTo>
                  <a:pt x="162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2416320"/>
            <a:ext cx="129564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00ff"/>
                </a:solidFill>
                <a:latin typeface="Tahoma"/>
              </a:rPr>
              <a:t>Frame of th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00ff"/>
                </a:solidFill>
                <a:latin typeface="Tahoma"/>
              </a:rPr>
              <a:t>calling func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43880" y="3300480"/>
            <a:ext cx="889920" cy="551880"/>
          </a:xfrm>
          <a:prstGeom prst="wedgeRectCallout">
            <a:avLst>
              <a:gd name="adj1" fmla="val -65402"/>
              <a:gd name="adj2" fmla="val -1551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Pointer t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previo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fra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24280" y="3132000"/>
            <a:ext cx="1143000" cy="1135080"/>
            <a:chOff x="4724280" y="3132000"/>
            <a:chExt cx="1143000" cy="1135080"/>
          </a:xfrm>
        </p:grpSpPr>
        <p:sp>
          <p:nvSpPr>
            <p:cNvPr id="165" name=""/>
            <p:cNvSpPr/>
            <p:nvPr/>
          </p:nvSpPr>
          <p:spPr>
            <a:xfrm rot="5400000">
              <a:off x="5212800" y="29034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16200" y="10799"/>
                    <a:pt x="21600" y="10799"/>
                  </a:cubicBezTo>
                  <a:cubicBezTo>
                    <a:pt x="162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327636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86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Execute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code at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this address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after func(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finishe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52480" y="2286000"/>
            <a:ext cx="3962520" cy="7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overfl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475520" y="3106800"/>
            <a:ext cx="1605960" cy="749880"/>
            <a:chOff x="4475520" y="3106800"/>
            <a:chExt cx="1605960" cy="749880"/>
          </a:xfrm>
        </p:grpSpPr>
        <p:sp>
          <p:nvSpPr>
            <p:cNvPr id="169" name=""/>
            <p:cNvSpPr/>
            <p:nvPr/>
          </p:nvSpPr>
          <p:spPr>
            <a:xfrm rot="5400000">
              <a:off x="5222880" y="2877840"/>
              <a:ext cx="152280" cy="609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16200" y="10799"/>
                    <a:pt x="21600" y="10799"/>
                  </a:cubicBezTo>
                  <a:cubicBezTo>
                    <a:pt x="162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5520" y="3304800"/>
              <a:ext cx="1605960" cy="551880"/>
            </a:xfrm>
            <a:prstGeom prst="wedgeRectCallout">
              <a:avLst>
                <a:gd name="adj1" fmla="val -66402"/>
                <a:gd name="adj2" fmla="val -1545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This will be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interpreted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Tahoma"/>
                </a:rPr>
                <a:t>as a return address!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V="1">
            <a:off x="5257800" y="1752480"/>
            <a:ext cx="0" cy="533520"/>
          </a:xfrm>
          <a:prstGeom prst="line">
            <a:avLst/>
          </a:prstGeom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257800" y="1371600"/>
            <a:ext cx="2286000" cy="38088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n more deviou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7560" y="2687760"/>
            <a:ext cx="670572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7560" y="3398760"/>
            <a:ext cx="670572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47840" y="2687760"/>
            <a:ext cx="2286000" cy="685800"/>
          </a:xfrm>
          <a:prstGeom prst="rect">
            <a:avLst/>
          </a:prstGeom>
          <a:solidFill>
            <a:srgbClr val="ffcccc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bu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9680" y="2687760"/>
            <a:ext cx="746280" cy="685800"/>
          </a:xfrm>
          <a:prstGeom prst="rect">
            <a:avLst/>
          </a:prstGeom>
          <a:solidFill>
            <a:srgbClr val="eeb00b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sf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11800" y="2687760"/>
            <a:ext cx="746280" cy="685800"/>
          </a:xfrm>
          <a:prstGeom prst="rect">
            <a:avLst/>
          </a:prstGeom>
          <a:solidFill>
            <a:srgbClr val="eeb00b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r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add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73920" y="2712960"/>
            <a:ext cx="745920" cy="685800"/>
          </a:xfrm>
          <a:prstGeom prst="rect">
            <a:avLst/>
          </a:prstGeom>
          <a:solidFill>
            <a:srgbClr val="cc99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st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40440" y="2797200"/>
            <a:ext cx="129564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00ff"/>
                </a:solidFill>
                <a:latin typeface="Tahoma"/>
              </a:rPr>
              <a:t>Frame of th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00ff"/>
                </a:solidFill>
                <a:latin typeface="Tahoma"/>
              </a:rPr>
              <a:t>calling func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9840" y="2666880"/>
            <a:ext cx="3962520" cy="7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overfl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6880" y="2209680"/>
            <a:ext cx="2552400" cy="433440"/>
          </a:xfrm>
          <a:custGeom>
            <a:avLst/>
            <a:gdLst/>
            <a:ahLst/>
            <a:rect l="l" t="t" r="r" b="b"/>
            <a:pathLst>
              <a:path w="1608" h="336">
                <a:moveTo>
                  <a:pt x="1608" y="300"/>
                </a:moveTo>
                <a:lnTo>
                  <a:pt x="1605" y="1"/>
                </a:lnTo>
                <a:lnTo>
                  <a:pt x="3" y="0"/>
                </a:lnTo>
                <a:lnTo>
                  <a:pt x="0" y="336"/>
                </a:lnTo>
              </a:path>
            </a:pathLst>
          </a:custGeom>
          <a:noFill/>
          <a:ln w="28440">
            <a:solidFill>
              <a:srgbClr val="eaea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02760" y="3755880"/>
            <a:ext cx="2855880" cy="662760"/>
          </a:xfrm>
          <a:prstGeom prst="wedgeRectCallout">
            <a:avLst>
              <a:gd name="adj1" fmla="val 20467"/>
              <a:gd name="adj2" fmla="val -83166"/>
            </a:avLst>
          </a:prstGeom>
          <a:solidFill>
            <a:srgbClr val="6600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Attacker puts actual assembly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instructions into his input string, e.g.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binary code of </a:t>
            </a:r>
            <a:r>
              <a:rPr b="0" lang="en-US" sz="1200" spc="-1" strike="noStrike">
                <a:solidFill>
                  <a:srgbClr val="ff33cc"/>
                </a:solidFill>
                <a:latin typeface="Tahoma"/>
              </a:rPr>
              <a:t>execve(“/bin/sh”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79520" y="3603600"/>
            <a:ext cx="2366280" cy="865080"/>
          </a:xfrm>
          <a:prstGeom prst="wedgeRectCallout">
            <a:avLst>
              <a:gd name="adj1" fmla="val -19550"/>
              <a:gd name="adj2" fmla="val -63393"/>
            </a:avLst>
          </a:prstGeom>
          <a:solidFill>
            <a:srgbClr val="6600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In the overflow, a </a:t>
            </a:r>
            <a:r>
              <a:rPr b="0" lang="en-US" sz="1200" spc="-1" strike="noStrike">
                <a:solidFill>
                  <a:srgbClr val="ff33cc"/>
                </a:solidFill>
                <a:latin typeface="Tahoma"/>
              </a:rPr>
              <a:t>pointer ba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Tahoma"/>
              </a:rPr>
              <a:t>into the buffer</a:t>
            </a: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 appears 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the location where the syste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expects to find return addres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verity of attack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oretically, attacker can cause machine to execute arbitrary cod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ith the permissions of the program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ually carrying out such an attack involves many more detai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e “Smashing the Stack…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; using gd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ng this att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seen that strcpy is unsaf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rcpy(buf, str) simply copies memory contents into buf starting from *str until “\0” is encountered, ignoring the size of bu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 strcpy(), strcat(), gets()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trncpy(), strncat(), inste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n these are not perfect… (e.g., no null terminat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ways a good idea to do your own validation when obtaining input from untrusted sour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ill need to be careful when copying multiple inputs into a buff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es range checking help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strncp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char *dest, const char *src, size_t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o more than n characters will be copied from *src to *d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grammer has to supply the right value of n!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d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… 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strcpy(record,user);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strcat(record,”:”)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strcat(record,cpw);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…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shed “fix” (do you see the problem?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… 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strncpy(record,user,MAX_STRING_LEN-1)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strcat(record,”:”)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eaeaea"/>
                </a:solidFill>
                <a:latin typeface="Courier New"/>
              </a:rPr>
              <a:t>strncat(record,cpw,MAX_STRING_LEN-1);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…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4800600"/>
            <a:ext cx="5791320" cy="83808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3429000"/>
            <a:ext cx="3429000" cy="68580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ff-by-one overfl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ider the following code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char buf[512]; int i;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    for (i=0; i &lt;= 512; i++)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       buf[i] = input[i];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-byte overflow: can’t change return address, but can change pointer to previous stack fra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 little-endian architecture, make it point into buff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588480" y="2514600"/>
            <a:ext cx="314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 review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perturbation: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sure that any “identifying information” is shared by at leas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embers of the data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2-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895480" y="1447920"/>
          <a:ext cx="4038480" cy="5138640"/>
        </p:xfrm>
        <a:graphic>
          <a:graphicData uri="http://schemas.openxmlformats.org/drawingml/2006/table">
            <a:tbl>
              <a:tblPr/>
              <a:tblGrid>
                <a:gridCol w="990360"/>
                <a:gridCol w="914400"/>
                <a:gridCol w="106704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R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ZIP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Smoke?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</a:rPr>
                        <a:t>Cancer?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895480" y="1828800"/>
            <a:ext cx="1905120" cy="47242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5400000"/>
          </a:gra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95480" y="1828800"/>
          <a:ext cx="1904760" cy="4743360"/>
        </p:xfrm>
        <a:graphic>
          <a:graphicData uri="http://schemas.openxmlformats.org/drawingml/2006/table">
            <a:tbl>
              <a:tblPr/>
              <a:tblGrid>
                <a:gridCol w="993960"/>
                <a:gridCol w="910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895480" y="1828800"/>
            <a:ext cx="1905120" cy="47242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5400000"/>
          </a:gra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95480" y="1828800"/>
          <a:ext cx="1904760" cy="4743360"/>
        </p:xfrm>
        <a:graphic>
          <a:graphicData uri="http://schemas.openxmlformats.org/drawingml/2006/table">
            <a:tbl>
              <a:tblPr/>
              <a:tblGrid>
                <a:gridCol w="91440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28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28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4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28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213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28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28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rd to find the right balance between what is “scrubbed” and utility of the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clear what security guarantees it provi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 example, what if I know that the Asian person in ZIP code 0214x smok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gain, does not deal with out-of-band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tput perturb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approach: replace the query with a perturbed query, then return an exact answer to th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a query over some set of entries C is answered using some (randomly-determined) subset C’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only learns the answer, not C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approach: add noise to the exact answer (to the original que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negative result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[Dinur-Nissim]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vily paraphrased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iven a database with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rows, if roughly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queries are made to the database (in total) then essentially the entire database can be reconstructe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even if O(n</a:t>
            </a:r>
            <a:r>
              <a:rPr b="0" i="1" lang="en-US" sz="2800" spc="-1" strike="noStrike" baseline="30000">
                <a:solidFill>
                  <a:srgbClr val="eaeaea"/>
                </a:solidFill>
                <a:latin typeface="Times New Roman"/>
              </a:rPr>
              <a:t>1/2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) noise is added to each ans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 the positive side, it is known that very small error can be used when the total number of queries is kept sma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rmally defining priva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problem inherent in all these approaches (and the source of many of the problems we have seen) is that no definition of “privacy” is offer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ently, there has been work addressing exactly this poi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veloping defini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vably-secure schemes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definition of priva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ifferential privac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[Dwork et al.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ghly speaking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 each row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of the database (representing, say, an individual), the distribution of answers given when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included in the database are “close” to the answers given when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not included in the databa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: can’t really hope for closeness better than 1/|DB|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rther refining/extending this definition is currently an active area of re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5-06T20:07:37Z</dcterms:modified>
  <cp:revision>698</cp:revision>
  <dc:subject/>
  <dc:title>CMSC 414 Computer (and Network) Security</dc:title>
</cp:coreProperties>
</file>