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F0A-5006-4674-A97B-A0B1027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B3B-E598-43D6-A2D0-A0B8032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44E-31FF-4249-B111-210129F7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8FF-F400-4272-9DF4-C1D65D29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BF19-A197-468E-8FED-F18678A2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553A-9EA7-4553-8238-6F230F1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E50-B1E3-411C-9CCE-10A5E044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56C9-8669-4463-848C-9EABFC3B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3F46-9678-4C31-B820-CC3B9E1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60C-8EBF-431C-A77B-AA5C4F83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54E8-C10E-4A65-9CB4-205071D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33A-59C7-47F4-9784-6F67E48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8A29-650B-4D31-AA4F-D90C35F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642B-A7AE-4D64-9507-0E8E9EE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CD36-ED6E-4AB8-9C70-31648B42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DCF6-FB8A-43D3-9C80-270A7CC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0B1-F3F1-4A18-857E-AFD62270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635-5577-4871-B237-14CF40EB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E5D-AD8C-4A9F-923F-630D9554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851-199E-41A8-A882-F4ACA3D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C20-65A6-4A1E-B642-8251A5E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983-BB2C-4829-BCEC-63083C6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EDE-C52D-4F33-B1C1-B8CA82B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E79-8C02-4D73-B5A1-A4E69D2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66A-C431-44F8-96D0-F5E411AC9E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E1A-993D-4FAC-8B64-BD2B2BCB84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6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90000" y="2743200"/>
            <a:ext cx="65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security in practi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lay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lin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ughl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pplication lay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the communicating processes themselves and the actual messages transmit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lay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handles transmissions on an “end-to-end”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etwork lay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handles transmissions on a “hop-by-hop”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ication layer: PG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port layer: SSL/T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 layer: IPse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not usually provided at the data link layer, except possible within closed networks (e.g., milita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at the physical layer? (Shielded wires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n what lay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s on the purpos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nformation needs to be protect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attack mode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shares keys in advanc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the user be involv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 network-layer protocol cannot authenticate two end-users to each 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pplication-layer protocol cannot protect IP header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affects efficiency, ease of deployment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GP is an application-level protocol for “secure email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provide security on “insecure”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choose when to use PGP; user must be invol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ice’s signature on an email proves that Alice actually generated the message, and it was received unaltered; also non-repu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contrast, SSL would secure “the connection” from Alice’s computer; would need an additional mechanism to authentication the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od for communication with off-line pa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 sits at the transport layer, “above” TC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cket stream authenticated/encryp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-to-end security, best for connection-oriented sessions (e.g., http traffi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does not need to be invol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OS does not have to change, but applications do if they want to communicate secur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TCP accepts a packet which is rejected by SSL, then TCP will reject the “correct” packet (detecting a replay) when it arrive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SL must then close the connectio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sec sits at the network lay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 packets authenticated/encryp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-to-end or hop-by-hop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est for connectionless channe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modify 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 applications are “protected” by default, without requiring any change to applications or actions on behalf of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authenticates hosts, not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completely unaware that IPsec is run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e home messag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st solution may involve changes at both the OS and application lay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best” solution is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o run SSL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Psec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uld have been better to design system with security in mind from the beginni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84320" y="274320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AH and ES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W4 feedback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sec consists of two compon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H/ESP --- used once a key is established (either using IKE or out-of-b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KE --- Can be used to establish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ssociations (SA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a node receives a packet, needs to know who it is fr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be receiving IPsec traffic from multiple senders at the same ti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sibly even with the same IP add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IPsec header indicates whic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urity associ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ssociations (SA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SA is a crypto-protected conn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SA in each directio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 each end, the SA contains a key, the identity of the other party, the sequence number, and crypto parameters (algorithms, auth/enc/bo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sec header indicates which SA to 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n’t go into more detai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 datab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rties will maintain a database of SAs for currently-open conn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both to send and receive pack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y datab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de maintain a table specifying what is required for each incoming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o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ward/accept without IPsec pro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quire IPsec pro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 on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c on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with firewalls, decisions can be based on any information in the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header typ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header (A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ides integrity on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apsulating security payload (ES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ides encryption and/or 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h provide cryptographic protection of everything beyond the IP heade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H additionally provides integrity protection of some fields of the IP hea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tential problem if layer-4 header data is used for decision-making; this information will be encrypted when using IPse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rguments pro and con as to whether this data should be encrypted or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shouldn’t be divulged; get rid of firew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ministrators will likely keep firewalls and turn off encryptio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mo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add IPsec information between IP header and rest of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P header | IPsec | [ packet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logical when IPsec used end-to-e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762080" y="247644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8520" y="32004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unnel mo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ep original IP packet intact; add new header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IP header | IPSec | [ old IP header | packet ]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when IPSec is applied at intermediate point along path (e.g., for firewall-to-firewall traffi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change source/destination info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eat the link as a secure tu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ults in slightly longer pa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may end up getting encrypted multiple ti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6362280" y="1485360"/>
            <a:ext cx="304920" cy="3124440"/>
          </a:xfrm>
          <a:custGeom>
            <a:avLst/>
            <a:gdLst>
              <a:gd name="textAreaLeft" fmla="*/ 0 w 304920"/>
              <a:gd name="textAreaRight" fmla="*/ 110160 w 30492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39640" y="31734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26240" y="27432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gatew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as an application-level proxy for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ch “logical” connection is actually two TCP conne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particular application is not supported, that application is not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43240" y="4419720"/>
            <a:ext cx="5276880" cy="1638360"/>
            <a:chOff x="2343240" y="4419720"/>
            <a:chExt cx="5276880" cy="1638360"/>
          </a:xfrm>
        </p:grpSpPr>
        <p:sp>
          <p:nvSpPr>
            <p:cNvPr id="98" name=""/>
            <p:cNvSpPr/>
            <p:nvPr/>
          </p:nvSpPr>
          <p:spPr>
            <a:xfrm>
              <a:off x="4103640" y="4570560"/>
              <a:ext cx="1287360" cy="1487520"/>
            </a:xfrm>
            <a:prstGeom prst="rect">
              <a:avLst/>
            </a:prstGeom>
            <a:noFill/>
            <a:ln w="19080">
              <a:solidFill>
                <a:srgbClr val="cc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3840" y="4673880"/>
              <a:ext cx="973440" cy="130320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1640" y="4778640"/>
              <a:ext cx="1071720" cy="285480"/>
            </a:xfrm>
            <a:prstGeom prst="rect">
              <a:avLst/>
            </a:prstGeom>
            <a:solidFill>
              <a:srgbClr val="eeb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ff"/>
                  </a:solidFill>
                  <a:latin typeface="Arial"/>
                  <a:ea typeface="Arial"/>
                </a:rPr>
                <a:t>Telnet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11640" y="5054760"/>
              <a:ext cx="1071720" cy="285480"/>
            </a:xfrm>
            <a:prstGeom prst="rect">
              <a:avLst/>
            </a:prstGeom>
            <a:solidFill>
              <a:srgbClr val="eeb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ff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5330880"/>
              <a:ext cx="1071720" cy="285480"/>
            </a:xfrm>
            <a:prstGeom prst="rect">
              <a:avLst/>
            </a:prstGeom>
            <a:solidFill>
              <a:srgbClr val="eeb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ff"/>
                  </a:solidFill>
                  <a:latin typeface="Arial"/>
                  <a:ea typeface="Arial"/>
                </a:rPr>
                <a:t>SMT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11640" y="5608800"/>
              <a:ext cx="1071720" cy="285480"/>
            </a:xfrm>
            <a:prstGeom prst="rect">
              <a:avLst/>
            </a:prstGeom>
            <a:solidFill>
              <a:srgbClr val="eeb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ff"/>
                  </a:solidFill>
                  <a:latin typeface="Arial"/>
                  <a:ea typeface="Arial"/>
                </a:rPr>
                <a:t>HTTP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84800" y="4899240"/>
              <a:ext cx="982800" cy="0"/>
            </a:xfrm>
            <a:prstGeom prst="line">
              <a:avLst/>
            </a:prstGeom>
            <a:ln w="15840">
              <a:solidFill>
                <a:srgbClr val="eaeaea"/>
              </a:solidFill>
              <a:prstDash val="sysDot"/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 flipH="1">
              <a:off x="6258960" y="4419720"/>
              <a:ext cx="582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25960" y="4905360"/>
              <a:ext cx="984240" cy="0"/>
            </a:xfrm>
            <a:prstGeom prst="line">
              <a:avLst/>
            </a:prstGeom>
            <a:ln w="15840">
              <a:solidFill>
                <a:srgbClr val="eaeaea"/>
              </a:solidFill>
              <a:prstDash val="sysDot"/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 flipH="1">
              <a:off x="2607840" y="4507200"/>
              <a:ext cx="582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343240" y="5072040"/>
              <a:ext cx="1306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Outside hos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13320" y="4992840"/>
              <a:ext cx="1306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Inside  hos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17680" y="4521240"/>
              <a:ext cx="1305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Outside connec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560" y="4511880"/>
              <a:ext cx="1306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Inside connec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gatew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tricted number of applications to worry abo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examine application-level traffic for potential vulner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provide user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secure than packet-based filte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gher processing overh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ircuit-level gatew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with application-level gateways, circuit-level gateways set up two TCP connectio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ce connections are established, TCP segments are forwarde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out examining their cont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ecurity function consists of determining which connections are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170240" y="4267080"/>
            <a:ext cx="4745160" cy="2379600"/>
            <a:chOff x="4170240" y="4267080"/>
            <a:chExt cx="4745160" cy="2379600"/>
          </a:xfrm>
        </p:grpSpPr>
        <p:sp>
          <p:nvSpPr>
            <p:cNvPr id="117" name=""/>
            <p:cNvSpPr/>
            <p:nvPr/>
          </p:nvSpPr>
          <p:spPr>
            <a:xfrm>
              <a:off x="7524720" y="6037200"/>
              <a:ext cx="13906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Inside  hos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170240" y="4267080"/>
              <a:ext cx="4048200" cy="2379600"/>
              <a:chOff x="4170240" y="4267080"/>
              <a:chExt cx="4048200" cy="2379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062320" y="5057640"/>
                <a:ext cx="781200" cy="0"/>
              </a:xfrm>
              <a:prstGeom prst="line">
                <a:avLst/>
              </a:prstGeom>
              <a:ln w="12600">
                <a:solidFill>
                  <a:srgbClr val="cc2700"/>
                </a:solidFill>
                <a:prstDash val="sysDot"/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7597800" y="5445000"/>
                <a:ext cx="62064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737400" y="6046560"/>
                <a:ext cx="685800" cy="0"/>
              </a:xfrm>
              <a:prstGeom prst="line">
                <a:avLst/>
              </a:prstGeom>
              <a:ln w="12600">
                <a:solidFill>
                  <a:srgbClr val="cc2700"/>
                </a:solidFill>
                <a:prstDash val="sysDot"/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4452840" y="4665600"/>
                <a:ext cx="62064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170240" y="5286240"/>
                <a:ext cx="13906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Outside hos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18040" y="4701960"/>
                <a:ext cx="100980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Outside connection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9600" y="5625720"/>
                <a:ext cx="139068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Inside 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connection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805360" y="4714560"/>
                <a:ext cx="1209240" cy="1638360"/>
                <a:chOff x="5805360" y="4714560"/>
                <a:chExt cx="1209240" cy="16383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5805360" y="4714560"/>
                  <a:ext cx="952560" cy="1638360"/>
                  <a:chOff x="5805360" y="4714560"/>
                  <a:chExt cx="952560" cy="16383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5805360" y="4714560"/>
                    <a:ext cx="952560" cy="1638360"/>
                  </a:xfrm>
                  <a:prstGeom prst="rect">
                    <a:avLst/>
                  </a:prstGeom>
                  <a:noFill/>
                  <a:ln w="19080">
                    <a:solidFill>
                      <a:srgbClr val="cc27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924160" y="4828680"/>
                    <a:ext cx="719640" cy="1435320"/>
                  </a:xfrm>
                  <a:prstGeom prst="rect">
                    <a:avLst/>
                  </a:prstGeom>
                  <a:solidFill>
                    <a:srgbClr val="dddddd"/>
                  </a:solidFill>
                  <a:ln w="7632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5837040" y="4914720"/>
                  <a:ext cx="561960" cy="276120"/>
                  <a:chOff x="5837040" y="4914720"/>
                  <a:chExt cx="561960" cy="2761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846400" y="4914720"/>
                    <a:ext cx="304920" cy="27612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837040" y="4971960"/>
                    <a:ext cx="56196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Out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5844960" y="5408280"/>
                  <a:ext cx="561960" cy="276120"/>
                  <a:chOff x="5844960" y="5408280"/>
                  <a:chExt cx="561960" cy="2761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854320" y="5408280"/>
                    <a:ext cx="304920" cy="27612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844960" y="5465520"/>
                    <a:ext cx="56196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Out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5853240" y="5921280"/>
                  <a:ext cx="561960" cy="276120"/>
                  <a:chOff x="5853240" y="5921280"/>
                  <a:chExt cx="561960" cy="2761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5862600" y="5921280"/>
                    <a:ext cx="304920" cy="27612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853240" y="5978520"/>
                    <a:ext cx="56196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Out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418080" y="4905000"/>
                  <a:ext cx="590760" cy="276480"/>
                  <a:chOff x="6418080" y="4905000"/>
                  <a:chExt cx="590760" cy="27648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418080" y="4905000"/>
                    <a:ext cx="304920" cy="27648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446880" y="4962240"/>
                    <a:ext cx="56196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In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416640" y="5408280"/>
                  <a:ext cx="590040" cy="276480"/>
                  <a:chOff x="6416640" y="5408280"/>
                  <a:chExt cx="590040" cy="2764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416640" y="5408280"/>
                    <a:ext cx="304560" cy="27648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445080" y="5465520"/>
                    <a:ext cx="56160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In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424560" y="5911560"/>
                  <a:ext cx="590040" cy="276120"/>
                  <a:chOff x="6424560" y="5911560"/>
                  <a:chExt cx="590040" cy="276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424560" y="5911560"/>
                    <a:ext cx="304560" cy="276120"/>
                  </a:xfrm>
                  <a:prstGeom prst="ellipse">
                    <a:avLst/>
                  </a:prstGeom>
                  <a:solidFill>
                    <a:srgbClr val="6600ff"/>
                  </a:solidFill>
                  <a:ln w="1260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53000" y="5968440"/>
                    <a:ext cx="561600" cy="17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343080" indent="-343080">
                      <a:lnSpc>
                        <a:spcPct val="9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eaeaea"/>
                        </a:solidFill>
                        <a:latin typeface="Arial"/>
                        <a:ea typeface="Arial"/>
                      </a:rPr>
                      <a:t>In</a:t>
                    </a:r>
                    <a:endParaRPr b="0" lang="en-US" sz="6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6141960" y="5038560"/>
                  <a:ext cx="142920" cy="0"/>
                </a:xfrm>
                <a:prstGeom prst="line">
                  <a:avLst/>
                </a:prstGeom>
                <a:ln w="12600">
                  <a:solidFill>
                    <a:srgbClr val="cc27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92800" y="6018120"/>
                  <a:ext cx="142920" cy="0"/>
                </a:xfrm>
                <a:prstGeom prst="line">
                  <a:avLst/>
                </a:prstGeom>
                <a:ln w="12600">
                  <a:solidFill>
                    <a:srgbClr val="cc27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275520" y="5038560"/>
                  <a:ext cx="0" cy="990360"/>
                </a:xfrm>
                <a:prstGeom prst="line">
                  <a:avLst/>
                </a:prstGeom>
                <a:ln w="12600">
                  <a:solidFill>
                    <a:srgbClr val="cc27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5532480" y="426708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Circuit-level gateway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59320" y="6389280"/>
                <a:ext cx="200016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st-based firewa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used on machines that are not part of a larger network (e.g., home machi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provide additional protection within a larger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ltering can be machine-specif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firewa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multiple network firewalls, each providing different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590920"/>
            <a:ext cx="0" cy="8380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429000"/>
            <a:ext cx="9144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581280"/>
            <a:ext cx="0" cy="91440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4495680"/>
            <a:ext cx="914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76720" y="4000680"/>
            <a:ext cx="182880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429000"/>
            <a:ext cx="1143000" cy="11430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b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648320"/>
            <a:ext cx="0" cy="91440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5029200"/>
            <a:ext cx="1143000" cy="11430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76720" y="5562720"/>
            <a:ext cx="182880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2476440"/>
            <a:ext cx="2057400" cy="2705040"/>
          </a:xfrm>
          <a:prstGeom prst="borderCallout2">
            <a:avLst>
              <a:gd name="adj1" fmla="val 18750"/>
              <a:gd name="adj2" fmla="val -8333"/>
              <a:gd name="adj3" fmla="val 4226"/>
              <a:gd name="adj4" fmla="val -24074"/>
              <a:gd name="adj5" fmla="val 73472"/>
              <a:gd name="adj6" fmla="val -45217"/>
            </a:avLst>
          </a:pr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tricter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filtering ru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tect web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server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network from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each 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PNs and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a firewall to allow for encrypted and authenticated communication across the Inter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done behind the firewall, the firewall cannot analyze pack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in conjunction with IPSec, which does encryption/authentication at the IP lay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3200400" y="5486400"/>
            <a:ext cx="91440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562720"/>
            <a:ext cx="19047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70320" y="5029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ain IP pa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562720"/>
            <a:ext cx="28191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5105520"/>
            <a:ext cx="1752480" cy="838080"/>
          </a:xfrm>
          <a:prstGeom prst="cloudCallout">
            <a:avLst>
              <a:gd name="adj1" fmla="val -24819"/>
              <a:gd name="adj2" fmla="val 23106"/>
            </a:avLst>
          </a:pr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172200" y="5486400"/>
            <a:ext cx="914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7760" y="472428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IP pa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4160" y="5562720"/>
            <a:ext cx="19051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75840" y="5029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ain IP pa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5-08T19:31:22Z</dcterms:modified>
  <cp:revision>778</cp:revision>
  <dc:subject/>
  <dc:title>CMSC 414 Computer (and Network) Security</dc:title>
</cp:coreProperties>
</file>