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62A-DCE3-4D50-B4DE-1511E623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068-EDAB-422B-9389-15B0E4CC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647-56C7-41FE-94EC-CED8CEAF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544-06E7-44E8-A7D2-31A6F656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A17A-679A-40CE-8F67-1A00845A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F705-6450-475A-9541-3F0BD3C1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1519-A8CC-4D6A-A454-AAE3B310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A983-8FD5-429A-B3B8-ACF64542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494E-D862-41CC-9580-6933D116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05C2-18A9-4A07-B41D-27E0B62F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9114-5DEE-4296-A908-3B14908E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C90-1852-4F06-A0EB-BD72A9E0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E6F1-BC09-441D-918F-71DC1F1E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6D65-6D14-4033-AA53-25517C56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DD24-941D-4F03-9F9B-FC373755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A729-E974-40F2-8F74-E531048E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61E8-2127-4C8C-A137-1250B89F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37B-62E7-49AF-945C-9CD6C90A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A2D-05DF-4A8A-8B5A-E3359B6D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F28-724C-421B-8222-F2188577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06D-D300-4311-A3F7-9BCA1509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94E-0537-41C6-9016-779C8498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450-FB5C-4C8F-AD5E-62FE7184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72B-CCBD-4007-831F-634222CC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7BB4-80A3-4037-81C1-8C8B32CBA4C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823B-E850-4226-959F-57AC0BE9EEB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7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y 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mentioned earlie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are there two PK option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gnature-based op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fficiency (can start protocol knowing only your own public key, then get other side’s key from their certificate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gal reasons/export contro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cryption-based op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an be used to provide anonymity in both direc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ds tremendously to the complexity of implemen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tocols can be designed so that identities of the parties are hidden from eavesdrop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en while providing authentication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so protect anonymity of one side against active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om to protect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itiator: since responder’s identity is generally known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sponder: since otherwise it is easy to get anyone’s ident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ase 1 session ke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session keys are defined in phase 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e each for encryption/authent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se keys are used to protect the final phase 1 messages as well as all phase 2 mess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se keys are derived from the DH key using has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tails in the book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KE phas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ggressive m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 messag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n m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6 messag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ditional featur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onym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egotiation of crypto paramet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gressive m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 sends 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“Alice”, crypto algorith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e that choices are restricted by this mes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b sends 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choice of crypto algorithm, “proof” that he is really Bo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Bob does not support any of the suggested algorithms, he simply does not rep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e that there is no way to authenticate a refusal, since no session key yet establish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 sends “proof” that she is Al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n m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gotiate crypto algorithms (2 round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 and Bob do regular Diffie-Hellman key exchange (2 round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 sends encryption of “Alice” plus a proof that she is Alice, using long-term secret keys plus [keys derived from] 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b does similarl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ypto parameter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ice of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cryption method (DES, 3DES, …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sh function (MD5, SHA-1, …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uthentication method (e.g., key type, etc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ffie-Hellman group (e.g., (g, p), etc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omplete set of protocols (a security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uit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must be specifi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gotiating paramet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y protocols allow parties to negotiate cryptographic algorithms and parame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s users to migrate to stronger crypto; increases inter-operability (somewha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, opens up a potential attack if not authenticated somehow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 makes for more complicated implement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ofs of identity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pend on which type of long-term shared key is being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ilar (in spirit) to the authentication protocols discussed in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tails in book…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 of IK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KE seems to be overly comple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almost certainly be replaced with an updated stand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84320" y="2743200"/>
            <a:ext cx="454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Psec: AH and ES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012200" y="274320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SL/T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ief history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SLv2 deployed in Netscape 1.1 (1995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crosoft improved upon it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scape deployed SSLv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commonly deploy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ETF introduced T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milar, but incompatibl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e, we just say “SSL”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oad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SL runs on top of TCP, in a user-level pro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call, does not require changes to the 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ing TCP rather than UDP simplifies thing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protocol flo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 (client) sends “hello”, supported crypto, and nonce R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b (server) sends a certificate, selects crypto, and sends nonce R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 encrypts random S with Bob’s public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be careful about which encryption scheme is use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/Bob derive key(s) from R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flow, 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each authenticate the initial handshake using the shared key(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keys are used to encrypt/authenticate all subsequent commun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parate keys shared for encryption and authentication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in each dire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for IVs… (but this is a flaw!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quence numbers used to prevent repla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t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described, SSL only provides only one-way authentication (server-to-clien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 generally common for clients to have public ke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do mutual authentication over SSL using, e.g., a passwo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SL also allows for clients to have public ke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ssion resum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cause it was designed with http traffic in mind, one “session” can be used to derive many secure “connection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ver assigns a session_id and stores that along with the master secret key; sends session_id to client during handshake protoco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nection keys” derived from the master key and fresh non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attacks (and fixe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-in-the-middle can downgrade the acceptable crypto in Alice’s first mess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e of the problems with negotiating crypto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xed by authenticating handshake pha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adversary could also close a connection early (TCP close_connection_request was not integrity-protecte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xed by adding “finish” message which is authentic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cluding no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SL is a success stor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d widely to authenticate transactions over the we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73840" y="2743200"/>
            <a:ext cx="377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urse wrap-u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H vs. ES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header type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header (A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ides integrity on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apsulating security payload (ES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ides encryption and/or integ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th provide cryptographic protection of everything beyond the IP header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H additionally provides integrity protection of some fields of the IP hea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al exa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rehens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sides understanding each topic in isolation, try to see the interconne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will try to post a summary of topics you need to kno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hat should you take away from this course (after the final)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2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mind-s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 limited to computers/networks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is comple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raws on many different discipli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ed to know what you are do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is hard, still evolv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 did not cover the most important present-day attacks: spam, phishing, DDos, viruses,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is fun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768120" y="2743200"/>
            <a:ext cx="277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on A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H provides integrity protection on hea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some fields chang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en rout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mutabl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ields included in the integrity che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utable but predictabl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ields are also included in the integrity che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final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value of the field is us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on AH vs. ES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SP can already provide encryption and/or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 why do we need AH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H also protects the IP hea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ort restri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rewalls need some high-level data to be unencryp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ne of these are compelling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uture of IPsec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long run, it seems that AH will become obsole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tter to encrypt everything anywa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real need for A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rtain performance disadvantag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H is complex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Psec is still evolv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49840" y="2743200"/>
            <a:ext cx="261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Psec: IK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 of IK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KE provides mutual authentication, establishes shared key, and creates S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mes a long-term shared key, and uses this to establish a session key (as well as to provide authentic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upported key typ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signature ke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encryption ke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mmetric ke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KE ph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ase 1: long-term keys used to derive a session key (and provide authentic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ase 2: session key used to derive S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…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ory, can run phase 1 once, followed by multiple executions of phase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.g., different flows between same endpoin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y not used same key for each? Is there any secure way to do thi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practice, this anyway rarely happe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5-13T17:22:41Z</dcterms:modified>
  <cp:revision>810</cp:revision>
  <dc:subject/>
  <dc:title>CMSC 414 Computer (and Network) Security</dc:title>
</cp:coreProperties>
</file>