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D3D-AC0D-4884-BADD-07EC326D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EF6-EB82-4438-B69B-CF77EB7B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42A-9477-4D13-B69D-86412CA0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45A-CCD6-449F-8B14-3096DA8C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F16A-19A2-48E9-A369-C9CACD3C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2927-4D8F-4791-A250-2CA62915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794D-7D40-4D7F-B69E-7EBC4E27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A72C-6B25-492A-B169-991F984D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55AF-FCB4-48E4-947B-06BC5ED0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3731-07A9-43B3-9DE5-25A31AF7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264D-F229-4D3D-A5C1-20BE04BE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553-C476-40CB-8C6A-8503C787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5DC3-24A3-48A6-8CBB-E8D73DFA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D62F-A711-42D1-96B2-BCE241D9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11FD-0A0C-417A-93DF-9918CEE4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94DA-AA87-405E-81EE-3888308D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B962-B427-424B-8115-EFA6AE9E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C9C-13BC-4B8D-8E1A-E3150526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2AA-3820-4AF1-9288-AF69DDB5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EE2-578C-4CF6-A131-745C6DE8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6A7-F997-45DA-9044-7A77F109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940-2FEC-4C1C-BA9E-C1C3728B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30A-5C02-4A80-9D48-F7316DE4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ED7-085B-41A5-9372-0DCBDF3D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DB9E-D126-46BC-8322-7BD27249CF9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D3F0-ABE0-4335-BEE1-684BF5D21C6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3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ta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 far, we have been considering only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assive eavesdroppin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of a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ingl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iphertex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KA, ciphertext-only att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practice, stronger attacks often need to be consider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own plaintex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osen plaintex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osen ciphertext (includes chosen plaintext attack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nimum requir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minimu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level of security nowadays is security against chosen-plaintext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security against chosen-ciphertext attacks (or even stronger) is often necessary for certain applic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ke sure you are aware of this when deploying encryption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will revisit this after discussing message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andomized encry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 deterministic encryption scheme be secure against chosen-plaintext attack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be secure against chosen-plaintext attack, encryptio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must be randomiz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al: always use randomized encryption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W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be posted short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k in tea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Both students should contribute to all proble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JCE fair game for the ex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ng secrecy (take 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an adversary running for a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unbound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mount of time learn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othin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bout the message from the ciphertex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erfect secre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mally, for all distributions over the message space, all m, and all c: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 Pr[M=m | C=c] = Pr[M=m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25920" y="2514600"/>
            <a:ext cx="48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time pa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d proof of secur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erties of the one-time pad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hieve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perfec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ecre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eavesdropper (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no matter how powerful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can determine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nformation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whatsoeve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about the plaintex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Essentially) useless in practic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ng key leng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only be used once (hence the name!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secure against known-plaintext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se ar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inhere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limitations of perfect secre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78240" y="2514600"/>
            <a:ext cx="536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utational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secrec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utational secre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can overcome the limitations of perfect secrecy by (slightly) relaxing the defini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tead of requiring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tot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ecrecy against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unbound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dversaries, require secrecy against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time-bound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dversaries except with som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mall probabi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secrecy for 100 years, except with probability 2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define formall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impler characteriz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fect secrecy is equivalent to the following, simpler definitio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ven a ciphertext C which is known to be an encryption of either M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or M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no adversary can guess correctly which message was encrypted with probability better than 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utational security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is definition too strong? Why no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6960" y="3610080"/>
            <a:ext cx="8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+ 2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095520" y="3200040"/>
            <a:ext cx="2817360" cy="1450800"/>
            <a:chOff x="6095520" y="3200040"/>
            <a:chExt cx="2817360" cy="1450800"/>
          </a:xfrm>
        </p:grpSpPr>
        <p:sp>
          <p:nvSpPr>
            <p:cNvPr id="106" name=""/>
            <p:cNvSpPr/>
            <p:nvPr/>
          </p:nvSpPr>
          <p:spPr>
            <a:xfrm>
              <a:off x="6095520" y="4191120"/>
              <a:ext cx="281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running for 100 year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7391160" y="3200040"/>
              <a:ext cx="75960" cy="106668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ake-home mess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akening the definition slightly allows us to construct much more efficient scheme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ictly speaking, no longer 100% absolutely guaranteed to be sec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of encryption now depends on security of building blocks (which are analyzed extensively, and are assumed to be secur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iven enough time, the scheme can be brok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2-05T21:12:37Z</dcterms:modified>
  <cp:revision>337</cp:revision>
  <dc:subject/>
  <dc:title>CMSC 414 Computer (and Network) Security</dc:title>
</cp:coreProperties>
</file>