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E58-3570-4678-BD91-F7FB07DC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30B-6D7F-4184-8B48-12F2D6B3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4CC-1F08-4BC4-8B5B-76C82027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D02-2E22-4BEF-906C-2CAD6A31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FAB7-3873-4728-984D-992126E4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35B4-571F-49BB-BA78-BA6262A0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05F6-02E3-49E2-935D-6F7F6E2D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C033-883D-4974-A158-94EB00E2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2482-1205-4BDD-8D0F-4DF5EBC8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0FE3-3241-4906-8B2A-69BB8CA0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DA4D-E5A9-472E-8141-D5E3376C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371-9F0B-42BF-AB7E-A97BF242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C675-3F62-4EE2-A2FD-80A2DBE0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C4AC-4D59-4B1D-A767-330FA8C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D16D-D5CA-4D3F-9D7F-BDB75004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42C0-07E3-4A24-BCA7-2C88BEF8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EAE0-90B8-4771-8453-631096D4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81F-91EC-4759-A2CF-C9A19842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CCF-9BC0-4B4D-90BD-68CE0CF1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9C1-641E-4274-BF7F-AC346969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254-8ACB-47E1-816E-4B480DEF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697-32EB-460A-BAF3-2626F7C5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657-E859-4DBA-9FCE-CEF704F6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263-38D3-4422-BD1A-E768D5EB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3213-5E8D-41D8-A8B9-12EE303BE37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2C4D-F4B2-4FC0-AA92-60268444FD9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4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des of encry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d for encrypting a long message m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…, m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C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m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; the ciphertext is 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…, 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B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V; 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m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-1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; the ciphertext is IV, 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…, 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FB (stream cipher mod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V; z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z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-1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; 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= z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m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; the ciphertext is IV, 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…, 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TR (stream cipher mod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V; z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= F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IV+i); 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= z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m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; the ciphertext is IV, 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.., c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ther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B shoul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e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BC, OFB, and CTR modes are secure against chosen-plaintext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BC, OFB, and CTR modes ar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ecure against chosen-ciphertext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71160" y="25146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ssage integr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Encryption does 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ovide integrit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ce encryption garbles the message, decryption of a ciphertext generated by an adversary must be unpredictabl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RO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one-time pad, CBC-/CTR-mode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is this a concer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ck of integrity can lead to lack of secre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most always, integrity is needed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n addition to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secre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W1 o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andomized encry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erministic encryption schemes cannot be secure against chosen-plaintext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r can they be secure for encrypting multiple messag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be secure against chosen-plaintext attack, encryptio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ust be randomiz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al: always use randomized encryption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lock ciph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ed, invertible permutation 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rge key space, large block siz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deled as a (family of) random permutation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block cipher is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 encryption sche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block cipher can b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used to buil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an encryption scheme (and other things as wel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 – the “trivial” encryption schem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 = F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is not randomized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Encryption Standard (DE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ed in 1970s by IBM / NSA / NB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n-public design proc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56-bit key, 64-bit input/outp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64-bit key is derived from 56 random bi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e bit in each octet is a parity-check bi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“short” key length is a major concern…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“short” block length is also a concer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erns about 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ort key leng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S “cracker”, built for $250K, can break DES in da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utation can be distributed to make it fa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not mean “DES is insecure”; depends on desired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ort block leng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peated blocks happen “too frequently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(theoretical) attacks have been foun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aimed known to DES designers 15 years before public discovery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n-public design pro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DES/triple-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ands the key leng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w, key K = (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; |K| = 11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“new” block cipher is jus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1,K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m) = DES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DES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-1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DES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K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m))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s a permutation, and inverti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irly slow…but widely used in prac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contest sponsored by NIST in ’9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rrowed to 5 finalis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 years of intense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ijndael selected as the A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ports variety of block/key sizes, but defaults to 128-bit key length and 128-bit block leng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128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a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ug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numb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umber of seconds since big bang (estimate): ~2</a:t>
            </a:r>
            <a:r>
              <a:rPr b="0" lang="en-US" sz="2000" spc="-1" strike="noStrike" baseline="30000">
                <a:solidFill>
                  <a:srgbClr val="eaeaea"/>
                </a:solidFill>
                <a:latin typeface="Times New Roman"/>
              </a:rPr>
              <a:t>5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umber of nanoseconds since big bang: ~2</a:t>
            </a:r>
            <a:r>
              <a:rPr b="0" lang="en-US" sz="2000" spc="-1" strike="noStrike" baseline="30000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th efficiency and security taken into accou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“most secure” finalist was not the one chos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block cipher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ompelling reason to use anything other than AES, in gener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nless (possibly) you have very severe performance requirem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en then, think tw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me goes for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tream cip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2-24T19:17:07Z</dcterms:modified>
  <cp:revision>387</cp:revision>
  <dc:subject/>
  <dc:title>CMSC 414 Computer (and Network) Security</dc:title>
</cp:coreProperties>
</file>