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3E2-EF37-4087-A4C2-79F04E51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540-AF46-4DD0-830B-350F91AF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DA2-D0E4-418F-AF5F-941AA4E7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77B-FECC-43FD-BD16-2E420973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F013-8A32-4BA5-BDBA-6D6610A5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F580-0CA8-4539-9F12-2D14060D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2DF8-F50D-4FA5-B9E8-4E7B90EB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4C62-C8F5-4ACD-8947-0DE0E9A8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1833-26B6-4735-ACE7-9883E16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1FF3-0118-480E-9666-391681BC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7E44-84C6-4309-9C01-5950586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0F0-EC88-4164-B1B0-1757EE41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1A36-240F-456F-BC25-14FE054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479E-5CE3-4C9A-A8BF-2D6F8EE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49AD-3B93-4D12-A885-DD17AD5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1616-DAE6-434E-9D49-07D68B6E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DC0D-F24F-4631-BDC0-32054B0F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BE5-0FE9-4465-AC08-E0559968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91F-D97F-4F8B-AFC9-4C35DD82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F99-2F9C-4868-B61B-5A63106D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F97-3729-479E-88E2-90474F24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DBB-54CA-4991-BE3B-3979C20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8D3-2380-4D3F-B221-3CEAE18F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222-DE35-40FA-9053-7C870CE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90CD-EEF3-4171-9398-A1452DA541B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4089-DAC3-4C53-9B18-613447E4D7F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sh functions in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D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28-bit outpu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o longer collision resistant (as of 2004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ill second pre-image resistant (for now…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till widely deployed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A-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0-bit outpu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o collisions known (yet), but theoretical attacks exi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A-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56-/512-bit outpu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etition to design new hash standard has just begu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sh-and-MA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y we have a secure MAC for “short”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to extend it for longer messag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h and MA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sh message to short “digest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C the dige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used in practice for MA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used extensively for signatures (see late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ilar ideas used in practical MAC constru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62320" y="4343040"/>
            <a:ext cx="5029200" cy="2134080"/>
            <a:chOff x="2362320" y="4343040"/>
            <a:chExt cx="5029200" cy="2134080"/>
          </a:xfrm>
        </p:grpSpPr>
        <p:sp>
          <p:nvSpPr>
            <p:cNvPr id="112" name=""/>
            <p:cNvSpPr/>
            <p:nvPr/>
          </p:nvSpPr>
          <p:spPr>
            <a:xfrm>
              <a:off x="3353040" y="5105520"/>
              <a:ext cx="914400" cy="914400"/>
            </a:xfrm>
            <a:prstGeom prst="rect">
              <a:avLst/>
            </a:prstGeom>
            <a:noFill/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5105520"/>
              <a:ext cx="914400" cy="914400"/>
            </a:xfrm>
            <a:prstGeom prst="rect">
              <a:avLst/>
            </a:prstGeom>
            <a:noFill/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MA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362320" y="5562720"/>
              <a:ext cx="99072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267440" y="5562720"/>
              <a:ext cx="129528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019920" y="4343040"/>
              <a:ext cx="0" cy="76212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2720" y="51465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7840" y="51055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H(M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98320" y="438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7120" y="5562720"/>
              <a:ext cx="914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1520" y="5562720"/>
              <a:ext cx="0" cy="91440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78160" y="5146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Cs in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BC-MA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constructed from any block cip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rectly handles long messages (without hash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ndard” variant is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secur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f used on messages of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length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own fixes for variable-length messages – make sure to use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MA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tructed from a hash fun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rectly handles long messages (hashing done as part of construc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cryption + integ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most settings, confidentiality and integrity are both nee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to obtain both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e “natural” possibiliti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-and-authentic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henticate-then-encry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-then-authentic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the latter is problem-fre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use dedicated mode of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7010280" cy="5943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58134" t="91263" r="4688" b="2500"/>
          <a:stretch/>
        </p:blipFill>
        <p:spPr>
          <a:xfrm>
            <a:off x="2133720" y="5029200"/>
            <a:ext cx="63640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65520" y="2514600"/>
            <a:ext cx="65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ward public-key crypto…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aring key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sharing of a key is necessary for private-key cryp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do parties share a key in the first plac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possibility is a secure physical chan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in-person mee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dicated (un-tappable) phone l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B stick via courier serv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possibility: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key exchange protoc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rties can agree on a key over a public chann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is amazing! (And marked a revolution in crypto…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ie-Hellman key excha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ular arithmetic,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ie-Hellman protoc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 against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passive eavesdropping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on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will cover stronger notions of security for key exchange in much more detail later in the seme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iffie-Hellman protoc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133800" y="2133720"/>
            <a:ext cx="3204360" cy="510120"/>
            <a:chOff x="3133800" y="2133720"/>
            <a:chExt cx="3204360" cy="510120"/>
          </a:xfrm>
        </p:grpSpPr>
        <p:sp>
          <p:nvSpPr>
            <p:cNvPr id="136" name=""/>
            <p:cNvSpPr/>
            <p:nvPr/>
          </p:nvSpPr>
          <p:spPr>
            <a:xfrm>
              <a:off x="3137040" y="2590920"/>
              <a:ext cx="3200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3800" y="2133720"/>
              <a:ext cx="320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rime 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, element 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Z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p</a:t>
              </a:r>
              <a:r>
                <a:rPr b="0" lang="en-US" sz="2400" spc="-1" strike="noStrike" baseline="30000">
                  <a:solidFill>
                    <a:srgbClr val="eaeaea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135240" y="3162240"/>
            <a:ext cx="3200400" cy="510120"/>
            <a:chOff x="3135240" y="3162240"/>
            <a:chExt cx="3200400" cy="510120"/>
          </a:xfrm>
        </p:grpSpPr>
        <p:sp>
          <p:nvSpPr>
            <p:cNvPr id="139" name=""/>
            <p:cNvSpPr/>
            <p:nvPr/>
          </p:nvSpPr>
          <p:spPr>
            <a:xfrm>
              <a:off x="3135240" y="3619440"/>
              <a:ext cx="3200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99080" y="3162240"/>
              <a:ext cx="187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= g</a:t>
              </a:r>
              <a:r>
                <a:rPr b="0" lang="en-US" sz="2400" spc="-1" strike="noStrike" baseline="30000">
                  <a:solidFill>
                    <a:srgbClr val="eaeaea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mod 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135240" y="4191120"/>
            <a:ext cx="3200400" cy="510120"/>
            <a:chOff x="3135240" y="4191120"/>
            <a:chExt cx="3200400" cy="510120"/>
          </a:xfrm>
        </p:grpSpPr>
        <p:sp>
          <p:nvSpPr>
            <p:cNvPr id="142" name=""/>
            <p:cNvSpPr/>
            <p:nvPr/>
          </p:nvSpPr>
          <p:spPr>
            <a:xfrm>
              <a:off x="3135240" y="4648320"/>
              <a:ext cx="3200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3760" y="4191120"/>
              <a:ext cx="186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= g</a:t>
              </a:r>
              <a:r>
                <a:rPr b="0" lang="en-US" sz="2400" spc="-1" strike="noStrike" baseline="30000">
                  <a:solidFill>
                    <a:srgbClr val="eaeaea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mod 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556640" y="4897440"/>
            <a:ext cx="153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= (h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57480" y="4897440"/>
            <a:ext cx="154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B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= (h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ider security against a passive eavesdrop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omputational Diffie-Hellman (CDH)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ption, hard for an eavesdropper to compute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enough for securit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hash the key before us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ecisional Diffie-Hellman (DDH)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ption, the key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looks random to an eavesdrop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announc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dterm 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ch 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CE accounts set 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to have a glue accou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W submission done using GRACE submit scri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ding a part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 TA with “partner-414” in subject l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ical n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ust be chosen so that the CDH/DDH assumptions h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to be chosen with c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tails in CMSC45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use other group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liptic curves are also popu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ular exponentiation can be done quickly (in particular, in polynomial tim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the naïve algorithm does not work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against active attack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asic Diffie-Hellman protocol we have shown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cure against a ‘man-in-the-middle’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fact, impossible to achieve security against such an attacker unles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formation is shared in adv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private-key set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 public-key setting (nex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71160" y="25146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ssage integ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ncryption does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ovide integrit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ce encryption garbles the message, decryption of a ciphertext generated by an adversary must be unpredictabl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RO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one-time pad, CBC-/CTR-mode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is this a concer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ck of integrity can lead to lack of secre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most always, integrity is needed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n addition to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secre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essage authentication codes (MACs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private-key setting, the correct tool for achieving message integrity is a MA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nctionalit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) = t (“tag”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rfy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, t) = 0/1 (“1” = “accept” / ”0”=“reject”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rrectnes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ng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ack model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random key K is chos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acker is allowed to obtain t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= MA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, …, t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= MA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for any messages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…,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of its cho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eak” of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acker “breaks” the scheme if it outputs a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forger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; i.e.,  (m, t) with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≠ m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for all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rfy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m, t) = 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ng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MAC is secure if for all attackers running for some time T (e.g., T=100 years), the probability that the attacker “breaks” the scheme is at most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e.g.,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-8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 that length of the tag lower bounds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definition too strong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would an attacker be able to obtain tags on any messages of its choice?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 do we count it as a break if the adversary outputs a forgery on a meaningless message?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lay 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MAC inherently cannot prevent replay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e must be prevented at a higher level of the protocol! (Note that whether a replay is ok is application-dependent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prevented using nonces, timestamps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sh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(cryptographic) hash function H maps arbitrary length inputs to a fixed-length out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in goal is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llision resistan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to find distinct x, x’ such that H(x) = H(x’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irthday attacks show that output length of H is critic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 go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Second pre-image resistance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: given x, hard to find x’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≠ x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with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(x) = H(x’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eaker than collision resistan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Random-looking output”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: I.e., “acts like a random oracle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ontroversi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2-12T21:44:08Z</dcterms:modified>
  <cp:revision>510</cp:revision>
  <dc:subject/>
  <dc:title>CMSC 414 Computer (and Network) Security</dc:title>
</cp:coreProperties>
</file>