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2FB-C3D3-415C-8FEB-07952ADF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A22-B173-40C3-A7BD-6FE6CB8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05F-3E2B-4B4B-99EF-05F61F12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586-D33B-4E75-8512-10AAEEF3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C30E-461E-4D6D-BB8C-0ADDE5B1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06C-A5D7-4049-9045-4D37654C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4B49-F6A4-4B75-A3E3-28D7C693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FDC5-68AF-4D39-9ECC-E4BC320D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209-1B57-4635-A161-EC54978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083D-ED7C-47BD-ADB1-46F176A2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91BE-ED8A-4039-9F61-5A2F796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D60-99A2-4A05-AFA8-96076C8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87F-068A-40C6-B9A5-6B5A2DE9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BB4-E6E7-43BC-9988-F30CB3F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48B6-2743-4DEC-9F3B-4C53189A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6CA-D4D4-4540-AA4E-5327F4F1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54DF-B96D-4B88-8A7A-78ED79DC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7B7-CF03-44E4-8874-87BC7249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438-CA0C-4A23-8E58-26558A33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5B4-4651-4E9D-8C3C-73518AC2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764-23B0-4CAB-B27F-89F9CA60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336-2646-40CD-AF53-27FC389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625-8DEA-4D86-820A-801A7C39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76D-7C11-4826-8BD2-E1852A3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0C6-6304-44F8-BF48-C15FCD4A309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947D-6710-4448-A0DA-1340B4A43EA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6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88040" y="2514600"/>
            <a:ext cx="51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encryp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nctional defin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generation algorithm: randomized algorithm that outputs (pk, sk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algorith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s a public key and a message (plaintext), and outputs a ciphertext; c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ryption algorith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s a private key and a ciphertext, and outputs a message (or perhaps an error); m = D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s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ctness: for all (pk, sk), D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) = 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st as in the case of private-key encryption, but the attacker gets to see the public key p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at 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all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no adversary running in time T, given pk and an encryption of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or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can determine the encrypted message with probability better than 1/2 +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encryp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ust be randomiz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even to achieve security against ciphertext-only attack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against ciphertext-only attacks implies security against chose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 Gamal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already (essentially) seen one encryption schem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435480" y="2957400"/>
            <a:ext cx="3200400" cy="459720"/>
            <a:chOff x="3435480" y="2957400"/>
            <a:chExt cx="3200400" cy="459720"/>
          </a:xfrm>
        </p:grpSpPr>
        <p:sp>
          <p:nvSpPr>
            <p:cNvPr id="136" name=""/>
            <p:cNvSpPr/>
            <p:nvPr/>
          </p:nvSpPr>
          <p:spPr>
            <a:xfrm>
              <a:off x="3435480" y="340848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11680" y="2957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, g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33680" y="3979800"/>
            <a:ext cx="3200400" cy="510120"/>
            <a:chOff x="3433680" y="3979800"/>
            <a:chExt cx="3200400" cy="510120"/>
          </a:xfrm>
        </p:grpSpPr>
        <p:sp>
          <p:nvSpPr>
            <p:cNvPr id="139" name=""/>
            <p:cNvSpPr/>
            <p:nvPr/>
          </p:nvSpPr>
          <p:spPr>
            <a:xfrm>
              <a:off x="3433680" y="443700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7520" y="3979800"/>
              <a:ext cx="187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 g</a:t>
              </a:r>
              <a:r>
                <a:rPr b="0" lang="en-US" sz="2400" spc="-1" strike="noStrike" baseline="30000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mod 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433680" y="5008680"/>
            <a:ext cx="3200400" cy="510120"/>
            <a:chOff x="3433680" y="5008680"/>
            <a:chExt cx="3200400" cy="510120"/>
          </a:xfrm>
        </p:grpSpPr>
        <p:sp>
          <p:nvSpPr>
            <p:cNvPr id="142" name=""/>
            <p:cNvSpPr/>
            <p:nvPr/>
          </p:nvSpPr>
          <p:spPr>
            <a:xfrm>
              <a:off x="3433680" y="546588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2200" y="5008680"/>
              <a:ext cx="186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 g</a:t>
              </a:r>
              <a:r>
                <a:rPr b="0" lang="en-US" sz="2400" spc="-1" strike="noStrike" baseline="30000">
                  <a:solidFill>
                    <a:srgbClr val="eaeaea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mod 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55080" y="5715000"/>
            <a:ext cx="153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= (h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55920" y="5715000"/>
            <a:ext cx="154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= (h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29000" y="3429000"/>
            <a:ext cx="3200400" cy="510120"/>
            <a:chOff x="3429000" y="3429000"/>
            <a:chExt cx="3200400" cy="510120"/>
          </a:xfrm>
        </p:grpSpPr>
        <p:sp>
          <p:nvSpPr>
            <p:cNvPr id="147" name=""/>
            <p:cNvSpPr/>
            <p:nvPr/>
          </p:nvSpPr>
          <p:spPr>
            <a:xfrm>
              <a:off x="3429000" y="388008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05880" y="3429000"/>
              <a:ext cx="1636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, g, h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 g</a:t>
              </a:r>
              <a:r>
                <a:rPr b="0" lang="en-US" sz="2400" spc="-1" strike="noStrike" baseline="30000">
                  <a:solidFill>
                    <a:srgbClr val="eaeaea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467000" y="265752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Recei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5760" y="265752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en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429000" y="4191120"/>
            <a:ext cx="3200400" cy="560880"/>
            <a:chOff x="3429000" y="4191120"/>
            <a:chExt cx="3200400" cy="560880"/>
          </a:xfrm>
        </p:grpSpPr>
        <p:sp>
          <p:nvSpPr>
            <p:cNvPr id="152" name=""/>
            <p:cNvSpPr/>
            <p:nvPr/>
          </p:nvSpPr>
          <p:spPr>
            <a:xfrm>
              <a:off x="3429000" y="464832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1760" y="4191120"/>
              <a:ext cx="25995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 = (K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BA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en-US" sz="2800" spc="-1" strike="noStrike" baseline="24000">
                  <a:solidFill>
                    <a:srgbClr val="eaeaea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m) mod 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29000" y="4572000"/>
            <a:ext cx="3200400" cy="510120"/>
            <a:chOff x="3429000" y="4572000"/>
            <a:chExt cx="3200400" cy="510120"/>
          </a:xfrm>
        </p:grpSpPr>
        <p:sp>
          <p:nvSpPr>
            <p:cNvPr id="155" name=""/>
            <p:cNvSpPr/>
            <p:nvPr/>
          </p:nvSpPr>
          <p:spPr>
            <a:xfrm>
              <a:off x="3429000" y="502920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59840" y="457200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, 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9259E-006 L -8.33333E-007 -0.08033 E">
                                      <p:cBhvr>
                                        <p:cTn id="18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0.06875 E">
                                      <p:cBhvr>
                                        <p:cTn id="19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 0.06667 E">
                                      <p:cBhvr>
                                        <p:cTn id="21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9259E-006 L -8.33333E-007 -0.05255 E">
                                      <p:cBhvr>
                                        <p:cTn id="21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the DDH assumption holds, the El Gamal encryption scheme is secure against chose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SA: 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=pq, p and q distinct, odd pri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) = (p-1)(q-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sy to compute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) given the factorization of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d to compute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) without the factorization of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ct: for all x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it holds that x</a:t>
            </a:r>
            <a:r>
              <a:rPr b="0" lang="en-US" sz="28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(N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1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of: take CMSC 456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ed=1 mod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), then for all x it holds that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      (x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x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SA key gene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te random p, q of sufficient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N=pq and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) = (p-1)(q-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e and d such that ed = 1 mod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 must be relatively prime to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ypical choice: e = 3; other choices possi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key = (N, e); private key = (N, 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an asymmetr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n c=x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, receiver can compute x=c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apparent way for anyone else to recover x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dness of the RSA problem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RSA probl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 x given N, e, and x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factoring is easy, then the RSA problem is eas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know of no other way to solve the RSA problem besides factoring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we do not know how to prove that the RSA problem is as hard as facto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pshot: we believe factoring is hard, and we believe the RSA problem is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xtbook RSA”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key (N, e); private key (N, 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encrypt a message m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comput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c =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decrypt a ciphertext c, compute m = c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ctness clearly hold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bout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xtbook RSA is insecure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is deterministic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rthermore, it can be shown that the ciphertext leaks specific information about the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announc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term 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ch 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CE accounts set 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the essays and papers linked from the course webp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ill discuss next Tuesday and/or Thursd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dded RS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key (N, e); private key (N, 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y |N| = 1024 b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encrypt m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{0,1}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895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random r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{0,1}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12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 c = (r | m)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ryption done in the natural wa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sentially this idea has been standardized as RSA PKCS #1 v1.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ybrid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encryption is “slow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ng “block-by-block” would be inefficient for long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ybrid encryption gives the functionality of public-key encryption at the (asymptotic) efficiency of private-key encryp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ybrid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83960" y="2955960"/>
            <a:ext cx="756720" cy="685800"/>
            <a:chOff x="1983960" y="2955960"/>
            <a:chExt cx="756720" cy="685800"/>
          </a:xfrm>
        </p:grpSpPr>
        <p:sp>
          <p:nvSpPr>
            <p:cNvPr id="175" name=""/>
            <p:cNvSpPr/>
            <p:nvPr/>
          </p:nvSpPr>
          <p:spPr>
            <a:xfrm>
              <a:off x="2017800" y="2955960"/>
              <a:ext cx="685800" cy="6858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3960" y="30718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c’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523880" y="1894320"/>
            <a:ext cx="16765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24360" y="4022640"/>
            <a:ext cx="685800" cy="685800"/>
            <a:chOff x="3924360" y="4022640"/>
            <a:chExt cx="685800" cy="685800"/>
          </a:xfrm>
        </p:grpSpPr>
        <p:sp>
          <p:nvSpPr>
            <p:cNvPr id="179" name=""/>
            <p:cNvSpPr/>
            <p:nvPr/>
          </p:nvSpPr>
          <p:spPr>
            <a:xfrm>
              <a:off x="3924360" y="4022640"/>
              <a:ext cx="685800" cy="6858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39840" y="41385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666880" y="3336840"/>
            <a:ext cx="320040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403880"/>
            <a:ext cx="152388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364176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82680" y="383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268880" y="4708080"/>
            <a:ext cx="0" cy="38124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7480" y="4916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4403880"/>
            <a:ext cx="12189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4061160"/>
            <a:ext cx="18288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psulated key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251240"/>
            <a:ext cx="0" cy="152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2362320"/>
            <a:ext cx="0" cy="60948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2903760"/>
            <a:ext cx="18288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message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819520"/>
            <a:ext cx="304920" cy="213336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7690320" y="359100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ipher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8840" y="5715000"/>
            <a:ext cx="48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 = public-key encryption sch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’ = private-key encryption sch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public-key component and private-key component are secure against chosen-plaintext attacks, then hybrid encryption is secure against chose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alleability/chosen-ciphertext securit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the public-key encryption schemes we have seen so far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lle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n a ciphertext c that encrypts an (unknown) message m, may be possible to generate a ciphertext c’ that encrypts a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rela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essage m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many scenarios, this is problema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uction example; password exam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the problem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tegrity (there is no integrity in public-key encryption, anyway), bu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lle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91760" y="2514600"/>
            <a:ext cx="573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ublic-key 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party (Alice) generates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long with a matching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ecret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ak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ublic key is widely distributed, and is assumed to be known to anyone (Bob) who wants to communicate with Al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will discuss later how this can be ensu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’s public key is also known to the attacke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’s secret key remains secr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b may or may not have a public key of his ow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ublic-key 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81120" y="4613400"/>
            <a:ext cx="6648480" cy="1339200"/>
            <a:chOff x="1581120" y="4613400"/>
            <a:chExt cx="6648480" cy="13392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581120" y="4724280"/>
              <a:ext cx="1295280" cy="12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7110360" y="4767120"/>
              <a:ext cx="111924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038400" y="5638680"/>
              <a:ext cx="380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76640" y="5178240"/>
              <a:ext cx="173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 = Enc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pk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(m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38400" y="5100480"/>
              <a:ext cx="380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8720" y="4613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219320" y="4191120"/>
            <a:ext cx="7848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00200" y="2057400"/>
            <a:ext cx="6648480" cy="1981080"/>
            <a:chOff x="1600200" y="2057400"/>
            <a:chExt cx="6648480" cy="198108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1600200" y="2809800"/>
              <a:ext cx="129528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7129440" y="2852640"/>
              <a:ext cx="11192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047760" y="3423960"/>
              <a:ext cx="381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7440" y="2963880"/>
              <a:ext cx="173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 = Enc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pk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(m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647960" y="2057400"/>
              <a:ext cx="685800" cy="685800"/>
              <a:chOff x="4647960" y="2057400"/>
              <a:chExt cx="685800" cy="685800"/>
            </a:xfrm>
          </p:grpSpPr>
          <p:sp>
            <p:nvSpPr>
              <p:cNvPr id="112" name=""/>
              <p:cNvSpPr/>
              <p:nvPr/>
            </p:nvSpPr>
            <p:spPr>
              <a:xfrm>
                <a:off x="4647960" y="2057400"/>
                <a:ext cx="685800" cy="685800"/>
              </a:xfrm>
              <a:prstGeom prst="rect">
                <a:avLst/>
              </a:prstGeom>
              <a:solidFill>
                <a:srgbClr val="99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48040" y="2173320"/>
                <a:ext cx="485640" cy="459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pk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 flipH="1" flipV="1">
              <a:off x="5410080" y="2437920"/>
              <a:ext cx="182880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743200" y="2437920"/>
              <a:ext cx="182880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advantages of private-key cryptograp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securely share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f this is not possibl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eed to know in advance the parties with whom you will communic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n be difficult to distribute/manage keys in a large organiz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keys needed for person-to-person communication in an n-party netwo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ll these keys need to be stored secure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applicable in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open syste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think: e-commerc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study private-key at 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vate-key i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orders of magnitud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re effic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vate-key still has domains of applic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ilitary settings, disk encryption, 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-key crypto is “harder” to get righ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eeds stronger assumptions, more mat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combine private-key primitives with public-key techniques to get the best of both (for encryp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ill need to understand the private-key setting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distribute keys using trusted entities (KDC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cryptography is not a cure-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requires secure distribution of public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y (sometimes) be just as hard as sharing a ke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echnically speaking, requires only an authenticated channel instead of an authenticated + private chann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clear with whom you are communicating (for public-key encryp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too inefficient for certain appl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yptographic primi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2362320"/>
          <a:ext cx="7772400" cy="3816360"/>
        </p:xfrm>
        <a:graphic>
          <a:graphicData uri="http://schemas.openxmlformats.org/drawingml/2006/table">
            <a:tbl>
              <a:tblPr/>
              <a:tblGrid>
                <a:gridCol w="2286000"/>
                <a:gridCol w="2895480"/>
                <a:gridCol w="259092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Private-key settin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Public-key settin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Confidentialit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vate-key encryptio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ublic-key encryptio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Integrit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essage authentication code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igital signature scheme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934320" y="3809880"/>
            <a:ext cx="1600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51055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5181480"/>
            <a:ext cx="2667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2-14T20:29:36Z</dcterms:modified>
  <cp:revision>524</cp:revision>
  <dc:subject/>
  <dc:title>CMSC 414 Computer (and Network) Security</dc:title>
</cp:coreProperties>
</file>