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0111-3D5C-4A49-801E-D734A221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D36-055C-4914-B565-A0174863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C845-3249-4B54-B0F3-DFFC93F1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1CA-3068-4D63-9456-DAE738DD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9D8F-1B3F-4F84-80D6-F79376C1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7FB8-ED33-4D15-9BD9-ABCE76F5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CAFC-B9D7-4097-BF7E-82DF5E98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0600-E7D0-4988-879C-3C92C669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3666-3529-4383-95FB-018BD6D8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CE1D-A0C9-4882-B52A-D8019F0C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50BF-27CB-415C-927C-0F93E40A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B020-5E1D-4674-8A6E-A768DBAA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1571-DC43-46C9-944A-823F1FA7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099A-BE60-4F0C-AF94-22B21BC7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3724-028F-464E-8450-0F0A7DE8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CC6E-DF96-477A-96A8-F81AD123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A517-2307-4AA8-8E3B-D5A1DBD4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67A-A931-4699-93A7-E3FD426E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724-BE17-481B-A0C4-C1DBFDCB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F39-B9B6-40C0-9A06-A43F6EB3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972-42C0-41B7-9939-95A345CB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081-D8C9-4B70-9753-1A2BEC5A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D5FF-2F31-4C56-94F7-E68647CF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E5AC-01AD-4ED6-8A28-4A7F890B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4307-E51F-4D40-AAC0-5E95F5CD50E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A1AA-744F-4A79-A238-C29DD9472B7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7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xtbook RSA” signatu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key (N, e); private key (N, 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sign message m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Z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compute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m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mod 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verify signature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on message m, check whether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m mod 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rrectness hold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about securit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of textbook RSA sig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xtbook RSA signatures ar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asy to forge a signature on a random mess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asy to forge a signature on a chosen message, given two signatures of the adversary’s choi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shed RS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key (N, e); private key (N, 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sign message m, compute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H(m)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mod 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verify signature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on a message m, check whether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H(m) mod 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 does this prevent previous attack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of hashed RS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w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prov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hat hashed RSA is secur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ke CMSC456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shed RSA signatures can be proven secure based on the hardness of the RSA problem, if the hash is modeled as a random fun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ariants of hashed RSA are used in pract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SA/DSS signatu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ther popular signature scheme, based on the hardness of the discrete logarithm probl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troduced by NIST in 199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 government standa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will not cover the details, but you need to know that it exis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sh-and-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y we have a secure signature scheme for “short” messages (e.g., hashed RSA, DSS, …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 to extend it for longer message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sh and sig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sh message to short “digest”; sign the dige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d extensively in pract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62320" y="4343040"/>
            <a:ext cx="5029200" cy="2134080"/>
            <a:chOff x="2362320" y="4343040"/>
            <a:chExt cx="5029200" cy="2134080"/>
          </a:xfrm>
        </p:grpSpPr>
        <p:sp>
          <p:nvSpPr>
            <p:cNvPr id="122" name=""/>
            <p:cNvSpPr/>
            <p:nvPr/>
          </p:nvSpPr>
          <p:spPr>
            <a:xfrm>
              <a:off x="3353040" y="5105520"/>
              <a:ext cx="914400" cy="914400"/>
            </a:xfrm>
            <a:prstGeom prst="rect">
              <a:avLst/>
            </a:prstGeom>
            <a:noFill/>
            <a:ln cap="sq"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62720" y="5105520"/>
              <a:ext cx="914400" cy="914400"/>
            </a:xfrm>
            <a:prstGeom prst="rect">
              <a:avLst/>
            </a:prstGeom>
            <a:noFill/>
            <a:ln cap="sq"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ig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362320" y="5562720"/>
              <a:ext cx="990720" cy="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267440" y="5562720"/>
              <a:ext cx="1295280" cy="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6019920" y="4343040"/>
              <a:ext cx="0" cy="76212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2720" y="51465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840" y="51055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H(M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72400" y="4384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k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77120" y="5562720"/>
              <a:ext cx="914400" cy="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91520" y="5562720"/>
              <a:ext cx="0" cy="91440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27760" y="51404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443760" y="2514600"/>
            <a:ext cx="343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ypto pitfall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ryptography is not a “magic bullet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ypto can be difficult to get righ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st be implemented correct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ed expertise; “a little knowledge can be a dangerous thing…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st be integrated from the beginn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only standardized algorithms and protoco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security through obscurity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ryptography is not a “magic bullet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ypto alone cannot solve all security probl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ey management; social engineering; insider attac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velop (appropriate) threat/trust mode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ed to analyze weak links in the chain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versary may not be able to eavesdrop, but can it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ccess your hard drive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e CRT emission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 through your trash?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de channel attacks” on cryptosyste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ryptography is not a “magic bullet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uman fact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rypto needs to be easy to use both for end-users and administrato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mportant to educate users about appropriate security practi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for review, detection, and recove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as a process, not a produ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alleability/chosen-ciphertext security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the public-key encryption schemes we have seen so far ar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malle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ven a ciphertext c that encrypts an (unknown) message m, it is possible to generate a ciphertext c’ that encrypts a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relate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message m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many scenarios, this is problemat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auction example; password examp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: the problem i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tegrity (there is no integrity in public-key encryption, anyway), but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malleabi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andom number gene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 not use “standard” RNGs; use cryptographic RNGs inste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srand/rand in C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rand(seed) sets state=seed (|state| = 32 bit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nd(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tate = f(state), where f is some linear func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eturn sta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erating a 128-bit key using 4 calls to rand() results in a key with only 32 bits of entropy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ore on random number generation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tscape v1.1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v = SHA1(pid, ppid, tim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turn rv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blem: the input to SHA1 has low entrop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alleability/chosen-ciphertext security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public-key setting, security against chosen-ciphertext attacks is equivalent to non-malleabi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general, always use a public-key encryption scheme secure against chosen-ciphertext attack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RSA PKCS #1 v2.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using hybrid encryption, if both components are secure against chosen-ciphertext attacks then the combination it also secure against chosen-ciphertext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979000" y="2514600"/>
            <a:ext cx="436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 schem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ide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signer publishes a public key p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 usual (for now), we assume everyone has a correct copy of p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sign a message m, the signer uses its private key to generate a signature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yone can verify that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is a valid signature on m with respect to the signer’s public key p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nce only the signer knows the corresponding private key, we take this to mean the signer has “certified” 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ity (informally): no one should be able to generate a valid signature other than the legitimate sign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otypical appl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ftware company wants to periodically release patches of its soft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n’t want a malicious adversary to be able to change even a single bit of the legitimate pa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lution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ndle a copy of the company’s public key along with initial copy of the softw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ftware patches signed (perhaps with a version number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 not accept patch unless it comes with a valid signature (and increasing version number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s vs. MA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uld MACs work in the previous examp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uting one signature vs. multiple MA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verifiabil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ansferabil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n-repudi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259092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2759040"/>
            <a:ext cx="17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 obtain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y MACs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nctional defin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y generation algorithm: randomized algorithm that outputs (pk, sk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gning algorith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kes a private key and a message, and outputs a signature; 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Sign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s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m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ification algorith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kes a public key, a message, and a signature and outputs a decision bit; b = Vrfy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p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m,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rrectness: for all (pk, sk),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          Vrfy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p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m, Sign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s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m)) = 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alogous to MAC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cept that adversary is given the signer’s public k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pk, sk) generated at random; adversary given p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versary given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Sign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s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, …,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Sign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s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for 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…, 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of its cho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ttacker “breaks” the scheme if it outputs 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forger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; i.e.,  (m,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with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≠ m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for all 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rfy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pk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m, </a:t>
            </a:r>
            <a:r>
              <a:rPr b="0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= 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5-13T17:43:36Z</dcterms:modified>
  <cp:revision>615</cp:revision>
  <dc:subject/>
  <dc:title>CMSC 414 Computer (and Network) Security</dc:title>
</cp:coreProperties>
</file>