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E3D-1307-43F0-8AF9-44ED9453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A17-E7A6-49D3-8703-728D7E1F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13C-0A30-4D78-95B6-5F021DBE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17B-96DD-4211-8CB9-24671BF0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96B6-2DA5-4FF8-91BD-8440D9CE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93F9-D19B-4054-82D1-495BF00C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AA88-7039-47F8-866D-B717C18B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D922-EEFE-4290-A7F0-2086A660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B29F-B04C-4FBD-9069-A7468F53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C086-B766-4B41-A6F6-8C5C06D2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A781-767D-45F4-948C-7FB01E9D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AC6-1A8E-403D-8DC0-BA567AE5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A81A-61AD-40E0-A169-74F36A0F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EC8E-BB83-477F-B503-D4808CF2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3E2C-4975-4625-9C4E-0F00CCFC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BE06-1FC1-48C3-BC20-2F060368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0294-B43A-4C17-9264-E3E11156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3D1-5736-47C9-AD51-11F9A8F5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C35-C8D2-4AA4-8A4A-F7A4F232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BD2-94C8-4DCB-8114-47415FE4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D14-8063-4E30-B8FC-B02ED683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A1B-2D3C-4347-AC5E-D3B289D1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4CA-62A1-4063-896C-22FD031C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A07-87CC-4826-A9DF-68718DBC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6C5C-CA56-4010-92A6-CCD06270A6E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DDA3-4997-470F-A519-BCF80567C67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8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 of E-Voting System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paper should scare you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gnitude of possible attacks by vot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 just the security flaws, but also the reaction of Diebold and govt. official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ulnerable to attacks by voters, as well as attacks by insi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through obscurity did not help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is case, code was leak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oting terminals initialized; ballots install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 voting day, voters give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voting c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oter inserts card, gets ballot, makes choi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fter confirmation, voting card is “cancelled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ion is closed by inserting a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dmin c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ults can be uploaded for tabu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 of E-Voting System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cryptograp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martcards have no cryptographic functional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sible to create home-made voting cards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cryptographic protection for admin ca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nly a weak PIN…if 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sible to shut down the election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cryptographic protection against multiple vo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able “cancellation”, or overwrite car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mproper audit mechanism for detecting over-vo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 of E-Voting System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/missing cryptograph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data stored without any integ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tentially possible to modify ballot or even the softwa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authentication of data sent to back-end ser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rd-coded, non-random DES key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sed for multiple versions!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BC mode with IV = 0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blems with deterministic encryption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king voters to votes (encrypted votes stored sequentiall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RC used instead of a MA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or random number gene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Cryptosystems Fai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mited disclosure of crypto failure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ider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y bank clerks, maintenance engineers,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or prevention/detection mechanis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or key manage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secure delivery of ATM cards/PI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ed entropy of PI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of “home-brewed” encryption sche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133720"/>
            <a:ext cx="1676520" cy="175248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286000"/>
            <a:ext cx="1371600" cy="60948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ount #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590920"/>
            <a:ext cx="121896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581280"/>
            <a:ext cx="121896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0000" y="3165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2133720"/>
            <a:ext cx="1676160" cy="175248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590920"/>
            <a:ext cx="121932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79160" y="21747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#, P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8160" y="4191120"/>
            <a:ext cx="2016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F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#) = PI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turn “ok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3505320"/>
            <a:ext cx="121932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7680" y="3089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82400" y="5527800"/>
            <a:ext cx="73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is similar, but not identical, to how ATMs work toda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niff PIN; get account # from discarded receip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lution: don’t print full account # on recei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play “ok” messag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lution: use authentication with replay prot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ersonate an ATM to a custom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this be prevented without implementing crypto on the ATM card? (Hint: how can the bank authenticate directly to the user?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ther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5040" y="2133720"/>
            <a:ext cx="1676160" cy="175248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49200" y="1981080"/>
            <a:ext cx="1676520" cy="91440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ount #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=En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PI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25720" y="2590920"/>
            <a:ext cx="121932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25720" y="3581280"/>
            <a:ext cx="121932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66200" y="3165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40520" y="2133720"/>
            <a:ext cx="1676520" cy="175248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21200" y="2590920"/>
            <a:ext cx="121932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42440" y="21747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#, c, P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42160" y="4191120"/>
            <a:ext cx="2122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D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c) = PI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bit account #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turn “ok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21200" y="3505320"/>
            <a:ext cx="121932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3089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3160" y="5791320"/>
            <a:ext cx="50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binding between account # and PIN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ther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2133720"/>
            <a:ext cx="1676520" cy="190476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057400"/>
            <a:ext cx="1371600" cy="60948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ount #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3733920"/>
            <a:ext cx="190476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2854440"/>
            <a:ext cx="121896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0000" y="24382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2133720"/>
            <a:ext cx="1676160" cy="1752480"/>
          </a:xfrm>
          <a:prstGeom prst="rect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006720"/>
            <a:ext cx="121932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920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#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65680" y="4114800"/>
            <a:ext cx="2081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F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#) = PI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uthenticated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352680"/>
            <a:ext cx="121932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87720" y="293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l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360" y="3352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ithdraw am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2362320"/>
            <a:ext cx="121896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73880" y="40543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amt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balanc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spense ca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43840" y="560376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 you see an attack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1676520"/>
            <a:ext cx="1447560" cy="2666880"/>
          </a:xfrm>
          <a:prstGeom prst="ellipse">
            <a:avLst/>
          </a:prstGeom>
          <a:noFill/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0760" y="1219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encryp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ecurity of 802.11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P encryption: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IV, RC4(IV, k)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M, checksum(M)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is secure against chosen-plaintext attack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t is randomized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how is the IV chose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nly 24 bits lo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set to 0 upon re-initializ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ome implementations increment the IV as a cou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V repetitions are a problem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40-bit key (in early vers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ecurity of 802.11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n-plaintext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d on header information, known message blocks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sen-plaintext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nd IP traffic/e-mail to the mobile h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nsmit broadcast messages to access poi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uthentication spoof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ecurity of 802.11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ryptographic integrity prot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hecksum is linear (i.e., c(x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y) = c(x)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(y)) and unkeyed, and therefore easy to at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 used to provide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s easy spoofing after eavesdropp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s IP redirection at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s TCP “reaction”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ok at whether TCP checksum is vali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4114800"/>
            <a:ext cx="228600" cy="930240"/>
          </a:xfrm>
          <a:custGeom>
            <a:avLst/>
            <a:gdLst>
              <a:gd name="textAreaLeft" fmla="*/ 0 w 228600"/>
              <a:gd name="textAreaRight" fmla="*/ 82440 w 228600"/>
              <a:gd name="textAreaTop" fmla="*/ 24120 h 930240"/>
              <a:gd name="textAreaBottom" fmla="*/ 906120 h 93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64120" y="4130640"/>
            <a:ext cx="24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osen-ciphertex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tacks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2-21T20:36:54Z</dcterms:modified>
  <cp:revision>624</cp:revision>
  <dc:subject/>
  <dc:title>CMSC 414 Computer (and Network) Security</dc:title>
</cp:coreProperties>
</file>