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909-D3CD-49E3-BA18-E5D70D03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95D-C81C-4941-8DC3-7C58D35E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E4A-7739-4784-B44C-9F57074B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C8E-DD36-4716-8B00-FFA84F55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DB7F-7716-4D8E-BB2A-88A44783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D494-6FB9-41D9-A390-F088319F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F4C1-ADDF-4BC9-9DB2-6E4009C6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4432-EEA0-4DBB-A41D-DC91CEAE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335C-9432-4613-A026-9A2FCB55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64BD-8BE9-4126-BD97-C3006C34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E1AC-5548-4864-A96C-66E511EB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FCC-1B06-43F4-8B96-4DFBE337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5759-7E08-482E-B279-69E3D690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0A92-C657-44B7-ACD5-895BCB21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69C9-4B7E-492C-BCF8-48247535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89F7-7696-41E1-B55E-F9D8AD71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8ABD-D130-4685-974D-2F26B589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10E-DDBF-4604-9121-CED7E412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363-17E9-4AC3-B819-5D9BB22C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4D0-A0F3-405F-8CA9-249A9299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E0D-AC08-4483-9625-8DF79004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181-EAE7-47AC-B336-890F4D3A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1BF-AF97-4C55-B479-190B1722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352-813E-4D5A-8D2F-3F92061C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5D99-F7AF-4777-88EC-C9A864C93C2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6BD6-18A7-4C64-A11D-9741B507E8F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9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neral princi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minal article by Saltzer and Schroeder (1975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nked from the course homep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ight principles underlying design and implementation of security mechanis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se ar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guidelin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not hard and fast ru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exhaust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y point 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plic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ke designs/mechanisms/requirements easy to understand and u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applies to both the policy and the mechanism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ess chance of err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y point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tri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inimize the “power” of an ent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.g., only allow access to information it nee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.g., only allow necessary communication; restrict type of communication allow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ess chance of harm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nciple of least privileg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subject should be given only the privileges it needs to accomplish its tas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function of a subject (not its identity) should determine th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.e., if a subject needs certain privileges only to complete a specific task, it should relinquish those privileges upon completion of the tas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f reduced privileges are sufficient for a given task, the subject should request only those privileg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 practic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is a limit to how much granularity a system can hand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ystems are often not designed with the necessary granula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“append” may not be distinct from “write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in UNIX, nothing between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use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yone who can make backup files can also delete those fi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nciple of Fail-Safe Default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nless a subject is given explicit access to an object, it should be denied acc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.e., the default is no acces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onomy of Mechanism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mechanisms should be as simple as possible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no simpler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simplify formal proofs of security (or even informal audit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ationa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design/implementation are simple, less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nce for err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ftware testing is also simpl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ffering too much functionality can be dangero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finger protocol: cap how much information can be returned, or allow an arbitrary amount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oS attack by returning an infinite stream of charact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macros in Excel, Wo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postscript can execute arbitrary c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nciple of Complete Mediation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 accesses to objects should be checked to ensure they are allow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S should mediate any request to read an object --- even on the second such request by the same subject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on’t cache authorization resul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on’t rely on authentication/authorization performed by another modu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secure exampl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UNIX, when a process tries to read a file, the system checks access right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allowed, it gives the process a file descri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le descriptor is presented to OS for acc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permissions are subsequently revoked, the process still has a valid file descriptor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sufficient medi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dterm on March 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ill cover material through March 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yone using DSS please speak to me after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xt homework out later this we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secure 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ace condi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consider what happens if reading a file is done a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f (allowed(user, “r”, memory_location(filename)) then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     allow(user, “r”, memory_location(filename)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f memory_location(filename) changes in the interim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related flaw was present in early versions of uni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e exam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-authentication on amazon.c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-authentication to change passwo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n Design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“security through obscurity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of a system should not depend on the secrecy of its implement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f course, secret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key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do not violate this principle!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6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paration of Privileg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As much as is feasible…) a system should not grant permission based on a single condi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require more than one sys admin to issue a critical command, or more than one teller to issue an ATM ca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7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nciple of Least Common Mechanism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inimize mechanisms depended upon by all us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ared mechanisms are a potential information path, and should not compromise 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expose the system to potential DoS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sychological Acceptability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mechanisms should not make access to the resource more difficul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mechanisms are too cumbersome, they will be circumvente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en if they are used, they may be used incorrect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87040" y="2743200"/>
            <a:ext cx="493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s in Practic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ris worm (1988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loited buffer overflow flaw in finge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so exploited flaw in sendm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ndmail had root privilege when run in debug m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iolation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inciple of least privile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paration of privile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conomy of mechanism (sendmail program too complex!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lissa virus/worm (1999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d macro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en file opened, would create and send infected document to names in user’s Outlook Express mailbo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cipient would be asked whether to disable macros(!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f macros enabled, virus would launc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iolation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sychological acceptability (should users have to decide whether to enable macros?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inciple of least privile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en desig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ther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708000" y="2514600"/>
            <a:ext cx="290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S Secur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39280" y="2743200"/>
            <a:ext cx="38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Secur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ditional OS security motivated by multi-user systems where users are aware of each o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uni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is what we focus on in this seg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is a movement away from such syst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uting done on desktop PC, and/or on a remote (shared) server but without “awareness” of other us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do you share files with your friend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mail fi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mail web link to fi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2P mod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multi-user context, threats are unauthorized reading/modification of files, or unauthorized use of system resources by legitimate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desktop PC context, the threat is having a virus take control of your machine (applies to administrators of remote servers as wel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remote server context, the threat is unauthorized use of systems resources by legitimate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setting can also be viewed as a simplified multi-user setting (“regular” users vs. sys admin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ur focus here is on multi-user syst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se are still used in business environments (shared files, shared databases, etc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 vs. authoriz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termining the identity of a us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y also require verification of IP address,machine,  time, etc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termine whether a user is allowed to access the system at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 will return to this later; for now we assume i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oriz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ssuming the identity of the user is known (and the user is allowed to access the system), determine whether some specific action is allow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414240" y="2514600"/>
            <a:ext cx="34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contro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tected entities: “objects”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ive objects: “subjects” S (i.e., users/process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e that subjects can also be objec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jects/objects can b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unctions/variables (within a progra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tabase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stem resources (printers, etc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neral princi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ne-grained access control is bet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control access to files not just directo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st privile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ant minimum abilities necessary to complete tas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osed vs. open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osed = disallowed unless explicitly allow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en = allowed unless explicitly disallow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flict resol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vent conflicts, or know how to deal with th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control polic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cretionary access control (DA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ndatory access control (MA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le-based access control (RBA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necessarily mutually exclus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system may use different mechanisms for different resour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, apply two policies; allow access only if both allo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rols based on the identity of the user and access ru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ights can be delegated at users’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discre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st comm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rols based on comparing security labels with security clearan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legation not allow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marily used in military applic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al princip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control, access control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usted compu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mory prot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BA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rols based on a user’s (or program’s) role, not their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’s rights can change depending on their current ro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recent propos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00800" y="2514600"/>
            <a:ext cx="652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cretionary access contro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control matrix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trix indexed by all subjects and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aracterizes rights of each subject with respect to each obj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mally: set of objects O and subjects S, set of possible ri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trix A with subjects labeling the rows and objects labeling the colum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entry (s,o) contains the rights for s on 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s: read/write/execute/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90920" y="2184480"/>
          <a:ext cx="6324480" cy="406404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067040"/>
                <a:gridCol w="1066680"/>
                <a:gridCol w="990720"/>
                <a:gridCol w="9903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ile 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ile 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ile 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ile 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User 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r,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r,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User 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r,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User 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r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User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r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r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r,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r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{w}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1201680" y="1446120"/>
            <a:ext cx="7713360" cy="4802400"/>
            <a:chOff x="1201680" y="1446120"/>
            <a:chExt cx="7713360" cy="4802400"/>
          </a:xfrm>
        </p:grpSpPr>
        <p:sp>
          <p:nvSpPr>
            <p:cNvPr id="171" name=""/>
            <p:cNvSpPr/>
            <p:nvPr/>
          </p:nvSpPr>
          <p:spPr>
            <a:xfrm rot="16200000">
              <a:off x="1505160" y="3691800"/>
              <a:ext cx="48528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Tahoma"/>
                </a:rPr>
                <a:t>Subject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1960" y="2184480"/>
              <a:ext cx="152280" cy="40640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5840 h 4064040"/>
                <a:gd name="textAreaBottom" fmla="*/ 3958200 h 406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5676480" y="-1104840"/>
              <a:ext cx="152640" cy="63244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64880 h 6324480"/>
                <a:gd name="textAreaBottom" fmla="*/ 6159600 h 632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200000">
              <a:off x="5563440" y="1191960"/>
              <a:ext cx="48528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Tahoma"/>
                </a:rPr>
                <a:t>Object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complex access contr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general, “rights” may be fun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tual” rights depend on the system st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quivalently, may depend on system hist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ights can form hierarch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right X implies right 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fine-grained the access control is depends on how fine-grained the rights 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“write” vs. “append-only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arse-grained access contr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control can also be more coarse-grained than a full-blown access matrix would imp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in unix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 a file, specify access rights for the owner, the group to which the owner belongs, and everyone el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sible rights are: read, write, execu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security -- compon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licy (specific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mportant to specif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sider various tradeoff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chanism (implement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ven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te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cove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ur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rifying that the mechanism implements the poli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policy classifies system states as “secure” or “insecur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stem state” may potentially include everything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practice, a full specification of this sort is impossi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secure system starts in a “secure” state and cannot enter an “insecure” st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reach of security” occurs when a system enters an “insecure” st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licy may also indicate other desirab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vailability, confidential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mechanis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security mechanism enforces (part of) the security poli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ludes procedural/operational controls, not just technical control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who may enter the room in which backup tapes are stor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new accounts are establish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chanisms for enforcing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recis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of a mechanism is a measure of how overly-restrictive the mechanism is with respect to the poli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.e., due to preventing things that are allow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fortunately, impossible (in general) to develop a “maximally-precise” mechanism for an arbitrary given poli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943000" y="274320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Principl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2-28T14:32:58Z</dcterms:modified>
  <cp:revision>668</cp:revision>
  <dc:subject/>
  <dc:title>CMSC 414 Computer (and Network) Security</dc:title>
</cp:coreProperties>
</file>