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79DD43E1-7ACF-4D50-A886-2C0371EF53F0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8200" y="755640"/>
            <a:ext cx="5652000" cy="2056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Overview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urpose of Cours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6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5" name="monk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2468520" cy="21942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290520" y="3657600"/>
            <a:ext cx="4586400" cy="2743200"/>
            <a:chOff x="290520" y="3657600"/>
            <a:chExt cx="4586400" cy="2743200"/>
          </a:xfrm>
        </p:grpSpPr>
        <p:pic>
          <p:nvPicPr>
            <p:cNvPr id="87" name="guinea%20pig" descr=""/>
            <p:cNvPicPr/>
            <p:nvPr/>
          </p:nvPicPr>
          <p:blipFill>
            <a:blip r:embed="rId2"/>
            <a:stretch/>
          </p:blipFill>
          <p:spPr>
            <a:xfrm>
              <a:off x="1219320" y="3657600"/>
              <a:ext cx="36576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90520" y="3886200"/>
              <a:ext cx="77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85920" indent="-38592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You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05520" y="1066680"/>
            <a:ext cx="355572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Outl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ckgroun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s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quential 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simple, but not very fast processor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ipelin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more things running simultaneous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ipelined 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e it wor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vanced 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ance analys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performance processor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ver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r Approac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 through designs for particular instruction 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86---a simplified version of the Intel IA32 (a.k.a. x86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you know one, you more-or-less know them a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 at “microarchitectural”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semble basic hardware blocks into overall processor struct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96960" indent="-2268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ories, functional units, etc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rround by control logic to make sure each instruction flows through proper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simple hardware description language to describe contro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extend and modif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st via simu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chedu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ek #1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set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Assignment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rite &amp; test assembly code 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ek #2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quential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ing and initial pipelined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Assignment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dd new instructions to sequential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ek #3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ing the pipeline wor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dern processor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Assignment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ptimize program+pipeline for maximum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5-30T16:35:49Z</dcterms:modified>
  <cp:revision>64</cp:revision>
  <dc:subject>SRC Review Slides</dc:subject>
  <dc:title>Formal Processor Verification</dc:title>
</cp:coreProperties>
</file>