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037ED056-3281-4599-83AD-4966DC3BB4B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755640"/>
            <a:ext cx="5652000" cy="205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Overview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urpose of Cours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6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85" name="monk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2468520" cy="2194200"/>
          </a:xfrm>
          <a:prstGeom prst="rect">
            <a:avLst/>
          </a:prstGeom>
          <a:ln w="0">
            <a:noFill/>
          </a:ln>
        </p:spPr>
      </p:pic>
      <p:grpSp>
        <p:nvGrpSpPr>
          <p:cNvPr id="86" name=""/>
          <p:cNvGrpSpPr/>
          <p:nvPr/>
        </p:nvGrpSpPr>
        <p:grpSpPr>
          <a:xfrm>
            <a:off x="290520" y="3657600"/>
            <a:ext cx="4586400" cy="2743200"/>
            <a:chOff x="290520" y="3657600"/>
            <a:chExt cx="4586400" cy="2743200"/>
          </a:xfrm>
        </p:grpSpPr>
        <p:pic>
          <p:nvPicPr>
            <p:cNvPr id="87" name="guinea%20pig" descr=""/>
            <p:cNvPicPr/>
            <p:nvPr/>
          </p:nvPicPr>
          <p:blipFill>
            <a:blip r:embed="rId2"/>
            <a:stretch/>
          </p:blipFill>
          <p:spPr>
            <a:xfrm>
              <a:off x="1219320" y="3657600"/>
              <a:ext cx="365760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290520" y="3886200"/>
              <a:ext cx="77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85920" indent="-385920">
                <a:lnSpc>
                  <a:spcPct val="95000"/>
                </a:lnSpc>
                <a:spcBef>
                  <a:spcPts val="1500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You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555720" cy="457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urse Out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ackgroun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quential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 simple, but not very fast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et more things running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ipelined 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e it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dvanced Topic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performance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ver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ur Approa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through designs for particular instruction se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Y86---a simplified version of the Intel IA32 (a.k.a. x86).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f you know one, you more-or-less know them 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 at “microarchitectural”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semble basic hardware blocks into overall processor structur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96960" indent="-22680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emories, functional units,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Surround by control logic to make sure each instruction flows through proper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imple hardware description language to describe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extend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est via simula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chedu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1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set 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Write &amp; test assembly code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2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and initial pipelined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Add new instructions to sequential implemen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eek #3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aking the pipeline wor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dern processor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660033"/>
                </a:solidFill>
                <a:latin typeface="Arial"/>
              </a:rPr>
              <a:t>Assignment: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Optimize program+pipeline for maximum performa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49Z</dcterms:modified>
  <cp:revision>64</cp:revision>
  <dc:subject>SRC Review Slides</dc:subject>
  <dc:title>Formal Processor Verification</dc:title>
</cp:coreProperties>
</file>