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A950A6E-4ACE-49E2-87C9-AF438F65008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nstruction Set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Architecture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00600" y="1218960"/>
            <a:ext cx="43308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d on value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IA32 counterpa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full destinatio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 PC-relative addressing seen in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9720" y="914400"/>
            <a:ext cx="4645800" cy="762120"/>
            <a:chOff x="459720" y="914400"/>
            <a:chExt cx="4645800" cy="762120"/>
          </a:xfrm>
        </p:grpSpPr>
        <p:sp>
          <p:nvSpPr>
            <p:cNvPr id="299" name=""/>
            <p:cNvSpPr/>
            <p:nvPr/>
          </p:nvSpPr>
          <p:spPr>
            <a:xfrm>
              <a:off x="487440" y="1219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040" y="1295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mp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828800" y="1295640"/>
              <a:ext cx="609480" cy="304560"/>
              <a:chOff x="1828800" y="1295640"/>
              <a:chExt cx="609480" cy="30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828800" y="1295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1295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8800" y="1295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59720" y="914400"/>
              <a:ext cx="220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Unconditionall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295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0440" y="1676520"/>
            <a:ext cx="4645080" cy="761400"/>
            <a:chOff x="460440" y="1676520"/>
            <a:chExt cx="4645080" cy="761400"/>
          </a:xfrm>
        </p:grpSpPr>
        <p:sp>
          <p:nvSpPr>
            <p:cNvPr id="308" name=""/>
            <p:cNvSpPr/>
            <p:nvPr/>
          </p:nvSpPr>
          <p:spPr>
            <a:xfrm>
              <a:off x="487440" y="1981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6040" y="2057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828800" y="2057400"/>
              <a:ext cx="609480" cy="304200"/>
              <a:chOff x="1828800" y="2057400"/>
              <a:chExt cx="609480" cy="30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28800" y="2057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2057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8800" y="2057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0440" y="1676520"/>
              <a:ext cx="2625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8280" y="2057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9360" y="2438280"/>
            <a:ext cx="4646160" cy="762120"/>
            <a:chOff x="459360" y="2438280"/>
            <a:chExt cx="4646160" cy="762120"/>
          </a:xfrm>
        </p:grpSpPr>
        <p:sp>
          <p:nvSpPr>
            <p:cNvPr id="317" name=""/>
            <p:cNvSpPr/>
            <p:nvPr/>
          </p:nvSpPr>
          <p:spPr>
            <a:xfrm>
              <a:off x="487440" y="2743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040" y="2819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828800" y="2819520"/>
              <a:ext cx="609480" cy="304560"/>
              <a:chOff x="1828800" y="2819520"/>
              <a:chExt cx="6094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1828800" y="2819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2819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59360" y="2438280"/>
              <a:ext cx="175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2819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9360" y="3200400"/>
            <a:ext cx="4646160" cy="762120"/>
            <a:chOff x="459360" y="3200400"/>
            <a:chExt cx="4646160" cy="762120"/>
          </a:xfrm>
        </p:grpSpPr>
        <p:sp>
          <p:nvSpPr>
            <p:cNvPr id="326" name=""/>
            <p:cNvSpPr/>
            <p:nvPr/>
          </p:nvSpPr>
          <p:spPr>
            <a:xfrm>
              <a:off x="487440" y="3505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040" y="3581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28800" y="3581640"/>
              <a:ext cx="609480" cy="304560"/>
              <a:chOff x="1828800" y="3581640"/>
              <a:chExt cx="60948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1828800" y="358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33720" y="3581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28800" y="3581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59360" y="3200400"/>
              <a:ext cx="184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8280" y="3581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60440" y="3962520"/>
            <a:ext cx="4645080" cy="761400"/>
            <a:chOff x="460440" y="3962520"/>
            <a:chExt cx="4645080" cy="761400"/>
          </a:xfrm>
        </p:grpSpPr>
        <p:sp>
          <p:nvSpPr>
            <p:cNvPr id="335" name=""/>
            <p:cNvSpPr/>
            <p:nvPr/>
          </p:nvSpPr>
          <p:spPr>
            <a:xfrm>
              <a:off x="487440" y="4267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040" y="4343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n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828800" y="4343400"/>
              <a:ext cx="609480" cy="304200"/>
              <a:chOff x="1828800" y="4343400"/>
              <a:chExt cx="609480" cy="3042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28800" y="4343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4343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28800" y="4343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60440" y="3962520"/>
              <a:ext cx="224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No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4343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62240" y="4724280"/>
            <a:ext cx="4643280" cy="762120"/>
            <a:chOff x="462240" y="4724280"/>
            <a:chExt cx="4643280" cy="762120"/>
          </a:xfrm>
        </p:grpSpPr>
        <p:sp>
          <p:nvSpPr>
            <p:cNvPr id="344" name=""/>
            <p:cNvSpPr/>
            <p:nvPr/>
          </p:nvSpPr>
          <p:spPr>
            <a:xfrm>
              <a:off x="487440" y="5029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6040" y="5105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28800" y="5105520"/>
              <a:ext cx="609480" cy="304560"/>
              <a:chOff x="1828800" y="5105520"/>
              <a:chExt cx="609480" cy="304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5105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3720" y="5105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28800" y="5105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62240" y="4724280"/>
              <a:ext cx="2883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8280" y="5105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0440" y="5486400"/>
            <a:ext cx="4645080" cy="762120"/>
            <a:chOff x="460440" y="5486400"/>
            <a:chExt cx="4645080" cy="762120"/>
          </a:xfrm>
        </p:grpSpPr>
        <p:sp>
          <p:nvSpPr>
            <p:cNvPr id="353" name=""/>
            <p:cNvSpPr/>
            <p:nvPr/>
          </p:nvSpPr>
          <p:spPr>
            <a:xfrm>
              <a:off x="487440" y="5791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040" y="5867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28800" y="5867640"/>
              <a:ext cx="609480" cy="304560"/>
              <a:chOff x="1828800" y="5867640"/>
              <a:chExt cx="609480" cy="304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828800" y="5867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133720" y="5867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28800" y="5867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60440" y="5486400"/>
              <a:ext cx="2017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38280" y="5867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218960"/>
            <a:ext cx="4927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holding program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in Y86 (and IA32) for supporting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top indic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stack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p element is at highest address in the sta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ushing, must first de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opping, in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47720" y="16765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47720" y="19810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47720" y="22860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7720" y="44197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47720" y="47242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47720" y="50292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47720" y="53341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867040" y="5451480"/>
            <a:ext cx="380880" cy="0"/>
          </a:xfrm>
          <a:prstGeom prst="line">
            <a:avLst/>
          </a:prstGeom>
          <a:ln w="19080">
            <a:solidFill>
              <a:srgbClr val="ff000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6840" y="5299200"/>
            <a:ext cx="640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2590920"/>
            <a:ext cx="121932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38080" y="1828800"/>
            <a:ext cx="0" cy="3657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32004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5638680"/>
            <a:ext cx="1752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066680"/>
            <a:ext cx="175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word from rA to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 from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 in r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39720" y="1295280"/>
            <a:ext cx="3322800" cy="609840"/>
            <a:chOff x="639720" y="1295280"/>
            <a:chExt cx="3322800" cy="609840"/>
          </a:xfrm>
        </p:grpSpPr>
        <p:sp>
          <p:nvSpPr>
            <p:cNvPr id="380" name=""/>
            <p:cNvSpPr/>
            <p:nvPr/>
          </p:nvSpPr>
          <p:spPr>
            <a:xfrm>
              <a:off x="639720" y="12952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ush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048120" y="1447920"/>
              <a:ext cx="609480" cy="304560"/>
              <a:chOff x="3048120" y="1447920"/>
              <a:chExt cx="60948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0481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530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81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639720" y="3352680"/>
            <a:ext cx="3322800" cy="609840"/>
            <a:chOff x="639720" y="3352680"/>
            <a:chExt cx="3322800" cy="609840"/>
          </a:xfrm>
        </p:grpSpPr>
        <p:sp>
          <p:nvSpPr>
            <p:cNvPr id="391" name=""/>
            <p:cNvSpPr/>
            <p:nvPr/>
          </p:nvSpPr>
          <p:spPr>
            <a:xfrm>
              <a:off x="639720" y="3352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20" y="3505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438280" y="3505320"/>
              <a:ext cx="609480" cy="304560"/>
              <a:chOff x="2438280" y="3505320"/>
              <a:chExt cx="609480" cy="304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4320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3828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5304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broutine Call and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address of next instruction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executing instructions at 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value from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s address for next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39720" y="1295280"/>
            <a:ext cx="5380200" cy="609840"/>
            <a:chOff x="639720" y="1295280"/>
            <a:chExt cx="5380200" cy="609840"/>
          </a:xfrm>
        </p:grpSpPr>
        <p:sp>
          <p:nvSpPr>
            <p:cNvPr id="404" name=""/>
            <p:cNvSpPr/>
            <p:nvPr/>
          </p:nvSpPr>
          <p:spPr>
            <a:xfrm>
              <a:off x="639720" y="1295280"/>
              <a:ext cx="53802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773440" y="1447920"/>
              <a:ext cx="609480" cy="304560"/>
              <a:chOff x="2773440" y="1447920"/>
              <a:chExt cx="609480" cy="3045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344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7836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344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353040" y="14479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3581280"/>
            <a:ext cx="5379840" cy="609480"/>
            <a:chOff x="609480" y="3581280"/>
            <a:chExt cx="5379840" cy="609480"/>
          </a:xfrm>
        </p:grpSpPr>
        <p:sp>
          <p:nvSpPr>
            <p:cNvPr id="412" name=""/>
            <p:cNvSpPr/>
            <p:nvPr/>
          </p:nvSpPr>
          <p:spPr>
            <a:xfrm>
              <a:off x="609480" y="3581280"/>
              <a:ext cx="537984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373356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742840" y="3733560"/>
              <a:ext cx="609480" cy="304920"/>
              <a:chOff x="2742840" y="3733560"/>
              <a:chExt cx="609480" cy="304920"/>
            </a:xfrm>
          </p:grpSpPr>
          <p:sp>
            <p:nvSpPr>
              <p:cNvPr id="415" name=""/>
              <p:cNvSpPr/>
              <p:nvPr/>
            </p:nvSpPr>
            <p:spPr>
              <a:xfrm>
                <a:off x="2742840" y="37335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47760" y="37335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42840" y="37335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do any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p executing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has comparable instruction, but can’t execute it in user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it to stop th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39720" y="1295280"/>
            <a:ext cx="2637000" cy="609840"/>
            <a:chOff x="639720" y="1295280"/>
            <a:chExt cx="2637000" cy="609840"/>
          </a:xfrm>
        </p:grpSpPr>
        <p:sp>
          <p:nvSpPr>
            <p:cNvPr id="421" name=""/>
            <p:cNvSpPr/>
            <p:nvPr/>
          </p:nvSpPr>
          <p:spPr>
            <a:xfrm>
              <a:off x="639720" y="1295280"/>
              <a:ext cx="26370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no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424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39720" y="2743200"/>
            <a:ext cx="2637000" cy="609480"/>
            <a:chOff x="639720" y="2743200"/>
            <a:chExt cx="2637000" cy="609480"/>
          </a:xfrm>
        </p:grpSpPr>
        <p:sp>
          <p:nvSpPr>
            <p:cNvPr id="428" name=""/>
            <p:cNvSpPr/>
            <p:nvPr/>
          </p:nvSpPr>
          <p:spPr>
            <a:xfrm>
              <a:off x="639720" y="2743200"/>
              <a:ext cx="263700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320" y="2895480"/>
              <a:ext cx="19051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ha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38280" y="2895480"/>
              <a:ext cx="609480" cy="304200"/>
              <a:chOff x="2438280" y="2895480"/>
              <a:chExt cx="609480" cy="304200"/>
            </a:xfrm>
          </p:grpSpPr>
          <p:sp>
            <p:nvSpPr>
              <p:cNvPr id="431" name=""/>
              <p:cNvSpPr/>
              <p:nvPr/>
            </p:nvSpPr>
            <p:spPr>
              <a:xfrm>
                <a:off x="2438280" y="289548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43200" y="289548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289548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Y86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82440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to Use C Compiler as Much as Possi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for IA32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iterate into Y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ing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number of elements in null-terminat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828440" y="4343400"/>
            <a:ext cx="2657520" cy="1469880"/>
            <a:chOff x="1828440" y="4343400"/>
            <a:chExt cx="2657520" cy="1469880"/>
          </a:xfrm>
        </p:grpSpPr>
        <p:sp>
          <p:nvSpPr>
            <p:cNvPr id="437" name=""/>
            <p:cNvSpPr/>
            <p:nvPr/>
          </p:nvSpPr>
          <p:spPr>
            <a:xfrm>
              <a:off x="2398680" y="4392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50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8680" y="474660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61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98680" y="510048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39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8680" y="5454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4495680"/>
              <a:ext cx="2286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440" y="434340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36600" y="4869000"/>
              <a:ext cx="549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irst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ypical array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 to do array indexing on Y8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nce don’t have scaled addressing mod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len = 0; a[len]; len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52880" y="2895480"/>
            <a:ext cx="3822840" cy="119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mpl $0,(%edx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cond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with pointer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n’t need to do indexed addr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2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*a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2895480"/>
            <a:ext cx="3822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04840"/>
            <a:ext cx="304776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1981080"/>
            <a:ext cx="5181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ent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981080"/>
            <a:ext cx="304812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981080"/>
            <a:ext cx="473724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ntr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4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 == 0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o--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tn l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Set Archit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48909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 Language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, memory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instructions are encoded as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yer of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ve: how to program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r executes instructions in a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ow: what needs to be bui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variety of tricks to make it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xecute multiple instructions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86400" y="1523880"/>
            <a:ext cx="2743200" cy="4168800"/>
            <a:chOff x="5486400" y="1523880"/>
            <a:chExt cx="2743200" cy="4168800"/>
          </a:xfrm>
        </p:grpSpPr>
        <p:sp>
          <p:nvSpPr>
            <p:cNvPr id="86" name=""/>
            <p:cNvSpPr/>
            <p:nvPr/>
          </p:nvSpPr>
          <p:spPr>
            <a:xfrm>
              <a:off x="5486400" y="3047760"/>
              <a:ext cx="2743200" cy="35892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IS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2286000"/>
              <a:ext cx="106704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4320" y="2286000"/>
              <a:ext cx="99036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42900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19076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495288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i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1523880"/>
              <a:ext cx="205740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38320" y="1295280"/>
            <a:ext cx="332748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starts at address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et up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sure don’t overwrite cod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initialize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symbolic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990720"/>
            <a:ext cx="5715000" cy="558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st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locate space for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ck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“object code”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g.y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ually looks like disassembler outp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as eg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: 30840001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6: 2045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8: 30821800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e: a028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0: 8028000000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5: 10  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.align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List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b313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c: ed17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0: e31c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4: 0000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ulat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s effect of each instruction on processor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nts changes in state from origi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is eg.y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opped in 41 steps at PC = 0x16.  Exception 'HLT', CC Z=1 S=0 O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register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a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c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d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2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f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b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i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memor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4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8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c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minant style through mid-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pass arguments, save 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push and pop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%eax, 12(%ebx,%ecx,4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memory read and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address calc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 side effect of arithmetic and logic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ilosop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instructions to perform “typical” programming tas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d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al project at IBM, later popularized by Hennessy (Stanford) and Patterson (Berkele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wer, simpler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ht take more to get given task d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execute them with small and fast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more (typically 32)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for arguments, return pointer, tempo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ly load and store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Y86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 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 instructions return 0/1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568680" cy="407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965840" y="1447920"/>
            <a:ext cx="35686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5340240"/>
            <a:ext cx="7324560" cy="358920"/>
            <a:chOff x="838080" y="5340240"/>
            <a:chExt cx="7324560" cy="358920"/>
          </a:xfrm>
        </p:grpSpPr>
        <p:sp>
          <p:nvSpPr>
            <p:cNvPr id="484" name=""/>
            <p:cNvSpPr/>
            <p:nvPr/>
          </p:nvSpPr>
          <p:spPr>
            <a:xfrm>
              <a:off x="838080" y="534024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148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592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00360" y="534024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8720" y="1143000"/>
            <a:ext cx="7324200" cy="664560"/>
            <a:chOff x="828720" y="1143000"/>
            <a:chExt cx="7324200" cy="664560"/>
          </a:xfrm>
        </p:grpSpPr>
        <p:grpSp>
          <p:nvGrpSpPr>
            <p:cNvPr id="489" name=""/>
            <p:cNvGrpSpPr/>
            <p:nvPr/>
          </p:nvGrpSpPr>
          <p:grpSpPr>
            <a:xfrm>
              <a:off x="828720" y="1447560"/>
              <a:ext cx="7324200" cy="360000"/>
              <a:chOff x="828720" y="1447560"/>
              <a:chExt cx="7324200" cy="360000"/>
            </a:xfrm>
          </p:grpSpPr>
          <p:sp>
            <p:nvSpPr>
              <p:cNvPr id="490" name=""/>
              <p:cNvSpPr/>
              <p:nvPr/>
            </p:nvSpPr>
            <p:spPr>
              <a:xfrm>
                <a:off x="82872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176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4620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9064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7988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35440" y="1447560"/>
                <a:ext cx="1144440" cy="360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828720" y="1143000"/>
              <a:ext cx="912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38080" y="2362320"/>
            <a:ext cx="7324560" cy="664200"/>
            <a:chOff x="838080" y="2362320"/>
            <a:chExt cx="7324560" cy="664200"/>
          </a:xfrm>
        </p:grpSpPr>
        <p:grpSp>
          <p:nvGrpSpPr>
            <p:cNvPr id="498" name=""/>
            <p:cNvGrpSpPr/>
            <p:nvPr/>
          </p:nvGrpSpPr>
          <p:grpSpPr>
            <a:xfrm>
              <a:off x="838080" y="2666880"/>
              <a:ext cx="7324560" cy="359640"/>
              <a:chOff x="838080" y="2666880"/>
              <a:chExt cx="7324560" cy="359640"/>
            </a:xfrm>
          </p:grpSpPr>
          <p:sp>
            <p:nvSpPr>
              <p:cNvPr id="499" name=""/>
              <p:cNvSpPr/>
              <p:nvPr/>
            </p:nvSpPr>
            <p:spPr>
              <a:xfrm>
                <a:off x="838080" y="2666880"/>
                <a:ext cx="1373400" cy="35964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1148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5592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00360" y="2666880"/>
                <a:ext cx="3662280" cy="3596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mmediat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8080" y="2362320"/>
              <a:ext cx="6843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38080" y="502920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/St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2057400"/>
            <a:ext cx="7162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$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gister add: $3 = $2+$1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20040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 314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mmediate add: $3 = $2+31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ll $3,$2,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ift left: $3 = $2 &lt;&l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579132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ad Word: $3 = M[$2+1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Word: M[$2+16] = $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38080" y="4213080"/>
            <a:ext cx="7324560" cy="358920"/>
            <a:chOff x="838080" y="4213080"/>
            <a:chExt cx="7324560" cy="358920"/>
          </a:xfrm>
        </p:grpSpPr>
        <p:sp>
          <p:nvSpPr>
            <p:cNvPr id="509" name=""/>
            <p:cNvSpPr/>
            <p:nvPr/>
          </p:nvSpPr>
          <p:spPr>
            <a:xfrm>
              <a:off x="838080" y="421308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148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5592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00360" y="421308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38080" y="390204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4648320"/>
            <a:ext cx="708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eq $3,$2,d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Branch when $3 = $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vs. RIS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Deb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ong opinion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ISC proponents---easy for compiler, fewer cod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 proponents---better for optimizing compilers, can make run fast with simple chip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desktop processors, choice of ISA not a technical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nything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compatibility more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mbedded processors, RISC makes se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er, cheaper, less pow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86 Instruction Set 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state and instructions as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ere between CISC and RIS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Important is ISA Desig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ss now than bef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lmost anything go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s moving away from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low enough parallel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roduced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4-bit word sizes (overcome address space limitation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cally different style of instruction set with explicit parallelis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ires sophisticated compi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cessor St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160" y="2590560"/>
            <a:ext cx="8294760" cy="38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8 as with IA32.  Each 32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-bit flags set by arithmetic or logic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: Overflo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F: Zer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F:Neg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ddress of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-addressable storage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s stored in little-endian byte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914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0666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179800"/>
            <a:ext cx="838440" cy="2286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143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3400" y="1676520"/>
            <a:ext cx="685800" cy="228600"/>
            <a:chOff x="4343400" y="1676520"/>
            <a:chExt cx="685800" cy="228600"/>
          </a:xfrm>
        </p:grpSpPr>
        <p:sp>
          <p:nvSpPr>
            <p:cNvPr id="111" name=""/>
            <p:cNvSpPr/>
            <p:nvPr/>
          </p:nvSpPr>
          <p:spPr>
            <a:xfrm>
              <a:off x="43434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1676520"/>
              <a:ext cx="685800" cy="2286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--6 bytes of information 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determine instruction length from first by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many instruction types, and simpler encoding than with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ccesses and modifies some part(s) of the program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1142640"/>
            <a:ext cx="82947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register has 4-bit I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 as i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ID 8 indicates “no register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use this in our hardware design in multiple pla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0" y="1676520"/>
            <a:ext cx="3048120" cy="914400"/>
            <a:chOff x="2286000" y="1676520"/>
            <a:chExt cx="3048120" cy="914400"/>
          </a:xfrm>
        </p:grpSpPr>
        <p:sp>
          <p:nvSpPr>
            <p:cNvPr id="120" name=""/>
            <p:cNvSpPr/>
            <p:nvPr/>
          </p:nvSpPr>
          <p:spPr>
            <a:xfrm>
              <a:off x="22860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51460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itio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6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value in register rA to that in register 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sult in register r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Y86 only allows addition to be applied to registe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based on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dl %eax,%esi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60 0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-byte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indicates instruction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gives source and destinati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666880"/>
            <a:ext cx="3124440" cy="304920"/>
            <a:chOff x="838080" y="2666880"/>
            <a:chExt cx="3124440" cy="304920"/>
          </a:xfrm>
        </p:grpSpPr>
        <p:sp>
          <p:nvSpPr>
            <p:cNvPr id="140" name=""/>
            <p:cNvSpPr/>
            <p:nvPr/>
          </p:nvSpPr>
          <p:spPr>
            <a:xfrm>
              <a:off x="838080" y="26668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43200" y="2666880"/>
              <a:ext cx="609480" cy="304920"/>
              <a:chOff x="2743200" y="2666880"/>
              <a:chExt cx="60948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7432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266688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43200" y="266688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52680" y="2666880"/>
              <a:ext cx="609840" cy="304920"/>
              <a:chOff x="3352680" y="2666880"/>
              <a:chExt cx="609840" cy="304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35268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266688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038480" y="2133720"/>
            <a:ext cx="3699360" cy="532800"/>
            <a:chOff x="4038480" y="2133720"/>
            <a:chExt cx="3699360" cy="532800"/>
          </a:xfrm>
        </p:grpSpPr>
        <p:sp>
          <p:nvSpPr>
            <p:cNvPr id="150" name=""/>
            <p:cNvSpPr/>
            <p:nvPr/>
          </p:nvSpPr>
          <p:spPr>
            <a:xfrm flipH="1">
              <a:off x="4038480" y="2286000"/>
              <a:ext cx="9144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2784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Encoded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5120" y="1600200"/>
            <a:ext cx="3622680" cy="1066680"/>
            <a:chOff x="1905120" y="1600200"/>
            <a:chExt cx="3622680" cy="1066680"/>
          </a:xfrm>
        </p:grpSpPr>
        <p:sp>
          <p:nvSpPr>
            <p:cNvPr id="153" name=""/>
            <p:cNvSpPr/>
            <p:nvPr/>
          </p:nvSpPr>
          <p:spPr>
            <a:xfrm flipH="1">
              <a:off x="1905120" y="1752480"/>
              <a:ext cx="838080" cy="91440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1600200"/>
              <a:ext cx="2784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Generic For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and Logica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2418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-order 4 bytes in first instruction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as side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400" y="1676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00" y="1828800"/>
            <a:ext cx="3124440" cy="304920"/>
            <a:chOff x="792000" y="1828800"/>
            <a:chExt cx="3124440" cy="304920"/>
          </a:xfrm>
        </p:grpSpPr>
        <p:sp>
          <p:nvSpPr>
            <p:cNvPr id="159" name=""/>
            <p:cNvSpPr/>
            <p:nvPr/>
          </p:nvSpPr>
          <p:spPr>
            <a:xfrm>
              <a:off x="792000" y="1828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97120" y="1828800"/>
              <a:ext cx="609480" cy="304920"/>
              <a:chOff x="2697120" y="1828800"/>
              <a:chExt cx="609480" cy="30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6971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0204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97120" y="1828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06600" y="1828800"/>
              <a:ext cx="609840" cy="304920"/>
              <a:chOff x="3306600" y="1828800"/>
              <a:chExt cx="609840" cy="30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30660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115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6600" y="1828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63400" y="2819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00" y="2971800"/>
            <a:ext cx="3124440" cy="304920"/>
            <a:chOff x="792000" y="2971800"/>
            <a:chExt cx="3124440" cy="304920"/>
          </a:xfrm>
        </p:grpSpPr>
        <p:sp>
          <p:nvSpPr>
            <p:cNvPr id="170" name=""/>
            <p:cNvSpPr/>
            <p:nvPr/>
          </p:nvSpPr>
          <p:spPr>
            <a:xfrm>
              <a:off x="792000" y="2971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sub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697120" y="2971800"/>
              <a:ext cx="609480" cy="304920"/>
              <a:chOff x="2697120" y="2971800"/>
              <a:chExt cx="609480" cy="30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26971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02040" y="2971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7120" y="2971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306600" y="2971800"/>
              <a:ext cx="609840" cy="304920"/>
              <a:chOff x="3306600" y="2971800"/>
              <a:chExt cx="609840" cy="30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30660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115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600" y="2971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63400" y="3962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92000" y="4114800"/>
            <a:ext cx="3124440" cy="304920"/>
            <a:chOff x="792000" y="4114800"/>
            <a:chExt cx="3124440" cy="304920"/>
          </a:xfrm>
        </p:grpSpPr>
        <p:sp>
          <p:nvSpPr>
            <p:cNvPr id="181" name=""/>
            <p:cNvSpPr/>
            <p:nvPr/>
          </p:nvSpPr>
          <p:spPr>
            <a:xfrm>
              <a:off x="792000" y="4114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n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697120" y="4114800"/>
              <a:ext cx="609480" cy="304920"/>
              <a:chOff x="2697120" y="4114800"/>
              <a:chExt cx="609480" cy="30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26971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2040" y="4114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7120" y="4114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306600" y="4114800"/>
              <a:ext cx="609840" cy="304920"/>
              <a:chOff x="3306600" y="4114800"/>
              <a:chExt cx="609840" cy="304920"/>
            </a:xfrm>
          </p:grpSpPr>
          <p:sp>
            <p:nvSpPr>
              <p:cNvPr id="187" name=""/>
              <p:cNvSpPr/>
              <p:nvPr/>
            </p:nvSpPr>
            <p:spPr>
              <a:xfrm>
                <a:off x="330660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115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6600" y="4114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63400" y="5105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2000" y="5257800"/>
            <a:ext cx="3124440" cy="304920"/>
            <a:chOff x="792000" y="5257800"/>
            <a:chExt cx="3124440" cy="304920"/>
          </a:xfrm>
        </p:grpSpPr>
        <p:sp>
          <p:nvSpPr>
            <p:cNvPr id="192" name=""/>
            <p:cNvSpPr/>
            <p:nvPr/>
          </p:nvSpPr>
          <p:spPr>
            <a:xfrm>
              <a:off x="792000" y="5257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or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97120" y="5257800"/>
              <a:ext cx="609480" cy="304920"/>
              <a:chOff x="2697120" y="5257800"/>
              <a:chExt cx="609480" cy="304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971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2040" y="5257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7120" y="5257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306600" y="5257800"/>
              <a:ext cx="609840" cy="304920"/>
              <a:chOff x="3306600" y="5257800"/>
              <a:chExt cx="609840" cy="304920"/>
            </a:xfrm>
          </p:grpSpPr>
          <p:sp>
            <p:nvSpPr>
              <p:cNvPr id="198" name=""/>
              <p:cNvSpPr/>
              <p:nvPr/>
            </p:nvSpPr>
            <p:spPr>
              <a:xfrm>
                <a:off x="330660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15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6600" y="5257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60160" y="1295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240" y="2438280"/>
            <a:ext cx="23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tract (rA from r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160" y="3581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320" y="4724280"/>
            <a:ext cx="148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clusive-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0960" y="1049400"/>
            <a:ext cx="2396160" cy="702720"/>
            <a:chOff x="300960" y="1049400"/>
            <a:chExt cx="2396160" cy="702720"/>
          </a:xfrm>
        </p:grpSpPr>
        <p:sp>
          <p:nvSpPr>
            <p:cNvPr id="206" name=""/>
            <p:cNvSpPr/>
            <p:nvPr/>
          </p:nvSpPr>
          <p:spPr>
            <a:xfrm>
              <a:off x="2239920" y="1371600"/>
              <a:ext cx="4572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60" y="1049400"/>
              <a:ext cx="1910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Instru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02240" y="1049400"/>
            <a:ext cx="1695240" cy="702720"/>
            <a:chOff x="2802240" y="1049400"/>
            <a:chExt cx="1695240" cy="702720"/>
          </a:xfrm>
        </p:grpSpPr>
        <p:sp>
          <p:nvSpPr>
            <p:cNvPr id="209" name=""/>
            <p:cNvSpPr/>
            <p:nvPr/>
          </p:nvSpPr>
          <p:spPr>
            <a:xfrm flipH="1">
              <a:off x="3153960" y="1371600"/>
              <a:ext cx="22824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2240" y="1049400"/>
              <a:ext cx="1695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Fun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769644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the IA3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format for memory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 different names to keep them distin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" y="1295280"/>
            <a:ext cx="5989680" cy="6098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3400" y="1447920"/>
            <a:ext cx="3124440" cy="304560"/>
            <a:chOff x="563400" y="1447920"/>
            <a:chExt cx="3124440" cy="304560"/>
          </a:xfrm>
        </p:grpSpPr>
        <p:sp>
          <p:nvSpPr>
            <p:cNvPr id="215" name=""/>
            <p:cNvSpPr/>
            <p:nvPr/>
          </p:nvSpPr>
          <p:spPr>
            <a:xfrm>
              <a:off x="56340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68520" y="1447920"/>
              <a:ext cx="609480" cy="304560"/>
              <a:chOff x="2468520" y="1447920"/>
              <a:chExt cx="609480" cy="304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685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34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85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78000" y="1447920"/>
              <a:ext cx="609840" cy="304560"/>
              <a:chOff x="3078000" y="1447920"/>
              <a:chExt cx="609840" cy="304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07800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829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78000" y="1447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51000" y="2286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960" y="1336680"/>
            <a:ext cx="233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1160" y="2286000"/>
            <a:ext cx="254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03280" y="2438280"/>
            <a:ext cx="5562360" cy="304920"/>
            <a:chOff x="503280" y="2438280"/>
            <a:chExt cx="5562360" cy="304920"/>
          </a:xfrm>
        </p:grpSpPr>
        <p:sp>
          <p:nvSpPr>
            <p:cNvPr id="228" name=""/>
            <p:cNvSpPr/>
            <p:nvPr/>
          </p:nvSpPr>
          <p:spPr>
            <a:xfrm>
              <a:off x="503280" y="2438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i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V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408040" y="2438280"/>
              <a:ext cx="3657600" cy="304560"/>
              <a:chOff x="2408040" y="2438280"/>
              <a:chExt cx="3657600" cy="304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408040" y="2438280"/>
                <a:ext cx="609480" cy="304560"/>
                <a:chOff x="2408040" y="243828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4080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12960" y="2438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08040" y="2438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017520" y="2438280"/>
                <a:ext cx="609840" cy="304560"/>
                <a:chOff x="3017520" y="2438280"/>
                <a:chExt cx="609840" cy="304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1752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224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17520" y="2438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627360" y="2438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51000" y="327672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1160" y="327672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3280" y="3429000"/>
            <a:ext cx="5562360" cy="304920"/>
            <a:chOff x="503280" y="3429000"/>
            <a:chExt cx="5562360" cy="304920"/>
          </a:xfrm>
        </p:grpSpPr>
        <p:sp>
          <p:nvSpPr>
            <p:cNvPr id="242" name=""/>
            <p:cNvSpPr/>
            <p:nvPr/>
          </p:nvSpPr>
          <p:spPr>
            <a:xfrm>
              <a:off x="503280" y="342900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08040" y="3429000"/>
              <a:ext cx="3657600" cy="304560"/>
              <a:chOff x="2408040" y="3429000"/>
              <a:chExt cx="3657600" cy="3045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408040" y="3429000"/>
                <a:ext cx="609480" cy="304560"/>
                <a:chOff x="2408040" y="3429000"/>
                <a:chExt cx="609480" cy="304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4080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12960" y="342900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08040" y="342900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017520" y="3429000"/>
                <a:ext cx="609840" cy="304560"/>
                <a:chOff x="3017520" y="3429000"/>
                <a:chExt cx="609840" cy="30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01752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224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017520" y="342900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627360" y="342900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351000" y="43434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1160" y="434340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3280" y="4495680"/>
            <a:ext cx="5562360" cy="304920"/>
            <a:chOff x="503280" y="4495680"/>
            <a:chExt cx="5562360" cy="304920"/>
          </a:xfrm>
        </p:grpSpPr>
        <p:sp>
          <p:nvSpPr>
            <p:cNvPr id="256" name=""/>
            <p:cNvSpPr/>
            <p:nvPr/>
          </p:nvSpPr>
          <p:spPr>
            <a:xfrm>
              <a:off x="503280" y="44956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m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,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408040" y="4495680"/>
              <a:ext cx="3657600" cy="304560"/>
              <a:chOff x="2408040" y="4495680"/>
              <a:chExt cx="3657600" cy="304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408040" y="4495680"/>
                <a:ext cx="609480" cy="304560"/>
                <a:chOff x="2408040" y="4495680"/>
                <a:chExt cx="609480" cy="304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4080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12960" y="44956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08040" y="44956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17520" y="4495680"/>
                <a:ext cx="609840" cy="304560"/>
                <a:chOff x="3017520" y="4495680"/>
                <a:chExt cx="609840" cy="304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1752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224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17520" y="44956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27360" y="44956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365760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038480"/>
            <a:ext cx="617220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27672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82880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09680"/>
            <a:ext cx="8610480" cy="381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590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447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rmovl $0xabcd, 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30 82 cd ab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680" y="1066680"/>
            <a:ext cx="573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A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8560" y="10666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Y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17080" y="1066680"/>
            <a:ext cx="113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rmovl %esp, %eb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8288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p,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20 4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r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096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50 15 f4 ff ff 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m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590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2767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657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6576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ax, 12(%eax,%ed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40384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0384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(%ebp,%eax,4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40 64 1c 04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13Z</dcterms:modified>
  <cp:revision>63</cp:revision>
  <dc:subject>SRC Review Slides</dc:subject>
  <dc:title>Formal Processor Verification</dc:title>
</cp:coreProperties>
</file>