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21A2E55D-39B8-4EAF-97F4-A85FD31014B3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05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Logic Desig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Word-Level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410080" y="1447920"/>
            <a:ext cx="3873600" cy="228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d minimum of three input word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case express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nal case guarantees mat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381960" y="1828800"/>
            <a:ext cx="2297880" cy="914400"/>
            <a:chOff x="381960" y="1828800"/>
            <a:chExt cx="2297880" cy="914400"/>
          </a:xfrm>
        </p:grpSpPr>
        <p:sp>
          <p:nvSpPr>
            <p:cNvPr id="415" name=""/>
            <p:cNvSpPr/>
            <p:nvPr/>
          </p:nvSpPr>
          <p:spPr>
            <a:xfrm>
              <a:off x="685800" y="25146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1960" y="23623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676160" y="2286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58840" y="211788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in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66680" y="1828800"/>
              <a:ext cx="671400" cy="91440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914400"/>
                <a:gd name="textAreaBottom" fmla="*/ 881640 h 914400"/>
              </a:gdLst>
              <a:ahLst/>
              <a:rect l="textAreaLeft" t="textAreaTop" r="textAreaRight" b="textAreaBottom"/>
              <a:pathLst>
                <a:path w="21600" h="29414">
                  <a:moveTo>
                    <a:pt x="3600" y="0"/>
                  </a:moveTo>
                  <a:arcTo wR="3600" hR="3600" stAng="16200000" swAng="-5400000"/>
                  <a:lnTo>
                    <a:pt x="0" y="25814"/>
                  </a:lnTo>
                  <a:arcTo wR="3600" hR="3600" stAng="10800000" swAng="-5400000"/>
                  <a:lnTo>
                    <a:pt x="18000" y="2941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IN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2286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1960" y="2133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5800" y="2057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2320" y="190512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738160" y="1600200"/>
            <a:ext cx="306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Min3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 &lt; B &amp;&amp; A &lt; C : 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 &lt; A &amp;&amp; B &lt; C : B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             : C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06360" y="3809880"/>
            <a:ext cx="2373480" cy="1860840"/>
            <a:chOff x="306360" y="3809880"/>
            <a:chExt cx="2373480" cy="1860840"/>
          </a:xfrm>
        </p:grpSpPr>
        <p:sp>
          <p:nvSpPr>
            <p:cNvPr id="426" name=""/>
            <p:cNvSpPr/>
            <p:nvPr/>
          </p:nvSpPr>
          <p:spPr>
            <a:xfrm>
              <a:off x="685800" y="4756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5442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6360" y="457200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6360" y="52894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76520" y="50608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60280" y="4892760"/>
              <a:ext cx="61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6360" y="407052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85800" y="42991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6360" y="380988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85800" y="3994200"/>
              <a:ext cx="838080" cy="5335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066680" y="4489560"/>
              <a:ext cx="671760" cy="1181160"/>
            </a:xfrm>
            <a:custGeom>
              <a:avLst/>
              <a:gdLst>
                <a:gd name="textAreaLeft" fmla="*/ 32760 w 671760"/>
                <a:gd name="textAreaRight" fmla="*/ 639000 w 671760"/>
                <a:gd name="textAreaTop" fmla="*/ 32760 h 1181160"/>
                <a:gd name="textAreaBottom" fmla="*/ 1148400 h 1181160"/>
              </a:gdLst>
              <a:ahLst/>
              <a:rect l="textAreaLeft" t="textAreaTop" r="textAreaRight" b="textAreaBottom"/>
              <a:pathLst>
                <a:path w="21600" h="37971">
                  <a:moveTo>
                    <a:pt x="3600" y="0"/>
                  </a:moveTo>
                  <a:arcTo wR="3600" hR="3600" stAng="16200000" swAng="-5400000"/>
                  <a:lnTo>
                    <a:pt x="0" y="34371"/>
                  </a:lnTo>
                  <a:arcTo wR="3600" hR="3600" stAng="10800000" swAng="-5400000"/>
                  <a:lnTo>
                    <a:pt x="18000" y="3797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85800" y="52135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6360" y="50608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85800" y="49849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6360" y="48322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5410080" y="4267080"/>
            <a:ext cx="3505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lect one of 4 inputs based on two control bi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case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implify tests by assuming sequential match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740320" y="4419720"/>
            <a:ext cx="223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ut4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1&amp;&amp;!s0: D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1     : D1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!s0     : D2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      : D3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09680" y="1049400"/>
            <a:ext cx="2343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inimum of 3 Word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02840" y="3394080"/>
            <a:ext cx="2049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-Way Multiplex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3319560" y="2895480"/>
            <a:ext cx="719640" cy="636480"/>
            <a:chOff x="3319560" y="2895480"/>
            <a:chExt cx="719640" cy="636480"/>
          </a:xfrm>
        </p:grpSpPr>
        <p:sp>
          <p:nvSpPr>
            <p:cNvPr id="446" name=""/>
            <p:cNvSpPr/>
            <p:nvPr/>
          </p:nvSpPr>
          <p:spPr>
            <a:xfrm>
              <a:off x="347184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39552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1956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70008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0008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0044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5419800" y="2895480"/>
            <a:ext cx="719640" cy="636480"/>
            <a:chOff x="5419800" y="2895480"/>
            <a:chExt cx="719640" cy="636480"/>
          </a:xfrm>
        </p:grpSpPr>
        <p:sp>
          <p:nvSpPr>
            <p:cNvPr id="453" name=""/>
            <p:cNvSpPr/>
            <p:nvPr/>
          </p:nvSpPr>
          <p:spPr>
            <a:xfrm>
              <a:off x="557208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49576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41980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80032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80032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80068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520040" y="2895480"/>
            <a:ext cx="719640" cy="636480"/>
            <a:chOff x="7520040" y="2895480"/>
            <a:chExt cx="719640" cy="636480"/>
          </a:xfrm>
        </p:grpSpPr>
        <p:sp>
          <p:nvSpPr>
            <p:cNvPr id="460" name=""/>
            <p:cNvSpPr/>
            <p:nvPr/>
          </p:nvSpPr>
          <p:spPr>
            <a:xfrm>
              <a:off x="767232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9600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2004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90056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90056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0092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1219320" y="2895480"/>
            <a:ext cx="719640" cy="636480"/>
            <a:chOff x="1219320" y="2895480"/>
            <a:chExt cx="719640" cy="636480"/>
          </a:xfrm>
        </p:grpSpPr>
        <p:sp>
          <p:nvSpPr>
            <p:cNvPr id="467" name=""/>
            <p:cNvSpPr/>
            <p:nvPr/>
          </p:nvSpPr>
          <p:spPr>
            <a:xfrm>
              <a:off x="1371600" y="2895480"/>
              <a:ext cx="228600" cy="15264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95280" y="2971800"/>
              <a:ext cx="304920" cy="22860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219320" y="3048120"/>
              <a:ext cx="380880" cy="304560"/>
            </a:xfrm>
            <a:custGeom>
              <a:avLst/>
              <a:gdLst/>
              <a:ahLst/>
              <a:rect l="l" t="t" r="r" b="b"/>
              <a:pathLst>
                <a:path w="144" h="96">
                  <a:moveTo>
                    <a:pt x="0" y="0"/>
                  </a:moveTo>
                  <a:lnTo>
                    <a:pt x="0" y="96"/>
                  </a:lnTo>
                  <a:lnTo>
                    <a:pt x="144" y="96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99840" y="2897280"/>
              <a:ext cx="3391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99840" y="3071880"/>
              <a:ext cx="3085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Z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600200" y="3246480"/>
              <a:ext cx="3283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thmetic Logic Un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tinuously responding to inpu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signal selects function compu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rresponding to 4 arithmetic/logical operations in Y8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so computes values for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81960" y="1447920"/>
            <a:ext cx="2058120" cy="1752120"/>
            <a:chOff x="381960" y="1447920"/>
            <a:chExt cx="2058120" cy="1752120"/>
          </a:xfrm>
        </p:grpSpPr>
        <p:grpSp>
          <p:nvGrpSpPr>
            <p:cNvPr id="476" name=""/>
            <p:cNvGrpSpPr/>
            <p:nvPr/>
          </p:nvGrpSpPr>
          <p:grpSpPr>
            <a:xfrm>
              <a:off x="685440" y="1752840"/>
              <a:ext cx="1066680" cy="1447200"/>
              <a:chOff x="685440" y="1752840"/>
              <a:chExt cx="1066680" cy="1447200"/>
            </a:xfrm>
          </p:grpSpPr>
          <p:sp>
            <p:nvSpPr>
              <p:cNvPr id="477" name=""/>
              <p:cNvSpPr/>
              <p:nvPr/>
            </p:nvSpPr>
            <p:spPr>
              <a:xfrm>
                <a:off x="68544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21860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990000" y="1904760"/>
                <a:ext cx="457200" cy="1295280"/>
                <a:chOff x="990000" y="1904760"/>
                <a:chExt cx="457200" cy="12952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99000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106632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2" name=""/>
              <p:cNvSpPr/>
              <p:nvPr/>
            </p:nvSpPr>
            <p:spPr>
              <a:xfrm>
                <a:off x="68544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44720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38196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196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75356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+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812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2512440" y="1447920"/>
            <a:ext cx="2058120" cy="1752120"/>
            <a:chOff x="2512440" y="1447920"/>
            <a:chExt cx="2058120" cy="1752120"/>
          </a:xfrm>
        </p:grpSpPr>
        <p:grpSp>
          <p:nvGrpSpPr>
            <p:cNvPr id="489" name=""/>
            <p:cNvGrpSpPr/>
            <p:nvPr/>
          </p:nvGrpSpPr>
          <p:grpSpPr>
            <a:xfrm>
              <a:off x="2815920" y="1752840"/>
              <a:ext cx="1066680" cy="1447200"/>
              <a:chOff x="2815920" y="1752840"/>
              <a:chExt cx="1066680" cy="1447200"/>
            </a:xfrm>
          </p:grpSpPr>
          <p:sp>
            <p:nvSpPr>
              <p:cNvPr id="490" name=""/>
              <p:cNvSpPr/>
              <p:nvPr/>
            </p:nvSpPr>
            <p:spPr>
              <a:xfrm>
                <a:off x="281592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34908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92" name=""/>
              <p:cNvGrpSpPr/>
              <p:nvPr/>
            </p:nvGrpSpPr>
            <p:grpSpPr>
              <a:xfrm>
                <a:off x="3120480" y="1904760"/>
                <a:ext cx="457200" cy="1295280"/>
                <a:chOff x="3120480" y="1904760"/>
                <a:chExt cx="457200" cy="129528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312048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19680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281592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57768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251244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51244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8404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-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9860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4642920" y="1447920"/>
            <a:ext cx="2058120" cy="1752120"/>
            <a:chOff x="4642920" y="1447920"/>
            <a:chExt cx="2058120" cy="1752120"/>
          </a:xfrm>
        </p:grpSpPr>
        <p:grpSp>
          <p:nvGrpSpPr>
            <p:cNvPr id="502" name=""/>
            <p:cNvGrpSpPr/>
            <p:nvPr/>
          </p:nvGrpSpPr>
          <p:grpSpPr>
            <a:xfrm>
              <a:off x="4946400" y="1752840"/>
              <a:ext cx="1066680" cy="1447200"/>
              <a:chOff x="4946400" y="1752840"/>
              <a:chExt cx="1066680" cy="1447200"/>
            </a:xfrm>
          </p:grpSpPr>
          <p:sp>
            <p:nvSpPr>
              <p:cNvPr id="503" name=""/>
              <p:cNvSpPr/>
              <p:nvPr/>
            </p:nvSpPr>
            <p:spPr>
              <a:xfrm>
                <a:off x="494640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47956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05" name=""/>
              <p:cNvGrpSpPr/>
              <p:nvPr/>
            </p:nvGrpSpPr>
            <p:grpSpPr>
              <a:xfrm>
                <a:off x="5250960" y="1904760"/>
                <a:ext cx="457200" cy="1295280"/>
                <a:chOff x="5250960" y="1904760"/>
                <a:chExt cx="457200" cy="129528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525096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32728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8" name=""/>
              <p:cNvSpPr/>
              <p:nvPr/>
            </p:nvSpPr>
            <p:spPr>
              <a:xfrm>
                <a:off x="494640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70816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464292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64292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01452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&amp;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32908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6773400" y="1447920"/>
            <a:ext cx="2058120" cy="1752120"/>
            <a:chOff x="6773400" y="1447920"/>
            <a:chExt cx="2058120" cy="1752120"/>
          </a:xfrm>
        </p:grpSpPr>
        <p:grpSp>
          <p:nvGrpSpPr>
            <p:cNvPr id="515" name=""/>
            <p:cNvGrpSpPr/>
            <p:nvPr/>
          </p:nvGrpSpPr>
          <p:grpSpPr>
            <a:xfrm>
              <a:off x="7076880" y="1752840"/>
              <a:ext cx="1066680" cy="1447200"/>
              <a:chOff x="7076880" y="1752840"/>
              <a:chExt cx="1066680" cy="1447200"/>
            </a:xfrm>
          </p:grpSpPr>
          <p:sp>
            <p:nvSpPr>
              <p:cNvPr id="516" name=""/>
              <p:cNvSpPr/>
              <p:nvPr/>
            </p:nvSpPr>
            <p:spPr>
              <a:xfrm>
                <a:off x="7076880" y="213336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610040" y="1752840"/>
                <a:ext cx="0" cy="30456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18" name=""/>
              <p:cNvGrpSpPr/>
              <p:nvPr/>
            </p:nvGrpSpPr>
            <p:grpSpPr>
              <a:xfrm>
                <a:off x="7381440" y="1904760"/>
                <a:ext cx="457200" cy="1295280"/>
                <a:chOff x="7381440" y="1904760"/>
                <a:chExt cx="457200" cy="12952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7381440" y="1904760"/>
                  <a:ext cx="457200" cy="1295280"/>
                </a:xfrm>
                <a:custGeom>
                  <a:avLst/>
                  <a:gdLst/>
                  <a:ahLst/>
                  <a:rect l="l" t="t" r="r" b="b"/>
                  <a:pathLst>
                    <a:path w="288" h="816">
                      <a:moveTo>
                        <a:pt x="0" y="0"/>
                      </a:moveTo>
                      <a:lnTo>
                        <a:pt x="288" y="192"/>
                      </a:lnTo>
                      <a:lnTo>
                        <a:pt x="288" y="624"/>
                      </a:lnTo>
                      <a:lnTo>
                        <a:pt x="0" y="8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99ffcc"/>
                </a:solidFill>
                <a:ln w="936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7457760" y="2133000"/>
                  <a:ext cx="38088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L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U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7076880" y="2971800"/>
                <a:ext cx="30456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838640" y="2514600"/>
                <a:ext cx="304920" cy="0"/>
              </a:xfrm>
              <a:prstGeom prst="line">
                <a:avLst/>
              </a:prstGeom>
              <a:ln w="2844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6773400" y="1949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73400" y="28195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8145000" y="2374920"/>
              <a:ext cx="68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X </a:t>
              </a: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^</a:t>
              </a: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 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459560" y="14479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953280" y="2057400"/>
            <a:ext cx="264600" cy="1068480"/>
            <a:chOff x="953280" y="2057400"/>
            <a:chExt cx="264600" cy="1068480"/>
          </a:xfrm>
        </p:grpSpPr>
        <p:sp>
          <p:nvSpPr>
            <p:cNvPr id="528" name=""/>
            <p:cNvSpPr/>
            <p:nvPr/>
          </p:nvSpPr>
          <p:spPr>
            <a:xfrm>
              <a:off x="95328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5328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3087000" y="2057400"/>
            <a:ext cx="264600" cy="1068480"/>
            <a:chOff x="3087000" y="2057400"/>
            <a:chExt cx="264600" cy="1068480"/>
          </a:xfrm>
        </p:grpSpPr>
        <p:sp>
          <p:nvSpPr>
            <p:cNvPr id="531" name=""/>
            <p:cNvSpPr/>
            <p:nvPr/>
          </p:nvSpPr>
          <p:spPr>
            <a:xfrm>
              <a:off x="308700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8700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5220360" y="2057400"/>
            <a:ext cx="264600" cy="1068480"/>
            <a:chOff x="5220360" y="2057400"/>
            <a:chExt cx="264600" cy="1068480"/>
          </a:xfrm>
        </p:grpSpPr>
        <p:sp>
          <p:nvSpPr>
            <p:cNvPr id="534" name=""/>
            <p:cNvSpPr/>
            <p:nvPr/>
          </p:nvSpPr>
          <p:spPr>
            <a:xfrm>
              <a:off x="522036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22036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7354080" y="2057400"/>
            <a:ext cx="264600" cy="1068480"/>
            <a:chOff x="7354080" y="2057400"/>
            <a:chExt cx="264600" cy="1068480"/>
          </a:xfrm>
        </p:grpSpPr>
        <p:sp>
          <p:nvSpPr>
            <p:cNvPr id="537" name=""/>
            <p:cNvSpPr/>
            <p:nvPr/>
          </p:nvSpPr>
          <p:spPr>
            <a:xfrm>
              <a:off x="7354080" y="205740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54080" y="287964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9" name=""/>
          <p:cNvGraphicFramePr/>
          <p:nvPr/>
        </p:nvGraphicFramePr>
        <p:xfrm>
          <a:off x="3505320" y="3218040"/>
          <a:ext cx="3973320" cy="3487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218040"/>
                    <a:ext cx="3973320" cy="348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1 B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1066680"/>
            <a:ext cx="19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stable El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3733920" y="1447920"/>
            <a:ext cx="1752480" cy="1760400"/>
            <a:chOff x="3733920" y="1447920"/>
            <a:chExt cx="1752480" cy="1760400"/>
          </a:xfrm>
        </p:grpSpPr>
        <p:sp>
          <p:nvSpPr>
            <p:cNvPr id="544" name=""/>
            <p:cNvSpPr/>
            <p:nvPr/>
          </p:nvSpPr>
          <p:spPr>
            <a:xfrm>
              <a:off x="4262400" y="174636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3961080" y="1600200"/>
              <a:ext cx="385560" cy="291960"/>
              <a:chOff x="3961080" y="1600200"/>
              <a:chExt cx="385560" cy="291960"/>
            </a:xfrm>
          </p:grpSpPr>
          <p:sp>
            <p:nvSpPr>
              <p:cNvPr id="546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0" name=""/>
            <p:cNvSpPr/>
            <p:nvPr/>
          </p:nvSpPr>
          <p:spPr>
            <a:xfrm>
              <a:off x="3733920" y="175248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4262400" y="266688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52" name=""/>
            <p:cNvGrpSpPr/>
            <p:nvPr/>
          </p:nvGrpSpPr>
          <p:grpSpPr>
            <a:xfrm>
              <a:off x="3961080" y="2527560"/>
              <a:ext cx="385560" cy="291960"/>
              <a:chOff x="3961080" y="2527560"/>
              <a:chExt cx="385560" cy="291960"/>
            </a:xfrm>
          </p:grpSpPr>
          <p:sp>
            <p:nvSpPr>
              <p:cNvPr id="553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57" name=""/>
            <p:cNvSpPr/>
            <p:nvPr/>
          </p:nvSpPr>
          <p:spPr>
            <a:xfrm flipV="1">
              <a:off x="3733920" y="2665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029200" y="1600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029200" y="2438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572000" y="14479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72000" y="23623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80080" y="2895480"/>
              <a:ext cx="160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0 or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1076400" y="4267080"/>
            <a:ext cx="1673280" cy="1669680"/>
            <a:chOff x="1076400" y="4267080"/>
            <a:chExt cx="1673280" cy="1669680"/>
          </a:xfrm>
        </p:grpSpPr>
        <p:sp>
          <p:nvSpPr>
            <p:cNvPr id="566" name=""/>
            <p:cNvSpPr/>
            <p:nvPr/>
          </p:nvSpPr>
          <p:spPr>
            <a:xfrm>
              <a:off x="2058840" y="464184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757520" y="4495680"/>
              <a:ext cx="385560" cy="291960"/>
              <a:chOff x="1757520" y="4495680"/>
              <a:chExt cx="385560" cy="291960"/>
            </a:xfrm>
          </p:grpSpPr>
          <p:sp>
            <p:nvSpPr>
              <p:cNvPr id="568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2" name=""/>
            <p:cNvSpPr/>
            <p:nvPr/>
          </p:nvSpPr>
          <p:spPr>
            <a:xfrm>
              <a:off x="1530360" y="464796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2058840" y="556236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1757520" y="5423040"/>
              <a:ext cx="385560" cy="291960"/>
              <a:chOff x="1757520" y="5423040"/>
              <a:chExt cx="385560" cy="29196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9" name=""/>
            <p:cNvSpPr/>
            <p:nvPr/>
          </p:nvSpPr>
          <p:spPr>
            <a:xfrm flipV="1">
              <a:off x="1530360" y="556092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30360" y="464796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584" name=""/>
          <p:cNvGraphicFramePr/>
          <p:nvPr/>
        </p:nvGraphicFramePr>
        <p:xfrm>
          <a:off x="3505320" y="3505320"/>
          <a:ext cx="3973320" cy="3182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505320"/>
                    <a:ext cx="3973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3505320" y="3505320"/>
          <a:ext cx="3973320" cy="318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505320"/>
                    <a:ext cx="3973320" cy="31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8" name=""/>
          <p:cNvGraphicFramePr/>
          <p:nvPr/>
        </p:nvGraphicFramePr>
        <p:xfrm>
          <a:off x="3494160" y="3416400"/>
          <a:ext cx="4201920" cy="3365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4160" y="3416400"/>
                    <a:ext cx="4201920" cy="33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1 Bit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733920" y="1066680"/>
            <a:ext cx="1933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istable Ele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3733920" y="1447920"/>
            <a:ext cx="1752480" cy="1760400"/>
            <a:chOff x="3733920" y="1447920"/>
            <a:chExt cx="1752480" cy="1760400"/>
          </a:xfrm>
        </p:grpSpPr>
        <p:sp>
          <p:nvSpPr>
            <p:cNvPr id="593" name=""/>
            <p:cNvSpPr/>
            <p:nvPr/>
          </p:nvSpPr>
          <p:spPr>
            <a:xfrm>
              <a:off x="4262400" y="174636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3961080" y="1600200"/>
              <a:ext cx="385560" cy="291960"/>
              <a:chOff x="3961080" y="1600200"/>
              <a:chExt cx="385560" cy="291960"/>
            </a:xfrm>
          </p:grpSpPr>
          <p:sp>
            <p:nvSpPr>
              <p:cNvPr id="595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3961080" y="1600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268880" y="170496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99" name=""/>
            <p:cNvSpPr/>
            <p:nvPr/>
          </p:nvSpPr>
          <p:spPr>
            <a:xfrm>
              <a:off x="3733920" y="175248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4262400" y="266688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01" name=""/>
            <p:cNvGrpSpPr/>
            <p:nvPr/>
          </p:nvGrpSpPr>
          <p:grpSpPr>
            <a:xfrm>
              <a:off x="3961080" y="2527560"/>
              <a:ext cx="385560" cy="291960"/>
              <a:chOff x="3961080" y="2527560"/>
              <a:chExt cx="385560" cy="291960"/>
            </a:xfrm>
          </p:grpSpPr>
          <p:sp>
            <p:nvSpPr>
              <p:cNvPr id="602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3961080" y="252720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4268880" y="2638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6" name=""/>
            <p:cNvSpPr/>
            <p:nvPr/>
          </p:nvSpPr>
          <p:spPr>
            <a:xfrm flipV="1">
              <a:off x="3733920" y="2665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3733920" y="175248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029200" y="1600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029200" y="2438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72000" y="14479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72000" y="236232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880080" y="2895480"/>
              <a:ext cx="16002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= 0 or 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1076400" y="4267080"/>
            <a:ext cx="1673280" cy="1669680"/>
            <a:chOff x="1076400" y="4267080"/>
            <a:chExt cx="1673280" cy="1669680"/>
          </a:xfrm>
        </p:grpSpPr>
        <p:sp>
          <p:nvSpPr>
            <p:cNvPr id="615" name=""/>
            <p:cNvSpPr/>
            <p:nvPr/>
          </p:nvSpPr>
          <p:spPr>
            <a:xfrm>
              <a:off x="2058840" y="4641840"/>
              <a:ext cx="6908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1757520" y="4495680"/>
              <a:ext cx="385560" cy="291960"/>
              <a:chOff x="1757520" y="4495680"/>
              <a:chExt cx="385560" cy="291960"/>
            </a:xfrm>
          </p:grpSpPr>
          <p:sp>
            <p:nvSpPr>
              <p:cNvPr id="617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757520" y="4495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2065320" y="460044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>
              <a:off x="1530360" y="4647960"/>
              <a:ext cx="227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2058840" y="5562360"/>
              <a:ext cx="6908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23" name=""/>
            <p:cNvGrpSpPr/>
            <p:nvPr/>
          </p:nvGrpSpPr>
          <p:grpSpPr>
            <a:xfrm>
              <a:off x="1757520" y="5423040"/>
              <a:ext cx="385560" cy="291960"/>
              <a:chOff x="1757520" y="5423040"/>
              <a:chExt cx="385560" cy="291960"/>
            </a:xfrm>
          </p:grpSpPr>
          <p:sp>
            <p:nvSpPr>
              <p:cNvPr id="624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1757520" y="54226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2065320" y="5533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 flipV="1">
              <a:off x="1530360" y="556092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530360" y="4647960"/>
              <a:ext cx="838080" cy="9144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076400" y="3962520"/>
            <a:ext cx="1668240" cy="1974240"/>
            <a:chOff x="1076400" y="3962520"/>
            <a:chExt cx="1668240" cy="1974240"/>
          </a:xfrm>
        </p:grpSpPr>
        <p:sp>
          <p:nvSpPr>
            <p:cNvPr id="634" name=""/>
            <p:cNvSpPr/>
            <p:nvPr/>
          </p:nvSpPr>
          <p:spPr>
            <a:xfrm>
              <a:off x="2054160" y="4641840"/>
              <a:ext cx="690480" cy="5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1752480" y="4495680"/>
              <a:ext cx="385560" cy="291600"/>
              <a:chOff x="1752480" y="4495680"/>
              <a:chExt cx="385560" cy="291600"/>
            </a:xfrm>
          </p:grpSpPr>
          <p:sp>
            <p:nvSpPr>
              <p:cNvPr id="636" name=""/>
              <p:cNvSpPr/>
              <p:nvPr/>
            </p:nvSpPr>
            <p:spPr>
              <a:xfrm>
                <a:off x="1752480" y="4495680"/>
                <a:ext cx="30132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1752480" y="4495680"/>
                <a:ext cx="30132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2060280" y="460008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060280" y="460008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0" name=""/>
            <p:cNvSpPr/>
            <p:nvPr/>
          </p:nvSpPr>
          <p:spPr>
            <a:xfrm>
              <a:off x="1525680" y="46479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054160" y="5562000"/>
              <a:ext cx="6904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2" name=""/>
            <p:cNvGrpSpPr/>
            <p:nvPr/>
          </p:nvGrpSpPr>
          <p:grpSpPr>
            <a:xfrm>
              <a:off x="1752480" y="5422320"/>
              <a:ext cx="385560" cy="291960"/>
              <a:chOff x="1752480" y="5422320"/>
              <a:chExt cx="385560" cy="291960"/>
            </a:xfrm>
          </p:grpSpPr>
          <p:sp>
            <p:nvSpPr>
              <p:cNvPr id="643" name=""/>
              <p:cNvSpPr/>
              <p:nvPr/>
            </p:nvSpPr>
            <p:spPr>
              <a:xfrm flipV="1">
                <a:off x="1752480" y="54219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1752480" y="54219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2060280" y="5533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2060280" y="553320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7" name=""/>
            <p:cNvSpPr/>
            <p:nvPr/>
          </p:nvSpPr>
          <p:spPr>
            <a:xfrm flipV="1">
              <a:off x="1525680" y="5560560"/>
              <a:ext cx="22680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525680" y="4647960"/>
              <a:ext cx="838080" cy="91404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1525680" y="4647240"/>
              <a:ext cx="838080" cy="91404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76400" y="5410080"/>
              <a:ext cx="36180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64320" y="556236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39120" y="4267080"/>
              <a:ext cx="31752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447920" y="3962520"/>
              <a:ext cx="126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in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= V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4" name=""/>
          <p:cNvGrpSpPr/>
          <p:nvPr/>
        </p:nvGrpSpPr>
        <p:grpSpPr>
          <a:xfrm>
            <a:off x="2209680" y="6019920"/>
            <a:ext cx="1447920" cy="340560"/>
            <a:chOff x="2209680" y="6019920"/>
            <a:chExt cx="1447920" cy="340560"/>
          </a:xfrm>
        </p:grpSpPr>
        <p:sp>
          <p:nvSpPr>
            <p:cNvPr id="655" name=""/>
            <p:cNvSpPr/>
            <p:nvPr/>
          </p:nvSpPr>
          <p:spPr>
            <a:xfrm>
              <a:off x="3200400" y="6172200"/>
              <a:ext cx="457200" cy="763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209680" y="601992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6934320" y="3048120"/>
            <a:ext cx="1272960" cy="457200"/>
            <a:chOff x="6934320" y="3048120"/>
            <a:chExt cx="1272960" cy="457200"/>
          </a:xfrm>
        </p:grpSpPr>
        <p:sp>
          <p:nvSpPr>
            <p:cNvPr id="658" name=""/>
            <p:cNvSpPr/>
            <p:nvPr/>
          </p:nvSpPr>
          <p:spPr>
            <a:xfrm flipH="1">
              <a:off x="6934320" y="3276720"/>
              <a:ext cx="30456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8880" y="304812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5333760" y="5028840"/>
            <a:ext cx="1272600" cy="493200"/>
            <a:chOff x="5333760" y="5028840"/>
            <a:chExt cx="1272600" cy="493200"/>
          </a:xfrm>
        </p:grpSpPr>
        <p:sp>
          <p:nvSpPr>
            <p:cNvPr id="661" name=""/>
            <p:cNvSpPr/>
            <p:nvPr/>
          </p:nvSpPr>
          <p:spPr>
            <a:xfrm flipH="1" flipV="1">
              <a:off x="5333760" y="5028840"/>
              <a:ext cx="22860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34480" y="5181480"/>
              <a:ext cx="1271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hysical Analog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664" name=""/>
          <p:cNvGraphicFramePr/>
          <p:nvPr/>
        </p:nvGraphicFramePr>
        <p:xfrm>
          <a:off x="2982960" y="1066680"/>
          <a:ext cx="3973320" cy="318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2960" y="1066680"/>
                    <a:ext cx="397332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"/>
          <p:cNvGraphicFramePr/>
          <p:nvPr/>
        </p:nvGraphicFramePr>
        <p:xfrm>
          <a:off x="2971800" y="977760"/>
          <a:ext cx="4202280" cy="3365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977760"/>
                    <a:ext cx="420228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68" name=""/>
          <p:cNvGrpSpPr/>
          <p:nvPr/>
        </p:nvGrpSpPr>
        <p:grpSpPr>
          <a:xfrm>
            <a:off x="1687680" y="3581280"/>
            <a:ext cx="1447200" cy="340560"/>
            <a:chOff x="1687680" y="3581280"/>
            <a:chExt cx="1447200" cy="340560"/>
          </a:xfrm>
        </p:grpSpPr>
        <p:sp>
          <p:nvSpPr>
            <p:cNvPr id="669" name=""/>
            <p:cNvSpPr/>
            <p:nvPr/>
          </p:nvSpPr>
          <p:spPr>
            <a:xfrm>
              <a:off x="2678040" y="3733560"/>
              <a:ext cx="456840" cy="763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29520" bIns="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687680" y="358128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6411960" y="609480"/>
            <a:ext cx="1272960" cy="457200"/>
            <a:chOff x="6411960" y="609480"/>
            <a:chExt cx="1272960" cy="457200"/>
          </a:xfrm>
        </p:grpSpPr>
        <p:sp>
          <p:nvSpPr>
            <p:cNvPr id="672" name=""/>
            <p:cNvSpPr/>
            <p:nvPr/>
          </p:nvSpPr>
          <p:spPr>
            <a:xfrm flipH="1">
              <a:off x="6411960" y="838080"/>
              <a:ext cx="30456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716520" y="609480"/>
              <a:ext cx="9684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able 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811400" y="2590560"/>
            <a:ext cx="1272600" cy="493200"/>
            <a:chOff x="4811400" y="2590560"/>
            <a:chExt cx="1272600" cy="493200"/>
          </a:xfrm>
        </p:grpSpPr>
        <p:sp>
          <p:nvSpPr>
            <p:cNvPr id="675" name=""/>
            <p:cNvSpPr/>
            <p:nvPr/>
          </p:nvSpPr>
          <p:spPr>
            <a:xfrm flipH="1" flipV="1">
              <a:off x="4811400" y="2590560"/>
              <a:ext cx="228600" cy="15228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812120" y="2743200"/>
              <a:ext cx="1271880" cy="34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1066680" y="5532120"/>
            <a:ext cx="2210040" cy="1216080"/>
            <a:chOff x="1066680" y="5532120"/>
            <a:chExt cx="2210040" cy="1216080"/>
          </a:xfrm>
        </p:grpSpPr>
        <p:grpSp>
          <p:nvGrpSpPr>
            <p:cNvPr id="678" name=""/>
            <p:cNvGrpSpPr/>
            <p:nvPr/>
          </p:nvGrpSpPr>
          <p:grpSpPr>
            <a:xfrm>
              <a:off x="1066680" y="5573160"/>
              <a:ext cx="2210040" cy="1175040"/>
              <a:chOff x="1066680" y="5573160"/>
              <a:chExt cx="2210040" cy="1175040"/>
            </a:xfrm>
          </p:grpSpPr>
          <p:sp>
            <p:nvSpPr>
              <p:cNvPr id="679" name=""/>
              <p:cNvSpPr/>
              <p:nvPr/>
            </p:nvSpPr>
            <p:spPr>
              <a:xfrm>
                <a:off x="2209680" y="5869080"/>
                <a:ext cx="106704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80" name=""/>
              <p:cNvGrpSpPr/>
              <p:nvPr/>
            </p:nvGrpSpPr>
            <p:grpSpPr>
              <a:xfrm>
                <a:off x="1141200" y="5573160"/>
                <a:ext cx="1781280" cy="1175040"/>
                <a:chOff x="1141200" y="5573160"/>
                <a:chExt cx="1781280" cy="1175040"/>
              </a:xfrm>
            </p:grpSpPr>
            <p:grpSp>
              <p:nvGrpSpPr>
                <p:cNvPr id="681" name=""/>
                <p:cNvGrpSpPr/>
                <p:nvPr/>
              </p:nvGrpSpPr>
              <p:grpSpPr>
                <a:xfrm>
                  <a:off x="1141200" y="5875200"/>
                  <a:ext cx="1709280" cy="873000"/>
                  <a:chOff x="1141200" y="5875200"/>
                  <a:chExt cx="1709280" cy="873000"/>
                </a:xfrm>
              </p:grpSpPr>
              <p:sp>
                <p:nvSpPr>
                  <p:cNvPr id="682" name=""/>
                  <p:cNvSpPr/>
                  <p:nvPr/>
                </p:nvSpPr>
                <p:spPr>
                  <a:xfrm rot="20269800">
                    <a:off x="1134000" y="6199920"/>
                    <a:ext cx="1752480" cy="15264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 rot="20269800">
                    <a:off x="1187280" y="6397560"/>
                    <a:ext cx="304560" cy="3045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84" name=""/>
                <p:cNvSpPr/>
                <p:nvPr/>
              </p:nvSpPr>
              <p:spPr>
                <a:xfrm rot="20269800">
                  <a:off x="2554920" y="56062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5" name=""/>
              <p:cNvSpPr/>
              <p:nvPr/>
            </p:nvSpPr>
            <p:spPr>
              <a:xfrm>
                <a:off x="1066680" y="6707160"/>
                <a:ext cx="6098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1303200" y="5532120"/>
              <a:ext cx="108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le lef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6337080" y="5535360"/>
            <a:ext cx="2209680" cy="1213200"/>
            <a:chOff x="6337080" y="5535360"/>
            <a:chExt cx="2209680" cy="1213200"/>
          </a:xfrm>
        </p:grpSpPr>
        <p:grpSp>
          <p:nvGrpSpPr>
            <p:cNvPr id="688" name=""/>
            <p:cNvGrpSpPr/>
            <p:nvPr/>
          </p:nvGrpSpPr>
          <p:grpSpPr>
            <a:xfrm>
              <a:off x="6337080" y="5572800"/>
              <a:ext cx="2209680" cy="1175760"/>
              <a:chOff x="6337080" y="5572800"/>
              <a:chExt cx="2209680" cy="1175760"/>
            </a:xfrm>
          </p:grpSpPr>
          <p:sp>
            <p:nvSpPr>
              <p:cNvPr id="689" name=""/>
              <p:cNvSpPr/>
              <p:nvPr/>
            </p:nvSpPr>
            <p:spPr>
              <a:xfrm flipH="1">
                <a:off x="6336720" y="58690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690" name=""/>
              <p:cNvGrpSpPr/>
              <p:nvPr/>
            </p:nvGrpSpPr>
            <p:grpSpPr>
              <a:xfrm>
                <a:off x="6690600" y="5572800"/>
                <a:ext cx="1782000" cy="1175760"/>
                <a:chOff x="6690600" y="5572800"/>
                <a:chExt cx="1782000" cy="1175760"/>
              </a:xfrm>
            </p:grpSpPr>
            <p:grpSp>
              <p:nvGrpSpPr>
                <p:cNvPr id="691" name=""/>
                <p:cNvGrpSpPr/>
                <p:nvPr/>
              </p:nvGrpSpPr>
              <p:grpSpPr>
                <a:xfrm>
                  <a:off x="6762960" y="5875200"/>
                  <a:ext cx="1709640" cy="873360"/>
                  <a:chOff x="6762960" y="5875200"/>
                  <a:chExt cx="1709640" cy="873360"/>
                </a:xfrm>
              </p:grpSpPr>
              <p:sp>
                <p:nvSpPr>
                  <p:cNvPr id="692" name=""/>
                  <p:cNvSpPr/>
                  <p:nvPr/>
                </p:nvSpPr>
                <p:spPr>
                  <a:xfrm flipH="1" rot="1330200">
                    <a:off x="6726240" y="6199920"/>
                    <a:ext cx="1752840" cy="15228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 flipH="1" rot="1330200">
                    <a:off x="8121240" y="6397200"/>
                    <a:ext cx="304920" cy="30492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94" name=""/>
                <p:cNvSpPr/>
                <p:nvPr/>
              </p:nvSpPr>
              <p:spPr>
                <a:xfrm flipH="1" rot="1330200">
                  <a:off x="6777720" y="560628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5" name=""/>
              <p:cNvSpPr/>
              <p:nvPr/>
            </p:nvSpPr>
            <p:spPr>
              <a:xfrm flipH="1">
                <a:off x="7937280" y="6707160"/>
                <a:ext cx="6094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96" name=""/>
            <p:cNvSpPr/>
            <p:nvPr/>
          </p:nvSpPr>
          <p:spPr>
            <a:xfrm>
              <a:off x="7148520" y="5535360"/>
              <a:ext cx="120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table righ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4273560" y="4305240"/>
            <a:ext cx="1855440" cy="2401920"/>
            <a:chOff x="4273560" y="4305240"/>
            <a:chExt cx="1855440" cy="2401920"/>
          </a:xfrm>
        </p:grpSpPr>
        <p:grpSp>
          <p:nvGrpSpPr>
            <p:cNvPr id="698" name=""/>
            <p:cNvGrpSpPr/>
            <p:nvPr/>
          </p:nvGrpSpPr>
          <p:grpSpPr>
            <a:xfrm>
              <a:off x="4273560" y="4305240"/>
              <a:ext cx="1066680" cy="2401920"/>
              <a:chOff x="4273560" y="4305240"/>
              <a:chExt cx="1066680" cy="2401920"/>
            </a:xfrm>
          </p:grpSpPr>
          <p:sp>
            <p:nvSpPr>
              <p:cNvPr id="699" name=""/>
              <p:cNvSpPr/>
              <p:nvPr/>
            </p:nvSpPr>
            <p:spPr>
              <a:xfrm>
                <a:off x="4273560" y="5869080"/>
                <a:ext cx="1066680" cy="83808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00" name=""/>
              <p:cNvGrpSpPr/>
              <p:nvPr/>
            </p:nvGrpSpPr>
            <p:grpSpPr>
              <a:xfrm>
                <a:off x="4659840" y="4305240"/>
                <a:ext cx="540000" cy="1805760"/>
                <a:chOff x="4659840" y="4305240"/>
                <a:chExt cx="540000" cy="1805760"/>
              </a:xfrm>
            </p:grpSpPr>
            <p:grpSp>
              <p:nvGrpSpPr>
                <p:cNvPr id="701" name=""/>
                <p:cNvGrpSpPr/>
                <p:nvPr/>
              </p:nvGrpSpPr>
              <p:grpSpPr>
                <a:xfrm>
                  <a:off x="4659840" y="4305240"/>
                  <a:ext cx="305640" cy="1752840"/>
                  <a:chOff x="4659840" y="4305240"/>
                  <a:chExt cx="305640" cy="1752840"/>
                </a:xfrm>
              </p:grpSpPr>
              <p:sp>
                <p:nvSpPr>
                  <p:cNvPr id="702" name=""/>
                  <p:cNvSpPr/>
                  <p:nvPr/>
                </p:nvSpPr>
                <p:spPr>
                  <a:xfrm rot="5388600">
                    <a:off x="3938760" y="5105160"/>
                    <a:ext cx="1752480" cy="152640"/>
                  </a:xfrm>
                  <a:prstGeom prst="flowChartTerminator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 rot="5388600">
                    <a:off x="4660200" y="4305600"/>
                    <a:ext cx="304560" cy="30456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4" name=""/>
                <p:cNvSpPr/>
                <p:nvPr/>
              </p:nvSpPr>
              <p:spPr>
                <a:xfrm rot="5388600">
                  <a:off x="4798800" y="5709600"/>
                  <a:ext cx="2797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66"/>
                      </a:solidFill>
                      <a:latin typeface="Arial"/>
                    </a:rPr>
                    <a:t>.</a:t>
                  </a:r>
                  <a:endParaRPr b="0" lang="en-US" sz="2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5" name=""/>
            <p:cNvSpPr/>
            <p:nvPr/>
          </p:nvSpPr>
          <p:spPr>
            <a:xfrm>
              <a:off x="4954680" y="4723920"/>
              <a:ext cx="117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etastab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oring and Accessing 1 B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707" name=""/>
          <p:cNvGrpSpPr/>
          <p:nvPr/>
        </p:nvGrpSpPr>
        <p:grpSpPr>
          <a:xfrm>
            <a:off x="4876920" y="1295280"/>
            <a:ext cx="3809880" cy="1864440"/>
            <a:chOff x="4876920" y="1295280"/>
            <a:chExt cx="3809880" cy="1864440"/>
          </a:xfrm>
        </p:grpSpPr>
        <p:grpSp>
          <p:nvGrpSpPr>
            <p:cNvPr id="708" name=""/>
            <p:cNvGrpSpPr/>
            <p:nvPr/>
          </p:nvGrpSpPr>
          <p:grpSpPr>
            <a:xfrm>
              <a:off x="4876920" y="1676160"/>
              <a:ext cx="3809880" cy="1483560"/>
              <a:chOff x="4876920" y="1676160"/>
              <a:chExt cx="3809880" cy="1483560"/>
            </a:xfrm>
          </p:grpSpPr>
          <p:grpSp>
            <p:nvGrpSpPr>
              <p:cNvPr id="709" name=""/>
              <p:cNvGrpSpPr/>
              <p:nvPr/>
            </p:nvGrpSpPr>
            <p:grpSpPr>
              <a:xfrm>
                <a:off x="5334120" y="1787040"/>
                <a:ext cx="2819520" cy="457200"/>
                <a:chOff x="5334120" y="1787040"/>
                <a:chExt cx="2819520" cy="457200"/>
              </a:xfrm>
            </p:grpSpPr>
            <p:sp>
              <p:nvSpPr>
                <p:cNvPr id="710" name=""/>
                <p:cNvSpPr/>
                <p:nvPr/>
              </p:nvSpPr>
              <p:spPr>
                <a:xfrm>
                  <a:off x="5943600" y="2168280"/>
                  <a:ext cx="45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5334120" y="1863360"/>
                  <a:ext cx="106524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6321600" y="1787040"/>
                  <a:ext cx="650880" cy="43992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7462800" y="2009520"/>
                  <a:ext cx="69084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14" name=""/>
                <p:cNvGrpSpPr/>
                <p:nvPr/>
              </p:nvGrpSpPr>
              <p:grpSpPr>
                <a:xfrm>
                  <a:off x="7161480" y="1863360"/>
                  <a:ext cx="385560" cy="291960"/>
                  <a:chOff x="7161480" y="1863360"/>
                  <a:chExt cx="385560" cy="291960"/>
                </a:xfrm>
              </p:grpSpPr>
              <p:sp>
                <p:nvSpPr>
                  <p:cNvPr id="715" name=""/>
                  <p:cNvSpPr/>
                  <p:nvPr/>
                </p:nvSpPr>
                <p:spPr>
                  <a:xfrm>
                    <a:off x="7161480" y="186336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7161480" y="186336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7" name=""/>
                  <p:cNvSpPr/>
                  <p:nvPr/>
                </p:nvSpPr>
                <p:spPr>
                  <a:xfrm>
                    <a:off x="7469280" y="196812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8" name=""/>
                  <p:cNvSpPr/>
                  <p:nvPr/>
                </p:nvSpPr>
                <p:spPr>
                  <a:xfrm>
                    <a:off x="7469280" y="196812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19" name=""/>
                <p:cNvSpPr/>
                <p:nvPr/>
              </p:nvSpPr>
              <p:spPr>
                <a:xfrm>
                  <a:off x="6934320" y="2015640"/>
                  <a:ext cx="227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6321600" y="1804680"/>
                  <a:ext cx="650880" cy="43956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1" name=""/>
              <p:cNvGrpSpPr/>
              <p:nvPr/>
            </p:nvGrpSpPr>
            <p:grpSpPr>
              <a:xfrm>
                <a:off x="5334120" y="2625480"/>
                <a:ext cx="2819520" cy="457200"/>
                <a:chOff x="5334120" y="2625480"/>
                <a:chExt cx="2819520" cy="45720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5943600" y="2701440"/>
                  <a:ext cx="455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 flipV="1">
                  <a:off x="5334120" y="2993760"/>
                  <a:ext cx="1065240" cy="126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 flipV="1">
                  <a:off x="6321600" y="2642760"/>
                  <a:ext cx="650880" cy="43992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 flipV="1">
                  <a:off x="7462800" y="2854080"/>
                  <a:ext cx="690840" cy="61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26" name=""/>
                <p:cNvGrpSpPr/>
                <p:nvPr/>
              </p:nvGrpSpPr>
              <p:grpSpPr>
                <a:xfrm>
                  <a:off x="7161480" y="2714400"/>
                  <a:ext cx="385560" cy="291960"/>
                  <a:chOff x="7161480" y="2714400"/>
                  <a:chExt cx="385560" cy="29196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 flipV="1">
                    <a:off x="7161480" y="271404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 flipV="1">
                    <a:off x="7161480" y="2714040"/>
                    <a:ext cx="301320" cy="29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90" h="184">
                        <a:moveTo>
                          <a:pt x="0" y="0"/>
                        </a:moveTo>
                        <a:lnTo>
                          <a:pt x="0" y="184"/>
                        </a:lnTo>
                        <a:lnTo>
                          <a:pt x="190" y="9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 flipV="1">
                    <a:off x="7469280" y="282528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 flipV="1">
                    <a:off x="7469280" y="2825280"/>
                    <a:ext cx="7776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48">
                        <a:moveTo>
                          <a:pt x="49" y="26"/>
                        </a:moveTo>
                        <a:lnTo>
                          <a:pt x="42" y="41"/>
                        </a:lnTo>
                        <a:lnTo>
                          <a:pt x="23" y="48"/>
                        </a:lnTo>
                        <a:lnTo>
                          <a:pt x="23" y="48"/>
                        </a:lnTo>
                        <a:lnTo>
                          <a:pt x="8" y="41"/>
                        </a:lnTo>
                        <a:lnTo>
                          <a:pt x="0" y="26"/>
                        </a:lnTo>
                        <a:lnTo>
                          <a:pt x="0" y="26"/>
                        </a:lnTo>
                        <a:lnTo>
                          <a:pt x="8" y="8"/>
                        </a:lnTo>
                        <a:lnTo>
                          <a:pt x="23" y="0"/>
                        </a:lnTo>
                        <a:lnTo>
                          <a:pt x="23" y="0"/>
                        </a:lnTo>
                        <a:lnTo>
                          <a:pt x="42" y="8"/>
                        </a:lnTo>
                        <a:lnTo>
                          <a:pt x="49" y="26"/>
                        </a:lnTo>
                      </a:path>
                    </a:pathLst>
                  </a:custGeom>
                  <a:solidFill>
                    <a:srgbClr val="ccec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31" name=""/>
                <p:cNvSpPr/>
                <p:nvPr/>
              </p:nvSpPr>
              <p:spPr>
                <a:xfrm flipV="1">
                  <a:off x="6934320" y="2852280"/>
                  <a:ext cx="227160" cy="1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 flipV="1">
                  <a:off x="6321600" y="2625120"/>
                  <a:ext cx="650880" cy="439560"/>
                </a:xfrm>
                <a:custGeom>
                  <a:avLst/>
                  <a:gdLst/>
                  <a:ahLst/>
                  <a:rect l="l" t="t" r="r" b="b"/>
                  <a:pathLst>
                    <a:path w="410" h="277">
                      <a:moveTo>
                        <a:pt x="0" y="0"/>
                      </a:moveTo>
                      <a:lnTo>
                        <a:pt x="190" y="0"/>
                      </a:lnTo>
                      <a:lnTo>
                        <a:pt x="190" y="0"/>
                      </a:lnTo>
                      <a:lnTo>
                        <a:pt x="227" y="3"/>
                      </a:lnTo>
                      <a:lnTo>
                        <a:pt x="262" y="11"/>
                      </a:lnTo>
                      <a:lnTo>
                        <a:pt x="292" y="22"/>
                      </a:lnTo>
                      <a:lnTo>
                        <a:pt x="322" y="40"/>
                      </a:lnTo>
                      <a:lnTo>
                        <a:pt x="372" y="81"/>
                      </a:lnTo>
                      <a:lnTo>
                        <a:pt x="410" y="140"/>
                      </a:lnTo>
                      <a:lnTo>
                        <a:pt x="410" y="140"/>
                      </a:lnTo>
                      <a:lnTo>
                        <a:pt x="372" y="195"/>
                      </a:lnTo>
                      <a:lnTo>
                        <a:pt x="322" y="240"/>
                      </a:lnTo>
                      <a:lnTo>
                        <a:pt x="292" y="254"/>
                      </a:lnTo>
                      <a:lnTo>
                        <a:pt x="262" y="266"/>
                      </a:lnTo>
                      <a:lnTo>
                        <a:pt x="227" y="273"/>
                      </a:lnTo>
                      <a:lnTo>
                        <a:pt x="190" y="277"/>
                      </a:lnTo>
                      <a:lnTo>
                        <a:pt x="19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0" y="277"/>
                      </a:lnTo>
                      <a:lnTo>
                        <a:pt x="22" y="247"/>
                      </a:lnTo>
                      <a:lnTo>
                        <a:pt x="38" y="214"/>
                      </a:lnTo>
                      <a:lnTo>
                        <a:pt x="45" y="177"/>
                      </a:lnTo>
                      <a:lnTo>
                        <a:pt x="49" y="140"/>
                      </a:lnTo>
                      <a:lnTo>
                        <a:pt x="49" y="140"/>
                      </a:lnTo>
                      <a:lnTo>
                        <a:pt x="45" y="99"/>
                      </a:lnTo>
                      <a:lnTo>
                        <a:pt x="38" y="66"/>
                      </a:lnTo>
                      <a:lnTo>
                        <a:pt x="22" y="33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33" name=""/>
              <p:cNvSpPr/>
              <p:nvPr/>
            </p:nvSpPr>
            <p:spPr>
              <a:xfrm>
                <a:off x="5943600" y="216828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943600" y="2014920"/>
                <a:ext cx="1828800" cy="6858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229600" y="182844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229600" y="266652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–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876920" y="167616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876920" y="281916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S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39" name=""/>
            <p:cNvSpPr/>
            <p:nvPr/>
          </p:nvSpPr>
          <p:spPr>
            <a:xfrm>
              <a:off x="6019560" y="1295280"/>
              <a:ext cx="11588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S Latch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304920" y="4114800"/>
            <a:ext cx="2590560" cy="1546200"/>
            <a:chOff x="304920" y="4114800"/>
            <a:chExt cx="2590560" cy="1546200"/>
          </a:xfrm>
        </p:grpSpPr>
        <p:pic>
          <p:nvPicPr>
            <p:cNvPr id="741" name="" descr=""/>
            <p:cNvPicPr/>
            <p:nvPr/>
          </p:nvPicPr>
          <p:blipFill>
            <a:blip r:embed="rId1"/>
            <a:stretch/>
          </p:blipFill>
          <p:spPr>
            <a:xfrm>
              <a:off x="304920" y="4648320"/>
              <a:ext cx="259056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381240" y="4114800"/>
              <a:ext cx="113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esett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480" y="44607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480" y="52228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600200" y="4495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286000" y="45720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00200" y="51814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286000" y="51465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3352680" y="4114800"/>
            <a:ext cx="2590920" cy="1546200"/>
            <a:chOff x="3352680" y="4114800"/>
            <a:chExt cx="2590920" cy="1546200"/>
          </a:xfrm>
        </p:grpSpPr>
        <p:pic>
          <p:nvPicPr>
            <p:cNvPr id="750" name="" descr=""/>
            <p:cNvPicPr/>
            <p:nvPr/>
          </p:nvPicPr>
          <p:blipFill>
            <a:blip r:embed="rId2"/>
            <a:stretch/>
          </p:blipFill>
          <p:spPr>
            <a:xfrm>
              <a:off x="3352680" y="4648320"/>
              <a:ext cx="25909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3438000" y="4114800"/>
              <a:ext cx="867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ett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57600" y="44607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657600" y="52228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48320" y="4495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334120" y="45720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648320" y="51814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334120" y="51465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8" name=""/>
          <p:cNvGrpSpPr/>
          <p:nvPr/>
        </p:nvGrpSpPr>
        <p:grpSpPr>
          <a:xfrm>
            <a:off x="6400800" y="4114800"/>
            <a:ext cx="2590920" cy="1546200"/>
            <a:chOff x="6400800" y="4114800"/>
            <a:chExt cx="2590920" cy="1546200"/>
          </a:xfrm>
        </p:grpSpPr>
        <p:pic>
          <p:nvPicPr>
            <p:cNvPr id="759" name="" descr=""/>
            <p:cNvPicPr/>
            <p:nvPr/>
          </p:nvPicPr>
          <p:blipFill>
            <a:blip r:embed="rId3"/>
            <a:stretch/>
          </p:blipFill>
          <p:spPr>
            <a:xfrm>
              <a:off x="6400800" y="4648320"/>
              <a:ext cx="2590920" cy="101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0" name=""/>
            <p:cNvSpPr/>
            <p:nvPr/>
          </p:nvSpPr>
          <p:spPr>
            <a:xfrm>
              <a:off x="6495480" y="4114800"/>
              <a:ext cx="89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or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705720" y="44607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705720" y="52228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696080" y="44956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381880" y="45720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696080" y="518148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381880" y="51465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1981080" y="1066680"/>
            <a:ext cx="1939680" cy="2370240"/>
            <a:chOff x="1981080" y="1066680"/>
            <a:chExt cx="1939680" cy="2370240"/>
          </a:xfrm>
        </p:grpSpPr>
        <p:sp>
          <p:nvSpPr>
            <p:cNvPr id="768" name=""/>
            <p:cNvSpPr/>
            <p:nvPr/>
          </p:nvSpPr>
          <p:spPr>
            <a:xfrm>
              <a:off x="1981080" y="1066680"/>
              <a:ext cx="1933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Bistable Eleme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168280" y="1676520"/>
              <a:ext cx="1752480" cy="1760400"/>
              <a:chOff x="2168280" y="1676520"/>
              <a:chExt cx="1752480" cy="1760400"/>
            </a:xfrm>
          </p:grpSpPr>
          <p:sp>
            <p:nvSpPr>
              <p:cNvPr id="770" name=""/>
              <p:cNvSpPr/>
              <p:nvPr/>
            </p:nvSpPr>
            <p:spPr>
              <a:xfrm>
                <a:off x="2696760" y="1974960"/>
                <a:ext cx="6908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71" name=""/>
              <p:cNvGrpSpPr/>
              <p:nvPr/>
            </p:nvGrpSpPr>
            <p:grpSpPr>
              <a:xfrm>
                <a:off x="2395440" y="1828800"/>
                <a:ext cx="385560" cy="291960"/>
                <a:chOff x="2395440" y="1828800"/>
                <a:chExt cx="385560" cy="291960"/>
              </a:xfrm>
            </p:grpSpPr>
            <p:sp>
              <p:nvSpPr>
                <p:cNvPr id="772" name=""/>
                <p:cNvSpPr/>
                <p:nvPr/>
              </p:nvSpPr>
              <p:spPr>
                <a:xfrm>
                  <a:off x="2395440" y="1828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395440" y="1828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2703240" y="193356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2703240" y="193356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6" name=""/>
              <p:cNvSpPr/>
              <p:nvPr/>
            </p:nvSpPr>
            <p:spPr>
              <a:xfrm>
                <a:off x="2168280" y="1981080"/>
                <a:ext cx="22716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2696760" y="2895480"/>
                <a:ext cx="69084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78" name=""/>
              <p:cNvGrpSpPr/>
              <p:nvPr/>
            </p:nvGrpSpPr>
            <p:grpSpPr>
              <a:xfrm>
                <a:off x="2395440" y="2756160"/>
                <a:ext cx="385560" cy="291960"/>
                <a:chOff x="2395440" y="2756160"/>
                <a:chExt cx="385560" cy="291960"/>
              </a:xfrm>
            </p:grpSpPr>
            <p:sp>
              <p:nvSpPr>
                <p:cNvPr id="779" name=""/>
                <p:cNvSpPr/>
                <p:nvPr/>
              </p:nvSpPr>
              <p:spPr>
                <a:xfrm flipV="1">
                  <a:off x="2395440" y="2755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 flipV="1">
                  <a:off x="2395440" y="2755800"/>
                  <a:ext cx="301320" cy="291960"/>
                </a:xfrm>
                <a:custGeom>
                  <a:avLst/>
                  <a:gdLst/>
                  <a:ahLst/>
                  <a:rect l="l" t="t" r="r" b="b"/>
                  <a:pathLst>
                    <a:path w="190" h="184">
                      <a:moveTo>
                        <a:pt x="0" y="0"/>
                      </a:moveTo>
                      <a:lnTo>
                        <a:pt x="0" y="184"/>
                      </a:lnTo>
                      <a:lnTo>
                        <a:pt x="190" y="9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2703240" y="286704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 flipV="1">
                  <a:off x="2703240" y="2867040"/>
                  <a:ext cx="77760" cy="76320"/>
                </a:xfrm>
                <a:custGeom>
                  <a:avLst/>
                  <a:gdLst/>
                  <a:ahLst/>
                  <a:rect l="l" t="t" r="r" b="b"/>
                  <a:pathLst>
                    <a:path w="49" h="48">
                      <a:moveTo>
                        <a:pt x="49" y="26"/>
                      </a:moveTo>
                      <a:lnTo>
                        <a:pt x="42" y="41"/>
                      </a:lnTo>
                      <a:lnTo>
                        <a:pt x="23" y="48"/>
                      </a:lnTo>
                      <a:lnTo>
                        <a:pt x="23" y="48"/>
                      </a:lnTo>
                      <a:lnTo>
                        <a:pt x="8" y="41"/>
                      </a:lnTo>
                      <a:lnTo>
                        <a:pt x="0" y="26"/>
                      </a:lnTo>
                      <a:lnTo>
                        <a:pt x="0" y="26"/>
                      </a:lnTo>
                      <a:lnTo>
                        <a:pt x="8" y="8"/>
                      </a:lnTo>
                      <a:lnTo>
                        <a:pt x="23" y="0"/>
                      </a:lnTo>
                      <a:lnTo>
                        <a:pt x="23" y="0"/>
                      </a:lnTo>
                      <a:lnTo>
                        <a:pt x="42" y="8"/>
                      </a:lnTo>
                      <a:lnTo>
                        <a:pt x="49" y="26"/>
                      </a:lnTo>
                    </a:path>
                  </a:pathLst>
                </a:custGeom>
                <a:solidFill>
                  <a:srgbClr val="ccecff"/>
                </a:soli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3" name=""/>
              <p:cNvSpPr/>
              <p:nvPr/>
            </p:nvSpPr>
            <p:spPr>
              <a:xfrm flipV="1">
                <a:off x="2168280" y="2894040"/>
                <a:ext cx="22716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168280" y="1981080"/>
                <a:ext cx="838080" cy="9144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2168280" y="1981080"/>
                <a:ext cx="838080" cy="914400"/>
              </a:xfrm>
              <a:custGeom>
                <a:avLst/>
                <a:gdLst/>
                <a:ahLst/>
                <a:rect l="l" t="t" r="r" b="b"/>
                <a:pathLst>
                  <a:path w="1152" h="432">
                    <a:moveTo>
                      <a:pt x="0" y="0"/>
                    </a:moveTo>
                    <a:lnTo>
                      <a:pt x="0" y="96"/>
                    </a:lnTo>
                    <a:lnTo>
                      <a:pt x="1152" y="336"/>
                    </a:lnTo>
                    <a:lnTo>
                      <a:pt x="1152" y="432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463560" y="182880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463560" y="2666880"/>
                <a:ext cx="45720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Q–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006360" y="1676520"/>
                <a:ext cx="381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q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006360" y="2590920"/>
                <a:ext cx="38124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!q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314440" y="3124080"/>
                <a:ext cx="160020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2"/>
                    </a:solidFill>
                    <a:latin typeface="Courier New"/>
                  </a:rPr>
                  <a:t>q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= 0 or 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3124080" y="1295280"/>
            <a:ext cx="2971800" cy="22100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1-Bit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324160" y="990720"/>
            <a:ext cx="930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 Lat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838080" y="1295280"/>
            <a:ext cx="5184720" cy="1964520"/>
            <a:chOff x="838080" y="1295280"/>
            <a:chExt cx="5184720" cy="1964520"/>
          </a:xfrm>
        </p:grpSpPr>
        <p:sp>
          <p:nvSpPr>
            <p:cNvPr id="795" name=""/>
            <p:cNvSpPr/>
            <p:nvPr/>
          </p:nvSpPr>
          <p:spPr>
            <a:xfrm>
              <a:off x="1676520" y="27432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279600" y="2116080"/>
              <a:ext cx="4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203640" y="185256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657600" y="173520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799160" y="1957320"/>
              <a:ext cx="6904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0" name=""/>
            <p:cNvGrpSpPr/>
            <p:nvPr/>
          </p:nvGrpSpPr>
          <p:grpSpPr>
            <a:xfrm>
              <a:off x="4497480" y="1811160"/>
              <a:ext cx="385560" cy="291960"/>
              <a:chOff x="4497480" y="1811160"/>
              <a:chExt cx="385560" cy="291960"/>
            </a:xfrm>
          </p:grpSpPr>
          <p:sp>
            <p:nvSpPr>
              <p:cNvPr id="801" name=""/>
              <p:cNvSpPr/>
              <p:nvPr/>
            </p:nvSpPr>
            <p:spPr>
              <a:xfrm>
                <a:off x="4497480" y="18111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497480" y="181116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805280" y="1915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805280" y="19159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05" name=""/>
            <p:cNvSpPr/>
            <p:nvPr/>
          </p:nvSpPr>
          <p:spPr>
            <a:xfrm>
              <a:off x="4270320" y="196380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657600" y="17524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279600" y="2649600"/>
              <a:ext cx="455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203640" y="2919240"/>
              <a:ext cx="53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3657600" y="259020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799160" y="2801880"/>
              <a:ext cx="6904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11" name=""/>
            <p:cNvGrpSpPr/>
            <p:nvPr/>
          </p:nvGrpSpPr>
          <p:grpSpPr>
            <a:xfrm>
              <a:off x="4497480" y="2661840"/>
              <a:ext cx="385560" cy="291960"/>
              <a:chOff x="4497480" y="2661840"/>
              <a:chExt cx="385560" cy="291960"/>
            </a:xfrm>
          </p:grpSpPr>
          <p:sp>
            <p:nvSpPr>
              <p:cNvPr id="812" name=""/>
              <p:cNvSpPr/>
              <p:nvPr/>
            </p:nvSpPr>
            <p:spPr>
              <a:xfrm flipV="1">
                <a:off x="4497480" y="26614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4497480" y="2661480"/>
                <a:ext cx="30132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4805280" y="2772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4805280" y="2772720"/>
                <a:ext cx="77760" cy="7632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ccec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16" name=""/>
            <p:cNvSpPr/>
            <p:nvPr/>
          </p:nvSpPr>
          <p:spPr>
            <a:xfrm flipV="1">
              <a:off x="4270320" y="2800440"/>
              <a:ext cx="227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3657600" y="25732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279600" y="21160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3279600" y="1963080"/>
              <a:ext cx="1828800" cy="685800"/>
            </a:xfrm>
            <a:custGeom>
              <a:avLst/>
              <a:gdLst/>
              <a:ahLst/>
              <a:rect l="l" t="t" r="r" b="b"/>
              <a:pathLst>
                <a:path w="1152" h="432">
                  <a:moveTo>
                    <a:pt x="0" y="0"/>
                  </a:moveTo>
                  <a:lnTo>
                    <a:pt x="0" y="96"/>
                  </a:lnTo>
                  <a:lnTo>
                    <a:pt x="1152" y="336"/>
                  </a:lnTo>
                  <a:lnTo>
                    <a:pt x="1152" y="432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565600" y="177624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565600" y="2614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Q–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203640" y="14716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203640" y="291924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066680" y="16765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438280" y="19810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592360" y="162396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592360" y="162396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066680" y="3048120"/>
              <a:ext cx="1524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592360" y="2708280"/>
              <a:ext cx="60660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593800" y="269064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V="1">
              <a:off x="2438280" y="1981080"/>
              <a:ext cx="0" cy="1067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1676520" y="1676160"/>
              <a:ext cx="0" cy="106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830240" y="1523880"/>
              <a:ext cx="30168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830240" y="1523880"/>
              <a:ext cx="30168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8400" y="1628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8400" y="1628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7" name=""/>
            <p:cNvGrpSpPr/>
            <p:nvPr/>
          </p:nvGrpSpPr>
          <p:grpSpPr>
            <a:xfrm>
              <a:off x="2362320" y="2971800"/>
              <a:ext cx="152280" cy="152280"/>
              <a:chOff x="2362320" y="2971800"/>
              <a:chExt cx="152280" cy="152280"/>
            </a:xfrm>
          </p:grpSpPr>
          <p:sp>
            <p:nvSpPr>
              <p:cNvPr id="838" name=""/>
              <p:cNvSpPr/>
              <p:nvPr/>
            </p:nvSpPr>
            <p:spPr>
              <a:xfrm>
                <a:off x="2362320" y="29718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400120" y="30099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0" name=""/>
            <p:cNvGrpSpPr/>
            <p:nvPr/>
          </p:nvGrpSpPr>
          <p:grpSpPr>
            <a:xfrm>
              <a:off x="1600200" y="1600200"/>
              <a:ext cx="152280" cy="152280"/>
              <a:chOff x="1600200" y="1600200"/>
              <a:chExt cx="152280" cy="152280"/>
            </a:xfrm>
          </p:grpSpPr>
          <p:sp>
            <p:nvSpPr>
              <p:cNvPr id="841" name=""/>
              <p:cNvSpPr/>
              <p:nvPr/>
            </p:nvSpPr>
            <p:spPr>
              <a:xfrm>
                <a:off x="1600200" y="1600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638000" y="16383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3" name=""/>
            <p:cNvGrpSpPr/>
            <p:nvPr/>
          </p:nvGrpSpPr>
          <p:grpSpPr>
            <a:xfrm>
              <a:off x="5029200" y="1905120"/>
              <a:ext cx="152280" cy="152280"/>
              <a:chOff x="5029200" y="1905120"/>
              <a:chExt cx="152280" cy="152280"/>
            </a:xfrm>
          </p:grpSpPr>
          <p:sp>
            <p:nvSpPr>
              <p:cNvPr id="844" name=""/>
              <p:cNvSpPr/>
              <p:nvPr/>
            </p:nvSpPr>
            <p:spPr>
              <a:xfrm>
                <a:off x="5029200" y="19051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67000" y="194328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"/>
            <p:cNvGrpSpPr/>
            <p:nvPr/>
          </p:nvGrpSpPr>
          <p:grpSpPr>
            <a:xfrm>
              <a:off x="5029200" y="2743200"/>
              <a:ext cx="152280" cy="152280"/>
              <a:chOff x="5029200" y="2743200"/>
              <a:chExt cx="152280" cy="152280"/>
            </a:xfrm>
          </p:grpSpPr>
          <p:sp>
            <p:nvSpPr>
              <p:cNvPr id="847" name=""/>
              <p:cNvSpPr/>
              <p:nvPr/>
            </p:nvSpPr>
            <p:spPr>
              <a:xfrm>
                <a:off x="5029200" y="2743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067000" y="2781360"/>
                <a:ext cx="76320" cy="75960"/>
              </a:xfrm>
              <a:prstGeom prst="ellipse">
                <a:avLst/>
              </a:prstGeom>
              <a:solidFill>
                <a:srgbClr val="00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838080" y="129528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838080" y="27432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838080" y="16765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838080" y="30481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380160" y="4114800"/>
            <a:ext cx="3902760" cy="2065320"/>
            <a:chOff x="380160" y="4114800"/>
            <a:chExt cx="3902760" cy="2065320"/>
          </a:xfrm>
        </p:grpSpPr>
        <p:sp>
          <p:nvSpPr>
            <p:cNvPr id="854" name=""/>
            <p:cNvSpPr/>
            <p:nvPr/>
          </p:nvSpPr>
          <p:spPr>
            <a:xfrm>
              <a:off x="380160" y="4114800"/>
              <a:ext cx="1046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tch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3520" y="5638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56" name="" descr=""/>
            <p:cNvPicPr/>
            <p:nvPr/>
          </p:nvPicPr>
          <p:blipFill>
            <a:blip r:embed="rId1"/>
            <a:stretch/>
          </p:blipFill>
          <p:spPr>
            <a:xfrm>
              <a:off x="762120" y="4724280"/>
              <a:ext cx="352080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7" name=""/>
            <p:cNvSpPr/>
            <p:nvPr/>
          </p:nvSpPr>
          <p:spPr>
            <a:xfrm>
              <a:off x="53352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02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2860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180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05320" y="464832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28600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7180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0532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4800600" y="4114800"/>
            <a:ext cx="3733920" cy="2065320"/>
            <a:chOff x="4800600" y="4114800"/>
            <a:chExt cx="3733920" cy="2065320"/>
          </a:xfrm>
        </p:grpSpPr>
        <p:sp>
          <p:nvSpPr>
            <p:cNvPr id="866" name=""/>
            <p:cNvSpPr/>
            <p:nvPr/>
          </p:nvSpPr>
          <p:spPr>
            <a:xfrm>
              <a:off x="4800600" y="56386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52160" y="4114800"/>
              <a:ext cx="89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tor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68" name="" descr=""/>
            <p:cNvPicPr/>
            <p:nvPr/>
          </p:nvPicPr>
          <p:blipFill>
            <a:blip r:embed="rId2"/>
            <a:stretch/>
          </p:blipFill>
          <p:spPr>
            <a:xfrm>
              <a:off x="5013360" y="4724280"/>
              <a:ext cx="352116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800600" y="471636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867280" y="471636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96080" y="48006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96080" y="5715000"/>
              <a:ext cx="381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162920" y="48006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162920" y="57834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477120" y="5867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77120" y="472428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Transparent 1-Bit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290160" y="4038480"/>
            <a:ext cx="829476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in latching mode, combinational propogation from D to Q+ and Q–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latched depends on value of D as C f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08760" y="1219320"/>
            <a:ext cx="3902760" cy="2065320"/>
            <a:chOff x="608760" y="1219320"/>
            <a:chExt cx="3902760" cy="2065320"/>
          </a:xfrm>
        </p:grpSpPr>
        <p:sp>
          <p:nvSpPr>
            <p:cNvPr id="880" name=""/>
            <p:cNvSpPr/>
            <p:nvPr/>
          </p:nvSpPr>
          <p:spPr>
            <a:xfrm>
              <a:off x="608760" y="1219320"/>
              <a:ext cx="1046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tch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2120" y="27432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882" name="" descr=""/>
            <p:cNvPicPr/>
            <p:nvPr/>
          </p:nvPicPr>
          <p:blipFill>
            <a:blip r:embed="rId1"/>
            <a:stretch/>
          </p:blipFill>
          <p:spPr>
            <a:xfrm>
              <a:off x="990720" y="1828800"/>
              <a:ext cx="3520800" cy="13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3" name=""/>
            <p:cNvSpPr/>
            <p:nvPr/>
          </p:nvSpPr>
          <p:spPr>
            <a:xfrm>
              <a:off x="76212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8288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5146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0040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733920" y="175284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51460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0040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33920" y="2971800"/>
              <a:ext cx="380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2"/>
                  </a:solidFill>
                  <a:latin typeface="Courier New"/>
                </a:rPr>
                <a:t>!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4724280" y="1201680"/>
            <a:ext cx="3962520" cy="2316240"/>
            <a:chOff x="4724280" y="1201680"/>
            <a:chExt cx="3962520" cy="2316240"/>
          </a:xfrm>
        </p:grpSpPr>
        <p:grpSp>
          <p:nvGrpSpPr>
            <p:cNvPr id="892" name=""/>
            <p:cNvGrpSpPr/>
            <p:nvPr/>
          </p:nvGrpSpPr>
          <p:grpSpPr>
            <a:xfrm>
              <a:off x="4724280" y="1905120"/>
              <a:ext cx="3962520" cy="1280880"/>
              <a:chOff x="4724280" y="1905120"/>
              <a:chExt cx="3962520" cy="1280880"/>
            </a:xfrm>
          </p:grpSpPr>
          <p:sp>
            <p:nvSpPr>
              <p:cNvPr id="893" name=""/>
              <p:cNvSpPr/>
              <p:nvPr/>
            </p:nvSpPr>
            <p:spPr>
              <a:xfrm>
                <a:off x="5257800" y="195876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336" y="144"/>
                    </a:lnTo>
                    <a:lnTo>
                      <a:pt x="336" y="0"/>
                    </a:lnTo>
                    <a:lnTo>
                      <a:pt x="1392" y="0"/>
                    </a:lnTo>
                    <a:lnTo>
                      <a:pt x="1392" y="144"/>
                    </a:lnTo>
                    <a:lnTo>
                      <a:pt x="2160" y="144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724280" y="190512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257800" y="241596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144" y="144"/>
                    </a:lnTo>
                    <a:lnTo>
                      <a:pt x="144" y="0"/>
                    </a:lnTo>
                    <a:lnTo>
                      <a:pt x="480" y="0"/>
                    </a:lnTo>
                    <a:lnTo>
                      <a:pt x="480" y="144"/>
                    </a:lnTo>
                    <a:lnTo>
                      <a:pt x="912" y="144"/>
                    </a:lnTo>
                    <a:lnTo>
                      <a:pt x="912" y="0"/>
                    </a:lnTo>
                    <a:lnTo>
                      <a:pt x="1248" y="0"/>
                    </a:lnTo>
                    <a:lnTo>
                      <a:pt x="1248" y="144"/>
                    </a:lnTo>
                    <a:lnTo>
                      <a:pt x="1584" y="144"/>
                    </a:lnTo>
                    <a:lnTo>
                      <a:pt x="1584" y="0"/>
                    </a:lnTo>
                    <a:lnTo>
                      <a:pt x="2160" y="0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724280" y="234000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257800" y="2949480"/>
                <a:ext cx="3429000" cy="228240"/>
              </a:xfrm>
              <a:custGeom>
                <a:avLst/>
                <a:gdLst/>
                <a:ahLst/>
                <a:rect l="l" t="t" r="r" b="b"/>
                <a:pathLst>
                  <a:path w="2160" h="144">
                    <a:moveTo>
                      <a:pt x="0" y="144"/>
                    </a:moveTo>
                    <a:lnTo>
                      <a:pt x="432" y="144"/>
                    </a:lnTo>
                    <a:lnTo>
                      <a:pt x="432" y="0"/>
                    </a:lnTo>
                    <a:lnTo>
                      <a:pt x="576" y="0"/>
                    </a:lnTo>
                    <a:lnTo>
                      <a:pt x="576" y="144"/>
                    </a:lnTo>
                    <a:lnTo>
                      <a:pt x="960" y="144"/>
                    </a:lnTo>
                    <a:lnTo>
                      <a:pt x="960" y="0"/>
                    </a:lnTo>
                    <a:lnTo>
                      <a:pt x="1296" y="0"/>
                    </a:lnTo>
                    <a:lnTo>
                      <a:pt x="1296" y="144"/>
                    </a:lnTo>
                    <a:lnTo>
                      <a:pt x="2160" y="144"/>
                    </a:lnTo>
                  </a:path>
                </a:pathLst>
              </a:custGeom>
              <a:noFill/>
              <a:ln w="1908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743440" y="2073240"/>
                <a:ext cx="181080" cy="1009080"/>
              </a:xfrm>
              <a:custGeom>
                <a:avLst/>
                <a:gdLst/>
                <a:ahLst/>
                <a:rect l="l" t="t" r="r" b="b"/>
                <a:pathLst>
                  <a:path w="114" h="636">
                    <a:moveTo>
                      <a:pt x="36" y="0"/>
                    </a:moveTo>
                    <a:cubicBezTo>
                      <a:pt x="60" y="8"/>
                      <a:pt x="66" y="24"/>
                      <a:pt x="84" y="42"/>
                    </a:cubicBezTo>
                    <a:cubicBezTo>
                      <a:pt x="88" y="54"/>
                      <a:pt x="92" y="66"/>
                      <a:pt x="96" y="78"/>
                    </a:cubicBezTo>
                    <a:cubicBezTo>
                      <a:pt x="98" y="84"/>
                      <a:pt x="102" y="96"/>
                      <a:pt x="102" y="96"/>
                    </a:cubicBezTo>
                    <a:cubicBezTo>
                      <a:pt x="100" y="140"/>
                      <a:pt x="101" y="184"/>
                      <a:pt x="96" y="228"/>
                    </a:cubicBezTo>
                    <a:cubicBezTo>
                      <a:pt x="91" y="273"/>
                      <a:pt x="49" y="297"/>
                      <a:pt x="36" y="336"/>
                    </a:cubicBezTo>
                    <a:cubicBezTo>
                      <a:pt x="28" y="360"/>
                      <a:pt x="20" y="384"/>
                      <a:pt x="12" y="408"/>
                    </a:cubicBezTo>
                    <a:cubicBezTo>
                      <a:pt x="8" y="420"/>
                      <a:pt x="0" y="444"/>
                      <a:pt x="0" y="444"/>
                    </a:cubicBezTo>
                    <a:cubicBezTo>
                      <a:pt x="4" y="520"/>
                      <a:pt x="6" y="636"/>
                      <a:pt x="114" y="636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019560" y="2511360"/>
                <a:ext cx="133560" cy="609120"/>
              </a:xfrm>
              <a:custGeom>
                <a:avLst/>
                <a:gdLst/>
                <a:ahLst/>
                <a:rect l="l" t="t" r="r" b="b"/>
                <a:pathLst>
                  <a:path w="84" h="384">
                    <a:moveTo>
                      <a:pt x="0" y="0"/>
                    </a:moveTo>
                    <a:cubicBezTo>
                      <a:pt x="21" y="7"/>
                      <a:pt x="38" y="14"/>
                      <a:pt x="48" y="36"/>
                    </a:cubicBezTo>
                    <a:cubicBezTo>
                      <a:pt x="53" y="48"/>
                      <a:pt x="60" y="72"/>
                      <a:pt x="60" y="72"/>
                    </a:cubicBezTo>
                    <a:cubicBezTo>
                      <a:pt x="50" y="143"/>
                      <a:pt x="20" y="211"/>
                      <a:pt x="6" y="282"/>
                    </a:cubicBezTo>
                    <a:cubicBezTo>
                      <a:pt x="12" y="334"/>
                      <a:pt x="22" y="384"/>
                      <a:pt x="84" y="384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683400" y="2492280"/>
                <a:ext cx="117360" cy="590040"/>
              </a:xfrm>
              <a:custGeom>
                <a:avLst/>
                <a:gdLst/>
                <a:ahLst/>
                <a:rect l="l" t="t" r="r" b="b"/>
                <a:pathLst>
                  <a:path w="74" h="372">
                    <a:moveTo>
                      <a:pt x="14" y="0"/>
                    </a:moveTo>
                    <a:cubicBezTo>
                      <a:pt x="35" y="7"/>
                      <a:pt x="52" y="14"/>
                      <a:pt x="62" y="36"/>
                    </a:cubicBezTo>
                    <a:cubicBezTo>
                      <a:pt x="67" y="48"/>
                      <a:pt x="74" y="72"/>
                      <a:pt x="74" y="72"/>
                    </a:cubicBezTo>
                    <a:cubicBezTo>
                      <a:pt x="64" y="143"/>
                      <a:pt x="34" y="211"/>
                      <a:pt x="20" y="282"/>
                    </a:cubicBezTo>
                    <a:cubicBezTo>
                      <a:pt x="26" y="334"/>
                      <a:pt x="0" y="372"/>
                      <a:pt x="62" y="372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7216560" y="2492280"/>
                <a:ext cx="117720" cy="590040"/>
              </a:xfrm>
              <a:custGeom>
                <a:avLst/>
                <a:gdLst/>
                <a:ahLst/>
                <a:rect l="l" t="t" r="r" b="b"/>
                <a:pathLst>
                  <a:path w="74" h="372">
                    <a:moveTo>
                      <a:pt x="14" y="0"/>
                    </a:moveTo>
                    <a:cubicBezTo>
                      <a:pt x="35" y="7"/>
                      <a:pt x="52" y="14"/>
                      <a:pt x="62" y="36"/>
                    </a:cubicBezTo>
                    <a:cubicBezTo>
                      <a:pt x="67" y="48"/>
                      <a:pt x="74" y="72"/>
                      <a:pt x="74" y="72"/>
                    </a:cubicBezTo>
                    <a:cubicBezTo>
                      <a:pt x="64" y="143"/>
                      <a:pt x="34" y="211"/>
                      <a:pt x="20" y="282"/>
                    </a:cubicBezTo>
                    <a:cubicBezTo>
                      <a:pt x="26" y="334"/>
                      <a:pt x="0" y="372"/>
                      <a:pt x="62" y="372"/>
                    </a:cubicBezTo>
                  </a:path>
                </a:pathLst>
              </a:custGeom>
              <a:noFill/>
              <a:ln w="19080">
                <a:solidFill>
                  <a:srgbClr val="ff3300"/>
                </a:solidFill>
                <a:round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724280" y="2873160"/>
                <a:ext cx="53352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Q+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03" name=""/>
            <p:cNvSpPr/>
            <p:nvPr/>
          </p:nvSpPr>
          <p:spPr>
            <a:xfrm>
              <a:off x="5822280" y="3205080"/>
              <a:ext cx="564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400800" y="335268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5210640" y="1201680"/>
              <a:ext cx="1377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hanging 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/>
          <p:nvPr/>
        </p:nvSpPr>
        <p:spPr>
          <a:xfrm>
            <a:off x="3733920" y="1447920"/>
            <a:ext cx="4724280" cy="251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34120" y="1600200"/>
            <a:ext cx="2971800" cy="2209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dge-Triggered Latch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648320" y="4038480"/>
            <a:ext cx="3936960" cy="239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in latching mode for brief perio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ising clock ed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 latched depends on data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remains stable at all other ti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86200" y="304812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489640" y="2421000"/>
            <a:ext cx="45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413320" y="215748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203976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7008840" y="2262240"/>
            <a:ext cx="6904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6707160" y="2116080"/>
            <a:ext cx="385560" cy="291960"/>
            <a:chOff x="6707160" y="2116080"/>
            <a:chExt cx="385560" cy="291960"/>
          </a:xfrm>
        </p:grpSpPr>
        <p:sp>
          <p:nvSpPr>
            <p:cNvPr id="916" name=""/>
            <p:cNvSpPr/>
            <p:nvPr/>
          </p:nvSpPr>
          <p:spPr>
            <a:xfrm>
              <a:off x="6707160" y="211608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707160" y="211608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014960" y="222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014960" y="22208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6480000" y="2268360"/>
            <a:ext cx="22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867280" y="20574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489640" y="2954160"/>
            <a:ext cx="455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413320" y="322416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V="1">
            <a:off x="5867280" y="2895480"/>
            <a:ext cx="650880" cy="43992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7008840" y="3106440"/>
            <a:ext cx="6904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6707160" y="2966760"/>
            <a:ext cx="385560" cy="291960"/>
            <a:chOff x="6707160" y="2966760"/>
            <a:chExt cx="385560" cy="291960"/>
          </a:xfrm>
        </p:grpSpPr>
        <p:sp>
          <p:nvSpPr>
            <p:cNvPr id="927" name=""/>
            <p:cNvSpPr/>
            <p:nvPr/>
          </p:nvSpPr>
          <p:spPr>
            <a:xfrm flipV="1">
              <a:off x="6707160" y="29664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V="1">
              <a:off x="6707160" y="2966400"/>
              <a:ext cx="301320" cy="29196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7014960" y="3077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V="1">
              <a:off x="7014960" y="3077640"/>
              <a:ext cx="77760" cy="7632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cce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31" name=""/>
          <p:cNvSpPr/>
          <p:nvPr/>
        </p:nvSpPr>
        <p:spPr>
          <a:xfrm flipV="1">
            <a:off x="6480000" y="3104640"/>
            <a:ext cx="2271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5867280" y="287748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489640" y="242100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0" y="96"/>
                </a:lnTo>
                <a:lnTo>
                  <a:pt x="1152" y="336"/>
                </a:lnTo>
                <a:lnTo>
                  <a:pt x="1152" y="432"/>
                </a:lnTo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489640" y="2267640"/>
            <a:ext cx="1828800" cy="685800"/>
          </a:xfrm>
          <a:custGeom>
            <a:avLst/>
            <a:gdLst/>
            <a:ahLst/>
            <a:rect l="l" t="t" r="r" b="b"/>
            <a:pathLst>
              <a:path w="1152" h="432">
                <a:moveTo>
                  <a:pt x="0" y="0"/>
                </a:moveTo>
                <a:lnTo>
                  <a:pt x="0" y="96"/>
                </a:lnTo>
                <a:lnTo>
                  <a:pt x="1152" y="336"/>
                </a:lnTo>
                <a:lnTo>
                  <a:pt x="1152" y="432"/>
                </a:lnTo>
              </a:path>
            </a:pathLst>
          </a:custGeom>
          <a:noFill/>
          <a:ln w="1908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7775640" y="208116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7775640" y="291924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–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5413320" y="177624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413320" y="322416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066680" y="1981080"/>
            <a:ext cx="3733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48320" y="22860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802040" y="192888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802040" y="192888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733920" y="3352680"/>
            <a:ext cx="1066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802040" y="3013200"/>
            <a:ext cx="60660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803840" y="299556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648320" y="22856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3886200" y="1981080"/>
            <a:ext cx="0" cy="1067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040280" y="182880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40280" y="182880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348080" y="1933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348080" y="19335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4572000" y="3276720"/>
            <a:ext cx="152280" cy="152280"/>
            <a:chOff x="4572000" y="3276720"/>
            <a:chExt cx="152280" cy="152280"/>
          </a:xfrm>
        </p:grpSpPr>
        <p:sp>
          <p:nvSpPr>
            <p:cNvPr id="953" name=""/>
            <p:cNvSpPr/>
            <p:nvPr/>
          </p:nvSpPr>
          <p:spPr>
            <a:xfrm>
              <a:off x="4572000" y="32767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609800" y="33148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55" name=""/>
          <p:cNvGrpSpPr/>
          <p:nvPr/>
        </p:nvGrpSpPr>
        <p:grpSpPr>
          <a:xfrm>
            <a:off x="3809880" y="1905120"/>
            <a:ext cx="152640" cy="152280"/>
            <a:chOff x="3809880" y="1905120"/>
            <a:chExt cx="152640" cy="152280"/>
          </a:xfrm>
        </p:grpSpPr>
        <p:sp>
          <p:nvSpPr>
            <p:cNvPr id="956" name=""/>
            <p:cNvSpPr/>
            <p:nvPr/>
          </p:nvSpPr>
          <p:spPr>
            <a:xfrm>
              <a:off x="3809880" y="1905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847680" y="19432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58" name=""/>
          <p:cNvGrpSpPr/>
          <p:nvPr/>
        </p:nvGrpSpPr>
        <p:grpSpPr>
          <a:xfrm>
            <a:off x="7238880" y="2209680"/>
            <a:ext cx="152640" cy="152640"/>
            <a:chOff x="7238880" y="2209680"/>
            <a:chExt cx="152640" cy="152640"/>
          </a:xfrm>
        </p:grpSpPr>
        <p:sp>
          <p:nvSpPr>
            <p:cNvPr id="959" name=""/>
            <p:cNvSpPr/>
            <p:nvPr/>
          </p:nvSpPr>
          <p:spPr>
            <a:xfrm>
              <a:off x="7238880" y="2209680"/>
              <a:ext cx="152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276680" y="224784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7238880" y="3048120"/>
            <a:ext cx="152640" cy="152280"/>
            <a:chOff x="7238880" y="3048120"/>
            <a:chExt cx="152640" cy="152280"/>
          </a:xfrm>
        </p:grpSpPr>
        <p:sp>
          <p:nvSpPr>
            <p:cNvPr id="962" name=""/>
            <p:cNvSpPr/>
            <p:nvPr/>
          </p:nvSpPr>
          <p:spPr>
            <a:xfrm>
              <a:off x="7238880" y="3048120"/>
              <a:ext cx="1526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6680" y="3086280"/>
              <a:ext cx="76320" cy="75960"/>
            </a:xfrm>
            <a:prstGeom prst="ellipse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6840" bIns="68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838080" y="160020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838080" y="320040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38080" y="198108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838080" y="350532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lo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824120" y="3205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1522440" y="305928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22440" y="3059280"/>
            <a:ext cx="30168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830240" y="31640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830240" y="3164040"/>
            <a:ext cx="77760" cy="7596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71600" y="320364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3048120" y="321804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066680" y="3522600"/>
            <a:ext cx="213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8960" y="3141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3198960" y="31417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062080" y="30654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062080" y="3065400"/>
            <a:ext cx="301680" cy="29232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370240" y="31701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370240" y="317016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911240" y="320976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2903400" y="321624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602080" y="3071880"/>
            <a:ext cx="30132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602080" y="3071880"/>
            <a:ext cx="301320" cy="291960"/>
          </a:xfrm>
          <a:custGeom>
            <a:avLst/>
            <a:gdLst/>
            <a:ahLst/>
            <a:rect l="l" t="t" r="r" b="b"/>
            <a:pathLst>
              <a:path w="190" h="184">
                <a:moveTo>
                  <a:pt x="0" y="0"/>
                </a:moveTo>
                <a:lnTo>
                  <a:pt x="0" y="184"/>
                </a:lnTo>
                <a:lnTo>
                  <a:pt x="190" y="92"/>
                </a:lnTo>
                <a:lnTo>
                  <a:pt x="0" y="0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09880" y="317664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2909880" y="3176640"/>
            <a:ext cx="77760" cy="76320"/>
          </a:xfrm>
          <a:custGeom>
            <a:avLst/>
            <a:gdLst/>
            <a:ahLst/>
            <a:rect l="l" t="t" r="r" b="b"/>
            <a:pathLst>
              <a:path w="49" h="48">
                <a:moveTo>
                  <a:pt x="49" y="26"/>
                </a:moveTo>
                <a:lnTo>
                  <a:pt x="42" y="41"/>
                </a:lnTo>
                <a:lnTo>
                  <a:pt x="23" y="48"/>
                </a:lnTo>
                <a:lnTo>
                  <a:pt x="23" y="48"/>
                </a:lnTo>
                <a:lnTo>
                  <a:pt x="8" y="41"/>
                </a:lnTo>
                <a:lnTo>
                  <a:pt x="0" y="26"/>
                </a:lnTo>
                <a:lnTo>
                  <a:pt x="0" y="26"/>
                </a:lnTo>
                <a:lnTo>
                  <a:pt x="8" y="8"/>
                </a:lnTo>
                <a:lnTo>
                  <a:pt x="23" y="0"/>
                </a:lnTo>
                <a:lnTo>
                  <a:pt x="23" y="0"/>
                </a:lnTo>
                <a:lnTo>
                  <a:pt x="42" y="8"/>
                </a:lnTo>
                <a:lnTo>
                  <a:pt x="49" y="26"/>
                </a:lnTo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2451240" y="321624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 flipH="1" flipV="1">
            <a:off x="1365120" y="3200040"/>
            <a:ext cx="6480" cy="32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886200" y="3352680"/>
            <a:ext cx="457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4038480" y="3657600"/>
            <a:ext cx="762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Trigge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914400" y="4191120"/>
            <a:ext cx="3962520" cy="2133720"/>
            <a:chOff x="914400" y="4191120"/>
            <a:chExt cx="3962520" cy="2133720"/>
          </a:xfrm>
        </p:grpSpPr>
        <p:sp>
          <p:nvSpPr>
            <p:cNvPr id="993" name=""/>
            <p:cNvSpPr/>
            <p:nvPr/>
          </p:nvSpPr>
          <p:spPr>
            <a:xfrm>
              <a:off x="914400" y="426708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447920" y="517356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480" y="0"/>
                  </a:lnTo>
                  <a:lnTo>
                    <a:pt x="480" y="144"/>
                  </a:lnTo>
                  <a:lnTo>
                    <a:pt x="912" y="144"/>
                  </a:lnTo>
                  <a:lnTo>
                    <a:pt x="912" y="0"/>
                  </a:lnTo>
                  <a:lnTo>
                    <a:pt x="1248" y="0"/>
                  </a:lnTo>
                  <a:lnTo>
                    <a:pt x="1248" y="144"/>
                  </a:lnTo>
                  <a:lnTo>
                    <a:pt x="1584" y="144"/>
                  </a:lnTo>
                  <a:lnTo>
                    <a:pt x="1584" y="0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14400" y="509760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933560" y="4830840"/>
              <a:ext cx="181080" cy="1009440"/>
            </a:xfrm>
            <a:custGeom>
              <a:avLst/>
              <a:gdLst/>
              <a:ahLst/>
              <a:rect l="l" t="t" r="r" b="b"/>
              <a:pathLst>
                <a:path w="114" h="636">
                  <a:moveTo>
                    <a:pt x="36" y="0"/>
                  </a:moveTo>
                  <a:cubicBezTo>
                    <a:pt x="60" y="8"/>
                    <a:pt x="66" y="24"/>
                    <a:pt x="84" y="42"/>
                  </a:cubicBezTo>
                  <a:cubicBezTo>
                    <a:pt x="88" y="54"/>
                    <a:pt x="92" y="66"/>
                    <a:pt x="96" y="78"/>
                  </a:cubicBezTo>
                  <a:cubicBezTo>
                    <a:pt x="98" y="84"/>
                    <a:pt x="102" y="96"/>
                    <a:pt x="102" y="96"/>
                  </a:cubicBezTo>
                  <a:cubicBezTo>
                    <a:pt x="100" y="140"/>
                    <a:pt x="101" y="184"/>
                    <a:pt x="96" y="228"/>
                  </a:cubicBezTo>
                  <a:cubicBezTo>
                    <a:pt x="91" y="273"/>
                    <a:pt x="49" y="297"/>
                    <a:pt x="36" y="336"/>
                  </a:cubicBezTo>
                  <a:cubicBezTo>
                    <a:pt x="28" y="360"/>
                    <a:pt x="20" y="384"/>
                    <a:pt x="12" y="408"/>
                  </a:cubicBezTo>
                  <a:cubicBezTo>
                    <a:pt x="8" y="420"/>
                    <a:pt x="0" y="444"/>
                    <a:pt x="0" y="444"/>
                  </a:cubicBezTo>
                  <a:cubicBezTo>
                    <a:pt x="4" y="520"/>
                    <a:pt x="6" y="636"/>
                    <a:pt x="114" y="636"/>
                  </a:cubicBezTo>
                </a:path>
              </a:pathLst>
            </a:custGeom>
            <a:noFill/>
            <a:ln w="1908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14400" y="563076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012400" y="6012000"/>
              <a:ext cx="5644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590920" y="6159600"/>
              <a:ext cx="12952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47920" y="419112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288" y="144"/>
                  </a:lnTo>
                  <a:lnTo>
                    <a:pt x="288" y="0"/>
                  </a:lnTo>
                  <a:lnTo>
                    <a:pt x="1392" y="0"/>
                  </a:lnTo>
                  <a:lnTo>
                    <a:pt x="1392" y="144"/>
                  </a:lnTo>
                  <a:lnTo>
                    <a:pt x="2112" y="144"/>
                  </a:lnTo>
                  <a:lnTo>
                    <a:pt x="2160" y="144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47920" y="464832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336" y="144"/>
                  </a:lnTo>
                  <a:lnTo>
                    <a:pt x="336" y="0"/>
                  </a:lnTo>
                  <a:lnTo>
                    <a:pt x="432" y="0"/>
                  </a:lnTo>
                  <a:lnTo>
                    <a:pt x="432" y="144"/>
                  </a:lnTo>
                  <a:lnTo>
                    <a:pt x="2160" y="144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14400" y="4640400"/>
              <a:ext cx="5335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447920" y="5715000"/>
              <a:ext cx="3429000" cy="22860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432" y="144"/>
                  </a:lnTo>
                  <a:lnTo>
                    <a:pt x="432" y="0"/>
                  </a:lnTo>
                  <a:lnTo>
                    <a:pt x="2160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609120" y="4952880"/>
            <a:ext cx="8294760" cy="109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2000"/>
          </a:bodyPr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word of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823680" indent="-1710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ferent from </a:t>
            </a:r>
            <a:r>
              <a:rPr b="1" i="1" lang="en-US" sz="1800" spc="-1" strike="noStrike">
                <a:solidFill>
                  <a:srgbClr val="000099"/>
                </a:solidFill>
                <a:latin typeface="Arial"/>
              </a:rPr>
              <a:t>program register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seen in assembly 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llection of edge-triggered lat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34960" indent="-175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s input on rising edge of c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5562720" y="2057400"/>
            <a:ext cx="2057400" cy="1847160"/>
            <a:chOff x="5562720" y="2057400"/>
            <a:chExt cx="2057400" cy="1847160"/>
          </a:xfrm>
        </p:grpSpPr>
        <p:sp>
          <p:nvSpPr>
            <p:cNvPr id="1007" name=""/>
            <p:cNvSpPr/>
            <p:nvPr/>
          </p:nvSpPr>
          <p:spPr>
            <a:xfrm>
              <a:off x="6477120" y="2057400"/>
              <a:ext cx="228600" cy="129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019920" y="2590920"/>
              <a:ext cx="457200" cy="228600"/>
            </a:xfrm>
            <a:prstGeom prst="rightArrow">
              <a:avLst>
                <a:gd name="adj1" fmla="val 16667"/>
                <a:gd name="adj2" fmla="val 66667"/>
              </a:avLst>
            </a:prstGeom>
            <a:solidFill>
              <a:srgbClr val="0000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05720" y="2590920"/>
              <a:ext cx="457200" cy="228600"/>
            </a:xfrm>
            <a:prstGeom prst="rightArrow">
              <a:avLst>
                <a:gd name="adj1" fmla="val 16667"/>
                <a:gd name="adj2" fmla="val 66667"/>
              </a:avLst>
            </a:prstGeom>
            <a:solidFill>
              <a:srgbClr val="0000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562720" y="25146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162920" y="2514600"/>
              <a:ext cx="457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553080" y="335268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96320" y="356400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2133720" y="1219320"/>
            <a:ext cx="3047400" cy="3693240"/>
            <a:chOff x="2133720" y="1219320"/>
            <a:chExt cx="3047400" cy="3693240"/>
          </a:xfrm>
        </p:grpSpPr>
        <p:sp>
          <p:nvSpPr>
            <p:cNvPr id="1015" name=""/>
            <p:cNvSpPr/>
            <p:nvPr/>
          </p:nvSpPr>
          <p:spPr>
            <a:xfrm>
              <a:off x="3200040" y="1306440"/>
              <a:ext cx="914040" cy="3589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3200040" y="1676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200040" y="205740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200040" y="2438280"/>
              <a:ext cx="914040" cy="38124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200040" y="2819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200040" y="320040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200040" y="3581280"/>
              <a:ext cx="914040" cy="38124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200040" y="3962520"/>
              <a:ext cx="914040" cy="38088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>
              <a:off x="2590560" y="1371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2590560" y="1752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2590560" y="213372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H="1">
              <a:off x="2590560" y="2514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2590560" y="2895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2590560" y="327672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590560" y="365760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2590560" y="4038480"/>
              <a:ext cx="6091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4114080" y="1447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>
              <a:off x="4114080" y="1828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4114080" y="220968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4114080" y="2590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4114080" y="2971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114080" y="335268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>
              <a:off x="4114080" y="373392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H="1">
              <a:off x="4114080" y="4114800"/>
              <a:ext cx="6094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 flipH="1">
              <a:off x="2895120" y="1600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2895120" y="1981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>
              <a:off x="2895120" y="236232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 flipH="1">
              <a:off x="2895120" y="2743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2895120" y="3124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>
              <a:off x="2895120" y="350532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2895120" y="388620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2895120" y="4267080"/>
              <a:ext cx="304200" cy="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895480" y="1600200"/>
              <a:ext cx="0" cy="2971800"/>
            </a:xfrm>
            <a:prstGeom prst="line">
              <a:avLst/>
            </a:prstGeom>
            <a:ln w="1908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2819160" y="1905120"/>
              <a:ext cx="151920" cy="152280"/>
              <a:chOff x="2819160" y="1905120"/>
              <a:chExt cx="151920" cy="152280"/>
            </a:xfrm>
          </p:grpSpPr>
          <p:sp>
            <p:nvSpPr>
              <p:cNvPr id="1049" name=""/>
              <p:cNvSpPr/>
              <p:nvPr/>
            </p:nvSpPr>
            <p:spPr>
              <a:xfrm>
                <a:off x="2819160" y="1905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856960" y="1943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2819160" y="2286000"/>
              <a:ext cx="151920" cy="152280"/>
              <a:chOff x="2819160" y="2286000"/>
              <a:chExt cx="151920" cy="152280"/>
            </a:xfrm>
          </p:grpSpPr>
          <p:sp>
            <p:nvSpPr>
              <p:cNvPr id="1052" name=""/>
              <p:cNvSpPr/>
              <p:nvPr/>
            </p:nvSpPr>
            <p:spPr>
              <a:xfrm>
                <a:off x="2819160" y="228600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856960" y="232416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2819160" y="2666880"/>
              <a:ext cx="151920" cy="152280"/>
              <a:chOff x="2819160" y="2666880"/>
              <a:chExt cx="151920" cy="152280"/>
            </a:xfrm>
          </p:grpSpPr>
          <p:sp>
            <p:nvSpPr>
              <p:cNvPr id="1055" name=""/>
              <p:cNvSpPr/>
              <p:nvPr/>
            </p:nvSpPr>
            <p:spPr>
              <a:xfrm>
                <a:off x="2819160" y="266688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856960" y="270504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819160" y="3048120"/>
              <a:ext cx="151920" cy="152280"/>
              <a:chOff x="2819160" y="3048120"/>
              <a:chExt cx="151920" cy="152280"/>
            </a:xfrm>
          </p:grpSpPr>
          <p:sp>
            <p:nvSpPr>
              <p:cNvPr id="1058" name=""/>
              <p:cNvSpPr/>
              <p:nvPr/>
            </p:nvSpPr>
            <p:spPr>
              <a:xfrm>
                <a:off x="2819160" y="3048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856960" y="3086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0" name=""/>
            <p:cNvGrpSpPr/>
            <p:nvPr/>
          </p:nvGrpSpPr>
          <p:grpSpPr>
            <a:xfrm>
              <a:off x="2819160" y="3429000"/>
              <a:ext cx="151920" cy="152280"/>
              <a:chOff x="2819160" y="3429000"/>
              <a:chExt cx="151920" cy="152280"/>
            </a:xfrm>
          </p:grpSpPr>
          <p:sp>
            <p:nvSpPr>
              <p:cNvPr id="1061" name=""/>
              <p:cNvSpPr/>
              <p:nvPr/>
            </p:nvSpPr>
            <p:spPr>
              <a:xfrm>
                <a:off x="2819160" y="342900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856960" y="346716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3" name=""/>
            <p:cNvGrpSpPr/>
            <p:nvPr/>
          </p:nvGrpSpPr>
          <p:grpSpPr>
            <a:xfrm>
              <a:off x="2819160" y="3809880"/>
              <a:ext cx="151920" cy="152280"/>
              <a:chOff x="2819160" y="3809880"/>
              <a:chExt cx="151920" cy="152280"/>
            </a:xfrm>
          </p:grpSpPr>
          <p:sp>
            <p:nvSpPr>
              <p:cNvPr id="1064" name=""/>
              <p:cNvSpPr/>
              <p:nvPr/>
            </p:nvSpPr>
            <p:spPr>
              <a:xfrm>
                <a:off x="2819160" y="380988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856960" y="384804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2819160" y="4191120"/>
              <a:ext cx="151920" cy="152280"/>
              <a:chOff x="2819160" y="4191120"/>
              <a:chExt cx="151920" cy="152280"/>
            </a:xfrm>
          </p:grpSpPr>
          <p:sp>
            <p:nvSpPr>
              <p:cNvPr id="1067" name=""/>
              <p:cNvSpPr/>
              <p:nvPr/>
            </p:nvSpPr>
            <p:spPr>
              <a:xfrm>
                <a:off x="2819160" y="4191120"/>
                <a:ext cx="15192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856960" y="4229280"/>
                <a:ext cx="75960" cy="75960"/>
              </a:xfrm>
              <a:prstGeom prst="ellips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6840" bIns="684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69" name=""/>
            <p:cNvSpPr/>
            <p:nvPr/>
          </p:nvSpPr>
          <p:spPr>
            <a:xfrm>
              <a:off x="3200040" y="1295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00040" y="1447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733560" y="1371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00040" y="1676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00040" y="1828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33560" y="1752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200040" y="20574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200040" y="22096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733560" y="213372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00040" y="2438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00040" y="2590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33560" y="2514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00040" y="2819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00040" y="2971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733560" y="2895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00040" y="32004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00040" y="33526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33560" y="327672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00040" y="358128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0040" y="37339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733560" y="365760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00040" y="396252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00040" y="4114800"/>
              <a:ext cx="2282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33560" y="4038480"/>
              <a:ext cx="30456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66"/>
                  </a:solidFill>
                  <a:latin typeface="Arial"/>
                </a:rPr>
                <a:t>Q+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133720" y="1219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133720" y="1600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133720" y="19810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33720" y="2362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33720" y="2743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2133720" y="31240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133720" y="35053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133720" y="38862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24280" y="1295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24280" y="1676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724280" y="20574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24280" y="2438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724280" y="2819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724280" y="320040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724280" y="358128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724280" y="3962520"/>
              <a:ext cx="456840" cy="37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</a:t>
              </a:r>
              <a:r>
                <a:rPr b="1" lang="en-US" sz="18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2514240" y="457200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0" name=""/>
          <p:cNvSpPr/>
          <p:nvPr/>
        </p:nvSpPr>
        <p:spPr>
          <a:xfrm>
            <a:off x="3124440" y="914400"/>
            <a:ext cx="1107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ruct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 of Logic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undamental Hardware Requir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to get values from one place to anoth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its are Our Friend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verything expressed in terms of values 0 and 1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munic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 or high voltage on wi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 Boolean fun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bits of inform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90160" y="3885840"/>
            <a:ext cx="8294760" cy="2546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data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most of time acts as barrier between input and out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clock rises, loads inpu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1367640" y="152388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te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3628440" y="1905120"/>
            <a:ext cx="1776960" cy="1143000"/>
            <a:chOff x="3628440" y="1905120"/>
            <a:chExt cx="1776960" cy="1143000"/>
          </a:xfrm>
        </p:grpSpPr>
        <p:grpSp>
          <p:nvGrpSpPr>
            <p:cNvPr id="1115" name=""/>
            <p:cNvGrpSpPr/>
            <p:nvPr/>
          </p:nvGrpSpPr>
          <p:grpSpPr>
            <a:xfrm>
              <a:off x="4033800" y="1905120"/>
              <a:ext cx="1371600" cy="1143000"/>
              <a:chOff x="4033800" y="1905120"/>
              <a:chExt cx="1371600" cy="1143000"/>
            </a:xfrm>
          </p:grpSpPr>
          <p:sp>
            <p:nvSpPr>
              <p:cNvPr id="1116" name=""/>
              <p:cNvSpPr/>
              <p:nvPr/>
            </p:nvSpPr>
            <p:spPr>
              <a:xfrm>
                <a:off x="4338720" y="2590920"/>
                <a:ext cx="685800" cy="457200"/>
              </a:xfrm>
              <a:custGeom>
                <a:avLst/>
                <a:gdLst/>
                <a:ahLst/>
                <a:rect l="l" t="t" r="r" b="b"/>
                <a:pathLst>
                  <a:path w="432" h="288">
                    <a:moveTo>
                      <a:pt x="0" y="288"/>
                    </a:moveTo>
                    <a:lnTo>
                      <a:pt x="240" y="288"/>
                    </a:lnTo>
                    <a:lnTo>
                      <a:pt x="240" y="0"/>
                    </a:lnTo>
                    <a:lnTo>
                      <a:pt x="432" y="0"/>
                    </a:lnTo>
                  </a:path>
                </a:pathLst>
              </a:custGeom>
              <a:noFill/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4033800" y="1905120"/>
                <a:ext cx="137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Rising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3628440" y="210168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>
            <a:off x="2104200" y="2057400"/>
            <a:ext cx="12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utput = 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761040" y="2057400"/>
            <a:ext cx="106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put = 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366920" y="25146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66c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052720" y="2514600"/>
            <a:ext cx="457200" cy="228600"/>
          </a:xfrm>
          <a:prstGeom prst="rightArrow">
            <a:avLst>
              <a:gd name="adj1" fmla="val 16667"/>
              <a:gd name="adj2" fmla="val 66667"/>
            </a:avLst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1824120" y="1981080"/>
            <a:ext cx="22860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5533560" y="1523880"/>
            <a:ext cx="2612160" cy="1752840"/>
            <a:chOff x="5533560" y="1523880"/>
            <a:chExt cx="2612160" cy="1752840"/>
          </a:xfrm>
        </p:grpSpPr>
        <p:sp>
          <p:nvSpPr>
            <p:cNvPr id="1125" name=""/>
            <p:cNvSpPr/>
            <p:nvPr/>
          </p:nvSpPr>
          <p:spPr>
            <a:xfrm>
              <a:off x="5533560" y="210168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6166080" y="1523880"/>
              <a:ext cx="1979640" cy="1752840"/>
              <a:chOff x="6166080" y="1523880"/>
              <a:chExt cx="1979640" cy="1752840"/>
            </a:xfrm>
          </p:grpSpPr>
          <p:sp>
            <p:nvSpPr>
              <p:cNvPr id="1127" name=""/>
              <p:cNvSpPr/>
              <p:nvPr/>
            </p:nvSpPr>
            <p:spPr>
              <a:xfrm>
                <a:off x="6166080" y="1523880"/>
                <a:ext cx="1090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State = y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6902640" y="2057400"/>
                <a:ext cx="124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Arial"/>
                  </a:rPr>
                  <a:t>Output = y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167520" y="2514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853320" y="2514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624720" y="1981080"/>
                <a:ext cx="228600" cy="12956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te Machine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562720" y="1599840"/>
            <a:ext cx="3022560" cy="259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cumulator circui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 or accumulate on each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1219320" y="1066680"/>
            <a:ext cx="4538520" cy="2913840"/>
            <a:chOff x="1219320" y="1066680"/>
            <a:chExt cx="4538520" cy="2913840"/>
          </a:xfrm>
        </p:grpSpPr>
        <p:sp>
          <p:nvSpPr>
            <p:cNvPr id="1135" name=""/>
            <p:cNvSpPr/>
            <p:nvPr/>
          </p:nvSpPr>
          <p:spPr>
            <a:xfrm>
              <a:off x="2209680" y="1218960"/>
              <a:ext cx="2133720" cy="22860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mb. Logi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800600" y="2819160"/>
              <a:ext cx="7621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1800" y="1752480"/>
              <a:ext cx="0" cy="304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38" name=""/>
            <p:cNvGrpSpPr/>
            <p:nvPr/>
          </p:nvGrpSpPr>
          <p:grpSpPr>
            <a:xfrm>
              <a:off x="2743200" y="1904760"/>
              <a:ext cx="457200" cy="1295640"/>
              <a:chOff x="2743200" y="1904760"/>
              <a:chExt cx="457200" cy="1295640"/>
            </a:xfrm>
          </p:grpSpPr>
          <p:sp>
            <p:nvSpPr>
              <p:cNvPr id="1139" name=""/>
              <p:cNvSpPr/>
              <p:nvPr/>
            </p:nvSpPr>
            <p:spPr>
              <a:xfrm>
                <a:off x="2743200" y="1904760"/>
                <a:ext cx="457200" cy="1295640"/>
              </a:xfrm>
              <a:custGeom>
                <a:avLst/>
                <a:gdLst/>
                <a:ahLst/>
                <a:rect l="l" t="t" r="r" b="b"/>
                <a:pathLst>
                  <a:path w="288" h="816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624"/>
                    </a:lnTo>
                    <a:lnTo>
                      <a:pt x="0" y="8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819520" y="2133360"/>
                <a:ext cx="38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141" name=""/>
            <p:cNvSpPr/>
            <p:nvPr/>
          </p:nvSpPr>
          <p:spPr>
            <a:xfrm>
              <a:off x="1981080" y="3276360"/>
              <a:ext cx="152424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00400" y="2514600"/>
              <a:ext cx="304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820960" y="144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114800" y="281916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182560" y="241272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V="1">
              <a:off x="1981080" y="3428280"/>
              <a:ext cx="1828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505320" y="2361960"/>
              <a:ext cx="671400" cy="106704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1067040"/>
                <a:gd name="textAreaBottom" fmla="*/ 1034280 h 1067040"/>
              </a:gdLst>
              <a:ahLst/>
              <a:rect l="textAreaLeft" t="textAreaTop" r="textAreaRight" b="textAreaBottom"/>
              <a:pathLst>
                <a:path w="21600" h="34322">
                  <a:moveTo>
                    <a:pt x="3600" y="0"/>
                  </a:moveTo>
                  <a:arcTo wR="3600" hR="3600" stAng="16200000" swAng="-5400000"/>
                  <a:lnTo>
                    <a:pt x="0" y="30722"/>
                  </a:lnTo>
                  <a:arcTo wR="3600" hR="3600" stAng="10800000" swAng="-5400000"/>
                  <a:lnTo>
                    <a:pt x="18000" y="343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2438280" y="2971800"/>
              <a:ext cx="304920" cy="304560"/>
            </a:xfrm>
            <a:custGeom>
              <a:avLst/>
              <a:gdLst/>
              <a:ahLst/>
              <a:rect l="l" t="t" r="r" b="b"/>
              <a:pathLst>
                <a:path w="192" h="192">
                  <a:moveTo>
                    <a:pt x="0" y="192"/>
                  </a:move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505320" y="236196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505320" y="3124080"/>
              <a:ext cx="457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72000" y="2133360"/>
              <a:ext cx="228600" cy="12956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42900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67440" y="363996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438280" y="1066680"/>
              <a:ext cx="2667240" cy="1752480"/>
            </a:xfrm>
            <a:custGeom>
              <a:avLst/>
              <a:gdLst/>
              <a:ahLst/>
              <a:rect l="l" t="t" r="r" b="b"/>
              <a:pathLst>
                <a:path w="1680" h="1104">
                  <a:moveTo>
                    <a:pt x="1488" y="1104"/>
                  </a:moveTo>
                  <a:lnTo>
                    <a:pt x="1680" y="1104"/>
                  </a:lnTo>
                  <a:lnTo>
                    <a:pt x="1680" y="0"/>
                  </a:lnTo>
                  <a:lnTo>
                    <a:pt x="0" y="0"/>
                  </a:lnTo>
                  <a:lnTo>
                    <a:pt x="0" y="672"/>
                  </a:lnTo>
                  <a:lnTo>
                    <a:pt x="192" y="672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219320" y="304776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219320" y="3443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57" name=""/>
          <p:cNvGrpSpPr/>
          <p:nvPr/>
        </p:nvGrpSpPr>
        <p:grpSpPr>
          <a:xfrm>
            <a:off x="1371600" y="4419720"/>
            <a:ext cx="5638680" cy="1981080"/>
            <a:chOff x="1371600" y="4419720"/>
            <a:chExt cx="5638680" cy="1981080"/>
          </a:xfrm>
        </p:grpSpPr>
        <p:sp>
          <p:nvSpPr>
            <p:cNvPr id="1158" name=""/>
            <p:cNvSpPr/>
            <p:nvPr/>
          </p:nvSpPr>
          <p:spPr>
            <a:xfrm>
              <a:off x="220968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97180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73392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49568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257800" y="4496040"/>
              <a:ext cx="1143000" cy="228600"/>
            </a:xfrm>
            <a:custGeom>
              <a:avLst/>
              <a:gdLst/>
              <a:ahLst/>
              <a:rect l="l" t="t" r="r" b="b"/>
              <a:pathLst>
                <a:path w="720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384" y="0"/>
                  </a:lnTo>
                  <a:lnTo>
                    <a:pt x="384" y="144"/>
                  </a:lnTo>
                  <a:lnTo>
                    <a:pt x="576" y="144"/>
                  </a:lnTo>
                  <a:lnTo>
                    <a:pt x="624" y="144"/>
                  </a:lnTo>
                  <a:lnTo>
                    <a:pt x="624" y="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09680" y="4953240"/>
              <a:ext cx="4200480" cy="228600"/>
            </a:xfrm>
            <a:custGeom>
              <a:avLst/>
              <a:gdLst/>
              <a:ahLst/>
              <a:rect l="l" t="t" r="r" b="b"/>
              <a:pathLst>
                <a:path w="2646" h="144">
                  <a:moveTo>
                    <a:pt x="0" y="0"/>
                  </a:moveTo>
                  <a:lnTo>
                    <a:pt x="288" y="0"/>
                  </a:lnTo>
                  <a:lnTo>
                    <a:pt x="288" y="144"/>
                  </a:lnTo>
                  <a:lnTo>
                    <a:pt x="1488" y="144"/>
                  </a:lnTo>
                  <a:lnTo>
                    <a:pt x="1488" y="0"/>
                  </a:lnTo>
                  <a:lnTo>
                    <a:pt x="1680" y="0"/>
                  </a:lnTo>
                  <a:lnTo>
                    <a:pt x="1680" y="144"/>
                  </a:lnTo>
                  <a:lnTo>
                    <a:pt x="2646" y="14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20968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297180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33920" y="5410440"/>
              <a:ext cx="76176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49568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257800" y="5410440"/>
              <a:ext cx="76212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019920" y="5410440"/>
              <a:ext cx="761760" cy="304560"/>
            </a:xfrm>
            <a:prstGeom prst="rect">
              <a:avLst/>
            </a:prstGeom>
            <a:solidFill>
              <a:srgbClr val="ffcccc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43828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0040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62520" y="5943600"/>
              <a:ext cx="7617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72428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486400" y="5943600"/>
              <a:ext cx="76212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248520" y="5943600"/>
              <a:ext cx="761760" cy="304920"/>
            </a:xfrm>
            <a:prstGeom prst="rect">
              <a:avLst/>
            </a:prstGeom>
            <a:solidFill>
              <a:srgbClr val="ccff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+x</a:t>
              </a:r>
              <a:r>
                <a:rPr b="0" lang="en-US" sz="1400" spc="-1" strike="noStrike" baseline="-25000">
                  <a:solidFill>
                    <a:srgbClr val="000066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371600" y="444204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371600" y="494532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Loa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371600" y="544860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371600" y="5951520"/>
              <a:ext cx="838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43828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0040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96252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72428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48640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48520" y="4419720"/>
              <a:ext cx="0" cy="1981080"/>
            </a:xfrm>
            <a:prstGeom prst="line">
              <a:avLst/>
            </a:prstGeom>
            <a:ln cap="rnd" w="19080">
              <a:solidFill>
                <a:srgbClr val="ff33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andom-Access Memo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290160" y="3124080"/>
            <a:ext cx="829476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s multiple words of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input specifies which word to read or 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s values of program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ax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%esp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etc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identifier serves as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2880" indent="-2174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D 8 implies no read or write performe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13160" indent="-2343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-2282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read and/or write multiple words in one cyc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32880" indent="-21744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ach has separate address and data input/outpu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09836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2209680" y="990720"/>
            <a:ext cx="4617720" cy="2190600"/>
            <a:chOff x="2209680" y="990720"/>
            <a:chExt cx="4617720" cy="2190600"/>
          </a:xfrm>
        </p:grpSpPr>
        <p:sp>
          <p:nvSpPr>
            <p:cNvPr id="1189" name=""/>
            <p:cNvSpPr/>
            <p:nvPr/>
          </p:nvSpPr>
          <p:spPr>
            <a:xfrm>
              <a:off x="3890880" y="1067040"/>
              <a:ext cx="1523880" cy="1523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90880" y="129564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890880" y="213372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5110200" y="1676520"/>
              <a:ext cx="304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414760" y="16765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dst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433680" y="129564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H="1">
              <a:off x="3433680" y="129564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432960" y="16005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H="1">
              <a:off x="3433680" y="21337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432960" y="243864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 flipH="1">
              <a:off x="5414760" y="16765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 flipH="1">
              <a:off x="5414760" y="1981440"/>
              <a:ext cx="4543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433680" y="9907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433680" y="213372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33680" y="182916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414760" y="137196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2209680" y="1676520"/>
              <a:ext cx="12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ad port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872320" y="1676520"/>
              <a:ext cx="95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Write por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 flipV="1">
              <a:off x="5110200" y="2590560"/>
              <a:ext cx="0" cy="30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804200" y="2895840"/>
              <a:ext cx="538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gister File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3733920" y="1218960"/>
            <a:ext cx="4851360" cy="2361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32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ad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ke combinational logi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utput data generated based on input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961200" indent="-19980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fter some delay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2400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ing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ke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23880" indent="-205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only as clock ris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211" name=""/>
          <p:cNvGrpSpPr/>
          <p:nvPr/>
        </p:nvGrpSpPr>
        <p:grpSpPr>
          <a:xfrm>
            <a:off x="990000" y="1371600"/>
            <a:ext cx="1981800" cy="1600200"/>
            <a:chOff x="990000" y="1371600"/>
            <a:chExt cx="1981800" cy="1600200"/>
          </a:xfrm>
        </p:grpSpPr>
        <p:sp>
          <p:nvSpPr>
            <p:cNvPr id="1212" name=""/>
            <p:cNvSpPr/>
            <p:nvPr/>
          </p:nvSpPr>
          <p:spPr>
            <a:xfrm>
              <a:off x="1447920" y="1447560"/>
              <a:ext cx="1523880" cy="1524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47920" y="16761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447920" y="25146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90720" y="167616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 flipH="1">
              <a:off x="990720" y="16761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990000" y="198108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 flipH="1">
              <a:off x="990720" y="25146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990000" y="28191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990720" y="13716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990720" y="25146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990720" y="22096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23" name=""/>
          <p:cNvGrpSpPr/>
          <p:nvPr/>
        </p:nvGrpSpPr>
        <p:grpSpPr>
          <a:xfrm>
            <a:off x="1066680" y="4191120"/>
            <a:ext cx="2433600" cy="2114280"/>
            <a:chOff x="1066680" y="4191120"/>
            <a:chExt cx="2433600" cy="2114280"/>
          </a:xfrm>
        </p:grpSpPr>
        <p:sp>
          <p:nvSpPr>
            <p:cNvPr id="1224" name=""/>
            <p:cNvSpPr/>
            <p:nvPr/>
          </p:nvSpPr>
          <p:spPr>
            <a:xfrm>
              <a:off x="3086280" y="461340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086280" y="4917960"/>
              <a:ext cx="41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26" name=""/>
            <p:cNvGrpSpPr/>
            <p:nvPr/>
          </p:nvGrpSpPr>
          <p:grpSpPr>
            <a:xfrm>
              <a:off x="1066680" y="4191120"/>
              <a:ext cx="1981080" cy="2114280"/>
              <a:chOff x="1066680" y="4191120"/>
              <a:chExt cx="1981080" cy="211428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1066680" y="4191120"/>
                <a:ext cx="1981080" cy="2114280"/>
                <a:chOff x="1066680" y="4191120"/>
                <a:chExt cx="1981080" cy="211428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1066680" y="4191120"/>
                  <a:ext cx="1523880" cy="1523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Regist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il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2286000" y="4800600"/>
                  <a:ext cx="304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66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2590560" y="4800600"/>
                  <a:ext cx="45720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st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 flipH="1">
                  <a:off x="2590560" y="480060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 flipH="1">
                  <a:off x="2590200" y="5105520"/>
                  <a:ext cx="453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2590560" y="4495680"/>
                  <a:ext cx="457200" cy="381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val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 flipV="1">
                  <a:off x="2286000" y="571464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1980000" y="6019920"/>
                  <a:ext cx="53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lock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6" name=""/>
              <p:cNvSpPr/>
              <p:nvPr/>
            </p:nvSpPr>
            <p:spPr>
              <a:xfrm>
                <a:off x="1674720" y="4253040"/>
                <a:ext cx="530280" cy="33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1443240" y="4267080"/>
                <a:ext cx="21852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3485520" y="4572000"/>
            <a:ext cx="1776960" cy="1143000"/>
            <a:chOff x="3485520" y="4572000"/>
            <a:chExt cx="1776960" cy="1143000"/>
          </a:xfrm>
        </p:grpSpPr>
        <p:sp>
          <p:nvSpPr>
            <p:cNvPr id="1239" name=""/>
            <p:cNvSpPr/>
            <p:nvPr/>
          </p:nvSpPr>
          <p:spPr>
            <a:xfrm>
              <a:off x="4195800" y="5257800"/>
              <a:ext cx="685800" cy="457200"/>
            </a:xfrm>
            <a:custGeom>
              <a:avLst/>
              <a:gdLst/>
              <a:ahLst/>
              <a:rect l="l" t="t" r="r" b="b"/>
              <a:pathLst>
                <a:path w="432" h="288">
                  <a:moveTo>
                    <a:pt x="0" y="288"/>
                  </a:moveTo>
                  <a:lnTo>
                    <a:pt x="240" y="288"/>
                  </a:lnTo>
                  <a:lnTo>
                    <a:pt x="240" y="0"/>
                  </a:lnTo>
                  <a:lnTo>
                    <a:pt x="432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890880" y="457200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Rising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485520" y="476892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42" name=""/>
          <p:cNvGrpSpPr/>
          <p:nvPr/>
        </p:nvGrpSpPr>
        <p:grpSpPr>
          <a:xfrm>
            <a:off x="5390640" y="4343400"/>
            <a:ext cx="3291480" cy="2114280"/>
            <a:chOff x="5390640" y="4343400"/>
            <a:chExt cx="3291480" cy="2114280"/>
          </a:xfrm>
        </p:grpSpPr>
        <p:sp>
          <p:nvSpPr>
            <p:cNvPr id="1243" name=""/>
            <p:cNvSpPr/>
            <p:nvPr/>
          </p:nvSpPr>
          <p:spPr>
            <a:xfrm>
              <a:off x="5390640" y="4768920"/>
              <a:ext cx="34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99"/>
                  </a:solidFill>
                  <a:latin typeface="Wingdings 3"/>
                  <a:ea typeface="Wingdings 3"/>
                </a:rPr>
                <a:t></a:t>
              </a:r>
              <a:endParaRPr b="0" lang="en-US" sz="3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6248520" y="4343400"/>
              <a:ext cx="2433600" cy="2114280"/>
              <a:chOff x="6248520" y="4343400"/>
              <a:chExt cx="2433600" cy="2114280"/>
            </a:xfrm>
          </p:grpSpPr>
          <p:grpSp>
            <p:nvGrpSpPr>
              <p:cNvPr id="1245" name=""/>
              <p:cNvGrpSpPr/>
              <p:nvPr/>
            </p:nvGrpSpPr>
            <p:grpSpPr>
              <a:xfrm>
                <a:off x="6248520" y="4343400"/>
                <a:ext cx="1981080" cy="2114280"/>
                <a:chOff x="6248520" y="4343400"/>
                <a:chExt cx="1981080" cy="211428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6248520" y="4343400"/>
                  <a:ext cx="1523880" cy="152388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66"/>
                  </a:solidFill>
                  <a:miter/>
                </a:ln>
                <a:effectLst>
                  <a:outerShdw dist="17819" dir="2700000" blurRad="0" rotWithShape="0">
                    <a:srgbClr val="000066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Register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ile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7467840" y="4952880"/>
                  <a:ext cx="3045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66"/>
                      </a:solidFill>
                      <a:latin typeface="Arial"/>
                    </a:rPr>
                    <a:t>W</a:t>
                  </a:r>
                  <a:endParaRPr b="0" lang="en-US" sz="10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7772400" y="4952880"/>
                  <a:ext cx="457200" cy="38088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dst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 flipH="1">
                  <a:off x="7772400" y="4952880"/>
                  <a:ext cx="457200" cy="0"/>
                </a:xfrm>
                <a:prstGeom prst="line">
                  <a:avLst/>
                </a:prstGeom>
                <a:ln w="28440">
                  <a:solidFill>
                    <a:srgbClr val="00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 flipH="1">
                  <a:off x="7772040" y="5257800"/>
                  <a:ext cx="453960" cy="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7772400" y="4647960"/>
                  <a:ext cx="457200" cy="381240"/>
                </a:xfrm>
                <a:prstGeom prst="ellips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66"/>
                      </a:solidFill>
                      <a:latin typeface="Arial"/>
                    </a:rPr>
                    <a:t>valW</a:t>
                  </a:r>
                  <a:endParaRPr b="0" lang="en-US" sz="9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 flipV="1">
                  <a:off x="7467840" y="5866920"/>
                  <a:ext cx="0" cy="304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7161840" y="6172200"/>
                  <a:ext cx="53856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45720" rIns="4572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Clock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4" name=""/>
              <p:cNvSpPr/>
              <p:nvPr/>
            </p:nvSpPr>
            <p:spPr>
              <a:xfrm>
                <a:off x="6856560" y="4405320"/>
                <a:ext cx="530280" cy="331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8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67760" y="4765680"/>
                <a:ext cx="414360" cy="33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67760" y="5070240"/>
                <a:ext cx="414360" cy="33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6625080" y="4419360"/>
                <a:ext cx="218520" cy="34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8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8" name=""/>
          <p:cNvSpPr/>
          <p:nvPr/>
        </p:nvSpPr>
        <p:spPr>
          <a:xfrm>
            <a:off x="1981080" y="1523880"/>
            <a:ext cx="530280" cy="331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749600" y="1538280"/>
            <a:ext cx="21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60" name=""/>
          <p:cNvGrpSpPr/>
          <p:nvPr/>
        </p:nvGrpSpPr>
        <p:grpSpPr>
          <a:xfrm>
            <a:off x="609480" y="2209680"/>
            <a:ext cx="1117800" cy="828720"/>
            <a:chOff x="609480" y="2209680"/>
            <a:chExt cx="1117800" cy="828720"/>
          </a:xfrm>
        </p:grpSpPr>
        <p:sp>
          <p:nvSpPr>
            <p:cNvPr id="1261" name=""/>
            <p:cNvSpPr/>
            <p:nvPr/>
          </p:nvSpPr>
          <p:spPr>
            <a:xfrm>
              <a:off x="838080" y="2362320"/>
              <a:ext cx="889200" cy="676080"/>
            </a:xfrm>
            <a:custGeom>
              <a:avLst/>
              <a:gdLst/>
              <a:ahLst/>
              <a:rect l="l" t="t" r="r" b="b"/>
              <a:pathLst>
                <a:path w="560" h="426">
                  <a:moveTo>
                    <a:pt x="120" y="426"/>
                  </a:moveTo>
                  <a:cubicBezTo>
                    <a:pt x="208" y="416"/>
                    <a:pt x="299" y="383"/>
                    <a:pt x="384" y="360"/>
                  </a:cubicBezTo>
                  <a:cubicBezTo>
                    <a:pt x="408" y="353"/>
                    <a:pt x="432" y="344"/>
                    <a:pt x="456" y="336"/>
                  </a:cubicBezTo>
                  <a:cubicBezTo>
                    <a:pt x="468" y="332"/>
                    <a:pt x="492" y="324"/>
                    <a:pt x="492" y="324"/>
                  </a:cubicBezTo>
                  <a:cubicBezTo>
                    <a:pt x="510" y="306"/>
                    <a:pt x="525" y="302"/>
                    <a:pt x="546" y="288"/>
                  </a:cubicBezTo>
                  <a:cubicBezTo>
                    <a:pt x="550" y="276"/>
                    <a:pt x="560" y="264"/>
                    <a:pt x="558" y="252"/>
                  </a:cubicBezTo>
                  <a:cubicBezTo>
                    <a:pt x="543" y="177"/>
                    <a:pt x="514" y="179"/>
                    <a:pt x="456" y="150"/>
                  </a:cubicBezTo>
                  <a:cubicBezTo>
                    <a:pt x="432" y="138"/>
                    <a:pt x="408" y="125"/>
                    <a:pt x="384" y="114"/>
                  </a:cubicBezTo>
                  <a:cubicBezTo>
                    <a:pt x="351" y="99"/>
                    <a:pt x="350" y="104"/>
                    <a:pt x="318" y="96"/>
                  </a:cubicBezTo>
                  <a:cubicBezTo>
                    <a:pt x="264" y="82"/>
                    <a:pt x="209" y="66"/>
                    <a:pt x="156" y="48"/>
                  </a:cubicBezTo>
                  <a:cubicBezTo>
                    <a:pt x="115" y="34"/>
                    <a:pt x="28" y="2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09480" y="2209680"/>
              <a:ext cx="2048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63" name=""/>
          <p:cNvGrpSpPr/>
          <p:nvPr/>
        </p:nvGrpSpPr>
        <p:grpSpPr>
          <a:xfrm>
            <a:off x="686160" y="2362320"/>
            <a:ext cx="1041120" cy="873720"/>
            <a:chOff x="686160" y="2362320"/>
            <a:chExt cx="1041120" cy="873720"/>
          </a:xfrm>
        </p:grpSpPr>
        <p:sp>
          <p:nvSpPr>
            <p:cNvPr id="1264" name=""/>
            <p:cNvSpPr/>
            <p:nvPr/>
          </p:nvSpPr>
          <p:spPr>
            <a:xfrm>
              <a:off x="686160" y="2895480"/>
              <a:ext cx="2185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838080" y="2362320"/>
              <a:ext cx="889200" cy="676080"/>
            </a:xfrm>
            <a:custGeom>
              <a:avLst/>
              <a:gdLst/>
              <a:ahLst/>
              <a:rect l="l" t="t" r="r" b="b"/>
              <a:pathLst>
                <a:path w="560" h="426">
                  <a:moveTo>
                    <a:pt x="120" y="426"/>
                  </a:moveTo>
                  <a:cubicBezTo>
                    <a:pt x="208" y="416"/>
                    <a:pt x="299" y="383"/>
                    <a:pt x="384" y="360"/>
                  </a:cubicBezTo>
                  <a:cubicBezTo>
                    <a:pt x="408" y="353"/>
                    <a:pt x="432" y="344"/>
                    <a:pt x="456" y="336"/>
                  </a:cubicBezTo>
                  <a:cubicBezTo>
                    <a:pt x="468" y="332"/>
                    <a:pt x="492" y="324"/>
                    <a:pt x="492" y="324"/>
                  </a:cubicBezTo>
                  <a:cubicBezTo>
                    <a:pt x="510" y="306"/>
                    <a:pt x="525" y="302"/>
                    <a:pt x="546" y="288"/>
                  </a:cubicBezTo>
                  <a:cubicBezTo>
                    <a:pt x="550" y="276"/>
                    <a:pt x="560" y="264"/>
                    <a:pt x="558" y="252"/>
                  </a:cubicBezTo>
                  <a:cubicBezTo>
                    <a:pt x="543" y="177"/>
                    <a:pt x="514" y="179"/>
                    <a:pt x="456" y="150"/>
                  </a:cubicBezTo>
                  <a:cubicBezTo>
                    <a:pt x="432" y="138"/>
                    <a:pt x="408" y="125"/>
                    <a:pt x="384" y="114"/>
                  </a:cubicBezTo>
                  <a:cubicBezTo>
                    <a:pt x="351" y="99"/>
                    <a:pt x="350" y="104"/>
                    <a:pt x="318" y="96"/>
                  </a:cubicBezTo>
                  <a:cubicBezTo>
                    <a:pt x="264" y="82"/>
                    <a:pt x="209" y="66"/>
                    <a:pt x="156" y="48"/>
                  </a:cubicBezTo>
                  <a:cubicBezTo>
                    <a:pt x="115" y="34"/>
                    <a:pt x="28" y="28"/>
                    <a:pt x="0" y="0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dware Control Langu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press limited aspects of hardwar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s we want to explore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o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Boole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specify word size---bytes, 32-bit words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ool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bool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int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ify by type of value retur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amp;&amp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||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!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Comparis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=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!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Members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in { B, C, D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0760" indent="-2242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 == B || A == C || A == 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e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 a : A; b : B; c : C 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te test expression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word express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ed by 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s Boolean fun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ously reacts to input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 single wor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aded as clock ri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ndom-access memo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ld multiple word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ssible multiple read or write por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 word when address input chang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rite word as clock ris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igital Signal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160" y="3733920"/>
            <a:ext cx="8294760" cy="26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voltage thresholds to extract discrete values from continuous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st version: 1-bit sig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high range (1) or low range (0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guard range between them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t strongly affected by noise or low quality circuit elemen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make circuits simple, small, and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90360" y="1371600"/>
            <a:ext cx="6019920" cy="2251800"/>
            <a:chOff x="990360" y="1371600"/>
            <a:chExt cx="6019920" cy="2251800"/>
          </a:xfrm>
        </p:grpSpPr>
        <p:sp>
          <p:nvSpPr>
            <p:cNvPr id="88" name=""/>
            <p:cNvSpPr/>
            <p:nvPr/>
          </p:nvSpPr>
          <p:spPr>
            <a:xfrm>
              <a:off x="1904760" y="1922400"/>
              <a:ext cx="5105160" cy="3398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4760" y="2846520"/>
              <a:ext cx="5105160" cy="3394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904760" y="1910880"/>
              <a:ext cx="0" cy="12956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904760" y="3206880"/>
              <a:ext cx="51051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90360" y="2368440"/>
              <a:ext cx="918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oltag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879360" y="3282840"/>
              <a:ext cx="625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14120" y="2063880"/>
              <a:ext cx="5095800" cy="1008000"/>
            </a:xfrm>
            <a:custGeom>
              <a:avLst/>
              <a:gdLst/>
              <a:ahLst/>
              <a:rect l="l" t="t" r="r" b="b"/>
              <a:pathLst>
                <a:path w="3210" h="635">
                  <a:moveTo>
                    <a:pt x="0" y="606"/>
                  </a:moveTo>
                  <a:cubicBezTo>
                    <a:pt x="34" y="601"/>
                    <a:pt x="68" y="596"/>
                    <a:pt x="102" y="588"/>
                  </a:cubicBezTo>
                  <a:cubicBezTo>
                    <a:pt x="159" y="595"/>
                    <a:pt x="204" y="619"/>
                    <a:pt x="258" y="630"/>
                  </a:cubicBezTo>
                  <a:cubicBezTo>
                    <a:pt x="296" y="628"/>
                    <a:pt x="350" y="635"/>
                    <a:pt x="390" y="618"/>
                  </a:cubicBezTo>
                  <a:cubicBezTo>
                    <a:pt x="410" y="610"/>
                    <a:pt x="450" y="594"/>
                    <a:pt x="450" y="594"/>
                  </a:cubicBezTo>
                  <a:cubicBezTo>
                    <a:pt x="495" y="598"/>
                    <a:pt x="528" y="600"/>
                    <a:pt x="564" y="624"/>
                  </a:cubicBezTo>
                  <a:cubicBezTo>
                    <a:pt x="707" y="618"/>
                    <a:pt x="670" y="627"/>
                    <a:pt x="750" y="600"/>
                  </a:cubicBezTo>
                  <a:cubicBezTo>
                    <a:pt x="756" y="594"/>
                    <a:pt x="761" y="587"/>
                    <a:pt x="768" y="582"/>
                  </a:cubicBezTo>
                  <a:cubicBezTo>
                    <a:pt x="775" y="577"/>
                    <a:pt x="785" y="576"/>
                    <a:pt x="792" y="570"/>
                  </a:cubicBezTo>
                  <a:cubicBezTo>
                    <a:pt x="818" y="548"/>
                    <a:pt x="837" y="509"/>
                    <a:pt x="870" y="498"/>
                  </a:cubicBezTo>
                  <a:cubicBezTo>
                    <a:pt x="894" y="474"/>
                    <a:pt x="920" y="445"/>
                    <a:pt x="948" y="426"/>
                  </a:cubicBezTo>
                  <a:cubicBezTo>
                    <a:pt x="982" y="375"/>
                    <a:pt x="1029" y="328"/>
                    <a:pt x="1080" y="294"/>
                  </a:cubicBezTo>
                  <a:cubicBezTo>
                    <a:pt x="1126" y="217"/>
                    <a:pt x="1203" y="184"/>
                    <a:pt x="1272" y="132"/>
                  </a:cubicBezTo>
                  <a:cubicBezTo>
                    <a:pt x="1297" y="113"/>
                    <a:pt x="1308" y="79"/>
                    <a:pt x="1332" y="60"/>
                  </a:cubicBezTo>
                  <a:cubicBezTo>
                    <a:pt x="1342" y="52"/>
                    <a:pt x="1357" y="49"/>
                    <a:pt x="1368" y="42"/>
                  </a:cubicBezTo>
                  <a:cubicBezTo>
                    <a:pt x="1490" y="50"/>
                    <a:pt x="1538" y="59"/>
                    <a:pt x="1674" y="54"/>
                  </a:cubicBezTo>
                  <a:cubicBezTo>
                    <a:pt x="1746" y="40"/>
                    <a:pt x="1820" y="23"/>
                    <a:pt x="1890" y="0"/>
                  </a:cubicBezTo>
                  <a:cubicBezTo>
                    <a:pt x="2003" y="6"/>
                    <a:pt x="2022" y="4"/>
                    <a:pt x="2106" y="60"/>
                  </a:cubicBezTo>
                  <a:cubicBezTo>
                    <a:pt x="2138" y="108"/>
                    <a:pt x="2168" y="164"/>
                    <a:pt x="2208" y="204"/>
                  </a:cubicBezTo>
                  <a:cubicBezTo>
                    <a:pt x="2233" y="278"/>
                    <a:pt x="2315" y="374"/>
                    <a:pt x="2376" y="420"/>
                  </a:cubicBezTo>
                  <a:cubicBezTo>
                    <a:pt x="2405" y="478"/>
                    <a:pt x="2462" y="495"/>
                    <a:pt x="2508" y="534"/>
                  </a:cubicBezTo>
                  <a:cubicBezTo>
                    <a:pt x="2515" y="539"/>
                    <a:pt x="2519" y="548"/>
                    <a:pt x="2526" y="552"/>
                  </a:cubicBezTo>
                  <a:cubicBezTo>
                    <a:pt x="2547" y="564"/>
                    <a:pt x="2595" y="567"/>
                    <a:pt x="2616" y="570"/>
                  </a:cubicBezTo>
                  <a:cubicBezTo>
                    <a:pt x="2688" y="564"/>
                    <a:pt x="2743" y="568"/>
                    <a:pt x="2814" y="582"/>
                  </a:cubicBezTo>
                  <a:cubicBezTo>
                    <a:pt x="2820" y="588"/>
                    <a:pt x="2824" y="596"/>
                    <a:pt x="2832" y="600"/>
                  </a:cubicBezTo>
                  <a:cubicBezTo>
                    <a:pt x="2849" y="608"/>
                    <a:pt x="2886" y="618"/>
                    <a:pt x="2886" y="618"/>
                  </a:cubicBezTo>
                  <a:cubicBezTo>
                    <a:pt x="2997" y="613"/>
                    <a:pt x="3100" y="594"/>
                    <a:pt x="3210" y="594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9047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0004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88584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337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79096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010280" y="1389240"/>
              <a:ext cx="0" cy="3045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904760" y="1541520"/>
              <a:ext cx="129492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5840" y="1541520"/>
              <a:ext cx="14475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0960" y="1541520"/>
              <a:ext cx="121896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65120" y="1371600"/>
              <a:ext cx="40140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419360" y="1389240"/>
              <a:ext cx="40140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27640" y="1406520"/>
              <a:ext cx="401040" cy="340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ing with Logic Gat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0160" y="3200040"/>
            <a:ext cx="82947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s are Boolean functions of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pond continuously to changes in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some, small del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283520" cy="1795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52480" y="4970520"/>
            <a:ext cx="5105520" cy="33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52480" y="5894280"/>
            <a:ext cx="5105520" cy="33984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752480" y="4959360"/>
            <a:ext cx="0" cy="12952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6254640"/>
            <a:ext cx="510552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8080" y="5416560"/>
            <a:ext cx="9180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27440" y="6330960"/>
            <a:ext cx="6256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752480" y="5105520"/>
            <a:ext cx="5105520" cy="99036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624"/>
                </a:moveTo>
                <a:lnTo>
                  <a:pt x="912" y="624"/>
                </a:lnTo>
                <a:lnTo>
                  <a:pt x="1008" y="0"/>
                </a:lnTo>
                <a:lnTo>
                  <a:pt x="2448" y="0"/>
                </a:lnTo>
                <a:lnTo>
                  <a:pt x="2592" y="624"/>
                </a:lnTo>
                <a:lnTo>
                  <a:pt x="3216" y="624"/>
                </a:lnTo>
              </a:path>
            </a:pathLst>
          </a:custGeom>
          <a:noFill/>
          <a:ln cap="rnd" w="28440">
            <a:solidFill>
              <a:srgbClr val="ff0002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5638680"/>
            <a:ext cx="4017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5029200"/>
            <a:ext cx="5105520" cy="990720"/>
          </a:xfrm>
          <a:custGeom>
            <a:avLst/>
            <a:gdLst/>
            <a:ahLst/>
            <a:rect l="l" t="t" r="r" b="b"/>
            <a:pathLst>
              <a:path w="3216" h="624">
                <a:moveTo>
                  <a:pt x="0" y="0"/>
                </a:moveTo>
                <a:lnTo>
                  <a:pt x="480" y="0"/>
                </a:lnTo>
                <a:lnTo>
                  <a:pt x="624" y="624"/>
                </a:lnTo>
                <a:lnTo>
                  <a:pt x="1440" y="624"/>
                </a:lnTo>
                <a:lnTo>
                  <a:pt x="1488" y="96"/>
                </a:lnTo>
                <a:lnTo>
                  <a:pt x="2160" y="96"/>
                </a:lnTo>
                <a:lnTo>
                  <a:pt x="3216" y="96"/>
                </a:lnTo>
              </a:path>
            </a:pathLst>
          </a:custGeom>
          <a:noFill/>
          <a:ln w="28440">
            <a:solidFill>
              <a:srgbClr val="00cc66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162920" y="4724280"/>
            <a:ext cx="4014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629400" y="4952880"/>
            <a:ext cx="533520" cy="228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705360" y="5867280"/>
            <a:ext cx="533160" cy="228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52480" y="4495680"/>
            <a:ext cx="6172200" cy="1676520"/>
            <a:chOff x="1752480" y="4495680"/>
            <a:chExt cx="6172200" cy="1676520"/>
          </a:xfrm>
        </p:grpSpPr>
        <p:sp>
          <p:nvSpPr>
            <p:cNvPr id="123" name=""/>
            <p:cNvSpPr/>
            <p:nvPr/>
          </p:nvSpPr>
          <p:spPr>
            <a:xfrm>
              <a:off x="1752480" y="5029200"/>
              <a:ext cx="5105520" cy="1143000"/>
            </a:xfrm>
            <a:custGeom>
              <a:avLst/>
              <a:gdLst/>
              <a:ahLst/>
              <a:rect l="l" t="t" r="r" b="b"/>
              <a:pathLst>
                <a:path w="3216" h="720">
                  <a:moveTo>
                    <a:pt x="0" y="720"/>
                  </a:moveTo>
                  <a:lnTo>
                    <a:pt x="1584" y="720"/>
                  </a:lnTo>
                  <a:lnTo>
                    <a:pt x="1680" y="0"/>
                  </a:lnTo>
                  <a:lnTo>
                    <a:pt x="2688" y="0"/>
                  </a:lnTo>
                  <a:lnTo>
                    <a:pt x="2784" y="720"/>
                  </a:lnTo>
                  <a:lnTo>
                    <a:pt x="3216" y="72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5866920" y="4724280"/>
              <a:ext cx="76212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29400" y="4495680"/>
              <a:ext cx="12952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&amp;&amp;</a:t>
              </a: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 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038480" y="4648320"/>
            <a:ext cx="304920" cy="0"/>
          </a:xfrm>
          <a:prstGeom prst="line">
            <a:avLst/>
          </a:prstGeom>
          <a:ln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91320" y="4648320"/>
            <a:ext cx="304560" cy="0"/>
          </a:xfrm>
          <a:prstGeom prst="line">
            <a:avLst/>
          </a:prstGeom>
          <a:ln w="12600">
            <a:solidFill>
              <a:srgbClr val="00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67240" y="4267080"/>
            <a:ext cx="1308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ising D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228280" y="4259160"/>
            <a:ext cx="1341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alling Dela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binational Circui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90160" y="4495680"/>
            <a:ext cx="801540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cyclic Network of Logic Ga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ously responds to changes on primary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imary outputs become (after some delay) Boolean functions of primary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96360" y="1143000"/>
            <a:ext cx="6476760" cy="3048120"/>
            <a:chOff x="1296360" y="1143000"/>
            <a:chExt cx="6476760" cy="3048120"/>
          </a:xfrm>
        </p:grpSpPr>
        <p:sp>
          <p:nvSpPr>
            <p:cNvPr id="133" name=""/>
            <p:cNvSpPr/>
            <p:nvPr/>
          </p:nvSpPr>
          <p:spPr>
            <a:xfrm>
              <a:off x="3276720" y="1523880"/>
              <a:ext cx="2514600" cy="2667240"/>
            </a:xfrm>
            <a:prstGeom prst="rect">
              <a:avLst/>
            </a:prstGeom>
            <a:solidFill>
              <a:srgbClr val="fcfeb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3733920" y="1752480"/>
              <a:ext cx="61884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3581280" y="3657600"/>
              <a:ext cx="48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4343400" y="3352680"/>
              <a:ext cx="619200" cy="30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4952880" y="2362320"/>
              <a:ext cx="619200" cy="30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5"/>
            <a:stretch/>
          </p:blipFill>
          <p:spPr>
            <a:xfrm>
              <a:off x="3581280" y="2438280"/>
              <a:ext cx="55728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6"/>
            <a:stretch/>
          </p:blipFill>
          <p:spPr>
            <a:xfrm>
              <a:off x="4114800" y="2895480"/>
              <a:ext cx="557280" cy="30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7"/>
            <a:stretch/>
          </p:blipFill>
          <p:spPr>
            <a:xfrm>
              <a:off x="5029200" y="3124080"/>
              <a:ext cx="487440" cy="24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8"/>
            <a:stretch/>
          </p:blipFill>
          <p:spPr>
            <a:xfrm>
              <a:off x="4876920" y="1828800"/>
              <a:ext cx="487080" cy="2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2438280" y="17524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438280" y="20574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438280" y="236232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38280" y="26668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38280" y="29718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38280" y="327672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38280" y="358128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3886200"/>
              <a:ext cx="83844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17524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20574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236232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1320" y="26668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91320" y="29718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91320" y="327672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791320" y="358128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791320" y="3886200"/>
              <a:ext cx="83808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1143000"/>
              <a:ext cx="1855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cyclic Networ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296360" y="2438280"/>
              <a:ext cx="9410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put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803280" y="2438280"/>
              <a:ext cx="96984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imary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utput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 Equ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 1 if a and b are equ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rdware Control Language (HCL)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oolean operations have syntax similar to C logical opera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use it to describe control logic for processo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63920" y="1219320"/>
            <a:ext cx="4252680" cy="1981080"/>
            <a:chOff x="763920" y="1219320"/>
            <a:chExt cx="4252680" cy="1981080"/>
          </a:xfrm>
        </p:grpSpPr>
        <p:sp>
          <p:nvSpPr>
            <p:cNvPr id="164" name=""/>
            <p:cNvSpPr/>
            <p:nvPr/>
          </p:nvSpPr>
          <p:spPr>
            <a:xfrm>
              <a:off x="1368720" y="1219320"/>
              <a:ext cx="2819160" cy="19810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970360" y="1828080"/>
              <a:ext cx="533520" cy="30420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70360" y="2438280"/>
              <a:ext cx="533520" cy="30456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26240" y="2279520"/>
              <a:ext cx="392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7560" y="2057400"/>
              <a:ext cx="650880" cy="43920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7560" y="2057400"/>
              <a:ext cx="650880" cy="43920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132280" y="2439720"/>
              <a:ext cx="144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5400000">
              <a:off x="1974960" y="214092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5400000">
              <a:off x="1974960" y="213768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5400000">
              <a:off x="2088360" y="244044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5400000">
              <a:off x="2088360" y="2440440"/>
              <a:ext cx="7740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2132280" y="1981080"/>
              <a:ext cx="1440" cy="150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208240" y="1676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65240" y="1676160"/>
              <a:ext cx="1293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59080" y="1600200"/>
              <a:ext cx="60660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59080" y="1600200"/>
              <a:ext cx="60660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63920" y="144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51040" y="1981080"/>
              <a:ext cx="60804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1067040" y="2884320"/>
              <a:ext cx="129384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60880" y="2514600"/>
              <a:ext cx="60624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0880" y="2514600"/>
              <a:ext cx="606240" cy="43920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5360" y="2711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751040" y="1980720"/>
              <a:ext cx="0" cy="91404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16480" y="213336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751040" y="2743200"/>
              <a:ext cx="608040" cy="291600"/>
              <a:chOff x="1751040" y="2743200"/>
              <a:chExt cx="608040" cy="29160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2208240" y="2894760"/>
                <a:ext cx="15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1901520" y="2743200"/>
                <a:ext cx="30168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1901520" y="2743200"/>
                <a:ext cx="301680" cy="29160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2207880" y="2851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2207880" y="2851560"/>
                <a:ext cx="77760" cy="7596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1751040" y="2894760"/>
                <a:ext cx="150840" cy="1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5" name=""/>
            <p:cNvSpPr/>
            <p:nvPr/>
          </p:nvSpPr>
          <p:spPr>
            <a:xfrm>
              <a:off x="2132280" y="2590560"/>
              <a:ext cx="226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32280" y="1676160"/>
              <a:ext cx="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055960" y="1600200"/>
              <a:ext cx="152280" cy="151920"/>
              <a:chOff x="2055960" y="1600200"/>
              <a:chExt cx="152280" cy="151920"/>
            </a:xfrm>
          </p:grpSpPr>
          <p:sp>
            <p:nvSpPr>
              <p:cNvPr id="198" name=""/>
              <p:cNvSpPr/>
              <p:nvPr/>
            </p:nvSpPr>
            <p:spPr>
              <a:xfrm>
                <a:off x="2094120" y="163800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055960" y="1600200"/>
                <a:ext cx="152280" cy="151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1675080" y="2819160"/>
              <a:ext cx="152280" cy="152280"/>
              <a:chOff x="1675080" y="2819160"/>
              <a:chExt cx="152280" cy="152280"/>
            </a:xfrm>
          </p:grpSpPr>
          <p:sp>
            <p:nvSpPr>
              <p:cNvPr id="201" name=""/>
              <p:cNvSpPr/>
              <p:nvPr/>
            </p:nvSpPr>
            <p:spPr>
              <a:xfrm>
                <a:off x="1713240" y="285732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675080" y="281916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>
            <a:off x="4831920" y="2362320"/>
            <a:ext cx="3658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eq = (a&amp;&amp;b)||(!a&amp;&amp;!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48320" y="1811160"/>
            <a:ext cx="185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 Equalit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9520" y="4495680"/>
            <a:ext cx="477540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32-bit word siz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quality oper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nerates Boolean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23520" y="1523880"/>
            <a:ext cx="4551480" cy="4181040"/>
            <a:chOff x="623520" y="1523880"/>
            <a:chExt cx="4551480" cy="4181040"/>
          </a:xfrm>
        </p:grpSpPr>
        <p:sp>
          <p:nvSpPr>
            <p:cNvPr id="208" name=""/>
            <p:cNvSpPr/>
            <p:nvPr/>
          </p:nvSpPr>
          <p:spPr>
            <a:xfrm>
              <a:off x="2365200" y="3733920"/>
              <a:ext cx="1371600" cy="152388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3520" y="15238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374480" y="152388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069920" y="167652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069920" y="213372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23520" y="19810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41520" y="152388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6400" y="22860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374480" y="228600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69920" y="2438280"/>
              <a:ext cx="303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69920" y="289548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26400" y="27432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44400" y="22860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8040" y="41148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374480" y="4114800"/>
              <a:ext cx="990720" cy="7621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69920" y="4267080"/>
              <a:ext cx="3031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69920" y="472428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98040" y="45720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444400" y="411480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8040" y="487692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374480" y="4876920"/>
              <a:ext cx="990720" cy="76176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i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69920" y="5029200"/>
              <a:ext cx="30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069920" y="5486400"/>
              <a:ext cx="306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8040" y="533412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44400" y="4876920"/>
              <a:ext cx="6001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755720" y="3276720"/>
              <a:ext cx="152280" cy="609480"/>
              <a:chOff x="1755720" y="3276720"/>
              <a:chExt cx="152280" cy="6094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1755720" y="3276720"/>
                <a:ext cx="152280" cy="152280"/>
                <a:chOff x="1755720" y="3276720"/>
                <a:chExt cx="152280" cy="152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793880" y="33148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755720" y="32767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1755720" y="3505320"/>
                <a:ext cx="152280" cy="152280"/>
                <a:chOff x="1755720" y="3505320"/>
                <a:chExt cx="152280" cy="152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793880" y="35434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1755720" y="35053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755720" y="3733920"/>
                <a:ext cx="152280" cy="152280"/>
                <a:chOff x="1755720" y="3733920"/>
                <a:chExt cx="152280" cy="1522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793880" y="37720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755720" y="37339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4348080" y="357516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741480" y="335268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41480" y="3352680"/>
              <a:ext cx="60660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46080" y="1905120"/>
              <a:ext cx="838440" cy="1523880"/>
            </a:xfrm>
            <a:custGeom>
              <a:avLst/>
              <a:gdLst/>
              <a:ahLst/>
              <a:rect l="l" t="t" r="r" b="b"/>
              <a:pathLst>
                <a:path w="528" h="960">
                  <a:moveTo>
                    <a:pt x="0" y="0"/>
                  </a:moveTo>
                  <a:lnTo>
                    <a:pt x="432" y="0"/>
                  </a:lnTo>
                  <a:lnTo>
                    <a:pt x="432" y="960"/>
                  </a:lnTo>
                  <a:lnTo>
                    <a:pt x="528" y="96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365200" y="1904400"/>
              <a:ext cx="1371600" cy="1523880"/>
            </a:xfrm>
            <a:custGeom>
              <a:avLst/>
              <a:gdLst/>
              <a:ahLst/>
              <a:rect l="l" t="t" r="r" b="b"/>
              <a:pathLst>
                <a:path w="864" h="960">
                  <a:moveTo>
                    <a:pt x="0" y="960"/>
                  </a:moveTo>
                  <a:lnTo>
                    <a:pt x="672" y="960"/>
                  </a:lnTo>
                  <a:lnTo>
                    <a:pt x="672" y="0"/>
                  </a:lnTo>
                  <a:lnTo>
                    <a:pt x="864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365200" y="2666880"/>
              <a:ext cx="1371600" cy="83844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2365200" y="3657600"/>
              <a:ext cx="1371600" cy="838080"/>
            </a:xfrm>
            <a:custGeom>
              <a:avLst/>
              <a:gdLst/>
              <a:ahLst/>
              <a:rect l="l" t="t" r="r" b="b"/>
              <a:pathLst>
                <a:path w="864" h="528">
                  <a:moveTo>
                    <a:pt x="0" y="0"/>
                  </a:moveTo>
                  <a:lnTo>
                    <a:pt x="576" y="0"/>
                  </a:lnTo>
                  <a:lnTo>
                    <a:pt x="576" y="528"/>
                  </a:lnTo>
                  <a:lnTo>
                    <a:pt x="864" y="528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0" name=""/>
            <p:cNvGrpSpPr/>
            <p:nvPr/>
          </p:nvGrpSpPr>
          <p:grpSpPr>
            <a:xfrm>
              <a:off x="2974680" y="3276720"/>
              <a:ext cx="152280" cy="609480"/>
              <a:chOff x="2974680" y="3276720"/>
              <a:chExt cx="152280" cy="60948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2974680" y="3276720"/>
                <a:ext cx="152280" cy="152280"/>
                <a:chOff x="2974680" y="3276720"/>
                <a:chExt cx="152280" cy="1522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012840" y="33148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974680" y="32767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2974680" y="3505320"/>
                <a:ext cx="152280" cy="152280"/>
                <a:chOff x="2974680" y="3505320"/>
                <a:chExt cx="152280" cy="15228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3012840" y="35434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2974680" y="35053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974680" y="3733920"/>
                <a:ext cx="152280" cy="152280"/>
                <a:chOff x="2974680" y="3733920"/>
                <a:chExt cx="152280" cy="1522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3012840" y="377208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974680" y="3733920"/>
                  <a:ext cx="152280" cy="15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0" name=""/>
            <p:cNvSpPr/>
            <p:nvPr/>
          </p:nvSpPr>
          <p:spPr>
            <a:xfrm>
              <a:off x="4574880" y="3429000"/>
              <a:ext cx="600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335560" y="1523880"/>
            <a:ext cx="2609280" cy="1029960"/>
            <a:chOff x="5335560" y="1523880"/>
            <a:chExt cx="2609280" cy="1029960"/>
          </a:xfrm>
        </p:grpSpPr>
        <p:sp>
          <p:nvSpPr>
            <p:cNvPr id="262" name=""/>
            <p:cNvSpPr/>
            <p:nvPr/>
          </p:nvSpPr>
          <p:spPr>
            <a:xfrm>
              <a:off x="6111720" y="1561680"/>
              <a:ext cx="1143000" cy="9144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54520" y="171432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54520" y="23238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4720" y="2018880"/>
              <a:ext cx="457200" cy="0"/>
            </a:xfrm>
            <a:prstGeom prst="line">
              <a:avLst/>
            </a:prstGeom>
            <a:ln w="1908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35560" y="15238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51760" y="21855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85120" y="16380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Eq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5097600" y="1049400"/>
            <a:ext cx="30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-Leve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67960" y="3429000"/>
            <a:ext cx="25610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Eq = (A == 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7760" y="2971800"/>
            <a:ext cx="228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it-Level Multiple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90160" y="4343040"/>
            <a:ext cx="829476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signal 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signals a and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a when s=1, b when s=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600200"/>
            <a:ext cx="2819160" cy="2133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Bit M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819520" y="26668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19520" y="3124080"/>
            <a:ext cx="533160" cy="152640"/>
          </a:xfrm>
          <a:custGeom>
            <a:avLst/>
            <a:gdLst/>
            <a:ahLst/>
            <a:rect l="l" t="t" r="r" b="b"/>
            <a:pathLst>
              <a:path w="336" h="96">
                <a:moveTo>
                  <a:pt x="0" y="96"/>
                </a:moveTo>
                <a:lnTo>
                  <a:pt x="144" y="96"/>
                </a:lnTo>
                <a:lnTo>
                  <a:pt x="144" y="0"/>
                </a:lnTo>
                <a:lnTo>
                  <a:pt x="336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75040" y="2965320"/>
            <a:ext cx="39204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73480" y="2743200"/>
            <a:ext cx="650880" cy="439560"/>
          </a:xfrm>
          <a:custGeom>
            <a:avLst/>
            <a:gdLst/>
            <a:ahLst/>
            <a:rect l="l" t="t" r="r" b="b"/>
            <a:pathLst>
              <a:path w="410" h="277">
                <a:moveTo>
                  <a:pt x="0" y="0"/>
                </a:moveTo>
                <a:lnTo>
                  <a:pt x="190" y="0"/>
                </a:lnTo>
                <a:lnTo>
                  <a:pt x="190" y="0"/>
                </a:lnTo>
                <a:lnTo>
                  <a:pt x="227" y="3"/>
                </a:lnTo>
                <a:lnTo>
                  <a:pt x="262" y="11"/>
                </a:lnTo>
                <a:lnTo>
                  <a:pt x="292" y="22"/>
                </a:lnTo>
                <a:lnTo>
                  <a:pt x="322" y="40"/>
                </a:lnTo>
                <a:lnTo>
                  <a:pt x="372" y="81"/>
                </a:lnTo>
                <a:lnTo>
                  <a:pt x="410" y="140"/>
                </a:lnTo>
                <a:lnTo>
                  <a:pt x="410" y="140"/>
                </a:lnTo>
                <a:lnTo>
                  <a:pt x="372" y="195"/>
                </a:lnTo>
                <a:lnTo>
                  <a:pt x="322" y="240"/>
                </a:lnTo>
                <a:lnTo>
                  <a:pt x="292" y="254"/>
                </a:lnTo>
                <a:lnTo>
                  <a:pt x="262" y="266"/>
                </a:lnTo>
                <a:lnTo>
                  <a:pt x="227" y="273"/>
                </a:lnTo>
                <a:lnTo>
                  <a:pt x="190" y="277"/>
                </a:lnTo>
                <a:lnTo>
                  <a:pt x="19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0" y="277"/>
                </a:lnTo>
                <a:lnTo>
                  <a:pt x="22" y="247"/>
                </a:lnTo>
                <a:lnTo>
                  <a:pt x="38" y="214"/>
                </a:lnTo>
                <a:lnTo>
                  <a:pt x="45" y="177"/>
                </a:lnTo>
                <a:lnTo>
                  <a:pt x="49" y="140"/>
                </a:lnTo>
                <a:lnTo>
                  <a:pt x="49" y="140"/>
                </a:lnTo>
                <a:lnTo>
                  <a:pt x="45" y="99"/>
                </a:lnTo>
                <a:lnTo>
                  <a:pt x="38" y="66"/>
                </a:lnTo>
                <a:lnTo>
                  <a:pt x="22" y="3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752480" y="1752480"/>
            <a:ext cx="292320" cy="609840"/>
            <a:chOff x="1752480" y="1752480"/>
            <a:chExt cx="292320" cy="609840"/>
          </a:xfrm>
        </p:grpSpPr>
        <p:sp>
          <p:nvSpPr>
            <p:cNvPr id="281" name=""/>
            <p:cNvSpPr/>
            <p:nvPr/>
          </p:nvSpPr>
          <p:spPr>
            <a:xfrm flipH="1">
              <a:off x="1905120" y="2211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1747800" y="1909440"/>
              <a:ext cx="301320" cy="292320"/>
            </a:xfrm>
            <a:custGeom>
              <a:avLst/>
              <a:gdLst/>
              <a:ahLst/>
              <a:rect l="l" t="t" r="r" b="b"/>
              <a:pathLst>
                <a:path w="190" h="184">
                  <a:moveTo>
                    <a:pt x="0" y="0"/>
                  </a:moveTo>
                  <a:lnTo>
                    <a:pt x="0" y="184"/>
                  </a:lnTo>
                  <a:lnTo>
                    <a:pt x="190" y="92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1860840" y="2212200"/>
              <a:ext cx="77760" cy="75960"/>
            </a:xfrm>
            <a:custGeom>
              <a:avLst/>
              <a:gdLst/>
              <a:ahLst/>
              <a:rect l="l" t="t" r="r" b="b"/>
              <a:pathLst>
                <a:path w="49" h="48">
                  <a:moveTo>
                    <a:pt x="49" y="26"/>
                  </a:moveTo>
                  <a:lnTo>
                    <a:pt x="42" y="41"/>
                  </a:lnTo>
                  <a:lnTo>
                    <a:pt x="23" y="48"/>
                  </a:lnTo>
                  <a:lnTo>
                    <a:pt x="23" y="48"/>
                  </a:lnTo>
                  <a:lnTo>
                    <a:pt x="8" y="41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8" y="8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42" y="8"/>
                  </a:lnTo>
                  <a:lnTo>
                    <a:pt x="49" y="26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1893960" y="1752480"/>
              <a:ext cx="1440" cy="150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2057400" y="2514600"/>
            <a:ext cx="150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2819520"/>
            <a:ext cx="1293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8240" y="2438280"/>
            <a:ext cx="606240" cy="43992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2720" y="25909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0920" y="1600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57400" y="3124080"/>
            <a:ext cx="1508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914400" y="3417480"/>
            <a:ext cx="12938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08240" y="3048120"/>
            <a:ext cx="606240" cy="439560"/>
          </a:xfrm>
          <a:custGeom>
            <a:avLst/>
            <a:gdLst/>
            <a:ahLst/>
            <a:rect l="l" t="t" r="r" b="b"/>
            <a:pathLst>
              <a:path w="382" h="277">
                <a:moveTo>
                  <a:pt x="382" y="140"/>
                </a:moveTo>
                <a:lnTo>
                  <a:pt x="378" y="166"/>
                </a:lnTo>
                <a:lnTo>
                  <a:pt x="370" y="192"/>
                </a:lnTo>
                <a:lnTo>
                  <a:pt x="359" y="214"/>
                </a:lnTo>
                <a:lnTo>
                  <a:pt x="340" y="236"/>
                </a:lnTo>
                <a:lnTo>
                  <a:pt x="317" y="254"/>
                </a:lnTo>
                <a:lnTo>
                  <a:pt x="294" y="266"/>
                </a:lnTo>
                <a:lnTo>
                  <a:pt x="267" y="273"/>
                </a:lnTo>
                <a:lnTo>
                  <a:pt x="237" y="277"/>
                </a:lnTo>
                <a:lnTo>
                  <a:pt x="237" y="277"/>
                </a:lnTo>
                <a:lnTo>
                  <a:pt x="0" y="277"/>
                </a:lnTo>
                <a:lnTo>
                  <a:pt x="0" y="277"/>
                </a:lnTo>
                <a:lnTo>
                  <a:pt x="0" y="0"/>
                </a:lnTo>
                <a:lnTo>
                  <a:pt x="0" y="0"/>
                </a:lnTo>
                <a:lnTo>
                  <a:pt x="237" y="0"/>
                </a:lnTo>
                <a:lnTo>
                  <a:pt x="237" y="0"/>
                </a:lnTo>
                <a:lnTo>
                  <a:pt x="267" y="3"/>
                </a:lnTo>
                <a:lnTo>
                  <a:pt x="294" y="11"/>
                </a:lnTo>
                <a:lnTo>
                  <a:pt x="317" y="22"/>
                </a:lnTo>
                <a:lnTo>
                  <a:pt x="340" y="40"/>
                </a:lnTo>
                <a:lnTo>
                  <a:pt x="359" y="62"/>
                </a:lnTo>
                <a:lnTo>
                  <a:pt x="370" y="85"/>
                </a:lnTo>
                <a:lnTo>
                  <a:pt x="378" y="110"/>
                </a:lnTo>
                <a:lnTo>
                  <a:pt x="382" y="14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2720" y="3244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752480"/>
            <a:ext cx="533520" cy="137160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752480"/>
            <a:ext cx="99072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905120" y="2362320"/>
            <a:ext cx="152280" cy="152280"/>
          </a:xfrm>
          <a:custGeom>
            <a:avLst/>
            <a:gdLst/>
            <a:ahLst/>
            <a:rect l="l" t="t" r="r" b="b"/>
            <a:pathLst>
              <a:path w="336" h="1056">
                <a:moveTo>
                  <a:pt x="336" y="1056"/>
                </a:moveTo>
                <a:lnTo>
                  <a:pt x="0" y="1056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343400" y="2819520"/>
            <a:ext cx="6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u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447920" y="1676520"/>
            <a:ext cx="152280" cy="152280"/>
            <a:chOff x="1447920" y="1676520"/>
            <a:chExt cx="152280" cy="152280"/>
          </a:xfrm>
        </p:grpSpPr>
        <p:sp>
          <p:nvSpPr>
            <p:cNvPr id="303" name=""/>
            <p:cNvSpPr/>
            <p:nvPr/>
          </p:nvSpPr>
          <p:spPr>
            <a:xfrm>
              <a:off x="1486080" y="1714680"/>
              <a:ext cx="75960" cy="75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447920" y="1676520"/>
              <a:ext cx="15228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4831920" y="2362320"/>
            <a:ext cx="36583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ool out = (s&amp;&amp;a)||(!s&amp;&amp;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548320" y="1811160"/>
            <a:ext cx="185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Express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ord Multiplex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191120" y="4191120"/>
            <a:ext cx="477504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660960" indent="-217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input word A or B depending on control signal 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60960" indent="-217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se express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ries of test : value pai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18440" indent="-2116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utput value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097600" y="609480"/>
            <a:ext cx="3063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ord-Leve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567760" y="2532240"/>
            <a:ext cx="2288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CL Representa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83760" y="685800"/>
            <a:ext cx="4570920" cy="5749200"/>
            <a:chOff x="383760" y="685800"/>
            <a:chExt cx="4570920" cy="5749200"/>
          </a:xfrm>
        </p:grpSpPr>
        <p:sp>
          <p:nvSpPr>
            <p:cNvPr id="312" name=""/>
            <p:cNvSpPr/>
            <p:nvPr/>
          </p:nvSpPr>
          <p:spPr>
            <a:xfrm>
              <a:off x="1144440" y="152388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744640" y="182808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744640" y="22860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00520" y="2127240"/>
              <a:ext cx="392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98960" y="19051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98960" y="19051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677600" y="914400"/>
              <a:ext cx="291960" cy="609120"/>
              <a:chOff x="1677600" y="914400"/>
              <a:chExt cx="291960" cy="609120"/>
            </a:xfrm>
          </p:grpSpPr>
          <p:sp>
            <p:nvSpPr>
              <p:cNvPr id="319" name=""/>
              <p:cNvSpPr/>
              <p:nvPr/>
            </p:nvSpPr>
            <p:spPr>
              <a:xfrm flipH="1">
                <a:off x="1829880" y="1373040"/>
                <a:ext cx="108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5400000">
                <a:off x="1672920" y="1071000"/>
                <a:ext cx="30096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5400000">
                <a:off x="1672920" y="1071000"/>
                <a:ext cx="300960" cy="291960"/>
              </a:xfrm>
              <a:custGeom>
                <a:avLst/>
                <a:gdLst/>
                <a:ahLst/>
                <a:rect l="l" t="t" r="r" b="b"/>
                <a:pathLst>
                  <a:path w="190" h="184">
                    <a:moveTo>
                      <a:pt x="0" y="0"/>
                    </a:moveTo>
                    <a:lnTo>
                      <a:pt x="0" y="184"/>
                    </a:lnTo>
                    <a:lnTo>
                      <a:pt x="190" y="9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5400000">
                <a:off x="1786320" y="137376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5400000">
                <a:off x="1786320" y="1373760"/>
                <a:ext cx="77400" cy="75600"/>
              </a:xfrm>
              <a:custGeom>
                <a:avLst/>
                <a:gdLst/>
                <a:ahLst/>
                <a:rect l="l" t="t" r="r" b="b"/>
                <a:pathLst>
                  <a:path w="49" h="48">
                    <a:moveTo>
                      <a:pt x="49" y="26"/>
                    </a:moveTo>
                    <a:lnTo>
                      <a:pt x="42" y="41"/>
                    </a:lnTo>
                    <a:lnTo>
                      <a:pt x="23" y="48"/>
                    </a:lnTo>
                    <a:lnTo>
                      <a:pt x="23" y="48"/>
                    </a:lnTo>
                    <a:lnTo>
                      <a:pt x="8" y="41"/>
                    </a:lnTo>
                    <a:lnTo>
                      <a:pt x="0" y="26"/>
                    </a:lnTo>
                    <a:lnTo>
                      <a:pt x="0" y="26"/>
                    </a:lnTo>
                    <a:lnTo>
                      <a:pt x="8" y="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42" y="8"/>
                    </a:lnTo>
                    <a:lnTo>
                      <a:pt x="49" y="26"/>
                    </a:lnTo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0" bIns="28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1818720" y="914400"/>
                <a:ext cx="1080" cy="15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1982880" y="167652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9880" y="1981080"/>
              <a:ext cx="1293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133720" y="16002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33720" y="16002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4920" y="175248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83760" y="685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449360" y="2286000"/>
              <a:ext cx="68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9880" y="25909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133720" y="22096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33720" y="22096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94920" y="24066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9880" y="914400"/>
              <a:ext cx="990360" cy="0"/>
            </a:xfrm>
            <a:prstGeom prst="line">
              <a:avLst/>
            </a:prstGeom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830240" y="1523880"/>
              <a:ext cx="152640" cy="15264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68880" y="19810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144440" y="274320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744640" y="30474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44640" y="350532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00520" y="3346560"/>
              <a:ext cx="3920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198960" y="31240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198960" y="3124080"/>
              <a:ext cx="650880" cy="43992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982880" y="2895480"/>
              <a:ext cx="150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880" y="3200400"/>
              <a:ext cx="1293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33720" y="281952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33720" y="281952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94920" y="297180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449360" y="3505320"/>
              <a:ext cx="684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39880" y="380988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133720" y="34290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33720" y="34290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94920" y="3625920"/>
              <a:ext cx="4244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830240" y="2743200"/>
              <a:ext cx="152640" cy="15228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268880" y="320040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44440" y="5181480"/>
              <a:ext cx="2819520" cy="121932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744640" y="548568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744640" y="5943600"/>
              <a:ext cx="533520" cy="152280"/>
            </a:xfrm>
            <a:custGeom>
              <a:avLst/>
              <a:gdLst/>
              <a:ahLst/>
              <a:rect l="l" t="t" r="r" b="b"/>
              <a:pathLst>
                <a:path w="336" h="96">
                  <a:moveTo>
                    <a:pt x="0" y="96"/>
                  </a:moveTo>
                  <a:lnTo>
                    <a:pt x="144" y="96"/>
                  </a:lnTo>
                  <a:lnTo>
                    <a:pt x="144" y="0"/>
                  </a:lnTo>
                  <a:lnTo>
                    <a:pt x="336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00520" y="5784840"/>
              <a:ext cx="3920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98960" y="55627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98960" y="5562720"/>
              <a:ext cx="650880" cy="439560"/>
            </a:xfrm>
            <a:custGeom>
              <a:avLst/>
              <a:gdLst/>
              <a:ahLst/>
              <a:rect l="l" t="t" r="r" b="b"/>
              <a:pathLst>
                <a:path w="410" h="277">
                  <a:moveTo>
                    <a:pt x="0" y="0"/>
                  </a:moveTo>
                  <a:lnTo>
                    <a:pt x="190" y="0"/>
                  </a:lnTo>
                  <a:lnTo>
                    <a:pt x="190" y="0"/>
                  </a:lnTo>
                  <a:lnTo>
                    <a:pt x="227" y="3"/>
                  </a:lnTo>
                  <a:lnTo>
                    <a:pt x="262" y="11"/>
                  </a:lnTo>
                  <a:lnTo>
                    <a:pt x="292" y="22"/>
                  </a:lnTo>
                  <a:lnTo>
                    <a:pt x="322" y="40"/>
                  </a:lnTo>
                  <a:lnTo>
                    <a:pt x="372" y="81"/>
                  </a:lnTo>
                  <a:lnTo>
                    <a:pt x="410" y="140"/>
                  </a:lnTo>
                  <a:lnTo>
                    <a:pt x="410" y="140"/>
                  </a:lnTo>
                  <a:lnTo>
                    <a:pt x="372" y="195"/>
                  </a:lnTo>
                  <a:lnTo>
                    <a:pt x="322" y="240"/>
                  </a:lnTo>
                  <a:lnTo>
                    <a:pt x="292" y="254"/>
                  </a:lnTo>
                  <a:lnTo>
                    <a:pt x="262" y="266"/>
                  </a:lnTo>
                  <a:lnTo>
                    <a:pt x="227" y="273"/>
                  </a:lnTo>
                  <a:lnTo>
                    <a:pt x="190" y="277"/>
                  </a:lnTo>
                  <a:lnTo>
                    <a:pt x="19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22" y="247"/>
                  </a:lnTo>
                  <a:lnTo>
                    <a:pt x="38" y="214"/>
                  </a:lnTo>
                  <a:lnTo>
                    <a:pt x="45" y="177"/>
                  </a:lnTo>
                  <a:lnTo>
                    <a:pt x="49" y="140"/>
                  </a:lnTo>
                  <a:lnTo>
                    <a:pt x="49" y="140"/>
                  </a:lnTo>
                  <a:lnTo>
                    <a:pt x="45" y="99"/>
                  </a:lnTo>
                  <a:lnTo>
                    <a:pt x="38" y="66"/>
                  </a:lnTo>
                  <a:lnTo>
                    <a:pt x="2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82880" y="533412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39880" y="5638680"/>
              <a:ext cx="1293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133720" y="52578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133720" y="5257800"/>
              <a:ext cx="606240" cy="43956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66560" y="541008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982880" y="5943600"/>
              <a:ext cx="150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39880" y="6248520"/>
              <a:ext cx="12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133720" y="58672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33720" y="5867280"/>
              <a:ext cx="606240" cy="439920"/>
            </a:xfrm>
            <a:custGeom>
              <a:avLst/>
              <a:gdLst/>
              <a:ahLst/>
              <a:rect l="l" t="t" r="r" b="b"/>
              <a:pathLst>
                <a:path w="382" h="277">
                  <a:moveTo>
                    <a:pt x="382" y="140"/>
                  </a:moveTo>
                  <a:lnTo>
                    <a:pt x="378" y="166"/>
                  </a:lnTo>
                  <a:lnTo>
                    <a:pt x="370" y="192"/>
                  </a:lnTo>
                  <a:lnTo>
                    <a:pt x="359" y="214"/>
                  </a:lnTo>
                  <a:lnTo>
                    <a:pt x="340" y="236"/>
                  </a:lnTo>
                  <a:lnTo>
                    <a:pt x="317" y="254"/>
                  </a:lnTo>
                  <a:lnTo>
                    <a:pt x="294" y="266"/>
                  </a:lnTo>
                  <a:lnTo>
                    <a:pt x="267" y="273"/>
                  </a:lnTo>
                  <a:lnTo>
                    <a:pt x="237" y="277"/>
                  </a:lnTo>
                  <a:lnTo>
                    <a:pt x="237" y="277"/>
                  </a:lnTo>
                  <a:lnTo>
                    <a:pt x="0" y="277"/>
                  </a:lnTo>
                  <a:lnTo>
                    <a:pt x="0" y="277"/>
                  </a:lnTo>
                  <a:lnTo>
                    <a:pt x="0" y="0"/>
                  </a:lnTo>
                  <a:lnTo>
                    <a:pt x="0" y="0"/>
                  </a:lnTo>
                  <a:lnTo>
                    <a:pt x="237" y="0"/>
                  </a:lnTo>
                  <a:lnTo>
                    <a:pt x="237" y="0"/>
                  </a:lnTo>
                  <a:lnTo>
                    <a:pt x="267" y="3"/>
                  </a:lnTo>
                  <a:lnTo>
                    <a:pt x="294" y="11"/>
                  </a:lnTo>
                  <a:lnTo>
                    <a:pt x="317" y="22"/>
                  </a:lnTo>
                  <a:lnTo>
                    <a:pt x="340" y="40"/>
                  </a:lnTo>
                  <a:lnTo>
                    <a:pt x="359" y="62"/>
                  </a:lnTo>
                  <a:lnTo>
                    <a:pt x="370" y="85"/>
                  </a:lnTo>
                  <a:lnTo>
                    <a:pt x="378" y="110"/>
                  </a:lnTo>
                  <a:lnTo>
                    <a:pt x="382" y="14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6560" y="6064200"/>
              <a:ext cx="3589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830240" y="1676520"/>
              <a:ext cx="228600" cy="365760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8880" y="5638680"/>
              <a:ext cx="68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r>
                <a:rPr b="0" lang="en-US" sz="1600" spc="-1" strike="noStrike" baseline="-25000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9360" y="914400"/>
              <a:ext cx="533520" cy="5029200"/>
            </a:xfrm>
            <a:custGeom>
              <a:avLst/>
              <a:gdLst/>
              <a:ahLst/>
              <a:rect l="l" t="t" r="r" b="b"/>
              <a:pathLst>
                <a:path w="336" h="1056">
                  <a:moveTo>
                    <a:pt x="336" y="1056"/>
                  </a:moveTo>
                  <a:lnTo>
                    <a:pt x="0" y="1056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1754280" y="1600200"/>
              <a:ext cx="152280" cy="152280"/>
              <a:chOff x="1754280" y="1600200"/>
              <a:chExt cx="152280" cy="152280"/>
            </a:xfrm>
          </p:grpSpPr>
          <p:sp>
            <p:nvSpPr>
              <p:cNvPr id="377" name=""/>
              <p:cNvSpPr/>
              <p:nvPr/>
            </p:nvSpPr>
            <p:spPr>
              <a:xfrm>
                <a:off x="1792440" y="163836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754280" y="160020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1754280" y="2819520"/>
              <a:ext cx="152280" cy="152280"/>
              <a:chOff x="1754280" y="2819520"/>
              <a:chExt cx="152280" cy="152280"/>
            </a:xfrm>
          </p:grpSpPr>
          <p:sp>
            <p:nvSpPr>
              <p:cNvPr id="380" name=""/>
              <p:cNvSpPr/>
              <p:nvPr/>
            </p:nvSpPr>
            <p:spPr>
              <a:xfrm>
                <a:off x="1792440" y="285768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754280" y="2819520"/>
                <a:ext cx="152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1373040" y="2209680"/>
              <a:ext cx="152640" cy="152640"/>
              <a:chOff x="1373040" y="2209680"/>
              <a:chExt cx="152640" cy="152640"/>
            </a:xfrm>
          </p:grpSpPr>
          <p:sp>
            <p:nvSpPr>
              <p:cNvPr id="383" name=""/>
              <p:cNvSpPr/>
              <p:nvPr/>
            </p:nvSpPr>
            <p:spPr>
              <a:xfrm>
                <a:off x="1411200" y="224784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373040" y="22096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1373040" y="3429000"/>
              <a:ext cx="152640" cy="152280"/>
              <a:chOff x="1373040" y="3429000"/>
              <a:chExt cx="152640" cy="152280"/>
            </a:xfrm>
          </p:grpSpPr>
          <p:sp>
            <p:nvSpPr>
              <p:cNvPr id="386" name=""/>
              <p:cNvSpPr/>
              <p:nvPr/>
            </p:nvSpPr>
            <p:spPr>
              <a:xfrm>
                <a:off x="1411200" y="346716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373040" y="3429000"/>
                <a:ext cx="15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"/>
            <p:cNvGrpSpPr/>
            <p:nvPr/>
          </p:nvGrpSpPr>
          <p:grpSpPr>
            <a:xfrm>
              <a:off x="2363760" y="4267080"/>
              <a:ext cx="152280" cy="609840"/>
              <a:chOff x="2363760" y="4267080"/>
              <a:chExt cx="152280" cy="609840"/>
            </a:xfrm>
          </p:grpSpPr>
          <p:grpSp>
            <p:nvGrpSpPr>
              <p:cNvPr id="389" name=""/>
              <p:cNvGrpSpPr/>
              <p:nvPr/>
            </p:nvGrpSpPr>
            <p:grpSpPr>
              <a:xfrm>
                <a:off x="2363760" y="4267080"/>
                <a:ext cx="152280" cy="152640"/>
                <a:chOff x="2363760" y="4267080"/>
                <a:chExt cx="152280" cy="1526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2401920" y="43052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363760" y="42670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2363760" y="4495680"/>
                <a:ext cx="152280" cy="152640"/>
                <a:chOff x="2363760" y="4495680"/>
                <a:chExt cx="152280" cy="1526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2401920" y="45338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63760" y="44956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2363760" y="4724280"/>
                <a:ext cx="152280" cy="152640"/>
                <a:chOff x="2363760" y="4724280"/>
                <a:chExt cx="152280" cy="1526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2401920" y="4762440"/>
                  <a:ext cx="75960" cy="75960"/>
                </a:xfrm>
                <a:prstGeom prst="ellipse">
                  <a:avLst/>
                </a:prstGeom>
                <a:solidFill>
                  <a:srgbClr val="000066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2363760" y="4724280"/>
                  <a:ext cx="152280" cy="15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98" name=""/>
            <p:cNvGrpSpPr/>
            <p:nvPr/>
          </p:nvGrpSpPr>
          <p:grpSpPr>
            <a:xfrm>
              <a:off x="1373040" y="838080"/>
              <a:ext cx="152640" cy="152640"/>
              <a:chOff x="1373040" y="838080"/>
              <a:chExt cx="152640" cy="152640"/>
            </a:xfrm>
          </p:grpSpPr>
          <p:sp>
            <p:nvSpPr>
              <p:cNvPr id="399" name=""/>
              <p:cNvSpPr/>
              <p:nvPr/>
            </p:nvSpPr>
            <p:spPr>
              <a:xfrm>
                <a:off x="1411200" y="876240"/>
                <a:ext cx="75960" cy="75960"/>
              </a:xfrm>
              <a:prstGeom prst="ellipse">
                <a:avLst/>
              </a:prstGeom>
              <a:solidFill>
                <a:srgbClr val="000066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373040" y="8380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1" name=""/>
          <p:cNvSpPr/>
          <p:nvPr/>
        </p:nvSpPr>
        <p:spPr>
          <a:xfrm>
            <a:off x="5713200" y="2892600"/>
            <a:ext cx="168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Out = [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 : A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1 : B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5487480" y="1084320"/>
            <a:ext cx="2184840" cy="1257120"/>
            <a:chOff x="5487480" y="1084320"/>
            <a:chExt cx="2184840" cy="1257120"/>
          </a:xfrm>
        </p:grpSpPr>
        <p:sp>
          <p:nvSpPr>
            <p:cNvPr id="403" name=""/>
            <p:cNvSpPr/>
            <p:nvPr/>
          </p:nvSpPr>
          <p:spPr>
            <a:xfrm>
              <a:off x="5487480" y="1084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90960" y="177012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90960" y="21510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487480" y="15858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487480" y="199872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81680" y="1922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5440" y="1754280"/>
              <a:ext cx="5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u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90960" y="1312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432" y="0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66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72200" y="1503360"/>
              <a:ext cx="671400" cy="83808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838080"/>
                <a:gd name="textAreaBottom" fmla="*/ 805320 h 838080"/>
              </a:gdLst>
              <a:ahLst/>
              <a:rect l="textAreaLeft" t="textAreaTop" r="textAreaRight" b="textAreaBottom"/>
              <a:pathLst>
                <a:path w="21600" h="26959">
                  <a:moveTo>
                    <a:pt x="3600" y="0"/>
                  </a:moveTo>
                  <a:arcTo wR="3600" hR="3600" stAng="16200000" swAng="-5400000"/>
                  <a:lnTo>
                    <a:pt x="0" y="23359"/>
                  </a:lnTo>
                  <a:arcTo wR="3600" hR="3600" stAng="10800000" swAng="-5400000"/>
                  <a:lnTo>
                    <a:pt x="18000" y="2695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32Z</dcterms:modified>
  <cp:revision>64</cp:revision>
  <dc:subject>SRC Review Slides</dc:subject>
  <dc:title>Formal Processor Verification</dc:title>
</cp:coreProperties>
</file>