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32888" cy="68468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9492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899680" y="121896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016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09492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899680" y="3942000"/>
            <a:ext cx="267084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04280" y="247320"/>
            <a:ext cx="8704440" cy="36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40320" y="394200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40320" y="1218960"/>
            <a:ext cx="404748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0160" y="3942000"/>
            <a:ext cx="8294760" cy="248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385920" indent="-385920">
              <a:lnSpc>
                <a:spcPct val="95000"/>
              </a:lnSpc>
              <a:spcBef>
                <a:spcPts val="1500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385920" indent="-385920">
              <a:lnSpc>
                <a:spcPct val="95000"/>
              </a:lnSpc>
              <a:spcBef>
                <a:spcPts val="1500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Helvetica"/>
              <a:buChar char="»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4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5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6" marL="385920" indent="-385920">
              <a:lnSpc>
                <a:spcPct val="95000"/>
              </a:lnSpc>
              <a:spcBef>
                <a:spcPts val="1500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-79920" y="6390000"/>
            <a:ext cx="12016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– </a:t>
            </a:r>
            <a:fld id="{CDFBA35E-3A78-492C-A23A-7EBD3DDB9ABA}" type="slidenum">
              <a:rPr b="0" lang="en-US" sz="1400" spc="-1" strike="noStrike">
                <a:solidFill>
                  <a:srgbClr val="660033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 –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718400" y="6380640"/>
            <a:ext cx="7459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365040"/>
            <a:ext cx="7762680" cy="1139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ff99"/>
            </a:outerShdw>
          </a:effectLst>
        </p:spPr>
        <p:txBody>
          <a:bodyPr lIns="91800" rIns="91800" tIns="46080" bIns="4608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673000" y="4216320"/>
            <a:ext cx="37850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andal E. Bryant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80760" y="5245200"/>
            <a:ext cx="5994720" cy="5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33"/>
                </a:solidFill>
                <a:latin typeface="Arial"/>
              </a:rPr>
              <a:t>Carnegie Mellon University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705720" y="6515280"/>
            <a:ext cx="781200" cy="2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CS:AP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52920" y="1022400"/>
            <a:ext cx="25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45280" y="755640"/>
            <a:ext cx="5758560" cy="2915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54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S:APP Chapter 4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Computer Architecture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Sequential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904120" y="5940360"/>
            <a:ext cx="3336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urier New"/>
              </a:rPr>
              <a:t>http://csapp.cs.cmu.edu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Arith/Log. O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mulate instruction execution as sequence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same general form for all instruc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18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29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36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condition code regis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743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747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53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754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6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effective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to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6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523880" y="1143000"/>
            <a:ext cx="5943600" cy="60948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1676520" y="1295280"/>
            <a:ext cx="5562360" cy="304920"/>
            <a:chOff x="1676520" y="1295280"/>
            <a:chExt cx="5562360" cy="304920"/>
          </a:xfrm>
        </p:grpSpPr>
        <p:sp>
          <p:nvSpPr>
            <p:cNvPr id="762" name=""/>
            <p:cNvSpPr/>
            <p:nvPr/>
          </p:nvSpPr>
          <p:spPr>
            <a:xfrm>
              <a:off x="1676520" y="1295280"/>
              <a:ext cx="1904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,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</a:t>
              </a: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(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3581280" y="1295280"/>
              <a:ext cx="3657600" cy="304560"/>
              <a:chOff x="3581280" y="1295280"/>
              <a:chExt cx="3657600" cy="304560"/>
            </a:xfrm>
          </p:grpSpPr>
          <p:grpSp>
            <p:nvGrpSpPr>
              <p:cNvPr id="764" name=""/>
              <p:cNvGrpSpPr/>
              <p:nvPr/>
            </p:nvGrpSpPr>
            <p:grpSpPr>
              <a:xfrm>
                <a:off x="3581280" y="1295280"/>
                <a:ext cx="609480" cy="304560"/>
                <a:chOff x="3581280" y="1295280"/>
                <a:chExt cx="609480" cy="30456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35812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3886200" y="129528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3581280" y="129528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4190760" y="1295280"/>
                <a:ext cx="609840" cy="304560"/>
                <a:chOff x="4190760" y="1295280"/>
                <a:chExt cx="609840" cy="30456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419076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4495680" y="129528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66"/>
                      </a:solidFill>
                      <a:latin typeface="Arial"/>
                    </a:rPr>
                    <a:t>rB</a:t>
                  </a:r>
                  <a:endParaRPr b="0" lang="en-US" sz="18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4190760" y="129528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72" name=""/>
              <p:cNvSpPr/>
              <p:nvPr/>
            </p:nvSpPr>
            <p:spPr>
              <a:xfrm>
                <a:off x="4800600" y="1295280"/>
                <a:ext cx="2438280" cy="3045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66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mmov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for address comput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mmov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, D(rB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777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2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6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isplacement 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788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B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795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1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02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value to memory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05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06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12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13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result to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19" name=""/>
          <p:cNvGrpSpPr/>
          <p:nvPr/>
        </p:nvGrpSpPr>
        <p:grpSpPr>
          <a:xfrm>
            <a:off x="2514600" y="1066680"/>
            <a:ext cx="3322800" cy="609840"/>
            <a:chOff x="2514600" y="1066680"/>
            <a:chExt cx="3322800" cy="609840"/>
          </a:xfrm>
        </p:grpSpPr>
        <p:sp>
          <p:nvSpPr>
            <p:cNvPr id="820" name=""/>
            <p:cNvSpPr/>
            <p:nvPr/>
          </p:nvSpPr>
          <p:spPr>
            <a:xfrm>
              <a:off x="2514600" y="1066680"/>
              <a:ext cx="33228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7432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22" name=""/>
            <p:cNvGrpSpPr/>
            <p:nvPr/>
          </p:nvGrpSpPr>
          <p:grpSpPr>
            <a:xfrm>
              <a:off x="4313160" y="1219320"/>
              <a:ext cx="609480" cy="304560"/>
              <a:chOff x="4313160" y="1219320"/>
              <a:chExt cx="609480" cy="304560"/>
            </a:xfrm>
          </p:grpSpPr>
          <p:sp>
            <p:nvSpPr>
              <p:cNvPr id="823" name=""/>
              <p:cNvSpPr/>
              <p:nvPr/>
            </p:nvSpPr>
            <p:spPr>
              <a:xfrm>
                <a:off x="431316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61808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31316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4923000" y="1219320"/>
              <a:ext cx="609480" cy="304560"/>
              <a:chOff x="4923000" y="1219320"/>
              <a:chExt cx="609480" cy="304560"/>
            </a:xfrm>
          </p:grpSpPr>
          <p:sp>
            <p:nvSpPr>
              <p:cNvPr id="827" name=""/>
              <p:cNvSpPr/>
              <p:nvPr/>
            </p:nvSpPr>
            <p:spPr>
              <a:xfrm>
                <a:off x="492300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22792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92300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pop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01560" indent="-1976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ust update two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opped valu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926640" indent="-19260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New stack pointer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pop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33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834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A:r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2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gister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next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845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 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1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852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859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from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863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A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870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90160" y="3047760"/>
            <a:ext cx="407052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20720" indent="-23688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termine whether to take branch based on jump condition and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512960" y="3047760"/>
            <a:ext cx="4071960" cy="338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 if branch taken or to incremented PC if not branch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286000" y="1143000"/>
            <a:ext cx="6116040" cy="1752480"/>
            <a:chOff x="2286000" y="1143000"/>
            <a:chExt cx="6116040" cy="1752480"/>
          </a:xfrm>
        </p:grpSpPr>
        <p:sp>
          <p:nvSpPr>
            <p:cNvPr id="877" name=""/>
            <p:cNvSpPr/>
            <p:nvPr/>
          </p:nvSpPr>
          <p:spPr>
            <a:xfrm>
              <a:off x="2286000" y="1143000"/>
              <a:ext cx="4618080" cy="175248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2514600" y="1218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jXX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79" name=""/>
            <p:cNvGrpSpPr/>
            <p:nvPr/>
          </p:nvGrpSpPr>
          <p:grpSpPr>
            <a:xfrm>
              <a:off x="3657600" y="1218960"/>
              <a:ext cx="609480" cy="304920"/>
              <a:chOff x="3657600" y="1218960"/>
              <a:chExt cx="609480" cy="304920"/>
            </a:xfrm>
          </p:grpSpPr>
          <p:sp>
            <p:nvSpPr>
              <p:cNvPr id="880" name=""/>
              <p:cNvSpPr/>
              <p:nvPr/>
            </p:nvSpPr>
            <p:spPr>
              <a:xfrm>
                <a:off x="3657600" y="1218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7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962520" y="1218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7600" y="1218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3" name=""/>
            <p:cNvSpPr/>
            <p:nvPr/>
          </p:nvSpPr>
          <p:spPr>
            <a:xfrm>
              <a:off x="4267080" y="1218960"/>
              <a:ext cx="2438280" cy="3049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3657600" y="1600200"/>
              <a:ext cx="609480" cy="304560"/>
              <a:chOff x="3657600" y="1600200"/>
              <a:chExt cx="609480" cy="304560"/>
            </a:xfrm>
          </p:grpSpPr>
          <p:sp>
            <p:nvSpPr>
              <p:cNvPr id="885" name=""/>
              <p:cNvSpPr/>
              <p:nvPr/>
            </p:nvSpPr>
            <p:spPr>
              <a:xfrm>
                <a:off x="3657600" y="160020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62520" y="160020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57600" y="160020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>
              <a:off x="2514600" y="1600200"/>
              <a:ext cx="11127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fall thru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89" name=""/>
            <p:cNvGrpSpPr/>
            <p:nvPr/>
          </p:nvGrpSpPr>
          <p:grpSpPr>
            <a:xfrm>
              <a:off x="3657600" y="2361960"/>
              <a:ext cx="609480" cy="304920"/>
              <a:chOff x="3657600" y="2361960"/>
              <a:chExt cx="609480" cy="304920"/>
            </a:xfrm>
          </p:grpSpPr>
          <p:sp>
            <p:nvSpPr>
              <p:cNvPr id="890" name=""/>
              <p:cNvSpPr/>
              <p:nvPr/>
            </p:nvSpPr>
            <p:spPr>
              <a:xfrm>
                <a:off x="3657600" y="236196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962520" y="236196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57600" y="236196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893" name=""/>
            <p:cNvSpPr/>
            <p:nvPr/>
          </p:nvSpPr>
          <p:spPr>
            <a:xfrm>
              <a:off x="2514600" y="2361960"/>
              <a:ext cx="1112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4266720" y="175248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4266720" y="2514600"/>
              <a:ext cx="28954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69120" y="1506240"/>
              <a:ext cx="11329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Not 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248600" y="2403360"/>
              <a:ext cx="7520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Take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Jum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th addres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hoose based on setting of condition codes and branch condi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jXX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01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02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all through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2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13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19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20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ch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Cond(CC,ifun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Take branch?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26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27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0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31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938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Bch ? valC : val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P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290160" y="3428640"/>
            <a:ext cx="407052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5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5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12960" y="3428640"/>
            <a:ext cx="4071960" cy="300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incremented PC to new value of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Des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1935000" y="1066680"/>
            <a:ext cx="5380200" cy="1676520"/>
            <a:chOff x="1935000" y="1066680"/>
            <a:chExt cx="5380200" cy="1676520"/>
          </a:xfrm>
        </p:grpSpPr>
        <p:sp>
          <p:nvSpPr>
            <p:cNvPr id="945" name=""/>
            <p:cNvSpPr/>
            <p:nvPr/>
          </p:nvSpPr>
          <p:spPr>
            <a:xfrm>
              <a:off x="1935000" y="1066680"/>
              <a:ext cx="5380200" cy="167652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163600" y="1219320"/>
              <a:ext cx="1905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47" name=""/>
            <p:cNvGrpSpPr/>
            <p:nvPr/>
          </p:nvGrpSpPr>
          <p:grpSpPr>
            <a:xfrm>
              <a:off x="4068720" y="1219320"/>
              <a:ext cx="609480" cy="304560"/>
              <a:chOff x="4068720" y="1219320"/>
              <a:chExt cx="609480" cy="304560"/>
            </a:xfrm>
          </p:grpSpPr>
          <p:sp>
            <p:nvSpPr>
              <p:cNvPr id="948" name=""/>
              <p:cNvSpPr/>
              <p:nvPr/>
            </p:nvSpPr>
            <p:spPr>
              <a:xfrm>
                <a:off x="4068720" y="121932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8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373640" y="121932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0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4068720" y="1219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4648320" y="1219320"/>
              <a:ext cx="2438280" cy="3045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2" name=""/>
            <p:cNvGrpSpPr/>
            <p:nvPr/>
          </p:nvGrpSpPr>
          <p:grpSpPr>
            <a:xfrm>
              <a:off x="4038480" y="1617840"/>
              <a:ext cx="609480" cy="304560"/>
              <a:chOff x="4038480" y="1617840"/>
              <a:chExt cx="609480" cy="304560"/>
            </a:xfrm>
          </p:grpSpPr>
          <p:sp>
            <p:nvSpPr>
              <p:cNvPr id="953" name=""/>
              <p:cNvSpPr/>
              <p:nvPr/>
            </p:nvSpPr>
            <p:spPr>
              <a:xfrm>
                <a:off x="4038480" y="1617840"/>
                <a:ext cx="30492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43400" y="1617840"/>
                <a:ext cx="304560" cy="3045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38480" y="161784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>
              <a:off x="2895480" y="1617840"/>
              <a:ext cx="1113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return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7" name=""/>
            <p:cNvGrpSpPr/>
            <p:nvPr/>
          </p:nvGrpSpPr>
          <p:grpSpPr>
            <a:xfrm>
              <a:off x="4038480" y="2379600"/>
              <a:ext cx="609480" cy="304920"/>
              <a:chOff x="4038480" y="2379600"/>
              <a:chExt cx="609480" cy="304920"/>
            </a:xfrm>
          </p:grpSpPr>
          <p:sp>
            <p:nvSpPr>
              <p:cNvPr id="958" name=""/>
              <p:cNvSpPr/>
              <p:nvPr/>
            </p:nvSpPr>
            <p:spPr>
              <a:xfrm>
                <a:off x="4038480" y="2379600"/>
                <a:ext cx="30492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43400" y="2379600"/>
                <a:ext cx="304560" cy="3049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XX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038480" y="2379600"/>
                <a:ext cx="609480" cy="30492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61" name=""/>
            <p:cNvSpPr/>
            <p:nvPr/>
          </p:nvSpPr>
          <p:spPr>
            <a:xfrm>
              <a:off x="2895480" y="2379600"/>
              <a:ext cx="1113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target: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call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de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incremented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966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+1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P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PC+5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destination address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return poin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977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984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0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991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E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P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return value on stack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94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995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02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destin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290160" y="2819520"/>
            <a:ext cx="407052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1 byt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stack pointer by 4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512960" y="2819520"/>
            <a:ext cx="4071960" cy="3612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return address from old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stack poi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PC to return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752480" y="1066680"/>
            <a:ext cx="5380200" cy="1600200"/>
          </a:xfrm>
          <a:prstGeom prst="rect">
            <a:avLst/>
          </a:prstGeom>
          <a:solidFill>
            <a:srgbClr val="ffff66"/>
          </a:solidFill>
          <a:ln w="19080">
            <a:solidFill>
              <a:srgbClr val="003300"/>
            </a:solidFill>
            <a:miter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1981080" y="1219320"/>
            <a:ext cx="19051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3886200" y="1219320"/>
            <a:ext cx="609480" cy="304560"/>
            <a:chOff x="3886200" y="1219320"/>
            <a:chExt cx="609480" cy="304560"/>
          </a:xfrm>
        </p:grpSpPr>
        <p:sp>
          <p:nvSpPr>
            <p:cNvPr id="1011" name=""/>
            <p:cNvSpPr/>
            <p:nvPr/>
          </p:nvSpPr>
          <p:spPr>
            <a:xfrm>
              <a:off x="3886200" y="1219320"/>
              <a:ext cx="30492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9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191120" y="1219320"/>
              <a:ext cx="304560" cy="3045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0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3886200" y="1219320"/>
              <a:ext cx="609480" cy="30456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3886200" y="2286000"/>
            <a:ext cx="609480" cy="304920"/>
            <a:chOff x="3886200" y="2286000"/>
            <a:chExt cx="609480" cy="304920"/>
          </a:xfrm>
        </p:grpSpPr>
        <p:sp>
          <p:nvSpPr>
            <p:cNvPr id="1015" name=""/>
            <p:cNvSpPr/>
            <p:nvPr/>
          </p:nvSpPr>
          <p:spPr>
            <a:xfrm>
              <a:off x="3886200" y="2286000"/>
              <a:ext cx="30492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191120" y="2286000"/>
              <a:ext cx="304560" cy="304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Courier New"/>
                </a:rPr>
                <a:t>X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3886200" y="2286000"/>
              <a:ext cx="609480" cy="304920"/>
            </a:xfrm>
            <a:prstGeom prst="rect">
              <a:avLst/>
            </a:prstGeom>
            <a:noFill/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18" name=""/>
          <p:cNvSpPr/>
          <p:nvPr/>
        </p:nvSpPr>
        <p:spPr>
          <a:xfrm>
            <a:off x="2743200" y="2286000"/>
            <a:ext cx="1112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turn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Y86 Instruction S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33520" y="838080"/>
            <a:ext cx="5562360" cy="304920"/>
            <a:chOff x="533520" y="838080"/>
            <a:chExt cx="5562360" cy="304920"/>
          </a:xfrm>
        </p:grpSpPr>
        <p:sp>
          <p:nvSpPr>
            <p:cNvPr id="85" name=""/>
            <p:cNvSpPr/>
            <p:nvPr/>
          </p:nvSpPr>
          <p:spPr>
            <a:xfrm>
              <a:off x="533520" y="838080"/>
              <a:ext cx="19047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2438280" y="838080"/>
              <a:ext cx="3657600" cy="304920"/>
              <a:chOff x="2438280" y="838080"/>
              <a:chExt cx="3657600" cy="304920"/>
            </a:xfrm>
          </p:grpSpPr>
          <p:sp>
            <p:nvSpPr>
              <p:cNvPr id="87" name=""/>
              <p:cNvSpPr/>
              <p:nvPr/>
            </p:nvSpPr>
            <p:spPr>
              <a:xfrm>
                <a:off x="24382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0481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6576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267080" y="838080"/>
                <a:ext cx="6098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87692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486400" y="838080"/>
                <a:ext cx="60948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" name=""/>
          <p:cNvGrpSpPr/>
          <p:nvPr/>
        </p:nvGrpSpPr>
        <p:grpSpPr>
          <a:xfrm>
            <a:off x="533520" y="5791320"/>
            <a:ext cx="3124080" cy="304560"/>
            <a:chOff x="533520" y="5791320"/>
            <a:chExt cx="3124080" cy="304560"/>
          </a:xfrm>
        </p:grpSpPr>
        <p:sp>
          <p:nvSpPr>
            <p:cNvPr id="94" name=""/>
            <p:cNvSpPr/>
            <p:nvPr/>
          </p:nvSpPr>
          <p:spPr>
            <a:xfrm>
              <a:off x="533520" y="5791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ush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2438280" y="5791320"/>
              <a:ext cx="609840" cy="304560"/>
              <a:chOff x="2438280" y="5791320"/>
              <a:chExt cx="609840" cy="304560"/>
            </a:xfrm>
          </p:grpSpPr>
          <p:sp>
            <p:nvSpPr>
              <p:cNvPr id="96" name=""/>
              <p:cNvSpPr/>
              <p:nvPr/>
            </p:nvSpPr>
            <p:spPr>
              <a:xfrm>
                <a:off x="243828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43200" y="5791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438280" y="5791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"/>
            <p:cNvGrpSpPr/>
            <p:nvPr/>
          </p:nvGrpSpPr>
          <p:grpSpPr>
            <a:xfrm>
              <a:off x="3048120" y="5791320"/>
              <a:ext cx="609480" cy="304560"/>
              <a:chOff x="3048120" y="5791320"/>
              <a:chExt cx="609480" cy="304560"/>
            </a:xfrm>
          </p:grpSpPr>
          <p:sp>
            <p:nvSpPr>
              <p:cNvPr id="100" name=""/>
              <p:cNvSpPr/>
              <p:nvPr/>
            </p:nvSpPr>
            <p:spPr>
              <a:xfrm>
                <a:off x="3048120" y="5791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352680" y="5791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48120" y="5791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533520" y="4419720"/>
            <a:ext cx="4952880" cy="304560"/>
            <a:chOff x="533520" y="4419720"/>
            <a:chExt cx="4952880" cy="304560"/>
          </a:xfrm>
        </p:grpSpPr>
        <p:sp>
          <p:nvSpPr>
            <p:cNvPr id="104" name=""/>
            <p:cNvSpPr/>
            <p:nvPr/>
          </p:nvSpPr>
          <p:spPr>
            <a:xfrm>
              <a:off x="533520" y="4419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jXX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2438280" y="4419720"/>
              <a:ext cx="609840" cy="304560"/>
              <a:chOff x="2438280" y="4419720"/>
              <a:chExt cx="609840" cy="304560"/>
            </a:xfrm>
          </p:grpSpPr>
          <p:sp>
            <p:nvSpPr>
              <p:cNvPr id="106" name=""/>
              <p:cNvSpPr/>
              <p:nvPr/>
            </p:nvSpPr>
            <p:spPr>
              <a:xfrm>
                <a:off x="243828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7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743200" y="4419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438280" y="4419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3048120" y="44197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533520" y="6248520"/>
            <a:ext cx="3124080" cy="304560"/>
            <a:chOff x="533520" y="6248520"/>
            <a:chExt cx="3124080" cy="304560"/>
          </a:xfrm>
        </p:grpSpPr>
        <p:sp>
          <p:nvSpPr>
            <p:cNvPr id="111" name=""/>
            <p:cNvSpPr/>
            <p:nvPr/>
          </p:nvSpPr>
          <p:spPr>
            <a:xfrm>
              <a:off x="533520" y="6248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p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2438280" y="6248520"/>
              <a:ext cx="609840" cy="304560"/>
              <a:chOff x="2438280" y="6248520"/>
              <a:chExt cx="609840" cy="304560"/>
            </a:xfrm>
          </p:grpSpPr>
          <p:sp>
            <p:nvSpPr>
              <p:cNvPr id="113" name=""/>
              <p:cNvSpPr/>
              <p:nvPr/>
            </p:nvSpPr>
            <p:spPr>
              <a:xfrm>
                <a:off x="243828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43200" y="6248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438280" y="6248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3048120" y="6248520"/>
              <a:ext cx="609480" cy="304560"/>
              <a:chOff x="3048120" y="6248520"/>
              <a:chExt cx="609480" cy="304560"/>
            </a:xfrm>
          </p:grpSpPr>
          <p:sp>
            <p:nvSpPr>
              <p:cNvPr id="117" name=""/>
              <p:cNvSpPr/>
              <p:nvPr/>
            </p:nvSpPr>
            <p:spPr>
              <a:xfrm>
                <a:off x="3048120" y="6248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52680" y="6248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048120" y="6248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533520" y="4876920"/>
            <a:ext cx="4952880" cy="304560"/>
            <a:chOff x="533520" y="4876920"/>
            <a:chExt cx="4952880" cy="304560"/>
          </a:xfrm>
        </p:grpSpPr>
        <p:sp>
          <p:nvSpPr>
            <p:cNvPr id="121" name=""/>
            <p:cNvSpPr/>
            <p:nvPr/>
          </p:nvSpPr>
          <p:spPr>
            <a:xfrm>
              <a:off x="533520" y="4876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cal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438280" y="4876920"/>
              <a:ext cx="609840" cy="304560"/>
              <a:chOff x="2438280" y="4876920"/>
              <a:chExt cx="609840" cy="304560"/>
            </a:xfrm>
          </p:grpSpPr>
          <p:sp>
            <p:nvSpPr>
              <p:cNvPr id="123" name=""/>
              <p:cNvSpPr/>
              <p:nvPr/>
            </p:nvSpPr>
            <p:spPr>
              <a:xfrm>
                <a:off x="243828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43200" y="4876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438280" y="4876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3048120" y="4876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es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33520" y="2133720"/>
            <a:ext cx="3124080" cy="304560"/>
            <a:chOff x="533520" y="2133720"/>
            <a:chExt cx="3124080" cy="304560"/>
          </a:xfrm>
        </p:grpSpPr>
        <p:sp>
          <p:nvSpPr>
            <p:cNvPr id="128" name=""/>
            <p:cNvSpPr/>
            <p:nvPr/>
          </p:nvSpPr>
          <p:spPr>
            <a:xfrm>
              <a:off x="533520" y="21337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438280" y="2133720"/>
              <a:ext cx="609840" cy="304560"/>
              <a:chOff x="2438280" y="2133720"/>
              <a:chExt cx="609840" cy="304560"/>
            </a:xfrm>
          </p:grpSpPr>
          <p:sp>
            <p:nvSpPr>
              <p:cNvPr id="130" name=""/>
              <p:cNvSpPr/>
              <p:nvPr/>
            </p:nvSpPr>
            <p:spPr>
              <a:xfrm>
                <a:off x="243828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2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43200" y="2133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438280" y="2133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3048120" y="2133720"/>
              <a:ext cx="609480" cy="304560"/>
              <a:chOff x="3048120" y="2133720"/>
              <a:chExt cx="609480" cy="304560"/>
            </a:xfrm>
          </p:grpSpPr>
          <p:sp>
            <p:nvSpPr>
              <p:cNvPr id="134" name=""/>
              <p:cNvSpPr/>
              <p:nvPr/>
            </p:nvSpPr>
            <p:spPr>
              <a:xfrm>
                <a:off x="3048120" y="2133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352680" y="2133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048120" y="2133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533520" y="2590920"/>
            <a:ext cx="5562360" cy="304560"/>
            <a:chOff x="533520" y="2590920"/>
            <a:chExt cx="5562360" cy="304560"/>
          </a:xfrm>
        </p:grpSpPr>
        <p:sp>
          <p:nvSpPr>
            <p:cNvPr id="138" name=""/>
            <p:cNvSpPr/>
            <p:nvPr/>
          </p:nvSpPr>
          <p:spPr>
            <a:xfrm>
              <a:off x="533520" y="25909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i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2438280" y="2590920"/>
              <a:ext cx="609840" cy="304560"/>
              <a:chOff x="2438280" y="2590920"/>
              <a:chExt cx="609840" cy="304560"/>
            </a:xfrm>
          </p:grpSpPr>
          <p:sp>
            <p:nvSpPr>
              <p:cNvPr id="140" name=""/>
              <p:cNvSpPr/>
              <p:nvPr/>
            </p:nvSpPr>
            <p:spPr>
              <a:xfrm>
                <a:off x="243828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3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743200" y="25909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438280" y="25909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048120" y="2590920"/>
              <a:ext cx="609480" cy="304560"/>
              <a:chOff x="3048120" y="2590920"/>
              <a:chExt cx="609480" cy="304560"/>
            </a:xfrm>
          </p:grpSpPr>
          <p:sp>
            <p:nvSpPr>
              <p:cNvPr id="144" name=""/>
              <p:cNvSpPr/>
              <p:nvPr/>
            </p:nvSpPr>
            <p:spPr>
              <a:xfrm>
                <a:off x="3048120" y="25909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8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352680" y="25909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048120" y="25909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657600" y="25909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V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3520" y="3048120"/>
            <a:ext cx="5562360" cy="304560"/>
            <a:chOff x="533520" y="3048120"/>
            <a:chExt cx="5562360" cy="304560"/>
          </a:xfrm>
        </p:grpSpPr>
        <p:sp>
          <p:nvSpPr>
            <p:cNvPr id="149" name=""/>
            <p:cNvSpPr/>
            <p:nvPr/>
          </p:nvSpPr>
          <p:spPr>
            <a:xfrm>
              <a:off x="533520" y="3048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m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2438280" y="3048120"/>
              <a:ext cx="609840" cy="304560"/>
              <a:chOff x="2438280" y="3048120"/>
              <a:chExt cx="609840" cy="304560"/>
            </a:xfrm>
          </p:grpSpPr>
          <p:sp>
            <p:nvSpPr>
              <p:cNvPr id="151" name=""/>
              <p:cNvSpPr/>
              <p:nvPr/>
            </p:nvSpPr>
            <p:spPr>
              <a:xfrm>
                <a:off x="243828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4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2743200" y="3048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2438280" y="3048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048120" y="3048120"/>
              <a:ext cx="609480" cy="304560"/>
              <a:chOff x="3048120" y="3048120"/>
              <a:chExt cx="609480" cy="304560"/>
            </a:xfrm>
          </p:grpSpPr>
          <p:sp>
            <p:nvSpPr>
              <p:cNvPr id="155" name=""/>
              <p:cNvSpPr/>
              <p:nvPr/>
            </p:nvSpPr>
            <p:spPr>
              <a:xfrm>
                <a:off x="3048120" y="30481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352680" y="30481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048120" y="30481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3657600" y="30481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3520" y="3505320"/>
            <a:ext cx="5562360" cy="304560"/>
            <a:chOff x="533520" y="3505320"/>
            <a:chExt cx="5562360" cy="304560"/>
          </a:xfrm>
        </p:grpSpPr>
        <p:sp>
          <p:nvSpPr>
            <p:cNvPr id="160" name=""/>
            <p:cNvSpPr/>
            <p:nvPr/>
          </p:nvSpPr>
          <p:spPr>
            <a:xfrm>
              <a:off x="533520" y="3505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mrmov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(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)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505320"/>
              <a:ext cx="609840" cy="304560"/>
              <a:chOff x="2438280" y="3505320"/>
              <a:chExt cx="609840" cy="304560"/>
            </a:xfrm>
          </p:grpSpPr>
          <p:sp>
            <p:nvSpPr>
              <p:cNvPr id="162" name=""/>
              <p:cNvSpPr/>
              <p:nvPr/>
            </p:nvSpPr>
            <p:spPr>
              <a:xfrm>
                <a:off x="243828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743200" y="3505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438280" y="3505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3048120" y="3505320"/>
              <a:ext cx="609480" cy="304560"/>
              <a:chOff x="3048120" y="3505320"/>
              <a:chExt cx="609480" cy="304560"/>
            </a:xfrm>
          </p:grpSpPr>
          <p:sp>
            <p:nvSpPr>
              <p:cNvPr id="166" name=""/>
              <p:cNvSpPr/>
              <p:nvPr/>
            </p:nvSpPr>
            <p:spPr>
              <a:xfrm>
                <a:off x="3048120" y="35053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2680" y="35053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48120" y="35053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657600" y="3505320"/>
              <a:ext cx="2438280" cy="30456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533520" y="3962520"/>
            <a:ext cx="3124080" cy="304560"/>
            <a:chOff x="533520" y="3962520"/>
            <a:chExt cx="3124080" cy="304560"/>
          </a:xfrm>
        </p:grpSpPr>
        <p:sp>
          <p:nvSpPr>
            <p:cNvPr id="171" name=""/>
            <p:cNvSpPr/>
            <p:nvPr/>
          </p:nvSpPr>
          <p:spPr>
            <a:xfrm>
              <a:off x="533520" y="3962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OPl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, </a:t>
              </a: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962520"/>
              <a:ext cx="609840" cy="304560"/>
              <a:chOff x="2438280" y="3962520"/>
              <a:chExt cx="609840" cy="304560"/>
            </a:xfrm>
          </p:grpSpPr>
          <p:sp>
            <p:nvSpPr>
              <p:cNvPr id="173" name=""/>
              <p:cNvSpPr/>
              <p:nvPr/>
            </p:nvSpPr>
            <p:spPr>
              <a:xfrm>
                <a:off x="243828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6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43200" y="3962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fn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438280" y="3962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3048120" y="3962520"/>
              <a:ext cx="609480" cy="304560"/>
              <a:chOff x="3048120" y="3962520"/>
              <a:chExt cx="609480" cy="304560"/>
            </a:xfrm>
          </p:grpSpPr>
          <p:sp>
            <p:nvSpPr>
              <p:cNvPr id="177" name=""/>
              <p:cNvSpPr/>
              <p:nvPr/>
            </p:nvSpPr>
            <p:spPr>
              <a:xfrm>
                <a:off x="3048120" y="39625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52680" y="39625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048120" y="39625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533520" y="5334120"/>
            <a:ext cx="2514600" cy="304560"/>
            <a:chOff x="533520" y="5334120"/>
            <a:chExt cx="2514600" cy="304560"/>
          </a:xfrm>
        </p:grpSpPr>
        <p:sp>
          <p:nvSpPr>
            <p:cNvPr id="181" name=""/>
            <p:cNvSpPr/>
            <p:nvPr/>
          </p:nvSpPr>
          <p:spPr>
            <a:xfrm>
              <a:off x="533520" y="53341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438280" y="5334120"/>
              <a:ext cx="609840" cy="304560"/>
              <a:chOff x="2438280" y="5334120"/>
              <a:chExt cx="60984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243828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9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743200" y="53341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438280" y="53341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6" name=""/>
          <p:cNvGrpSpPr/>
          <p:nvPr/>
        </p:nvGrpSpPr>
        <p:grpSpPr>
          <a:xfrm>
            <a:off x="533520" y="1219320"/>
            <a:ext cx="2514600" cy="304560"/>
            <a:chOff x="533520" y="1219320"/>
            <a:chExt cx="2514600" cy="304560"/>
          </a:xfrm>
        </p:grpSpPr>
        <p:sp>
          <p:nvSpPr>
            <p:cNvPr id="187" name=""/>
            <p:cNvSpPr/>
            <p:nvPr/>
          </p:nvSpPr>
          <p:spPr>
            <a:xfrm>
              <a:off x="533520" y="12193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no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2438280" y="1219320"/>
              <a:ext cx="609840" cy="304560"/>
              <a:chOff x="2438280" y="1219320"/>
              <a:chExt cx="609840" cy="304560"/>
            </a:xfrm>
          </p:grpSpPr>
          <p:sp>
            <p:nvSpPr>
              <p:cNvPr id="189" name=""/>
              <p:cNvSpPr/>
              <p:nvPr/>
            </p:nvSpPr>
            <p:spPr>
              <a:xfrm>
                <a:off x="243828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2743200" y="12193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438280" y="12193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2" name=""/>
          <p:cNvGrpSpPr/>
          <p:nvPr/>
        </p:nvGrpSpPr>
        <p:grpSpPr>
          <a:xfrm>
            <a:off x="533520" y="1676520"/>
            <a:ext cx="2514600" cy="304560"/>
            <a:chOff x="533520" y="1676520"/>
            <a:chExt cx="2514600" cy="304560"/>
          </a:xfrm>
        </p:grpSpPr>
        <p:sp>
          <p:nvSpPr>
            <p:cNvPr id="193" name=""/>
            <p:cNvSpPr/>
            <p:nvPr/>
          </p:nvSpPr>
          <p:spPr>
            <a:xfrm>
              <a:off x="533520" y="1676520"/>
              <a:ext cx="190476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Courier New"/>
                </a:rPr>
                <a:t>hal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2438280" y="1676520"/>
              <a:ext cx="609840" cy="304560"/>
              <a:chOff x="2438280" y="1676520"/>
              <a:chExt cx="609840" cy="304560"/>
            </a:xfrm>
          </p:grpSpPr>
          <p:sp>
            <p:nvSpPr>
              <p:cNvPr id="195" name=""/>
              <p:cNvSpPr/>
              <p:nvPr/>
            </p:nvSpPr>
            <p:spPr>
              <a:xfrm>
                <a:off x="243828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1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2743200" y="16765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2438280" y="16765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8" name=""/>
          <p:cNvGrpSpPr/>
          <p:nvPr/>
        </p:nvGrpSpPr>
        <p:grpSpPr>
          <a:xfrm>
            <a:off x="3657600" y="1295280"/>
            <a:ext cx="5410080" cy="3000600"/>
            <a:chOff x="3657600" y="1295280"/>
            <a:chExt cx="5410080" cy="3000600"/>
          </a:xfrm>
        </p:grpSpPr>
        <p:grpSp>
          <p:nvGrpSpPr>
            <p:cNvPr id="199" name=""/>
            <p:cNvGrpSpPr/>
            <p:nvPr/>
          </p:nvGrpSpPr>
          <p:grpSpPr>
            <a:xfrm>
              <a:off x="6934320" y="1295280"/>
              <a:ext cx="2133360" cy="1752840"/>
              <a:chOff x="6934320" y="1295280"/>
              <a:chExt cx="2133360" cy="1752840"/>
            </a:xfrm>
          </p:grpSpPr>
          <p:sp>
            <p:nvSpPr>
              <p:cNvPr id="200" name=""/>
              <p:cNvSpPr/>
              <p:nvPr/>
            </p:nvSpPr>
            <p:spPr>
              <a:xfrm>
                <a:off x="7162920" y="13716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d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7848720" y="1371600"/>
                <a:ext cx="609480" cy="304920"/>
                <a:chOff x="7848720" y="1371600"/>
                <a:chExt cx="609480" cy="3049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784872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8153280" y="13716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848720" y="13716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7162920" y="18288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sub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7848720" y="1828800"/>
                <a:ext cx="609480" cy="304920"/>
                <a:chOff x="7848720" y="1828800"/>
                <a:chExt cx="609480" cy="3049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784872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153280" y="18288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848720" y="18288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7162920" y="22860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and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7848720" y="2286000"/>
                <a:ext cx="609480" cy="304920"/>
                <a:chOff x="7848720" y="2286000"/>
                <a:chExt cx="609480" cy="3049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784872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53280" y="22860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848720" y="22860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7162920" y="2743200"/>
                <a:ext cx="19047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xor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7848720" y="2743200"/>
                <a:ext cx="609480" cy="304920"/>
                <a:chOff x="7848720" y="2743200"/>
                <a:chExt cx="609480" cy="3049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784872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8153280" y="2743200"/>
                  <a:ext cx="304560" cy="30492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7848720" y="2743200"/>
                  <a:ext cx="609480" cy="30492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6934320" y="1295280"/>
                <a:ext cx="228600" cy="1752840"/>
              </a:xfrm>
              <a:custGeom>
                <a:avLst/>
                <a:gdLst>
                  <a:gd name="textAreaLeft" fmla="*/ 146160 w 228600"/>
                  <a:gd name="textAreaRight" fmla="*/ 228960 w 228600"/>
                  <a:gd name="textAreaTop" fmla="*/ 45720 h 1752840"/>
                  <a:gd name="textAreaBottom" fmla="*/ 1707120 h 1752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3657600" y="2095560"/>
              <a:ext cx="3200400" cy="2200320"/>
            </a:xfrm>
            <a:custGeom>
              <a:avLst/>
              <a:gdLst/>
              <a:ahLst/>
              <a:rect l="l" t="t" r="r" b="b"/>
              <a:pathLst>
                <a:path w="2016" h="1386">
                  <a:moveTo>
                    <a:pt x="0" y="1272"/>
                  </a:moveTo>
                  <a:cubicBezTo>
                    <a:pt x="280" y="1272"/>
                    <a:pt x="1488" y="1386"/>
                    <a:pt x="1680" y="1272"/>
                  </a:cubicBezTo>
                  <a:cubicBezTo>
                    <a:pt x="1872" y="1158"/>
                    <a:pt x="1840" y="1072"/>
                    <a:pt x="1872" y="888"/>
                  </a:cubicBezTo>
                  <a:cubicBezTo>
                    <a:pt x="1904" y="704"/>
                    <a:pt x="1856" y="312"/>
                    <a:pt x="1872" y="168"/>
                  </a:cubicBezTo>
                  <a:cubicBezTo>
                    <a:pt x="1888" y="24"/>
                    <a:pt x="1944" y="48"/>
                    <a:pt x="1968" y="24"/>
                  </a:cubicBezTo>
                  <a:cubicBezTo>
                    <a:pt x="1992" y="0"/>
                    <a:pt x="2006" y="24"/>
                    <a:pt x="2016" y="24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562720" y="3276720"/>
            <a:ext cx="3504600" cy="3047400"/>
            <a:chOff x="5562720" y="3276720"/>
            <a:chExt cx="3504600" cy="3047400"/>
          </a:xfrm>
        </p:grpSpPr>
        <p:grpSp>
          <p:nvGrpSpPr>
            <p:cNvPr id="223" name=""/>
            <p:cNvGrpSpPr/>
            <p:nvPr/>
          </p:nvGrpSpPr>
          <p:grpSpPr>
            <a:xfrm>
              <a:off x="6934320" y="3276720"/>
              <a:ext cx="2133000" cy="3047400"/>
              <a:chOff x="6934320" y="3276720"/>
              <a:chExt cx="2133000" cy="3047400"/>
            </a:xfrm>
          </p:grpSpPr>
          <p:sp>
            <p:nvSpPr>
              <p:cNvPr id="224" name=""/>
              <p:cNvSpPr/>
              <p:nvPr/>
            </p:nvSpPr>
            <p:spPr>
              <a:xfrm>
                <a:off x="7162560" y="327672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m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848360" y="3276720"/>
                <a:ext cx="609480" cy="304560"/>
                <a:chOff x="7848360" y="3276720"/>
                <a:chExt cx="609480" cy="304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4836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152920" y="327672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0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848360" y="32767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7162560" y="3733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0" name=""/>
              <p:cNvGrpSpPr/>
              <p:nvPr/>
            </p:nvGrpSpPr>
            <p:grpSpPr>
              <a:xfrm>
                <a:off x="7848360" y="3733560"/>
                <a:ext cx="609480" cy="304560"/>
                <a:chOff x="7848360" y="3733560"/>
                <a:chExt cx="609480" cy="3045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84836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8152920" y="3733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1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7848360" y="3733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"/>
              <p:cNvSpPr/>
              <p:nvPr/>
            </p:nvSpPr>
            <p:spPr>
              <a:xfrm>
                <a:off x="7162560" y="41907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l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7848360" y="4190760"/>
                <a:ext cx="609480" cy="304560"/>
                <a:chOff x="7848360" y="4190760"/>
                <a:chExt cx="609480" cy="30456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784836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8152920" y="41907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2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848360" y="41907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7162560" y="46479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0" name=""/>
              <p:cNvGrpSpPr/>
              <p:nvPr/>
            </p:nvGrpSpPr>
            <p:grpSpPr>
              <a:xfrm>
                <a:off x="7848360" y="4647960"/>
                <a:ext cx="609480" cy="304560"/>
                <a:chOff x="7848360" y="4647960"/>
                <a:chExt cx="609480" cy="304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4836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8152920" y="46479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3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7848360" y="46479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7162560" y="51051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n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45" name=""/>
              <p:cNvGrpSpPr/>
              <p:nvPr/>
            </p:nvGrpSpPr>
            <p:grpSpPr>
              <a:xfrm>
                <a:off x="7848360" y="5105160"/>
                <a:ext cx="609480" cy="304560"/>
                <a:chOff x="7848360" y="5105160"/>
                <a:chExt cx="609480" cy="3045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784836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8152920" y="51051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4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7848360" y="51051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7162560" y="55623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e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0" name=""/>
              <p:cNvGrpSpPr/>
              <p:nvPr/>
            </p:nvGrpSpPr>
            <p:grpSpPr>
              <a:xfrm>
                <a:off x="7848360" y="5562360"/>
                <a:ext cx="609480" cy="304560"/>
                <a:chOff x="7848360" y="5562360"/>
                <a:chExt cx="609480" cy="30456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784836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8152920" y="55623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5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7848360" y="55623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7162560" y="6019560"/>
                <a:ext cx="1904760" cy="304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jg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55" name=""/>
              <p:cNvGrpSpPr/>
              <p:nvPr/>
            </p:nvGrpSpPr>
            <p:grpSpPr>
              <a:xfrm>
                <a:off x="7848360" y="6019560"/>
                <a:ext cx="609480" cy="304560"/>
                <a:chOff x="7848360" y="6019560"/>
                <a:chExt cx="609480" cy="304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4836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7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152920" y="6019560"/>
                  <a:ext cx="304560" cy="304560"/>
                </a:xfrm>
                <a:prstGeom prst="rect">
                  <a:avLst/>
                </a:prstGeom>
                <a:solidFill>
                  <a:srgbClr val="ffff99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Courier New"/>
                    </a:rPr>
                    <a:t>6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848360" y="601956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9" name=""/>
              <p:cNvSpPr/>
              <p:nvPr/>
            </p:nvSpPr>
            <p:spPr>
              <a:xfrm>
                <a:off x="6934320" y="3352680"/>
                <a:ext cx="228240" cy="2971440"/>
              </a:xfrm>
              <a:custGeom>
                <a:avLst/>
                <a:gdLst>
                  <a:gd name="textAreaLeft" fmla="*/ 145800 w 228240"/>
                  <a:gd name="textAreaRight" fmla="*/ 228600 w 228240"/>
                  <a:gd name="textAreaTop" fmla="*/ 77400 h 2971440"/>
                  <a:gd name="textAreaBottom" fmla="*/ 2894040 h 2971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1908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562720" y="4572000"/>
              <a:ext cx="129528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tage Computation: </a:t>
            </a:r>
            <a:r>
              <a:rPr b="1" lang="en-US" sz="3800" spc="-1" strike="noStrike">
                <a:solidFill>
                  <a:srgbClr val="660033"/>
                </a:solidFill>
                <a:latin typeface="Courier New"/>
              </a:rPr>
              <a:t>re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Use ALU to increment stack poin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return address from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33720" y="990720"/>
            <a:ext cx="28191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re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914400" y="1295280"/>
            <a:ext cx="7010280" cy="1219320"/>
            <a:chOff x="914400" y="1295280"/>
            <a:chExt cx="7010280" cy="1219320"/>
          </a:xfrm>
        </p:grpSpPr>
        <p:sp>
          <p:nvSpPr>
            <p:cNvPr id="1023" name=""/>
            <p:cNvSpPr/>
            <p:nvPr/>
          </p:nvSpPr>
          <p:spPr>
            <a:xfrm>
              <a:off x="2133720" y="12952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code:ifun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PC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133720" y="160020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133720" y="1905120"/>
              <a:ext cx="2819160" cy="30456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133720" y="2209680"/>
              <a:ext cx="2819160" cy="30492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33720" y="1295280"/>
              <a:ext cx="281916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914400" y="1295280"/>
              <a:ext cx="1219320" cy="12193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Fetch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105520" y="12952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instruction by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105520" y="1600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105520" y="19051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105520" y="22096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33" name=""/>
          <p:cNvGrpSpPr/>
          <p:nvPr/>
        </p:nvGrpSpPr>
        <p:grpSpPr>
          <a:xfrm>
            <a:off x="914400" y="2514600"/>
            <a:ext cx="7010280" cy="609480"/>
            <a:chOff x="914400" y="2514600"/>
            <a:chExt cx="7010280" cy="609480"/>
          </a:xfrm>
        </p:grpSpPr>
        <p:sp>
          <p:nvSpPr>
            <p:cNvPr id="1034" name=""/>
            <p:cNvSpPr/>
            <p:nvPr/>
          </p:nvSpPr>
          <p:spPr>
            <a:xfrm>
              <a:off x="2133720" y="251460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133720" y="281952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B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133720" y="2514600"/>
              <a:ext cx="281916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914400" y="2514600"/>
              <a:ext cx="1219320" cy="60948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1055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105520" y="28195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0" name=""/>
          <p:cNvGrpSpPr/>
          <p:nvPr/>
        </p:nvGrpSpPr>
        <p:grpSpPr>
          <a:xfrm>
            <a:off x="914400" y="3124080"/>
            <a:ext cx="7010280" cy="609840"/>
            <a:chOff x="914400" y="3124080"/>
            <a:chExt cx="7010280" cy="609840"/>
          </a:xfrm>
        </p:grpSpPr>
        <p:sp>
          <p:nvSpPr>
            <p:cNvPr id="1041" name=""/>
            <p:cNvSpPr/>
            <p:nvPr/>
          </p:nvSpPr>
          <p:spPr>
            <a:xfrm>
              <a:off x="2133720" y="3124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133720" y="34290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133720" y="31240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14400" y="31240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105520" y="3124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05520" y="34290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914400" y="3733920"/>
            <a:ext cx="7010280" cy="304560"/>
            <a:chOff x="914400" y="3733920"/>
            <a:chExt cx="7010280" cy="304560"/>
          </a:xfrm>
        </p:grpSpPr>
        <p:sp>
          <p:nvSpPr>
            <p:cNvPr id="1048" name=""/>
            <p:cNvSpPr/>
            <p:nvPr/>
          </p:nvSpPr>
          <p:spPr>
            <a:xfrm>
              <a:off x="2133720" y="37339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M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M</a:t>
              </a:r>
              <a:r>
                <a:rPr b="1" lang="en-US" sz="1600" spc="-1" strike="noStrike" baseline="-25000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[valA]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914400" y="37339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105520" y="37339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1" name=""/>
          <p:cNvGrpSpPr/>
          <p:nvPr/>
        </p:nvGrpSpPr>
        <p:grpSpPr>
          <a:xfrm>
            <a:off x="914400" y="4038480"/>
            <a:ext cx="7010280" cy="609840"/>
            <a:chOff x="914400" y="4038480"/>
            <a:chExt cx="7010280" cy="609840"/>
          </a:xfrm>
        </p:grpSpPr>
        <p:sp>
          <p:nvSpPr>
            <p:cNvPr id="1052" name=""/>
            <p:cNvSpPr/>
            <p:nvPr/>
          </p:nvSpPr>
          <p:spPr>
            <a:xfrm>
              <a:off x="21337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33720" y="43434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3720" y="4038480"/>
              <a:ext cx="281916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914400" y="4038480"/>
              <a:ext cx="1219320" cy="60984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055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05520" y="43434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1058" name=""/>
          <p:cNvGrpSpPr/>
          <p:nvPr/>
        </p:nvGrpSpPr>
        <p:grpSpPr>
          <a:xfrm>
            <a:off x="914400" y="4648320"/>
            <a:ext cx="7010280" cy="304560"/>
            <a:chOff x="914400" y="4648320"/>
            <a:chExt cx="7010280" cy="304560"/>
          </a:xfrm>
        </p:grpSpPr>
        <p:sp>
          <p:nvSpPr>
            <p:cNvPr id="1059" name=""/>
            <p:cNvSpPr/>
            <p:nvPr/>
          </p:nvSpPr>
          <p:spPr>
            <a:xfrm>
              <a:off x="2133720" y="4648320"/>
              <a:ext cx="2819160" cy="304560"/>
            </a:xfrm>
            <a:prstGeom prst="rect">
              <a:avLst/>
            </a:prstGeom>
            <a:solidFill>
              <a:srgbClr val="ffcc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M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914400" y="4648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C upda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05520" y="4648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t PC to return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OPl rA, 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:r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2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632448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32448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register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32448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constant word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632448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rB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632448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32448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OP val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632448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32448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Set condition code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632448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rB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32448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ALU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32448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memory result]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2448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ation Step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290160" y="5257440"/>
            <a:ext cx="8294760" cy="11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l instructions follow same general patter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iffer in what gets computed on each ste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3352680" y="990720"/>
            <a:ext cx="28195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call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Des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914400" y="1295280"/>
            <a:ext cx="12193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914400" y="2514600"/>
            <a:ext cx="12193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914400" y="31240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914400" y="37339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914400" y="4038480"/>
            <a:ext cx="12193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914400" y="4648320"/>
            <a:ext cx="121932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upd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33720" y="12952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,ifu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16002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A,r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33720" y="19051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133720" y="22096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133720" y="25146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A, src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133720" y="28195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, src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133720" y="31240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133720" y="34290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nd 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133720" y="37339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133720" y="403848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dstM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2133720" y="4648320"/>
            <a:ext cx="1218960" cy="30456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3352680" y="12952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icode:ifun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1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3352680" y="160020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3352680" y="1905120"/>
            <a:ext cx="2819520" cy="3045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PC+1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352680" y="2209680"/>
            <a:ext cx="2819520" cy="3049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P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PC+5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3352680" y="1295280"/>
            <a:ext cx="2819520" cy="1219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3352680" y="2514600"/>
            <a:ext cx="2819520" cy="304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3352680" y="2819520"/>
            <a:ext cx="2819520" cy="304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B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3352680" y="2514600"/>
            <a:ext cx="2819520" cy="6094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352680" y="312408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valE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B + –4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352680" y="3429000"/>
            <a:ext cx="2819520" cy="30492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3352680" y="31240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3352680" y="3733920"/>
            <a:ext cx="2819520" cy="304560"/>
          </a:xfrm>
          <a:prstGeom prst="rect">
            <a:avLst/>
          </a:prstGeom>
          <a:solidFill>
            <a:srgbClr val="ccff99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</a:t>
            </a:r>
            <a:r>
              <a:rPr b="1" lang="en-US" sz="1600" spc="-1" strike="noStrike" baseline="-25000">
                <a:solidFill>
                  <a:srgbClr val="000066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valE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P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352680" y="403848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[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%esp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]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352680" y="4343400"/>
            <a:ext cx="2819520" cy="30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3352680" y="4038480"/>
            <a:ext cx="2819520" cy="60984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3352680" y="4648320"/>
            <a:ext cx="2819520" cy="30456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C </a:t>
            </a:r>
            <a:r>
              <a:rPr b="1" lang="en-US" sz="1600" spc="-1" strike="noStrike">
                <a:solidFill>
                  <a:srgbClr val="000066"/>
                </a:solidFill>
                <a:latin typeface="Symbol"/>
                <a:ea typeface="Symbol"/>
              </a:rPr>
              <a:t></a:t>
            </a: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val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315120" y="12952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instruction by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315120" y="16002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register byte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6315120" y="19051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constant word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6315120" y="22096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Compute next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6315120" y="25146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Read operand A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6315120" y="28195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Read operand 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315120" y="31240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erform ALU operation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6315120" y="34290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Set condition code reg.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6315120" y="37339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Memory read/write] 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6315120" y="403848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[Write back ALU result]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6315120" y="4343400"/>
            <a:ext cx="2819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Write back memory resul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315120" y="4648320"/>
            <a:ext cx="28195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Update 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Computed Valu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2814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cod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fun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func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. Register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C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struction constan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P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ed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rc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ID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st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estination Register M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A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B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value B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683280" indent="0">
              <a:spcBef>
                <a:spcPts val="561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37846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E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result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h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ranch fla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14860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M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alue from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3824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Ke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lue boxes:     predesigned hardware block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E.g., memories, ALU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Gray boxes:             control logi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escribe in HCL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hite ovals:                      labels for signal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ck lines:                     32-bit word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hin lines:                         4-8 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tted lines:                     1-bit valu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56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5" name="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6880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290160" y="4191120"/>
            <a:ext cx="8294760" cy="224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Predefined Block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: Register containing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memory: Read 6 bytes (PC to PC+5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plit: Divide instruction byte into icode and 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ign: Get fields for rA, rB, and 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68" name="" descr=""/>
          <p:cNvPicPr/>
          <p:nvPr/>
        </p:nvPicPr>
        <p:blipFill>
          <a:blip r:embed="rId1"/>
          <a:stretch/>
        </p:blipFill>
        <p:spPr>
          <a:xfrm>
            <a:off x="2743200" y="533520"/>
            <a:ext cx="5388120" cy="405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33520" y="42670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7800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. Valid: Is this instruction vali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regids: Does this instruction have a register bytes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3940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eed valC: Does this instruction have a constant wor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2743200" y="380880"/>
            <a:ext cx="5388120" cy="405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04640" y="247680"/>
            <a:ext cx="4167360" cy="12002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Fetch Control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pic>
        <p:nvPicPr>
          <p:cNvPr id="1173" name="" descr=""/>
          <p:cNvPicPr/>
          <p:nvPr/>
        </p:nvPicPr>
        <p:blipFill>
          <a:blip r:embed="rId1"/>
          <a:stretch/>
        </p:blipFill>
        <p:spPr>
          <a:xfrm>
            <a:off x="4648320" y="228600"/>
            <a:ext cx="4186080" cy="4025880"/>
          </a:xfrm>
          <a:prstGeom prst="rect">
            <a:avLst/>
          </a:prstGeom>
          <a:ln w="0">
            <a:noFill/>
          </a:ln>
        </p:spPr>
      </p:pic>
      <p:sp>
        <p:nvSpPr>
          <p:cNvPr id="1174" name=""/>
          <p:cNvSpPr/>
          <p:nvPr/>
        </p:nvSpPr>
        <p:spPr>
          <a:xfrm>
            <a:off x="457200" y="441972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need_regids =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, IPUSHL, IPOPL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IRMOVL, IRMMOVL, IMRMOV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instr_valid = icode in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{ INOP, IHALT, IRRMOVL, IIRMOVL, IRMMOVL, IMRMOVL,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OPL, IJXX, ICALL, IRET, IPUSHL, IPOPL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175" name=""/>
          <p:cNvGrpSpPr/>
          <p:nvPr/>
        </p:nvGrpSpPr>
        <p:grpSpPr>
          <a:xfrm>
            <a:off x="2838600" y="1066680"/>
            <a:ext cx="1733400" cy="3505320"/>
            <a:chOff x="2838600" y="1066680"/>
            <a:chExt cx="1733400" cy="3505320"/>
          </a:xfrm>
        </p:grpSpPr>
        <p:sp>
          <p:nvSpPr>
            <p:cNvPr id="1176" name=""/>
            <p:cNvSpPr/>
            <p:nvPr/>
          </p:nvSpPr>
          <p:spPr>
            <a:xfrm>
              <a:off x="3733920" y="10666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33920" y="13716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733920" y="17524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33920" y="20574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733920" y="24382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733920" y="380988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33920" y="4114800"/>
              <a:ext cx="838080" cy="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8600" y="1066680"/>
              <a:ext cx="895320" cy="3505320"/>
            </a:xfrm>
            <a:custGeom>
              <a:avLst/>
              <a:gdLst/>
              <a:ahLst/>
              <a:rect l="l" t="t" r="r" b="b"/>
              <a:pathLst>
                <a:path w="564" h="2208">
                  <a:moveTo>
                    <a:pt x="0" y="2208"/>
                  </a:moveTo>
                  <a:lnTo>
                    <a:pt x="420" y="2112"/>
                  </a:lnTo>
                  <a:lnTo>
                    <a:pt x="564" y="2016"/>
                  </a:lnTo>
                  <a:lnTo>
                    <a:pt x="564" y="1920"/>
                  </a:lnTo>
                  <a:lnTo>
                    <a:pt x="56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Decod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290160" y="1219320"/>
            <a:ext cx="4662360" cy="2590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Register Fil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 ports A, 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rite ports E, M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es are register IDs or 8 (no access)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186" name="" descr=""/>
          <p:cNvPicPr/>
          <p:nvPr/>
        </p:nvPicPr>
        <p:blipFill>
          <a:blip r:embed="rId1"/>
          <a:stretch/>
        </p:blipFill>
        <p:spPr>
          <a:xfrm>
            <a:off x="4572000" y="914400"/>
            <a:ext cx="3898800" cy="3441600"/>
          </a:xfrm>
          <a:prstGeom prst="rect">
            <a:avLst/>
          </a:prstGeom>
          <a:ln w="0">
            <a:noFill/>
          </a:ln>
        </p:spPr>
      </p:pic>
      <p:sp>
        <p:nvSpPr>
          <p:cNvPr id="1187" name=""/>
          <p:cNvSpPr/>
          <p:nvPr/>
        </p:nvSpPr>
        <p:spPr>
          <a:xfrm>
            <a:off x="290520" y="3505320"/>
            <a:ext cx="46623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85920" indent="-385920"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rcA, srcB: read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44440">
              <a:lnSpc>
                <a:spcPct val="100000"/>
              </a:lnSpc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stA, dstB: write port addresse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 Sourc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2286000" y="685800"/>
            <a:ext cx="7010280" cy="4419360"/>
            <a:chOff x="2286000" y="685800"/>
            <a:chExt cx="7010280" cy="4419360"/>
          </a:xfrm>
        </p:grpSpPr>
        <p:sp>
          <p:nvSpPr>
            <p:cNvPr id="1190" name=""/>
            <p:cNvSpPr/>
            <p:nvPr/>
          </p:nvSpPr>
          <p:spPr>
            <a:xfrm>
              <a:off x="3505320" y="685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505320" y="990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286000" y="990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6477120" y="990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505320" y="1447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rA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5053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2860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4771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operand 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5053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505320" y="2514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2286000" y="2514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477120" y="2514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505320" y="29718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505320" y="32763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286000" y="327636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6477120" y="327636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505320" y="37335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A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505320" y="48006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286000" y="48006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477120" y="48006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ead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5053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5053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2860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od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64771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n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60948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src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RMMOVL, IOPL, IPUSHL  } : r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Building Block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96728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pute Boolean functions of inpu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inuously respond to input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erate on data and implement contro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orage El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ore bit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ddressable memori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Non-addressable register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aded only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4647600" y="4343400"/>
            <a:ext cx="2819520" cy="1600200"/>
            <a:chOff x="4647600" y="4343400"/>
            <a:chExt cx="2819520" cy="1600200"/>
          </a:xfrm>
        </p:grpSpPr>
        <p:sp>
          <p:nvSpPr>
            <p:cNvPr id="264" name=""/>
            <p:cNvSpPr/>
            <p:nvPr/>
          </p:nvSpPr>
          <p:spPr>
            <a:xfrm>
              <a:off x="5105520" y="4419360"/>
              <a:ext cx="1524240" cy="15242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gist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file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05520" y="464796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05520" y="54864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24840" y="5029200"/>
              <a:ext cx="304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W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629760" y="50292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dst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648320" y="4647960"/>
              <a:ext cx="457200" cy="3812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4648320" y="464796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47600" y="495288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4648320" y="54864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47600" y="57909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629760" y="5029200"/>
              <a:ext cx="4572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6629400" y="5333760"/>
              <a:ext cx="45396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48320" y="4343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A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8320" y="548640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src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648320" y="51814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B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29760" y="4724280"/>
              <a:ext cx="457200" cy="3808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66"/>
                  </a:solidFill>
                  <a:latin typeface="Arial"/>
                </a:rPr>
                <a:t>valW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6624360" y="5715000"/>
              <a:ext cx="304920" cy="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560" y="5562360"/>
              <a:ext cx="538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4572000" y="762120"/>
            <a:ext cx="1685880" cy="1752480"/>
            <a:chOff x="4572000" y="762120"/>
            <a:chExt cx="1685880" cy="1752480"/>
          </a:xfrm>
        </p:grpSpPr>
        <p:sp>
          <p:nvSpPr>
            <p:cNvPr id="283" name=""/>
            <p:cNvSpPr/>
            <p:nvPr/>
          </p:nvSpPr>
          <p:spPr>
            <a:xfrm>
              <a:off x="5724360" y="1066680"/>
              <a:ext cx="0" cy="3049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5495760" y="1219320"/>
              <a:ext cx="457200" cy="1295280"/>
              <a:chOff x="5495760" y="1219320"/>
              <a:chExt cx="457200" cy="1295280"/>
            </a:xfrm>
          </p:grpSpPr>
          <p:sp>
            <p:nvSpPr>
              <p:cNvPr id="285" name=""/>
              <p:cNvSpPr/>
              <p:nvPr/>
            </p:nvSpPr>
            <p:spPr>
              <a:xfrm>
                <a:off x="5495760" y="1219320"/>
                <a:ext cx="457200" cy="1295280"/>
              </a:xfrm>
              <a:custGeom>
                <a:avLst/>
                <a:gdLst/>
                <a:ahLst/>
                <a:rect l="l" t="t" r="r" b="b"/>
                <a:pathLst>
                  <a:path w="288" h="816">
                    <a:moveTo>
                      <a:pt x="0" y="0"/>
                    </a:moveTo>
                    <a:lnTo>
                      <a:pt x="288" y="192"/>
                    </a:lnTo>
                    <a:lnTo>
                      <a:pt x="288" y="624"/>
                    </a:lnTo>
                    <a:lnTo>
                      <a:pt x="0" y="81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ffcc"/>
              </a:solidFill>
              <a:ln w="936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572080" y="1447560"/>
                <a:ext cx="380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>
              <a:off x="5952960" y="1828800"/>
              <a:ext cx="30492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19440" y="76212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fu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90840" y="144792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90840" y="228600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581360" y="1295280"/>
              <a:ext cx="61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72000" y="2101680"/>
              <a:ext cx="61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6095880" y="2209680"/>
            <a:ext cx="1371600" cy="1130040"/>
            <a:chOff x="6095880" y="2209680"/>
            <a:chExt cx="1371600" cy="1130040"/>
          </a:xfrm>
        </p:grpSpPr>
        <p:sp>
          <p:nvSpPr>
            <p:cNvPr id="294" name=""/>
            <p:cNvSpPr/>
            <p:nvPr/>
          </p:nvSpPr>
          <p:spPr>
            <a:xfrm>
              <a:off x="7010280" y="2666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00800" y="2209680"/>
              <a:ext cx="671400" cy="1066680"/>
            </a:xfrm>
            <a:custGeom>
              <a:avLst/>
              <a:gdLst>
                <a:gd name="textAreaLeft" fmla="*/ 32760 w 671400"/>
                <a:gd name="textAreaRight" fmla="*/ 638640 w 67140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310">
                  <a:moveTo>
                    <a:pt x="3600" y="0"/>
                  </a:moveTo>
                  <a:arcTo wR="3600" hR="3600" stAng="16200000" swAng="-5400000"/>
                  <a:lnTo>
                    <a:pt x="0" y="30710"/>
                  </a:lnTo>
                  <a:arcTo wR="3600" hR="3600" stAng="10800000" swAng="-5400000"/>
                  <a:lnTo>
                    <a:pt x="18000" y="343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MUX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00800" y="220968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00800" y="297144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5880" y="24382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5880" y="3124080"/>
              <a:ext cx="30492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7162920" y="990720"/>
            <a:ext cx="1371600" cy="1066680"/>
            <a:chOff x="7162920" y="990720"/>
            <a:chExt cx="1371600" cy="1066680"/>
          </a:xfrm>
        </p:grpSpPr>
        <p:sp>
          <p:nvSpPr>
            <p:cNvPr id="301" name=""/>
            <p:cNvSpPr/>
            <p:nvPr/>
          </p:nvSpPr>
          <p:spPr>
            <a:xfrm>
              <a:off x="8077320" y="14479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467480" y="990720"/>
              <a:ext cx="671760" cy="1066680"/>
            </a:xfrm>
            <a:custGeom>
              <a:avLst/>
              <a:gdLst>
                <a:gd name="textAreaLeft" fmla="*/ 32760 w 671760"/>
                <a:gd name="textAreaRight" fmla="*/ 639000 w 671760"/>
                <a:gd name="textAreaTop" fmla="*/ 32760 h 1066680"/>
                <a:gd name="textAreaBottom" fmla="*/ 1033920 h 1066680"/>
              </a:gdLst>
              <a:ahLst/>
              <a:rect l="textAreaLeft" t="textAreaTop" r="textAreaRight" b="textAreaBottom"/>
              <a:pathLst>
                <a:path w="21600" h="34292">
                  <a:moveTo>
                    <a:pt x="3600" y="0"/>
                  </a:moveTo>
                  <a:arcTo wR="3600" hR="3600" stAng="16200000" swAng="-5400000"/>
                  <a:lnTo>
                    <a:pt x="0" y="30692"/>
                  </a:lnTo>
                  <a:arcTo wR="3600" hR="3600" stAng="10800000" swAng="-5400000"/>
                  <a:lnTo>
                    <a:pt x="18000" y="3429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920" y="12193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162920" y="1905120"/>
              <a:ext cx="304560" cy="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620120" y="4419720"/>
            <a:ext cx="990360" cy="1846800"/>
            <a:chOff x="7620120" y="4419720"/>
            <a:chExt cx="990360" cy="1846800"/>
          </a:xfrm>
        </p:grpSpPr>
        <p:sp>
          <p:nvSpPr>
            <p:cNvPr id="306" name=""/>
            <p:cNvSpPr/>
            <p:nvPr/>
          </p:nvSpPr>
          <p:spPr>
            <a:xfrm>
              <a:off x="822960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01000" y="4419720"/>
              <a:ext cx="228600" cy="1295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077320" y="5715000"/>
              <a:ext cx="0" cy="228600"/>
            </a:xfrm>
            <a:prstGeom prst="line">
              <a:avLst/>
            </a:prstGeom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696440" y="5925960"/>
              <a:ext cx="7138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Clock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620120" y="5105520"/>
              <a:ext cx="38088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 Destin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514600" y="685800"/>
            <a:ext cx="7010280" cy="4419720"/>
            <a:chOff x="2514600" y="685800"/>
            <a:chExt cx="7010280" cy="4419720"/>
          </a:xfrm>
        </p:grpSpPr>
        <p:sp>
          <p:nvSpPr>
            <p:cNvPr id="1223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705720" y="3276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705720" y="2514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705720" y="1752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n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rB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733920" y="685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2514600" y="990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3733920" y="1447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733920" y="1752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733920" y="2209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733920" y="2514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3733920" y="29718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733920" y="3276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733920" y="37339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733920" y="44956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514600" y="1752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514600" y="2514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514600" y="32767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514600" y="40384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514600" y="48006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-bac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705720" y="9907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Write back resul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3733920" y="9907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3733920" y="40384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6705720" y="40384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R[</a:t>
              </a: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%es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]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733920" y="48006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705720" y="48006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Update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533520" y="518148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dstE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IRMOVL, IOPL} : rB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USHL, IPOPL, ICALL, IRET } : RES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RNONE;  # Don't need regis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290520" y="1218960"/>
            <a:ext cx="45864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Units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mplements 4 required fun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Generates condition code value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Register with 3 condition code bit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bcond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Computes branch flag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C: Should condition code register be loaded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A: Input A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B: Input B to ALU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LU fun: What function should ALU compute?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5612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04280" y="7596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A Input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33720" y="533520"/>
            <a:ext cx="7010280" cy="4419000"/>
            <a:chOff x="2133720" y="533520"/>
            <a:chExt cx="7010280" cy="4419000"/>
          </a:xfrm>
        </p:grpSpPr>
        <p:sp>
          <p:nvSpPr>
            <p:cNvPr id="1260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6324840" y="3885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324840" y="3124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324840" y="2361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324840" y="159984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OP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324840" y="838080"/>
              <a:ext cx="281916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353040" y="533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33720" y="838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353040" y="1295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353040" y="1599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353040" y="2057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353040" y="2361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3353040" y="28191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353040" y="3124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353040" y="35812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3353040" y="43430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353040" y="838080"/>
              <a:ext cx="281916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3353040" y="388584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33720" y="1599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133720" y="2361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33720" y="3124080"/>
              <a:ext cx="1219320" cy="30420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133720" y="388584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133720" y="464796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+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324840" y="464796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353040" y="464796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838080" y="5054760"/>
            <a:ext cx="8001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A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RMOVL, IOPL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IRMOVL, IRMMOVL, IMRMOVL }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CALL, IPUSHL } : -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ET, IPOPL } : 4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LU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ALU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4876920" y="5715000"/>
            <a:ext cx="281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523880" y="914400"/>
            <a:ext cx="7010280" cy="4419720"/>
            <a:chOff x="1523880" y="914400"/>
            <a:chExt cx="7010280" cy="4419720"/>
          </a:xfrm>
        </p:grpSpPr>
        <p:sp>
          <p:nvSpPr>
            <p:cNvPr id="1294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–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715000" y="4267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De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71500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15000" y="2743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C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715000" y="198108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Compute effective addres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OP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71500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Perform ALU operation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74320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52388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74320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743200" y="1981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74320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743200" y="2743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74320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743200" y="3505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4320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74320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743200" y="12193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2743200" y="42670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523880" y="1981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2743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2388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523880" y="426708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523880" y="5029200"/>
              <a:ext cx="12193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xecut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valE </a:t>
              </a:r>
              <a:r>
                <a:rPr b="1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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valB </a:t>
              </a:r>
              <a:r>
                <a:rPr b="1" lang="en-US" sz="1600" spc="-1" strike="noStrike">
                  <a:solidFill>
                    <a:srgbClr val="ff33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4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715000" y="5029200"/>
              <a:ext cx="281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Increment stack pointer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743200" y="50292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24" name=""/>
          <p:cNvSpPr/>
          <p:nvPr/>
        </p:nvSpPr>
        <p:spPr>
          <a:xfrm>
            <a:off x="1752480" y="548640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alufun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OPL : ifun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ALUADD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428148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ads or writes memory wor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00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ntro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read: should word be read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write: should word be written?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addr.: Select addres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79240" indent="-190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. data.: Select data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27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3365280" cy="31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Addres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1905120" y="914400"/>
            <a:ext cx="7010280" cy="4419360"/>
            <a:chOff x="1905120" y="914400"/>
            <a:chExt cx="7010280" cy="4419360"/>
          </a:xfrm>
        </p:grpSpPr>
        <p:sp>
          <p:nvSpPr>
            <p:cNvPr id="1330" name=""/>
            <p:cNvSpPr/>
            <p:nvPr/>
          </p:nvSpPr>
          <p:spPr>
            <a:xfrm>
              <a:off x="3124440" y="914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905120" y="1219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124440" y="1676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124440" y="2438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24440" y="320040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4440" y="396252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124440" y="4724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124440" y="1219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096240" y="1219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1905120" y="1981080"/>
              <a:ext cx="7010280" cy="304560"/>
              <a:chOff x="1905120" y="1981080"/>
              <a:chExt cx="7010280" cy="304560"/>
            </a:xfrm>
          </p:grpSpPr>
          <p:sp>
            <p:nvSpPr>
              <p:cNvPr id="1340" name=""/>
              <p:cNvSpPr/>
              <p:nvPr/>
            </p:nvSpPr>
            <p:spPr>
              <a:xfrm>
                <a:off x="3124440" y="1981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1905120" y="1981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096240" y="1981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3" name=""/>
            <p:cNvGrpSpPr/>
            <p:nvPr/>
          </p:nvGrpSpPr>
          <p:grpSpPr>
            <a:xfrm>
              <a:off x="1905120" y="2743200"/>
              <a:ext cx="7010280" cy="304560"/>
              <a:chOff x="1905120" y="2743200"/>
              <a:chExt cx="7010280" cy="304560"/>
            </a:xfrm>
          </p:grpSpPr>
          <p:sp>
            <p:nvSpPr>
              <p:cNvPr id="1344" name=""/>
              <p:cNvSpPr/>
              <p:nvPr/>
            </p:nvSpPr>
            <p:spPr>
              <a:xfrm>
                <a:off x="3124440" y="2743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1905120" y="2743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096240" y="2743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47" name=""/>
            <p:cNvGrpSpPr/>
            <p:nvPr/>
          </p:nvGrpSpPr>
          <p:grpSpPr>
            <a:xfrm>
              <a:off x="1905120" y="4267080"/>
              <a:ext cx="7010280" cy="304560"/>
              <a:chOff x="1905120" y="4267080"/>
              <a:chExt cx="7010280" cy="304560"/>
            </a:xfrm>
          </p:grpSpPr>
          <p:sp>
            <p:nvSpPr>
              <p:cNvPr id="1348" name=""/>
              <p:cNvSpPr/>
              <p:nvPr/>
            </p:nvSpPr>
            <p:spPr>
              <a:xfrm>
                <a:off x="3124440" y="4267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E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905120" y="4267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096240" y="4267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51" name=""/>
            <p:cNvGrpSpPr/>
            <p:nvPr/>
          </p:nvGrpSpPr>
          <p:grpSpPr>
            <a:xfrm>
              <a:off x="1905120" y="5029200"/>
              <a:ext cx="7010280" cy="304560"/>
              <a:chOff x="1905120" y="5029200"/>
              <a:chExt cx="7010280" cy="304560"/>
            </a:xfrm>
          </p:grpSpPr>
          <p:sp>
            <p:nvSpPr>
              <p:cNvPr id="1352" name=""/>
              <p:cNvSpPr/>
              <p:nvPr/>
            </p:nvSpPr>
            <p:spPr>
              <a:xfrm>
                <a:off x="3124440" y="502920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valA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05120" y="50292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096240" y="50292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55" name=""/>
            <p:cNvSpPr/>
            <p:nvPr/>
          </p:nvSpPr>
          <p:spPr>
            <a:xfrm>
              <a:off x="1905120" y="350532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24440" y="350532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096240" y="350532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58" name=""/>
          <p:cNvSpPr/>
          <p:nvPr/>
        </p:nvSpPr>
        <p:spPr>
          <a:xfrm>
            <a:off x="914400" y="5467320"/>
            <a:ext cx="8001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mem_addr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RMMOVL, IPUSHL, ICALL, IMRMOVL } : valE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in { IPOPL, IRET } : valA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# Other instructions don't need addres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Memory Read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60" name=""/>
          <p:cNvGrpSpPr/>
          <p:nvPr/>
        </p:nvGrpSpPr>
        <p:grpSpPr>
          <a:xfrm>
            <a:off x="1371600" y="1295280"/>
            <a:ext cx="7010280" cy="4419360"/>
            <a:chOff x="1371600" y="1295280"/>
            <a:chExt cx="7010280" cy="4419360"/>
          </a:xfrm>
        </p:grpSpPr>
        <p:sp>
          <p:nvSpPr>
            <p:cNvPr id="1361" name=""/>
            <p:cNvSpPr/>
            <p:nvPr/>
          </p:nvSpPr>
          <p:spPr>
            <a:xfrm>
              <a:off x="2590920" y="1295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71600" y="1600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590920" y="2057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590920" y="2819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590920" y="358128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590920" y="4343400"/>
              <a:ext cx="281916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590920" y="5105160"/>
              <a:ext cx="281916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590920" y="1600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562720" y="1600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70" name=""/>
            <p:cNvGrpSpPr/>
            <p:nvPr/>
          </p:nvGrpSpPr>
          <p:grpSpPr>
            <a:xfrm>
              <a:off x="1371600" y="2361960"/>
              <a:ext cx="7010280" cy="304560"/>
              <a:chOff x="1371600" y="2361960"/>
              <a:chExt cx="7010280" cy="304560"/>
            </a:xfrm>
          </p:grpSpPr>
          <p:sp>
            <p:nvSpPr>
              <p:cNvPr id="1371" name=""/>
              <p:cNvSpPr/>
              <p:nvPr/>
            </p:nvSpPr>
            <p:spPr>
              <a:xfrm>
                <a:off x="2590920" y="2361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A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1371600" y="2361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562720" y="2361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value to memory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1371600" y="3124080"/>
              <a:ext cx="7010280" cy="304560"/>
              <a:chOff x="1371600" y="3124080"/>
              <a:chExt cx="7010280" cy="304560"/>
            </a:xfrm>
          </p:grpSpPr>
          <p:sp>
            <p:nvSpPr>
              <p:cNvPr id="1375" name=""/>
              <p:cNvSpPr/>
              <p:nvPr/>
            </p:nvSpPr>
            <p:spPr>
              <a:xfrm>
                <a:off x="2590920" y="3124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1371600" y="3124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562720" y="3124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from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78" name=""/>
            <p:cNvGrpSpPr/>
            <p:nvPr/>
          </p:nvGrpSpPr>
          <p:grpSpPr>
            <a:xfrm>
              <a:off x="1371600" y="4647960"/>
              <a:ext cx="7010280" cy="304560"/>
              <a:chOff x="1371600" y="4647960"/>
              <a:chExt cx="7010280" cy="304560"/>
            </a:xfrm>
          </p:grpSpPr>
          <p:sp>
            <p:nvSpPr>
              <p:cNvPr id="1379" name=""/>
              <p:cNvSpPr/>
              <p:nvPr/>
            </p:nvSpPr>
            <p:spPr>
              <a:xfrm>
                <a:off x="2590920" y="464796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</a:t>
                </a:r>
                <a:r>
                  <a:rPr b="1" lang="en-US" sz="1600" spc="-1" strike="noStrike" baseline="-25000">
                    <a:solidFill>
                      <a:srgbClr val="000066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E]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1371600" y="46479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562720" y="46479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Write return value on stack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82" name=""/>
            <p:cNvGrpSpPr/>
            <p:nvPr/>
          </p:nvGrpSpPr>
          <p:grpSpPr>
            <a:xfrm>
              <a:off x="1371600" y="5410080"/>
              <a:ext cx="7010280" cy="304560"/>
              <a:chOff x="1371600" y="5410080"/>
              <a:chExt cx="7010280" cy="304560"/>
            </a:xfrm>
          </p:grpSpPr>
          <p:sp>
            <p:nvSpPr>
              <p:cNvPr id="1383" name=""/>
              <p:cNvSpPr/>
              <p:nvPr/>
            </p:nvSpPr>
            <p:spPr>
              <a:xfrm>
                <a:off x="2590920" y="5410080"/>
                <a:ext cx="2819160" cy="304560"/>
              </a:xfrm>
              <a:prstGeom prst="rect">
                <a:avLst/>
              </a:prstGeom>
              <a:solidFill>
                <a:srgbClr val="ccff99"/>
              </a:solidFill>
              <a:ln w="190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valM 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ff3300"/>
                    </a:solidFill>
                    <a:latin typeface="Arial"/>
                  </a:rPr>
                  <a:t> M</a:t>
                </a:r>
                <a:r>
                  <a:rPr b="1" lang="en-US" sz="1600" spc="-1" strike="noStrike" baseline="-25000">
                    <a:solidFill>
                      <a:srgbClr val="ff33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[valA]  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1371600" y="54100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Memory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562720" y="54100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Read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86" name=""/>
            <p:cNvSpPr/>
            <p:nvPr/>
          </p:nvSpPr>
          <p:spPr>
            <a:xfrm>
              <a:off x="1371600" y="3886200"/>
              <a:ext cx="12193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Memory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590920" y="3886200"/>
              <a:ext cx="2819160" cy="304560"/>
            </a:xfrm>
            <a:prstGeom prst="rect">
              <a:avLst/>
            </a:prstGeom>
            <a:solidFill>
              <a:srgbClr val="ccff99"/>
            </a:solidFill>
            <a:ln w="1908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562720" y="3886200"/>
              <a:ext cx="28191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No operation 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685800" y="586728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bool mem_read = icode in { IMRMOVL, IPOPL, IRET }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 Update Logic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533376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New P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lect next value of P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4952880" y="2133720"/>
            <a:ext cx="2913120" cy="192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PC</a:t>
            </a:r>
            <a:br>
              <a:rPr sz="3800"/>
            </a:b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Updat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grpSp>
        <p:nvGrpSpPr>
          <p:cNvPr id="1394" name=""/>
          <p:cNvGrpSpPr/>
          <p:nvPr/>
        </p:nvGrpSpPr>
        <p:grpSpPr>
          <a:xfrm>
            <a:off x="2209680" y="380880"/>
            <a:ext cx="7010280" cy="4419360"/>
            <a:chOff x="2209680" y="380880"/>
            <a:chExt cx="7010280" cy="4419360"/>
          </a:xfrm>
        </p:grpSpPr>
        <p:sp>
          <p:nvSpPr>
            <p:cNvPr id="1395" name=""/>
            <p:cNvSpPr/>
            <p:nvPr/>
          </p:nvSpPr>
          <p:spPr>
            <a:xfrm>
              <a:off x="3428640" y="380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OPl rA, r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428640" y="1143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mmov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, D(rB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428640" y="1904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pop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rA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428640" y="266688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jXX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428640" y="3429000"/>
              <a:ext cx="2819520" cy="30456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call</a:t>
              </a: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 Des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428640" y="4190760"/>
              <a:ext cx="2819520" cy="304920"/>
            </a:xfrm>
            <a:prstGeom prst="rect">
              <a:avLst/>
            </a:prstGeom>
            <a:noFill/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Courier New"/>
                </a:rPr>
                <a:t>ret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401" name=""/>
            <p:cNvGrpSpPr/>
            <p:nvPr/>
          </p:nvGrpSpPr>
          <p:grpSpPr>
            <a:xfrm>
              <a:off x="2209680" y="685800"/>
              <a:ext cx="7010280" cy="304560"/>
              <a:chOff x="2209680" y="685800"/>
              <a:chExt cx="7010280" cy="304560"/>
            </a:xfrm>
          </p:grpSpPr>
          <p:sp>
            <p:nvSpPr>
              <p:cNvPr id="1402" name=""/>
              <p:cNvSpPr/>
              <p:nvPr/>
            </p:nvSpPr>
            <p:spPr>
              <a:xfrm>
                <a:off x="3429000" y="685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2209680" y="685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6400800" y="685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2209680" y="1447560"/>
              <a:ext cx="7010280" cy="304560"/>
              <a:chOff x="2209680" y="1447560"/>
              <a:chExt cx="7010280" cy="304560"/>
            </a:xfrm>
          </p:grpSpPr>
          <p:sp>
            <p:nvSpPr>
              <p:cNvPr id="1406" name=""/>
              <p:cNvSpPr/>
              <p:nvPr/>
            </p:nvSpPr>
            <p:spPr>
              <a:xfrm>
                <a:off x="3429000" y="1447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209680" y="1447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6400800" y="1447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09" name=""/>
            <p:cNvGrpSpPr/>
            <p:nvPr/>
          </p:nvGrpSpPr>
          <p:grpSpPr>
            <a:xfrm>
              <a:off x="2209680" y="2209680"/>
              <a:ext cx="7010280" cy="304560"/>
              <a:chOff x="2209680" y="2209680"/>
              <a:chExt cx="7010280" cy="304560"/>
            </a:xfrm>
          </p:grpSpPr>
          <p:sp>
            <p:nvSpPr>
              <p:cNvPr id="1410" name=""/>
              <p:cNvSpPr/>
              <p:nvPr/>
            </p:nvSpPr>
            <p:spPr>
              <a:xfrm>
                <a:off x="3429000" y="2209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2209680" y="2209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6400800" y="2209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3" name=""/>
            <p:cNvGrpSpPr/>
            <p:nvPr/>
          </p:nvGrpSpPr>
          <p:grpSpPr>
            <a:xfrm>
              <a:off x="2209680" y="2971800"/>
              <a:ext cx="7010280" cy="304560"/>
              <a:chOff x="2209680" y="2971800"/>
              <a:chExt cx="7010280" cy="304560"/>
            </a:xfrm>
          </p:grpSpPr>
          <p:sp>
            <p:nvSpPr>
              <p:cNvPr id="1414" name=""/>
              <p:cNvSpPr/>
              <p:nvPr/>
            </p:nvSpPr>
            <p:spPr>
              <a:xfrm>
                <a:off x="3429000" y="297180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Bch ? valC : val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2209680" y="297180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400800" y="297180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Update P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2209680" y="3733560"/>
              <a:ext cx="7010280" cy="304560"/>
              <a:chOff x="2209680" y="3733560"/>
              <a:chExt cx="7010280" cy="304560"/>
            </a:xfrm>
          </p:grpSpPr>
          <p:sp>
            <p:nvSpPr>
              <p:cNvPr id="1418" name=""/>
              <p:cNvSpPr/>
              <p:nvPr/>
            </p:nvSpPr>
            <p:spPr>
              <a:xfrm>
                <a:off x="3429000" y="373356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C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209680" y="373356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400800" y="373356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destination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21" name=""/>
            <p:cNvGrpSpPr/>
            <p:nvPr/>
          </p:nvGrpSpPr>
          <p:grpSpPr>
            <a:xfrm>
              <a:off x="2209680" y="4495680"/>
              <a:ext cx="7010280" cy="304560"/>
              <a:chOff x="2209680" y="4495680"/>
              <a:chExt cx="7010280" cy="304560"/>
            </a:xfrm>
          </p:grpSpPr>
          <p:sp>
            <p:nvSpPr>
              <p:cNvPr id="1422" name=""/>
              <p:cNvSpPr/>
              <p:nvPr/>
            </p:nvSpPr>
            <p:spPr>
              <a:xfrm>
                <a:off x="3429000" y="4495680"/>
                <a:ext cx="2819160" cy="304560"/>
              </a:xfrm>
              <a:prstGeom prst="rect">
                <a:avLst/>
              </a:prstGeom>
              <a:solidFill>
                <a:srgbClr val="ffccff"/>
              </a:solidFill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Symbol"/>
                    <a:ea typeface="Symbol"/>
                  </a:rPr>
                  <a:t></a:t>
                </a: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 valM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209680" y="4495680"/>
                <a:ext cx="1219320" cy="304560"/>
              </a:xfrm>
              <a:prstGeom prst="rect">
                <a:avLst/>
              </a:prstGeom>
              <a:noFill/>
              <a:ln w="1908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ctr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PC update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400800" y="4495680"/>
                <a:ext cx="281916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5720" rIns="4572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t PC to return address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25" name=""/>
          <p:cNvSpPr/>
          <p:nvPr/>
        </p:nvSpPr>
        <p:spPr>
          <a:xfrm>
            <a:off x="2209680" y="4952880"/>
            <a:ext cx="5334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nt new_pc = [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CALL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JXX &amp;&amp; Bch : valC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icode == IRET : valM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1 : valP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Courier New"/>
              </a:rPr>
              <a:t>];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723920" y="1218960"/>
            <a:ext cx="386100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C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d. Code register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</a:rPr>
              <a:t>All updated as clock ris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Combinational Logic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LU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Memory rea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nstruction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ata memor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428" name="" descr=""/>
          <p:cNvPicPr/>
          <p:nvPr/>
        </p:nvPicPr>
        <p:blipFill>
          <a:blip r:embed="rId1"/>
          <a:stretch/>
        </p:blipFill>
        <p:spPr>
          <a:xfrm>
            <a:off x="1488960" y="1676520"/>
            <a:ext cx="3463920" cy="37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ardware Control Languag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ery simple hardware description languag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n only express limited aspects of hardware opera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arts we want to explore and modif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Data Type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boo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Boolea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nt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: word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oes not specify word size---bytes, 32-bit words, …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atement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ool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bool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int A = </a:t>
            </a:r>
            <a:r>
              <a:rPr b="1" i="1" lang="en-US" sz="1800" spc="-1" strike="noStrike">
                <a:solidFill>
                  <a:srgbClr val="000099"/>
                </a:solidFill>
                <a:latin typeface="Courier New"/>
              </a:rPr>
              <a:t>int-expr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;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9" name="" descr=""/>
          <p:cNvPicPr/>
          <p:nvPr/>
        </p:nvPicPr>
        <p:blipFill>
          <a:blip r:embed="rId1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  <p:pic>
        <p:nvPicPr>
          <p:cNvPr id="1430" name="" descr=""/>
          <p:cNvPicPr/>
          <p:nvPr/>
        </p:nvPicPr>
        <p:blipFill>
          <a:blip r:embed="rId2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1" name=""/>
          <p:cNvSpPr/>
          <p:nvPr/>
        </p:nvSpPr>
        <p:spPr>
          <a:xfrm>
            <a:off x="60199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2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952880" y="3124080"/>
            <a:ext cx="36324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35" name=""/>
          <p:cNvSpPr/>
          <p:nvPr/>
        </p:nvSpPr>
        <p:spPr>
          <a:xfrm>
            <a:off x="678168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3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648320" y="3124080"/>
            <a:ext cx="393696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second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irmov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3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0" name=""/>
          <p:cNvSpPr/>
          <p:nvPr/>
        </p:nvSpPr>
        <p:spPr>
          <a:xfrm>
            <a:off x="689616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4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2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starting to react to state change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3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" descr=""/>
          <p:cNvPicPr/>
          <p:nvPr/>
        </p:nvPicPr>
        <p:blipFill>
          <a:blip r:embed="rId1"/>
          <a:stretch/>
        </p:blipFill>
        <p:spPr>
          <a:xfrm>
            <a:off x="3429000" y="838080"/>
            <a:ext cx="5018040" cy="1654200"/>
          </a:xfrm>
          <a:prstGeom prst="rect">
            <a:avLst/>
          </a:prstGeom>
          <a:ln w="0">
            <a:noFill/>
          </a:ln>
        </p:spPr>
      </p:pic>
      <p:sp>
        <p:nvSpPr>
          <p:cNvPr id="1445" name=""/>
          <p:cNvSpPr/>
          <p:nvPr/>
        </p:nvSpPr>
        <p:spPr>
          <a:xfrm>
            <a:off x="7620120" y="533520"/>
            <a:ext cx="0" cy="83808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2643480" cy="17701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Operation #5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5410080" y="3124080"/>
            <a:ext cx="3175200" cy="330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tate set according to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addl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binational logic generates results for </a:t>
            </a:r>
            <a:r>
              <a:rPr b="1" lang="en-US" sz="2000" spc="-1" strike="noStrike">
                <a:solidFill>
                  <a:srgbClr val="000066"/>
                </a:solidFill>
                <a:latin typeface="Courier New"/>
              </a:rPr>
              <a:t>j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instructio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48" name="" descr=""/>
          <p:cNvPicPr/>
          <p:nvPr/>
        </p:nvPicPr>
        <p:blipFill>
          <a:blip r:embed="rId2"/>
          <a:stretch/>
        </p:blipFill>
        <p:spPr>
          <a:xfrm>
            <a:off x="1488960" y="2666880"/>
            <a:ext cx="3463920" cy="376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ummary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mplementation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Express every instruction as series of simple step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llow same general flow for each instruction typ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ssemble registers, memories, predesigned combinational block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nnect with control logi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Limitat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Too slow to be practic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 one cycle, must propagate through instruction memory, register file, ALU, and data memor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uld need to run clock very slowly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ardware units only active for fraction of clock cycle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HCL Operation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82947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assify by type of value returned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Boolean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Logic Operat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amp;&amp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||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!a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Word Comparis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=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!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l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= 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&gt; B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t Membership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 in { B, C, D }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580760" indent="-224280">
              <a:spcBef>
                <a:spcPts val="451"/>
              </a:spcBef>
              <a:buClr>
                <a:srgbClr val="000066"/>
              </a:buClr>
              <a:buFont typeface="Helvetica"/>
              <a:buChar char="»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ame as </a:t>
            </a:r>
            <a:r>
              <a:rPr b="0" lang="en-US" sz="1800" spc="-1" strike="noStrike">
                <a:solidFill>
                  <a:srgbClr val="000066"/>
                </a:solidFill>
                <a:latin typeface="Courier New"/>
              </a:rPr>
              <a:t>A == B || A == C || A == 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196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Word Expressions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35480" indent="-24192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ase expressions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[ a : A; b : B; c : C ]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valuate test expressions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in sequence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32920" indent="-235440">
              <a:lnSpc>
                <a:spcPct val="107000"/>
              </a:lnSpc>
              <a:spcBef>
                <a:spcPts val="224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Return word expression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A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B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99"/>
                </a:solidFill>
                <a:latin typeface="Courier New"/>
              </a:rPr>
              <a:t>C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, … for first successful test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Hardware Structure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St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gram counter register (P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ndition code register (CC)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gister Fil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emori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Access same memory space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Data: for reading/writing program data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lvl="2" marL="1144440" indent="-237960">
              <a:lnSpc>
                <a:spcPct val="107000"/>
              </a:lnSpc>
              <a:spcBef>
                <a:spcPts val="201"/>
              </a:spcBef>
              <a:buClr>
                <a:srgbClr val="005400"/>
              </a:buClr>
              <a:buSzPct val="90000"/>
              <a:buFont typeface="Wingdings" charset="2"/>
              <a:buChar char="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Instruction: for reading instruction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Instruction Flow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at address specified by PC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rocess through stag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339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349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62284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400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30800" y="533520"/>
            <a:ext cx="2403720" cy="5902200"/>
          </a:xfrm>
          <a:custGeom>
            <a:avLst/>
            <a:gdLst/>
            <a:ahLst/>
            <a:rect l="l" t="t" r="r" b="b"/>
            <a:pathLst>
              <a:path w="1514" h="3718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3102"/>
                  <a:pt x="1514" y="3102"/>
                </a:cubicBezTo>
                <a:cubicBezTo>
                  <a:pt x="1514" y="3102"/>
                  <a:pt x="1410" y="3542"/>
                  <a:pt x="1226" y="3630"/>
                </a:cubicBezTo>
                <a:cubicBezTo>
                  <a:pt x="1042" y="3718"/>
                  <a:pt x="570" y="3638"/>
                  <a:pt x="410" y="3630"/>
                </a:cubicBezTo>
                <a:cubicBezTo>
                  <a:pt x="250" y="3622"/>
                  <a:pt x="296" y="3592"/>
                  <a:pt x="266" y="358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0" y="533520"/>
            <a:ext cx="2403720" cy="5305320"/>
          </a:xfrm>
          <a:custGeom>
            <a:avLst/>
            <a:gdLst/>
            <a:ahLst/>
            <a:rect l="l" t="t" r="r" b="b"/>
            <a:pathLst>
              <a:path w="1514" h="3342">
                <a:moveTo>
                  <a:pt x="26" y="3342"/>
                </a:moveTo>
                <a:cubicBezTo>
                  <a:pt x="32" y="2836"/>
                  <a:pt x="0" y="863"/>
                  <a:pt x="62" y="306"/>
                </a:cubicBezTo>
                <a:cubicBezTo>
                  <a:pt x="62" y="306"/>
                  <a:pt x="398" y="0"/>
                  <a:pt x="398" y="0"/>
                </a:cubicBezTo>
                <a:cubicBezTo>
                  <a:pt x="398" y="0"/>
                  <a:pt x="1250" y="0"/>
                  <a:pt x="1250" y="0"/>
                </a:cubicBezTo>
                <a:cubicBezTo>
                  <a:pt x="1250" y="0"/>
                  <a:pt x="1514" y="318"/>
                  <a:pt x="1514" y="318"/>
                </a:cubicBezTo>
                <a:cubicBezTo>
                  <a:pt x="1514" y="318"/>
                  <a:pt x="1514" y="2638"/>
                  <a:pt x="1514" y="3102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990720"/>
            <a:ext cx="57240" cy="4819680"/>
          </a:xfrm>
          <a:custGeom>
            <a:avLst/>
            <a:gdLst/>
            <a:ahLst/>
            <a:rect l="l" t="t" r="r" b="b"/>
            <a:pathLst>
              <a:path w="36" h="3036">
                <a:moveTo>
                  <a:pt x="0" y="3036"/>
                </a:moveTo>
                <a:cubicBezTo>
                  <a:pt x="6" y="2530"/>
                  <a:pt x="30" y="506"/>
                  <a:pt x="36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172200" y="4495680"/>
            <a:ext cx="19080" cy="1295640"/>
          </a:xfrm>
          <a:custGeom>
            <a:avLst/>
            <a:gdLst/>
            <a:ahLst/>
            <a:rect l="l" t="t" r="r" b="b"/>
            <a:pathLst>
              <a:path w="12" h="816">
                <a:moveTo>
                  <a:pt x="0" y="816"/>
                </a:moveTo>
                <a:cubicBezTo>
                  <a:pt x="2" y="680"/>
                  <a:pt x="10" y="136"/>
                  <a:pt x="12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7238880" y="6172200"/>
            <a:ext cx="1676520" cy="67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04640" y="247320"/>
            <a:ext cx="561528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SEQ Stages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290160" y="1218960"/>
            <a:ext cx="4662360" cy="521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instruction from instruction memory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Compute value or addres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r write data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rite program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8592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program coun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1200" y="5713560"/>
            <a:ext cx="25416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981840" y="5713560"/>
            <a:ext cx="255600" cy="16956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0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132600" y="322200"/>
            <a:ext cx="171360" cy="50529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04440" y="544500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053400" y="55641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635800" y="5386320"/>
            <a:ext cx="115092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622840" y="5373720"/>
            <a:ext cx="114768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90400" y="5430960"/>
            <a:ext cx="4730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39000" y="55497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077240" y="544500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927120" y="55641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65920" y="5386320"/>
            <a:ext cx="515880" cy="344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54760" y="5373720"/>
            <a:ext cx="511200" cy="34128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062840" y="5430960"/>
            <a:ext cx="1425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913080" y="5549760"/>
            <a:ext cx="4489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rement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756840" y="28940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654960" y="2838600"/>
            <a:ext cx="301320" cy="2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642000" y="2827440"/>
            <a:ext cx="298440" cy="21276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42440" y="2879640"/>
            <a:ext cx="1468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283160" y="295740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6981840" y="2870280"/>
            <a:ext cx="736560" cy="268200"/>
            <a:chOff x="6981840" y="2870280"/>
            <a:chExt cx="736560" cy="268200"/>
          </a:xfrm>
        </p:grpSpPr>
        <p:sp>
          <p:nvSpPr>
            <p:cNvPr id="520" name=""/>
            <p:cNvSpPr/>
            <p:nvPr/>
          </p:nvSpPr>
          <p:spPr>
            <a:xfrm>
              <a:off x="6996240" y="2884320"/>
              <a:ext cx="722160" cy="254160"/>
            </a:xfrm>
            <a:custGeom>
              <a:avLst/>
              <a:gdLst/>
              <a:ahLst/>
              <a:rect l="l" t="t" r="r" b="b"/>
              <a:pathLst>
                <a:path w="910" h="321">
                  <a:moveTo>
                    <a:pt x="0" y="321"/>
                  </a:moveTo>
                  <a:lnTo>
                    <a:pt x="228" y="0"/>
                  </a:lnTo>
                  <a:lnTo>
                    <a:pt x="683" y="0"/>
                  </a:lnTo>
                  <a:lnTo>
                    <a:pt x="91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981840" y="2870280"/>
              <a:ext cx="722160" cy="253800"/>
            </a:xfrm>
            <a:custGeom>
              <a:avLst/>
              <a:gdLst/>
              <a:ahLst/>
              <a:rect l="l" t="t" r="r" b="b"/>
              <a:pathLst>
                <a:path w="909" h="321">
                  <a:moveTo>
                    <a:pt x="0" y="321"/>
                  </a:moveTo>
                  <a:lnTo>
                    <a:pt x="227" y="0"/>
                  </a:lnTo>
                  <a:lnTo>
                    <a:pt x="682" y="0"/>
                  </a:lnTo>
                  <a:lnTo>
                    <a:pt x="909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cc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7268760" y="2943360"/>
            <a:ext cx="1987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56640" y="1519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880320" y="163656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738840" y="1438200"/>
            <a:ext cx="60012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727680" y="1425600"/>
            <a:ext cx="5954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942240" y="15048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867720" y="1622520"/>
            <a:ext cx="369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6940440" y="2884320"/>
            <a:ext cx="196560" cy="55800"/>
            <a:chOff x="6940440" y="2884320"/>
            <a:chExt cx="196560" cy="55800"/>
          </a:xfrm>
        </p:grpSpPr>
        <p:sp>
          <p:nvSpPr>
            <p:cNvPr id="530" name=""/>
            <p:cNvSpPr/>
            <p:nvPr/>
          </p:nvSpPr>
          <p:spPr>
            <a:xfrm flipH="1">
              <a:off x="6992640" y="2911320"/>
              <a:ext cx="14436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940440" y="2884320"/>
              <a:ext cx="55800" cy="5580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70" y="0"/>
                  </a:moveTo>
                  <a:lnTo>
                    <a:pt x="0" y="35"/>
                  </a:lnTo>
                  <a:lnTo>
                    <a:pt x="70" y="7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5029200" y="5502240"/>
            <a:ext cx="4046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3240" y="5562720"/>
            <a:ext cx="540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tch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4356000"/>
            <a:ext cx="511200" cy="1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4343400"/>
            <a:ext cx="732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d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029200" y="2911320"/>
            <a:ext cx="53640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952880" y="29718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ecu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029200" y="1554120"/>
            <a:ext cx="5364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952160" y="1600200"/>
            <a:ext cx="77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029200" y="746280"/>
            <a:ext cx="67644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953960" y="762120"/>
            <a:ext cx="10263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rite back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95760" y="4906800"/>
            <a:ext cx="59544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638680" y="4938840"/>
            <a:ext cx="2444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cod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818680" y="49388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902200" y="4938840"/>
            <a:ext cx="1652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un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75712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906160" y="50576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961960" y="5057640"/>
            <a:ext cx="1029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64400" y="51753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322760" y="44910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443720" y="460836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7205760" y="4410000"/>
            <a:ext cx="557280" cy="387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7194600" y="4397400"/>
            <a:ext cx="552240" cy="384120"/>
          </a:xfrm>
          <a:prstGeom prst="rect">
            <a:avLst/>
          </a:prstGeom>
          <a:solidFill>
            <a:srgbClr val="cc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7308360" y="4476600"/>
            <a:ext cx="3801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7429320" y="4594320"/>
            <a:ext cx="131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80280" y="438948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35696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7491240" y="4389480"/>
            <a:ext cx="1717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7569720" y="441972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20120" y="444024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689960" y="4471920"/>
            <a:ext cx="6480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7620120" y="4653000"/>
            <a:ext cx="16992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696800" y="4683240"/>
            <a:ext cx="5112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005520" y="6138720"/>
            <a:ext cx="425520" cy="212760"/>
          </a:xfrm>
          <a:prstGeom prst="rect">
            <a:avLst/>
          </a:prstGeom>
          <a:solidFill>
            <a:srgbClr val="ffffff"/>
          </a:solidFill>
          <a:ln w="4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179040" y="6199200"/>
            <a:ext cx="12420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7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6302520" y="2890800"/>
            <a:ext cx="345960" cy="42840"/>
            <a:chOff x="6302520" y="2890800"/>
            <a:chExt cx="345960" cy="42840"/>
          </a:xfrm>
        </p:grpSpPr>
        <p:sp>
          <p:nvSpPr>
            <p:cNvPr id="581" name=""/>
            <p:cNvSpPr/>
            <p:nvPr/>
          </p:nvSpPr>
          <p:spPr>
            <a:xfrm>
              <a:off x="663732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1680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59448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5739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3112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1024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488280" y="2906640"/>
              <a:ext cx="1080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4674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446880" y="2906640"/>
              <a:ext cx="93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42456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0404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38316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361200" y="290664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7" y="13"/>
                  </a:moveTo>
                  <a:lnTo>
                    <a:pt x="9" y="12"/>
                  </a:lnTo>
                  <a:lnTo>
                    <a:pt x="11" y="11"/>
                  </a:lnTo>
                  <a:lnTo>
                    <a:pt x="14" y="7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0" y="7"/>
                  </a:lnTo>
                  <a:lnTo>
                    <a:pt x="3" y="11"/>
                  </a:lnTo>
                  <a:lnTo>
                    <a:pt x="5" y="13"/>
                  </a:lnTo>
                  <a:lnTo>
                    <a:pt x="7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340320" y="2906640"/>
              <a:ext cx="9720" cy="11160"/>
            </a:xfrm>
            <a:custGeom>
              <a:avLst/>
              <a:gdLst/>
              <a:ahLst/>
              <a:rect l="l" t="t" r="r" b="b"/>
              <a:pathLst>
                <a:path w="13" h="13">
                  <a:moveTo>
                    <a:pt x="6" y="13"/>
                  </a:moveTo>
                  <a:lnTo>
                    <a:pt x="8" y="12"/>
                  </a:lnTo>
                  <a:lnTo>
                    <a:pt x="11" y="11"/>
                  </a:lnTo>
                  <a:lnTo>
                    <a:pt x="13" y="7"/>
                  </a:lnTo>
                  <a:lnTo>
                    <a:pt x="11" y="2"/>
                  </a:lnTo>
                  <a:lnTo>
                    <a:pt x="8" y="1"/>
                  </a:lnTo>
                  <a:lnTo>
                    <a:pt x="6" y="0"/>
                  </a:lnTo>
                  <a:lnTo>
                    <a:pt x="6" y="0"/>
                  </a:lnTo>
                  <a:lnTo>
                    <a:pt x="4" y="1"/>
                  </a:lnTo>
                  <a:lnTo>
                    <a:pt x="2" y="2"/>
                  </a:lnTo>
                  <a:lnTo>
                    <a:pt x="0" y="7"/>
                  </a:lnTo>
                  <a:lnTo>
                    <a:pt x="2" y="11"/>
                  </a:lnTo>
                  <a:lnTo>
                    <a:pt x="4" y="13"/>
                  </a:lnTo>
                  <a:lnTo>
                    <a:pt x="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302520" y="2890800"/>
              <a:ext cx="44280" cy="4284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55" y="0"/>
                  </a:moveTo>
                  <a:lnTo>
                    <a:pt x="0" y="27"/>
                  </a:lnTo>
                  <a:lnTo>
                    <a:pt x="55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7067520" y="507672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388200" y="50767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302520" y="4992840"/>
            <a:ext cx="169560" cy="253800"/>
          </a:xfrm>
          <a:custGeom>
            <a:avLst/>
            <a:gdLst/>
            <a:ahLst/>
            <a:rect l="l" t="t" r="r" b="b"/>
            <a:pathLst>
              <a:path w="214" h="320">
                <a:moveTo>
                  <a:pt x="214" y="320"/>
                </a:moveTo>
                <a:lnTo>
                  <a:pt x="0" y="160"/>
                </a:lnTo>
                <a:lnTo>
                  <a:pt x="214" y="0"/>
                </a:lnTo>
                <a:lnTo>
                  <a:pt x="214" y="32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472080" y="4906800"/>
            <a:ext cx="6382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886440" y="4938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P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4567320"/>
            <a:ext cx="76500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7024680" y="4483080"/>
            <a:ext cx="16992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0" y="321"/>
                </a:moveTo>
                <a:lnTo>
                  <a:pt x="214" y="160"/>
                </a:lnTo>
                <a:lnTo>
                  <a:pt x="0" y="0"/>
                </a:lnTo>
                <a:lnTo>
                  <a:pt x="0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345360" y="4270320"/>
            <a:ext cx="595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41664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615720" y="430200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70800" y="430200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rc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1736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6615720" y="44211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671520" y="4421160"/>
            <a:ext cx="206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st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7407360" y="4057560"/>
            <a:ext cx="85680" cy="3412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472080" y="4057560"/>
            <a:ext cx="10209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6302520" y="397368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6811920" y="384660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8004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173000" y="38768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226280" y="38768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302520" y="3379680"/>
            <a:ext cx="10634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280280" y="32940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194600" y="312408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5360" y="3166920"/>
            <a:ext cx="637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4184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615720" y="319896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672240" y="3198960"/>
            <a:ext cx="2048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uB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345360" y="2954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417720" y="2986200"/>
            <a:ext cx="1774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ch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7280280" y="257184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431040" y="2571840"/>
            <a:ext cx="9349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02520" y="2487600"/>
            <a:ext cx="169560" cy="25416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0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6684840" y="2360520"/>
            <a:ext cx="6382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099200" y="239076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916760" y="4567320"/>
            <a:ext cx="46836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746840" y="4483080"/>
            <a:ext cx="169920" cy="254160"/>
          </a:xfrm>
          <a:custGeom>
            <a:avLst/>
            <a:gdLst/>
            <a:ahLst/>
            <a:rect l="l" t="t" r="r" b="b"/>
            <a:pathLst>
              <a:path w="213" h="321">
                <a:moveTo>
                  <a:pt x="213" y="321"/>
                </a:moveTo>
                <a:lnTo>
                  <a:pt x="0" y="160"/>
                </a:lnTo>
                <a:lnTo>
                  <a:pt x="213" y="0"/>
                </a:lnTo>
                <a:lnTo>
                  <a:pt x="213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8213760" y="874800"/>
            <a:ext cx="171360" cy="37782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132600" y="746280"/>
            <a:ext cx="225252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6218280" y="6605640"/>
            <a:ext cx="2463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175440" y="6521400"/>
            <a:ext cx="85680" cy="1699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6091200" y="63514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6302520" y="2104920"/>
            <a:ext cx="80784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024680" y="1978200"/>
            <a:ext cx="85680" cy="1713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940440" y="1808280"/>
            <a:ext cx="25416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0" y="214"/>
                </a:moveTo>
                <a:lnTo>
                  <a:pt x="161" y="0"/>
                </a:lnTo>
                <a:lnTo>
                  <a:pt x="321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02520" y="1892160"/>
            <a:ext cx="6379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377040" y="1924200"/>
            <a:ext cx="21564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dr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583680" y="1924200"/>
            <a:ext cx="2736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Data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024680" y="1128600"/>
            <a:ext cx="85680" cy="29844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72080" y="1128600"/>
            <a:ext cx="6382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302520" y="1044720"/>
            <a:ext cx="169560" cy="253800"/>
          </a:xfrm>
          <a:custGeom>
            <a:avLst/>
            <a:gdLst/>
            <a:ahLst/>
            <a:rect l="l" t="t" r="r" b="b"/>
            <a:pathLst>
              <a:path w="214" h="321">
                <a:moveTo>
                  <a:pt x="214" y="321"/>
                </a:moveTo>
                <a:lnTo>
                  <a:pt x="0" y="161"/>
                </a:lnTo>
                <a:lnTo>
                  <a:pt x="214" y="0"/>
                </a:lnTo>
                <a:lnTo>
                  <a:pt x="214" y="321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431040" y="915840"/>
            <a:ext cx="63648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828840" y="94788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96440" y="322200"/>
            <a:ext cx="85680" cy="636912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962680" y="15955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32600" y="1595520"/>
            <a:ext cx="33948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214"/>
                </a:moveTo>
                <a:lnTo>
                  <a:pt x="214" y="0"/>
                </a:lnTo>
                <a:lnTo>
                  <a:pt x="428" y="214"/>
                </a:lnTo>
                <a:lnTo>
                  <a:pt x="0" y="214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4384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8213760" y="2401920"/>
            <a:ext cx="339840" cy="169920"/>
          </a:xfrm>
          <a:custGeom>
            <a:avLst/>
            <a:gdLst/>
            <a:ahLst/>
            <a:rect l="l" t="t" r="r" b="b"/>
            <a:pathLst>
              <a:path w="428" h="214">
                <a:moveTo>
                  <a:pt x="0" y="0"/>
                </a:moveTo>
                <a:lnTo>
                  <a:pt x="214" y="214"/>
                </a:lnTo>
                <a:lnTo>
                  <a:pt x="428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175440" y="5883120"/>
            <a:ext cx="85680" cy="25560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261120" y="6012000"/>
            <a:ext cx="89208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067520" y="5883120"/>
            <a:ext cx="85680" cy="21456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5029200" y="236520"/>
            <a:ext cx="2602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952160" y="312840"/>
            <a:ext cx="2826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302520" y="576360"/>
            <a:ext cx="1487520" cy="1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5240" y="608040"/>
            <a:ext cx="2005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E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568200" y="608040"/>
            <a:ext cx="586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21120" y="608040"/>
            <a:ext cx="21708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M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132600" y="322200"/>
            <a:ext cx="2549520" cy="85680"/>
          </a:xfrm>
          <a:prstGeom prst="rect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8467560" y="3591000"/>
            <a:ext cx="2556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8553600" y="3591000"/>
            <a:ext cx="253800" cy="169920"/>
          </a:xfrm>
          <a:custGeom>
            <a:avLst/>
            <a:gdLst/>
            <a:ahLst/>
            <a:rect l="l" t="t" r="r" b="b"/>
            <a:pathLst>
              <a:path w="321" h="214">
                <a:moveTo>
                  <a:pt x="321" y="0"/>
                </a:moveTo>
                <a:lnTo>
                  <a:pt x="160" y="214"/>
                </a:lnTo>
                <a:lnTo>
                  <a:pt x="0" y="0"/>
                </a:lnTo>
                <a:lnTo>
                  <a:pt x="321" y="0"/>
                </a:lnTo>
                <a:close/>
              </a:path>
            </a:pathLst>
          </a:custGeom>
          <a:solidFill>
            <a:srgbClr val="000000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6302520" y="152280"/>
            <a:ext cx="1487520" cy="1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6320" y="184320"/>
            <a:ext cx="32832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PC</a:t>
            </a:r>
            <a:endParaRPr b="0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Instruction Decoding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290160" y="4572000"/>
            <a:ext cx="8294760" cy="186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59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Instruction Format</a:t>
            </a:r>
            <a:endParaRPr b="1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nstruction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icode:ifun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register byte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A:rB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624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382896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ptional constant word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valC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75" name=""/>
          <p:cNvGrpSpPr/>
          <p:nvPr/>
        </p:nvGrpSpPr>
        <p:grpSpPr>
          <a:xfrm>
            <a:off x="1523880" y="1219320"/>
            <a:ext cx="5181480" cy="3177360"/>
            <a:chOff x="1523880" y="1219320"/>
            <a:chExt cx="5181480" cy="3177360"/>
          </a:xfrm>
        </p:grpSpPr>
        <p:grpSp>
          <p:nvGrpSpPr>
            <p:cNvPr id="676" name=""/>
            <p:cNvGrpSpPr/>
            <p:nvPr/>
          </p:nvGrpSpPr>
          <p:grpSpPr>
            <a:xfrm>
              <a:off x="3047760" y="1998720"/>
              <a:ext cx="609840" cy="304560"/>
              <a:chOff x="3047760" y="1998720"/>
              <a:chExt cx="609840" cy="304560"/>
            </a:xfrm>
          </p:grpSpPr>
          <p:sp>
            <p:nvSpPr>
              <p:cNvPr id="677" name=""/>
              <p:cNvSpPr/>
              <p:nvPr/>
            </p:nvSpPr>
            <p:spPr>
              <a:xfrm>
                <a:off x="304776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5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352680" y="1998720"/>
                <a:ext cx="304920" cy="304560"/>
              </a:xfrm>
              <a:prstGeom prst="rect">
                <a:avLst/>
              </a:prstGeom>
              <a:solidFill>
                <a:srgbClr val="ffff99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Courier New"/>
                  </a:rPr>
                  <a:t>0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3047760" y="1998720"/>
                <a:ext cx="60984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3657600" y="1998720"/>
              <a:ext cx="609480" cy="304560"/>
              <a:chOff x="3657600" y="1998720"/>
              <a:chExt cx="609480" cy="304560"/>
            </a:xfrm>
          </p:grpSpPr>
          <p:sp>
            <p:nvSpPr>
              <p:cNvPr id="681" name=""/>
              <p:cNvSpPr/>
              <p:nvPr/>
            </p:nvSpPr>
            <p:spPr>
              <a:xfrm>
                <a:off x="3657600" y="1998720"/>
                <a:ext cx="30456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A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3962160" y="1998720"/>
                <a:ext cx="304920" cy="304560"/>
              </a:xfrm>
              <a:prstGeom prst="rect">
                <a:avLst/>
              </a:prstGeom>
              <a:solidFill>
                <a:srgbClr val="ffccff"/>
              </a:solidFill>
              <a:ln w="648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rB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57600" y="1998720"/>
                <a:ext cx="609480" cy="304560"/>
              </a:xfrm>
              <a:prstGeom prst="rect">
                <a:avLst/>
              </a:prstGeom>
              <a:noFill/>
              <a:ln w="284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4267080" y="1998720"/>
              <a:ext cx="2438280" cy="30492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523880" y="28371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code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523880" y="31417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ifun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23880" y="344664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A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523880" y="375156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rB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523880" y="4056120"/>
              <a:ext cx="95400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valC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514600" y="2303640"/>
              <a:ext cx="685800" cy="68580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lnTo>
                    <a:pt x="144" y="432"/>
                  </a:lnTo>
                  <a:lnTo>
                    <a:pt x="4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14600" y="2303640"/>
              <a:ext cx="990360" cy="990720"/>
            </a:xfrm>
            <a:custGeom>
              <a:avLst/>
              <a:gdLst/>
              <a:ahLst/>
              <a:rect l="l" t="t" r="r" b="b"/>
              <a:pathLst>
                <a:path w="624" h="624">
                  <a:moveTo>
                    <a:pt x="0" y="624"/>
                  </a:moveTo>
                  <a:lnTo>
                    <a:pt x="192" y="624"/>
                  </a:lnTo>
                  <a:lnTo>
                    <a:pt x="624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514600" y="2303640"/>
              <a:ext cx="1295280" cy="1295280"/>
            </a:xfrm>
            <a:custGeom>
              <a:avLst/>
              <a:gdLst/>
              <a:ahLst/>
              <a:rect l="l" t="t" r="r" b="b"/>
              <a:pathLst>
                <a:path w="816" h="816">
                  <a:moveTo>
                    <a:pt x="0" y="816"/>
                  </a:moveTo>
                  <a:lnTo>
                    <a:pt x="240" y="816"/>
                  </a:lnTo>
                  <a:lnTo>
                    <a:pt x="816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14600" y="2303640"/>
              <a:ext cx="1600200" cy="1600200"/>
            </a:xfrm>
            <a:custGeom>
              <a:avLst/>
              <a:gdLst/>
              <a:ahLst/>
              <a:rect l="l" t="t" r="r" b="b"/>
              <a:pathLst>
                <a:path w="1008" h="1008">
                  <a:moveTo>
                    <a:pt x="0" y="1008"/>
                  </a:moveTo>
                  <a:lnTo>
                    <a:pt x="336" y="1008"/>
                  </a:lnTo>
                  <a:lnTo>
                    <a:pt x="1008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514600" y="2303640"/>
              <a:ext cx="2590560" cy="1905120"/>
            </a:xfrm>
            <a:custGeom>
              <a:avLst/>
              <a:gdLst/>
              <a:ahLst/>
              <a:rect l="l" t="t" r="r" b="b"/>
              <a:pathLst>
                <a:path w="1632" h="1200">
                  <a:moveTo>
                    <a:pt x="0" y="1200"/>
                  </a:moveTo>
                  <a:lnTo>
                    <a:pt x="816" y="1200"/>
                  </a:lnTo>
                  <a:lnTo>
                    <a:pt x="1632" y="0"/>
                  </a:lnTo>
                </a:path>
              </a:pathLst>
            </a:custGeom>
            <a:noFill/>
            <a:ln w="19080">
              <a:solidFill>
                <a:srgbClr val="0033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5400000">
              <a:off x="3847680" y="1503720"/>
              <a:ext cx="228600" cy="6094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15840 h 609480"/>
                <a:gd name="textAreaBottom" fmla="*/ 5936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18"/>
                  </a:lnTo>
                  <a:cubicBezTo>
                    <a:pt x="10800" y="9618"/>
                    <a:pt x="5400" y="10518"/>
                    <a:pt x="0" y="10518"/>
                  </a:cubicBezTo>
                  <a:cubicBezTo>
                    <a:pt x="5400" y="10518"/>
                    <a:pt x="10800" y="11418"/>
                    <a:pt x="10800" y="1231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5371560" y="588960"/>
              <a:ext cx="228600" cy="2438280"/>
            </a:xfrm>
            <a:custGeom>
              <a:avLst/>
              <a:gdLst>
                <a:gd name="textAreaLeft" fmla="*/ 146160 w 228600"/>
                <a:gd name="textAreaRight" fmla="*/ 228960 w 228600"/>
                <a:gd name="textAreaTop" fmla="*/ 63360 h 2438280"/>
                <a:gd name="textAreaBottom" fmla="*/ 2374920 h 24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971"/>
                  </a:lnTo>
                  <a:cubicBezTo>
                    <a:pt x="10800" y="9871"/>
                    <a:pt x="5400" y="10771"/>
                    <a:pt x="0" y="10771"/>
                  </a:cubicBezTo>
                  <a:cubicBezTo>
                    <a:pt x="5400" y="10771"/>
                    <a:pt x="10800" y="11671"/>
                    <a:pt x="10800" y="12571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451680" y="121932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951800" y="1236960"/>
              <a:ext cx="102168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66"/>
                  </a:solidFill>
                  <a:latin typeface="Arial"/>
                </a:rPr>
                <a:t>Optiona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04280" y="247320"/>
            <a:ext cx="8704440" cy="7794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969696"/>
            </a:outerShdw>
          </a:effectLst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800" spc="-1" strike="noStrike">
                <a:solidFill>
                  <a:srgbClr val="660033"/>
                </a:solidFill>
                <a:latin typeface="Arial"/>
              </a:rPr>
              <a:t>Executing Arith./Logical Operation</a:t>
            </a:r>
            <a:endParaRPr b="1" lang="en-US" sz="3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290160" y="1828800"/>
            <a:ext cx="407052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Fetch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2 byt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Decod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ad operand register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Execu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Perform operation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Set condition codes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12960" y="1828800"/>
            <a:ext cx="4071960" cy="4603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Memory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Do nothing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Write back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Update registe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Arial"/>
              </a:rPr>
              <a:t>PC Update</a:t>
            </a:r>
            <a:endParaRPr b="1" lang="en-US" sz="20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44440">
              <a:spcBef>
                <a:spcPts val="561"/>
              </a:spcBef>
              <a:buClr>
                <a:srgbClr val="660033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Increment PC by 2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2438280" y="1066680"/>
            <a:ext cx="3657600" cy="609840"/>
            <a:chOff x="2438280" y="1066680"/>
            <a:chExt cx="3657600" cy="609840"/>
          </a:xfrm>
        </p:grpSpPr>
        <p:sp>
          <p:nvSpPr>
            <p:cNvPr id="703" name=""/>
            <p:cNvSpPr/>
            <p:nvPr/>
          </p:nvSpPr>
          <p:spPr>
            <a:xfrm>
              <a:off x="2438280" y="1066680"/>
              <a:ext cx="3657600" cy="609840"/>
            </a:xfrm>
            <a:prstGeom prst="rect">
              <a:avLst/>
            </a:prstGeom>
            <a:solidFill>
              <a:srgbClr val="ffff66"/>
            </a:solidFill>
            <a:ln w="19080">
              <a:solidFill>
                <a:srgbClr val="003300"/>
              </a:solidFill>
              <a:miter/>
            </a:ln>
            <a:effectLst>
              <a:outerShdw dist="17819" dir="2700000" blurRad="0" rotWithShape="0">
                <a:srgbClr val="00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2666880" y="1219320"/>
              <a:ext cx="3124440" cy="304560"/>
              <a:chOff x="2666880" y="1219320"/>
              <a:chExt cx="3124440" cy="304560"/>
            </a:xfrm>
          </p:grpSpPr>
          <p:sp>
            <p:nvSpPr>
              <p:cNvPr id="705" name=""/>
              <p:cNvSpPr/>
              <p:nvPr/>
            </p:nvSpPr>
            <p:spPr>
              <a:xfrm>
                <a:off x="2666880" y="1219320"/>
                <a:ext cx="190512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OPl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A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Courier New"/>
                  </a:rPr>
                  <a:t>, </a:t>
                </a: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</a:rPr>
                  <a:t>r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706" name=""/>
              <p:cNvGrpSpPr/>
              <p:nvPr/>
            </p:nvGrpSpPr>
            <p:grpSpPr>
              <a:xfrm>
                <a:off x="4572000" y="1219320"/>
                <a:ext cx="609480" cy="304560"/>
                <a:chOff x="4572000" y="1219320"/>
                <a:chExt cx="609480" cy="30456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45720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Courier New"/>
                    </a:rPr>
                    <a:t>6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876920" y="1219320"/>
                  <a:ext cx="30456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66"/>
                      </a:solidFill>
                      <a:latin typeface="Arial"/>
                    </a:rPr>
                    <a:t>fn</a:t>
                  </a:r>
                  <a:endParaRPr b="0" lang="en-US" sz="1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572000" y="1219320"/>
                  <a:ext cx="60948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5181480" y="1219320"/>
                <a:ext cx="609840" cy="304560"/>
                <a:chOff x="5181480" y="1219320"/>
                <a:chExt cx="609840" cy="30456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518148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A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5486400" y="1219320"/>
                  <a:ext cx="304920" cy="304560"/>
                </a:xfrm>
                <a:prstGeom prst="rect">
                  <a:avLst/>
                </a:prstGeom>
                <a:solidFill>
                  <a:srgbClr val="ffffff"/>
                </a:solidFill>
                <a:ln w="648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99"/>
                      </a:solidFill>
                      <a:latin typeface="Arial"/>
                    </a:rPr>
                    <a:t>rB</a:t>
                  </a:r>
                  <a:endParaRPr b="0" lang="en-US" sz="16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5181480" y="1219320"/>
                  <a:ext cx="609840" cy="304560"/>
                </a:xfrm>
                <a:prstGeom prst="rect">
                  <a:avLst/>
                </a:prstGeom>
                <a:noFill/>
                <a:ln w="2844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3T17:17:57Z</dcterms:created>
  <dc:creator>Randal E. Bryant</dc:creator>
  <dc:description/>
  <dc:language>en-US</dc:language>
  <cp:lastModifiedBy>Randal E. Bryant</cp:lastModifiedBy>
  <cp:lastPrinted>1999-02-26T14:55:35Z</cp:lastPrinted>
  <dcterms:modified xsi:type="dcterms:W3CDTF">2002-05-30T16:36:52Z</dcterms:modified>
  <cp:revision>71</cp:revision>
  <dc:subject>SRC Review Slides</dc:subject>
  <dc:title>Formal Processor Verification</dc:title>
</cp:coreProperties>
</file>