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738D2C5-0407-4FA4-9A5B-01CBA901C1E3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755640"/>
            <a:ext cx="5758560" cy="291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Sequential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Arith/Log. O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ulate instruction execution as sequence of simple ste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ame general form for al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l rA, 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718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729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B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736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OP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C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condition code regis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743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747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B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754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mmov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6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perand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 effective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o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523880" y="11430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676520" y="1295280"/>
            <a:ext cx="5562360" cy="304920"/>
            <a:chOff x="1676520" y="1295280"/>
            <a:chExt cx="5562360" cy="304920"/>
          </a:xfrm>
        </p:grpSpPr>
        <p:sp>
          <p:nvSpPr>
            <p:cNvPr id="762" name=""/>
            <p:cNvSpPr/>
            <p:nvPr/>
          </p:nvSpPr>
          <p:spPr>
            <a:xfrm>
              <a:off x="1676520" y="12952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3581280" y="1295280"/>
              <a:ext cx="3657600" cy="304560"/>
              <a:chOff x="3581280" y="1295280"/>
              <a:chExt cx="3657600" cy="30456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3581280" y="1295280"/>
                <a:ext cx="609480" cy="304560"/>
                <a:chOff x="3581280" y="1295280"/>
                <a:chExt cx="609480" cy="30456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358128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886200" y="12952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581280" y="12952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4190760" y="1295280"/>
                <a:ext cx="609840" cy="304560"/>
                <a:chOff x="4190760" y="1295280"/>
                <a:chExt cx="609840" cy="30456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19076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49568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190760" y="12952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" name=""/>
              <p:cNvSpPr/>
              <p:nvPr/>
            </p:nvSpPr>
            <p:spPr>
              <a:xfrm>
                <a:off x="4800600" y="12952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mmov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for address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A, D(rB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777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isplacement 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788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B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795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802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E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value to memory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806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813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pop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2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from ol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result to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2514600" y="1066680"/>
            <a:ext cx="3322800" cy="609840"/>
            <a:chOff x="2514600" y="1066680"/>
            <a:chExt cx="3322800" cy="609840"/>
          </a:xfrm>
        </p:grpSpPr>
        <p:sp>
          <p:nvSpPr>
            <p:cNvPr id="820" name=""/>
            <p:cNvSpPr/>
            <p:nvPr/>
          </p:nvSpPr>
          <p:spPr>
            <a:xfrm>
              <a:off x="2514600" y="10666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43200" y="1219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4313160" y="1219320"/>
              <a:ext cx="609480" cy="304560"/>
              <a:chOff x="4313160" y="1219320"/>
              <a:chExt cx="609480" cy="304560"/>
            </a:xfrm>
          </p:grpSpPr>
          <p:sp>
            <p:nvSpPr>
              <p:cNvPr id="823" name=""/>
              <p:cNvSpPr/>
              <p:nvPr/>
            </p:nvSpPr>
            <p:spPr>
              <a:xfrm>
                <a:off x="431316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61808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31316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4923000" y="1219320"/>
              <a:ext cx="609480" cy="304560"/>
              <a:chOff x="4923000" y="1219320"/>
              <a:chExt cx="609480" cy="304560"/>
            </a:xfrm>
          </p:grpSpPr>
          <p:sp>
            <p:nvSpPr>
              <p:cNvPr id="827" name=""/>
              <p:cNvSpPr/>
              <p:nvPr/>
            </p:nvSpPr>
            <p:spPr>
              <a:xfrm>
                <a:off x="492300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2792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92300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pop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lvl="1" marL="601560" indent="-197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in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01560" indent="-197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update two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26640" indent="-192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pped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26640" indent="-192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w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834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845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 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852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859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M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from stack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863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A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870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Jum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90160" y="3047760"/>
            <a:ext cx="407052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5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5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whether to take branch based on jump condition and 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12960" y="3047760"/>
            <a:ext cx="407196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Dest if branch taken or to incremented PC if not bran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286000" y="1143000"/>
            <a:ext cx="6116040" cy="1752480"/>
            <a:chOff x="2286000" y="1143000"/>
            <a:chExt cx="6116040" cy="1752480"/>
          </a:xfrm>
        </p:grpSpPr>
        <p:sp>
          <p:nvSpPr>
            <p:cNvPr id="877" name=""/>
            <p:cNvSpPr/>
            <p:nvPr/>
          </p:nvSpPr>
          <p:spPr>
            <a:xfrm>
              <a:off x="2286000" y="1143000"/>
              <a:ext cx="4618080" cy="1752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14600" y="1218960"/>
              <a:ext cx="111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XX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3657600" y="1218960"/>
              <a:ext cx="609480" cy="304920"/>
              <a:chOff x="3657600" y="1218960"/>
              <a:chExt cx="609480" cy="304920"/>
            </a:xfrm>
          </p:grpSpPr>
          <p:sp>
            <p:nvSpPr>
              <p:cNvPr id="880" name=""/>
              <p:cNvSpPr/>
              <p:nvPr/>
            </p:nvSpPr>
            <p:spPr>
              <a:xfrm>
                <a:off x="3657600" y="12189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962520" y="12189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7600" y="12189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4267080" y="1218960"/>
              <a:ext cx="24382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3657600" y="1600200"/>
              <a:ext cx="609480" cy="304560"/>
              <a:chOff x="3657600" y="1600200"/>
              <a:chExt cx="60948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3657600" y="16002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62520" y="160020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57600" y="160020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>
              <a:off x="2514600" y="160020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fall thru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3657600" y="2361960"/>
              <a:ext cx="609480" cy="304920"/>
              <a:chOff x="3657600" y="2361960"/>
              <a:chExt cx="609480" cy="304920"/>
            </a:xfrm>
          </p:grpSpPr>
          <p:sp>
            <p:nvSpPr>
              <p:cNvPr id="890" name=""/>
              <p:cNvSpPr/>
              <p:nvPr/>
            </p:nvSpPr>
            <p:spPr>
              <a:xfrm>
                <a:off x="3657600" y="23619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962520" y="23619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57600" y="23619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2514600" y="2361960"/>
              <a:ext cx="111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target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266720" y="1752480"/>
              <a:ext cx="28954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266720" y="2514600"/>
              <a:ext cx="28954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69120" y="1506240"/>
              <a:ext cx="113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t take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48600" y="2403360"/>
              <a:ext cx="752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ke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Jum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both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oose based on setting of condition codes and branch con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XX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902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estinatio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all through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913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920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ch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Cond(CC,ifun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ake branch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927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931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938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Bch ? valC :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al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90160" y="3428640"/>
            <a:ext cx="407052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5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5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12960" y="3428640"/>
            <a:ext cx="407196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incremented PC to new value of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De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935000" y="1066680"/>
            <a:ext cx="5380200" cy="1676520"/>
            <a:chOff x="1935000" y="1066680"/>
            <a:chExt cx="5380200" cy="1676520"/>
          </a:xfrm>
        </p:grpSpPr>
        <p:sp>
          <p:nvSpPr>
            <p:cNvPr id="945" name=""/>
            <p:cNvSpPr/>
            <p:nvPr/>
          </p:nvSpPr>
          <p:spPr>
            <a:xfrm>
              <a:off x="1935000" y="1066680"/>
              <a:ext cx="5380200" cy="16765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63600" y="1219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4068720" y="1219320"/>
              <a:ext cx="609480" cy="304560"/>
              <a:chOff x="4068720" y="1219320"/>
              <a:chExt cx="609480" cy="304560"/>
            </a:xfrm>
          </p:grpSpPr>
          <p:sp>
            <p:nvSpPr>
              <p:cNvPr id="948" name=""/>
              <p:cNvSpPr/>
              <p:nvPr/>
            </p:nvSpPr>
            <p:spPr>
              <a:xfrm>
                <a:off x="406872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37364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06872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4648320" y="1219320"/>
              <a:ext cx="24382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4038480" y="1617840"/>
              <a:ext cx="609480" cy="304560"/>
              <a:chOff x="4038480" y="1617840"/>
              <a:chExt cx="609480" cy="304560"/>
            </a:xfrm>
          </p:grpSpPr>
          <p:sp>
            <p:nvSpPr>
              <p:cNvPr id="953" name=""/>
              <p:cNvSpPr/>
              <p:nvPr/>
            </p:nvSpPr>
            <p:spPr>
              <a:xfrm>
                <a:off x="4038480" y="16178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343400" y="16178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38480" y="16178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2895480" y="1617840"/>
              <a:ext cx="1113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turn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4038480" y="2379600"/>
              <a:ext cx="609480" cy="304920"/>
              <a:chOff x="4038480" y="2379600"/>
              <a:chExt cx="609480" cy="304920"/>
            </a:xfrm>
          </p:grpSpPr>
          <p:sp>
            <p:nvSpPr>
              <p:cNvPr id="958" name=""/>
              <p:cNvSpPr/>
              <p:nvPr/>
            </p:nvSpPr>
            <p:spPr>
              <a:xfrm>
                <a:off x="4038480" y="23796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343400" y="23796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038480" y="23796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2895480" y="2379600"/>
              <a:ext cx="1113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target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al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de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966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estination address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return poin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977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984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991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E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return value on stack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995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1002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PC to destin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90160" y="2819520"/>
            <a:ext cx="4070520" cy="36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1 byt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12960" y="2819520"/>
            <a:ext cx="4071960" cy="36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return address from ol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return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752480" y="1066680"/>
            <a:ext cx="5380200" cy="16002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981080" y="12193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886200" y="1219320"/>
            <a:ext cx="609480" cy="304560"/>
            <a:chOff x="3886200" y="1219320"/>
            <a:chExt cx="609480" cy="304560"/>
          </a:xfrm>
        </p:grpSpPr>
        <p:sp>
          <p:nvSpPr>
            <p:cNvPr id="1011" name=""/>
            <p:cNvSpPr/>
            <p:nvPr/>
          </p:nvSpPr>
          <p:spPr>
            <a:xfrm>
              <a:off x="3886200" y="12193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12193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86200" y="12193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3886200" y="2286000"/>
            <a:ext cx="609480" cy="304920"/>
            <a:chOff x="3886200" y="2286000"/>
            <a:chExt cx="609480" cy="304920"/>
          </a:xfrm>
        </p:grpSpPr>
        <p:sp>
          <p:nvSpPr>
            <p:cNvPr id="1015" name=""/>
            <p:cNvSpPr/>
            <p:nvPr/>
          </p:nvSpPr>
          <p:spPr>
            <a:xfrm>
              <a:off x="3886200" y="2286000"/>
              <a:ext cx="304920" cy="30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9112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86200" y="2286000"/>
              <a:ext cx="609480" cy="3049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743200" y="2286000"/>
            <a:ext cx="1112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turn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Instruction S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838080"/>
            <a:ext cx="5562360" cy="304920"/>
            <a:chOff x="533520" y="838080"/>
            <a:chExt cx="5562360" cy="304920"/>
          </a:xfrm>
        </p:grpSpPr>
        <p:sp>
          <p:nvSpPr>
            <p:cNvPr id="85" name=""/>
            <p:cNvSpPr/>
            <p:nvPr/>
          </p:nvSpPr>
          <p:spPr>
            <a:xfrm>
              <a:off x="533520" y="838080"/>
              <a:ext cx="19047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438280" y="838080"/>
              <a:ext cx="3657600" cy="304920"/>
              <a:chOff x="2438280" y="838080"/>
              <a:chExt cx="3657600" cy="304920"/>
            </a:xfrm>
          </p:grpSpPr>
          <p:sp>
            <p:nvSpPr>
              <p:cNvPr id="87" name=""/>
              <p:cNvSpPr/>
              <p:nvPr/>
            </p:nvSpPr>
            <p:spPr>
              <a:xfrm>
                <a:off x="24382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481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576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670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769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64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533520" y="5791320"/>
            <a:ext cx="3124080" cy="304560"/>
            <a:chOff x="533520" y="5791320"/>
            <a:chExt cx="3124080" cy="304560"/>
          </a:xfrm>
        </p:grpSpPr>
        <p:sp>
          <p:nvSpPr>
            <p:cNvPr id="94" name=""/>
            <p:cNvSpPr/>
            <p:nvPr/>
          </p:nvSpPr>
          <p:spPr>
            <a:xfrm>
              <a:off x="533520" y="5791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push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438280" y="5791320"/>
              <a:ext cx="609840" cy="304560"/>
              <a:chOff x="2438280" y="5791320"/>
              <a:chExt cx="609840" cy="304560"/>
            </a:xfrm>
          </p:grpSpPr>
          <p:sp>
            <p:nvSpPr>
              <p:cNvPr id="96" name=""/>
              <p:cNvSpPr/>
              <p:nvPr/>
            </p:nvSpPr>
            <p:spPr>
              <a:xfrm>
                <a:off x="2438280" y="5791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43200" y="5791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38280" y="5791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3048120" y="5791320"/>
              <a:ext cx="609480" cy="304560"/>
              <a:chOff x="3048120" y="5791320"/>
              <a:chExt cx="609480" cy="304560"/>
            </a:xfrm>
          </p:grpSpPr>
          <p:sp>
            <p:nvSpPr>
              <p:cNvPr id="100" name=""/>
              <p:cNvSpPr/>
              <p:nvPr/>
            </p:nvSpPr>
            <p:spPr>
              <a:xfrm>
                <a:off x="3048120" y="57913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52680" y="57913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8120" y="5791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533520" y="4419720"/>
            <a:ext cx="4952880" cy="304560"/>
            <a:chOff x="533520" y="4419720"/>
            <a:chExt cx="4952880" cy="304560"/>
          </a:xfrm>
        </p:grpSpPr>
        <p:sp>
          <p:nvSpPr>
            <p:cNvPr id="104" name=""/>
            <p:cNvSpPr/>
            <p:nvPr/>
          </p:nvSpPr>
          <p:spPr>
            <a:xfrm>
              <a:off x="533520" y="44197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jXX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438280" y="4419720"/>
              <a:ext cx="609840" cy="304560"/>
              <a:chOff x="2438280" y="4419720"/>
              <a:chExt cx="609840" cy="304560"/>
            </a:xfrm>
          </p:grpSpPr>
          <p:sp>
            <p:nvSpPr>
              <p:cNvPr id="106" name=""/>
              <p:cNvSpPr/>
              <p:nvPr/>
            </p:nvSpPr>
            <p:spPr>
              <a:xfrm>
                <a:off x="2438280" y="4419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43200" y="4419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438280" y="4419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048120" y="44197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6248520"/>
            <a:ext cx="3124080" cy="304560"/>
            <a:chOff x="533520" y="6248520"/>
            <a:chExt cx="3124080" cy="304560"/>
          </a:xfrm>
        </p:grpSpPr>
        <p:sp>
          <p:nvSpPr>
            <p:cNvPr id="111" name=""/>
            <p:cNvSpPr/>
            <p:nvPr/>
          </p:nvSpPr>
          <p:spPr>
            <a:xfrm>
              <a:off x="533520" y="6248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pop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438280" y="6248520"/>
              <a:ext cx="609840" cy="304560"/>
              <a:chOff x="2438280" y="6248520"/>
              <a:chExt cx="609840" cy="304560"/>
            </a:xfrm>
          </p:grpSpPr>
          <p:sp>
            <p:nvSpPr>
              <p:cNvPr id="113" name=""/>
              <p:cNvSpPr/>
              <p:nvPr/>
            </p:nvSpPr>
            <p:spPr>
              <a:xfrm>
                <a:off x="2438280" y="6248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43200" y="6248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38280" y="6248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048120" y="6248520"/>
              <a:ext cx="609480" cy="304560"/>
              <a:chOff x="3048120" y="6248520"/>
              <a:chExt cx="609480" cy="304560"/>
            </a:xfrm>
          </p:grpSpPr>
          <p:sp>
            <p:nvSpPr>
              <p:cNvPr id="117" name=""/>
              <p:cNvSpPr/>
              <p:nvPr/>
            </p:nvSpPr>
            <p:spPr>
              <a:xfrm>
                <a:off x="3048120" y="62485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52680" y="62485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120" y="6248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533520" y="4876920"/>
            <a:ext cx="4952880" cy="304560"/>
            <a:chOff x="533520" y="4876920"/>
            <a:chExt cx="4952880" cy="304560"/>
          </a:xfrm>
        </p:grpSpPr>
        <p:sp>
          <p:nvSpPr>
            <p:cNvPr id="121" name=""/>
            <p:cNvSpPr/>
            <p:nvPr/>
          </p:nvSpPr>
          <p:spPr>
            <a:xfrm>
              <a:off x="533520" y="48769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cal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438280" y="4876920"/>
              <a:ext cx="609840" cy="304560"/>
              <a:chOff x="2438280" y="4876920"/>
              <a:chExt cx="609840" cy="304560"/>
            </a:xfrm>
          </p:grpSpPr>
          <p:sp>
            <p:nvSpPr>
              <p:cNvPr id="123" name=""/>
              <p:cNvSpPr/>
              <p:nvPr/>
            </p:nvSpPr>
            <p:spPr>
              <a:xfrm>
                <a:off x="2438280" y="4876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43200" y="4876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38280" y="4876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048120" y="48769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33520" y="2133720"/>
            <a:ext cx="3124080" cy="304560"/>
            <a:chOff x="533520" y="2133720"/>
            <a:chExt cx="3124080" cy="304560"/>
          </a:xfrm>
        </p:grpSpPr>
        <p:sp>
          <p:nvSpPr>
            <p:cNvPr id="128" name=""/>
            <p:cNvSpPr/>
            <p:nvPr/>
          </p:nvSpPr>
          <p:spPr>
            <a:xfrm>
              <a:off x="533520" y="21337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438280" y="2133720"/>
              <a:ext cx="609840" cy="304560"/>
              <a:chOff x="2438280" y="2133720"/>
              <a:chExt cx="60984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8280" y="2133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43200" y="2133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38280" y="2133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048120" y="2133720"/>
              <a:ext cx="609480" cy="304560"/>
              <a:chOff x="3048120" y="2133720"/>
              <a:chExt cx="609480" cy="304560"/>
            </a:xfrm>
          </p:grpSpPr>
          <p:sp>
            <p:nvSpPr>
              <p:cNvPr id="134" name=""/>
              <p:cNvSpPr/>
              <p:nvPr/>
            </p:nvSpPr>
            <p:spPr>
              <a:xfrm>
                <a:off x="3048120" y="21337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52680" y="21337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8120" y="2133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33520" y="2590920"/>
            <a:ext cx="5562360" cy="304560"/>
            <a:chOff x="533520" y="2590920"/>
            <a:chExt cx="5562360" cy="304560"/>
          </a:xfrm>
        </p:grpSpPr>
        <p:sp>
          <p:nvSpPr>
            <p:cNvPr id="138" name=""/>
            <p:cNvSpPr/>
            <p:nvPr/>
          </p:nvSpPr>
          <p:spPr>
            <a:xfrm>
              <a:off x="533520" y="25909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438280" y="2590920"/>
              <a:ext cx="609840" cy="304560"/>
              <a:chOff x="2438280" y="2590920"/>
              <a:chExt cx="609840" cy="304560"/>
            </a:xfrm>
          </p:grpSpPr>
          <p:sp>
            <p:nvSpPr>
              <p:cNvPr id="140" name=""/>
              <p:cNvSpPr/>
              <p:nvPr/>
            </p:nvSpPr>
            <p:spPr>
              <a:xfrm>
                <a:off x="2438280" y="2590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43200" y="2590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438280" y="2590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048120" y="2590920"/>
              <a:ext cx="609480" cy="304560"/>
              <a:chOff x="3048120" y="2590920"/>
              <a:chExt cx="609480" cy="304560"/>
            </a:xfrm>
          </p:grpSpPr>
          <p:sp>
            <p:nvSpPr>
              <p:cNvPr id="144" name=""/>
              <p:cNvSpPr/>
              <p:nvPr/>
            </p:nvSpPr>
            <p:spPr>
              <a:xfrm>
                <a:off x="3048120" y="25909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52680" y="25909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48120" y="2590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657600" y="25909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33520" y="3048120"/>
            <a:ext cx="5562360" cy="304560"/>
            <a:chOff x="533520" y="3048120"/>
            <a:chExt cx="5562360" cy="304560"/>
          </a:xfrm>
        </p:grpSpPr>
        <p:sp>
          <p:nvSpPr>
            <p:cNvPr id="149" name=""/>
            <p:cNvSpPr/>
            <p:nvPr/>
          </p:nvSpPr>
          <p:spPr>
            <a:xfrm>
              <a:off x="533520" y="30481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m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438280" y="3048120"/>
              <a:ext cx="609840" cy="304560"/>
              <a:chOff x="2438280" y="3048120"/>
              <a:chExt cx="609840" cy="304560"/>
            </a:xfrm>
          </p:grpSpPr>
          <p:sp>
            <p:nvSpPr>
              <p:cNvPr id="151" name=""/>
              <p:cNvSpPr/>
              <p:nvPr/>
            </p:nvSpPr>
            <p:spPr>
              <a:xfrm>
                <a:off x="2438280" y="3048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43200" y="3048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38280" y="30481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048120" y="3048120"/>
              <a:ext cx="609480" cy="304560"/>
              <a:chOff x="3048120" y="3048120"/>
              <a:chExt cx="609480" cy="30456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8120" y="30481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52680" y="30481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30481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657600" y="30481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33520" y="3505320"/>
            <a:ext cx="5562360" cy="304560"/>
            <a:chOff x="533520" y="3505320"/>
            <a:chExt cx="5562360" cy="304560"/>
          </a:xfrm>
        </p:grpSpPr>
        <p:sp>
          <p:nvSpPr>
            <p:cNvPr id="160" name=""/>
            <p:cNvSpPr/>
            <p:nvPr/>
          </p:nvSpPr>
          <p:spPr>
            <a:xfrm>
              <a:off x="533520" y="3505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m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)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505320"/>
              <a:ext cx="609840" cy="304560"/>
              <a:chOff x="2438280" y="3505320"/>
              <a:chExt cx="609840" cy="304560"/>
            </a:xfrm>
          </p:grpSpPr>
          <p:sp>
            <p:nvSpPr>
              <p:cNvPr id="162" name=""/>
              <p:cNvSpPr/>
              <p:nvPr/>
            </p:nvSpPr>
            <p:spPr>
              <a:xfrm>
                <a:off x="2438280" y="3505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43200" y="3505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048120" y="3505320"/>
              <a:ext cx="609480" cy="304560"/>
              <a:chOff x="3048120" y="3505320"/>
              <a:chExt cx="609480" cy="304560"/>
            </a:xfrm>
          </p:grpSpPr>
          <p:sp>
            <p:nvSpPr>
              <p:cNvPr id="166" name=""/>
              <p:cNvSpPr/>
              <p:nvPr/>
            </p:nvSpPr>
            <p:spPr>
              <a:xfrm>
                <a:off x="3048120" y="35053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2680" y="35053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812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657600" y="35053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3520" y="3962520"/>
            <a:ext cx="3124080" cy="304560"/>
            <a:chOff x="533520" y="3962520"/>
            <a:chExt cx="3124080" cy="304560"/>
          </a:xfrm>
        </p:grpSpPr>
        <p:sp>
          <p:nvSpPr>
            <p:cNvPr id="171" name=""/>
            <p:cNvSpPr/>
            <p:nvPr/>
          </p:nvSpPr>
          <p:spPr>
            <a:xfrm>
              <a:off x="533520" y="3962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OP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962520"/>
              <a:ext cx="609840" cy="304560"/>
              <a:chOff x="2438280" y="3962520"/>
              <a:chExt cx="609840" cy="30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2438280" y="3962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43200" y="3962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38280" y="3962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48120" y="3962520"/>
              <a:ext cx="609480" cy="304560"/>
              <a:chOff x="3048120" y="3962520"/>
              <a:chExt cx="609480" cy="304560"/>
            </a:xfrm>
          </p:grpSpPr>
          <p:sp>
            <p:nvSpPr>
              <p:cNvPr id="177" name=""/>
              <p:cNvSpPr/>
              <p:nvPr/>
            </p:nvSpPr>
            <p:spPr>
              <a:xfrm>
                <a:off x="3048120" y="39625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52680" y="39625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48120" y="3962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533520" y="5334120"/>
            <a:ext cx="2514600" cy="304560"/>
            <a:chOff x="533520" y="5334120"/>
            <a:chExt cx="2514600" cy="304560"/>
          </a:xfrm>
        </p:grpSpPr>
        <p:sp>
          <p:nvSpPr>
            <p:cNvPr id="181" name=""/>
            <p:cNvSpPr/>
            <p:nvPr/>
          </p:nvSpPr>
          <p:spPr>
            <a:xfrm>
              <a:off x="533520" y="53341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438280" y="5334120"/>
              <a:ext cx="609840" cy="304560"/>
              <a:chOff x="2438280" y="5334120"/>
              <a:chExt cx="60984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2438280" y="5334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3200" y="5334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38280" y="53341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533520" y="1219320"/>
            <a:ext cx="2514600" cy="304560"/>
            <a:chOff x="533520" y="1219320"/>
            <a:chExt cx="2514600" cy="304560"/>
          </a:xfrm>
        </p:grpSpPr>
        <p:sp>
          <p:nvSpPr>
            <p:cNvPr id="187" name=""/>
            <p:cNvSpPr/>
            <p:nvPr/>
          </p:nvSpPr>
          <p:spPr>
            <a:xfrm>
              <a:off x="533520" y="1219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438280" y="1219320"/>
              <a:ext cx="609840" cy="304560"/>
              <a:chOff x="2438280" y="1219320"/>
              <a:chExt cx="609840" cy="304560"/>
            </a:xfrm>
          </p:grpSpPr>
          <p:sp>
            <p:nvSpPr>
              <p:cNvPr id="189" name=""/>
              <p:cNvSpPr/>
              <p:nvPr/>
            </p:nvSpPr>
            <p:spPr>
              <a:xfrm>
                <a:off x="2438280" y="1219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43200" y="1219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38280" y="1219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33520" y="1676520"/>
            <a:ext cx="2514600" cy="304560"/>
            <a:chOff x="533520" y="1676520"/>
            <a:chExt cx="2514600" cy="304560"/>
          </a:xfrm>
        </p:grpSpPr>
        <p:sp>
          <p:nvSpPr>
            <p:cNvPr id="193" name=""/>
            <p:cNvSpPr/>
            <p:nvPr/>
          </p:nvSpPr>
          <p:spPr>
            <a:xfrm>
              <a:off x="533520" y="1676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438280" y="1676520"/>
              <a:ext cx="609840" cy="304560"/>
              <a:chOff x="2438280" y="1676520"/>
              <a:chExt cx="609840" cy="304560"/>
            </a:xfrm>
          </p:grpSpPr>
          <p:sp>
            <p:nvSpPr>
              <p:cNvPr id="195" name=""/>
              <p:cNvSpPr/>
              <p:nvPr/>
            </p:nvSpPr>
            <p:spPr>
              <a:xfrm>
                <a:off x="2438280" y="1676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743200" y="1676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38280" y="1676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3657600" y="1295280"/>
            <a:ext cx="5410080" cy="3000600"/>
            <a:chOff x="3657600" y="1295280"/>
            <a:chExt cx="5410080" cy="3000600"/>
          </a:xfrm>
        </p:grpSpPr>
        <p:grpSp>
          <p:nvGrpSpPr>
            <p:cNvPr id="199" name=""/>
            <p:cNvGrpSpPr/>
            <p:nvPr/>
          </p:nvGrpSpPr>
          <p:grpSpPr>
            <a:xfrm>
              <a:off x="6934320" y="1295280"/>
              <a:ext cx="2133360" cy="1752840"/>
              <a:chOff x="6934320" y="1295280"/>
              <a:chExt cx="2133360" cy="1752840"/>
            </a:xfrm>
          </p:grpSpPr>
          <p:sp>
            <p:nvSpPr>
              <p:cNvPr id="200" name=""/>
              <p:cNvSpPr/>
              <p:nvPr/>
            </p:nvSpPr>
            <p:spPr>
              <a:xfrm>
                <a:off x="7162920" y="13716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848720" y="1371600"/>
                <a:ext cx="609480" cy="304920"/>
                <a:chOff x="7848720" y="1371600"/>
                <a:chExt cx="609480" cy="3049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848720" y="13716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153280" y="13716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848720" y="13716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7162920" y="18288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sub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848720" y="1828800"/>
                <a:ext cx="609480" cy="304920"/>
                <a:chOff x="7848720" y="1828800"/>
                <a:chExt cx="609480" cy="3049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848720" y="18288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153280" y="18288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848720" y="18288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7162920" y="22860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nd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7848720" y="2286000"/>
                <a:ext cx="609480" cy="304920"/>
                <a:chOff x="7848720" y="2286000"/>
                <a:chExt cx="609480" cy="304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848720" y="22860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53280" y="22860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848720" y="22860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7162920" y="27432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xor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7848720" y="2743200"/>
                <a:ext cx="609480" cy="304920"/>
                <a:chOff x="7848720" y="2743200"/>
                <a:chExt cx="609480" cy="3049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848720" y="27432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153280" y="27432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848720" y="27432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6934320" y="1295280"/>
                <a:ext cx="228600" cy="175284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720 h 1752840"/>
                  <a:gd name="textAreaBottom" fmla="*/ 1707120 h 175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657600" y="2095560"/>
              <a:ext cx="3200400" cy="2200320"/>
            </a:xfrm>
            <a:custGeom>
              <a:avLst/>
              <a:gdLst/>
              <a:ahLst/>
              <a:rect l="l" t="t" r="r" b="b"/>
              <a:pathLst>
                <a:path w="2016" h="1386">
                  <a:moveTo>
                    <a:pt x="0" y="1272"/>
                  </a:moveTo>
                  <a:cubicBezTo>
                    <a:pt x="280" y="1272"/>
                    <a:pt x="1488" y="1386"/>
                    <a:pt x="1680" y="1272"/>
                  </a:cubicBezTo>
                  <a:cubicBezTo>
                    <a:pt x="1872" y="1158"/>
                    <a:pt x="1840" y="1072"/>
                    <a:pt x="1872" y="888"/>
                  </a:cubicBezTo>
                  <a:cubicBezTo>
                    <a:pt x="1904" y="704"/>
                    <a:pt x="1856" y="312"/>
                    <a:pt x="1872" y="168"/>
                  </a:cubicBezTo>
                  <a:cubicBezTo>
                    <a:pt x="1888" y="24"/>
                    <a:pt x="1944" y="48"/>
                    <a:pt x="1968" y="24"/>
                  </a:cubicBezTo>
                  <a:cubicBezTo>
                    <a:pt x="1992" y="0"/>
                    <a:pt x="2006" y="24"/>
                    <a:pt x="2016" y="24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562720" y="3276720"/>
            <a:ext cx="3504600" cy="3047400"/>
            <a:chOff x="5562720" y="3276720"/>
            <a:chExt cx="3504600" cy="3047400"/>
          </a:xfrm>
        </p:grpSpPr>
        <p:grpSp>
          <p:nvGrpSpPr>
            <p:cNvPr id="223" name=""/>
            <p:cNvGrpSpPr/>
            <p:nvPr/>
          </p:nvGrpSpPr>
          <p:grpSpPr>
            <a:xfrm>
              <a:off x="6934320" y="3276720"/>
              <a:ext cx="2133000" cy="3047400"/>
              <a:chOff x="6934320" y="3276720"/>
              <a:chExt cx="2133000" cy="3047400"/>
            </a:xfrm>
          </p:grpSpPr>
          <p:sp>
            <p:nvSpPr>
              <p:cNvPr id="224" name=""/>
              <p:cNvSpPr/>
              <p:nvPr/>
            </p:nvSpPr>
            <p:spPr>
              <a:xfrm>
                <a:off x="7162560" y="327672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mp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848360" y="3276720"/>
                <a:ext cx="609480" cy="304560"/>
                <a:chOff x="7848360" y="3276720"/>
                <a:chExt cx="609480" cy="304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848360" y="327672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152920" y="327672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48360" y="327672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7162560" y="37335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7848360" y="3733560"/>
                <a:ext cx="609480" cy="304560"/>
                <a:chOff x="7848360" y="3733560"/>
                <a:chExt cx="609480" cy="304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848360" y="3733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152920" y="3733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848360" y="37335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162560" y="41907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7848360" y="4190760"/>
                <a:ext cx="609480" cy="304560"/>
                <a:chOff x="7848360" y="4190760"/>
                <a:chExt cx="609480" cy="3045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848360" y="41907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152920" y="41907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848360" y="41907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7162560" y="46479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7848360" y="4647960"/>
                <a:ext cx="609480" cy="304560"/>
                <a:chOff x="7848360" y="4647960"/>
                <a:chExt cx="609480" cy="3045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848360" y="46479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152920" y="46479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848360" y="46479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7162560" y="51051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n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7848360" y="5105160"/>
                <a:ext cx="609480" cy="304560"/>
                <a:chOff x="7848360" y="5105160"/>
                <a:chExt cx="609480" cy="3045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848360" y="51051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152920" y="51051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848360" y="51051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7162560" y="55623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g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848360" y="5562360"/>
                <a:ext cx="609480" cy="304560"/>
                <a:chOff x="7848360" y="5562360"/>
                <a:chExt cx="609480" cy="3045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48360" y="55623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152920" y="55623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848360" y="55623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7162560" y="60195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7848360" y="6019560"/>
                <a:ext cx="609480" cy="304560"/>
                <a:chOff x="7848360" y="6019560"/>
                <a:chExt cx="609480" cy="304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848360" y="6019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152920" y="6019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48360" y="60195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6934320" y="3352680"/>
                <a:ext cx="228240" cy="2971440"/>
              </a:xfrm>
              <a:custGeom>
                <a:avLst/>
                <a:gdLst>
                  <a:gd name="textAreaLeft" fmla="*/ 145800 w 228240"/>
                  <a:gd name="textAreaRight" fmla="*/ 228600 w 228240"/>
                  <a:gd name="textAreaTop" fmla="*/ 77400 h 2971440"/>
                  <a:gd name="textAreaBottom" fmla="*/ 2894040 h 297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562720" y="4572000"/>
              <a:ext cx="129528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in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return address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1023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1034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1041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1048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M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A]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1052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1059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PC to 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 Ste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nstructions follow same general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 in what gets computed on each ste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990720"/>
            <a:ext cx="28195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l rA, 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352680" y="12952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:ifun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352680" y="160020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:r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+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352680" y="1905120"/>
            <a:ext cx="281952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352680" y="22096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PC+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352680" y="1295280"/>
            <a:ext cx="28195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14400" y="1295280"/>
            <a:ext cx="12193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324480" y="12952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instruction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324480" y="16002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register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324480" y="19051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constant word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324480" y="22096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ute nex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352680" y="2514600"/>
            <a:ext cx="28195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rA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352680" y="2819520"/>
            <a:ext cx="28195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rB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352680" y="2514600"/>
            <a:ext cx="28195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914400" y="2514600"/>
            <a:ext cx="12193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24480" y="25146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24480" y="28195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352680" y="312408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B OP val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52680" y="342900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C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352680" y="31240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14400" y="31240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324480" y="31240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form ALU oper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24480" y="34290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condition code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52680" y="3733920"/>
            <a:ext cx="2819520" cy="3045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14400" y="37339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324480" y="37339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Memory read/write]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352680" y="403848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[rB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352680" y="434340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0384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14400" y="40384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24480" y="40384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 back ALU resul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24480" y="43434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Write back memory result]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352680" y="4648320"/>
            <a:ext cx="28195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14400" y="46483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24480" y="46483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pdate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133720" y="12952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,if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133720" y="16002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,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33720" y="19051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3720" y="22096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133720" y="25146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, src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133720" y="28195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, src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33720" y="31240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33720" y="34290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133720" y="37339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133720" y="40384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33720" y="46483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 Ste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nstructions follow same general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 in what gets computed on each ste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990720"/>
            <a:ext cx="28195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14400" y="1295280"/>
            <a:ext cx="12193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14400" y="2514600"/>
            <a:ext cx="12193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914400" y="31240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914400" y="37339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914400" y="40384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914400" y="46483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2952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,if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16002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,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19051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33720" y="22096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33720" y="25146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, src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133720" y="28195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, src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33720" y="31240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133720" y="34290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33720" y="37339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133720" y="40384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133720" y="46483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352680" y="12952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:ifun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352680" y="160020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352680" y="1905120"/>
            <a:ext cx="281952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+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52680" y="22096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PC+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352680" y="1295280"/>
            <a:ext cx="28195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352680" y="2514600"/>
            <a:ext cx="28195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352680" y="2819520"/>
            <a:ext cx="28195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352680" y="2514600"/>
            <a:ext cx="28195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352680" y="312408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B + –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352680" y="342900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352680" y="31240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352680" y="3733920"/>
            <a:ext cx="2819520" cy="3045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valE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403848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[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52680" y="434340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352680" y="40384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352680" y="4648320"/>
            <a:ext cx="28195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315120" y="12952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instruction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315120" y="16002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register byte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5120" y="19051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constant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315120" y="22096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ute nex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315120" y="25146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operand A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15120" y="28195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315120" y="31240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form ALU oper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315120" y="34290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et condition code reg.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315120" y="37339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Memory read/write]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315120" y="40384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Write back ALU result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315120" y="43434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 back memory resul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315120" y="46483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pdate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d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281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co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u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fun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. Register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. Register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consta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ed P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rc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ID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rc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ID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s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tination Register 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st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tination Register 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value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value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37846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res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c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fla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 from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Ke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ue boxes:     predesigned hardware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memories, ALU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ray boxes:             control logi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scribe in HC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te ovals:                      labels for sign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ck lines:                     32-bit word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n lines:                         4-8 bit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tted lines:                     1-bit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688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290160" y="4191120"/>
            <a:ext cx="8294760" cy="22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efined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: Register containing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memory: Read 6 bytes (PC to PC+5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: Divide instruction byte into icode and ifu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ign: Get fields for rA, rB, and val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538812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3352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. Valid: Is this instruction vali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regids: Does this instruction have a register byt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valC: Does this instruction have a constant wor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5388120" cy="40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4167360" cy="120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Control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86080" cy="402588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457200" y="4419720"/>
            <a:ext cx="800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need_regids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OPL, IPUSHL, IPOP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IRMOVL, IRMMOVL, IMRMOVL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instr_valid = icode i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INOP, IHALT, IRRMOVL, IIRMOVL, IRMMOVL, IMRMOVL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OPL, IJXX, ICALL, IRET, IPUSHL, IPOPL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2838600" y="1066680"/>
            <a:ext cx="1733400" cy="3505320"/>
            <a:chOff x="2838600" y="1066680"/>
            <a:chExt cx="1733400" cy="3505320"/>
          </a:xfrm>
        </p:grpSpPr>
        <p:sp>
          <p:nvSpPr>
            <p:cNvPr id="1176" name=""/>
            <p:cNvSpPr/>
            <p:nvPr/>
          </p:nvSpPr>
          <p:spPr>
            <a:xfrm>
              <a:off x="3733920" y="10666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733920" y="13716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33920" y="17524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733920" y="20574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733920" y="24382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33920" y="38098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41148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38600" y="1066680"/>
              <a:ext cx="895320" cy="3505320"/>
            </a:xfrm>
            <a:custGeom>
              <a:avLst/>
              <a:gdLst/>
              <a:ahLst/>
              <a:rect l="l" t="t" r="r" b="b"/>
              <a:pathLst>
                <a:path w="564" h="2208">
                  <a:moveTo>
                    <a:pt x="0" y="2208"/>
                  </a:moveTo>
                  <a:lnTo>
                    <a:pt x="420" y="2112"/>
                  </a:lnTo>
                  <a:lnTo>
                    <a:pt x="564" y="2016"/>
                  </a:lnTo>
                  <a:lnTo>
                    <a:pt x="564" y="1920"/>
                  </a:lnTo>
                  <a:lnTo>
                    <a:pt x="564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od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66236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orts A,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ports E, 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are register IDs or 8 (no ac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3898800" cy="344160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290520" y="3505320"/>
            <a:ext cx="466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rcA, srcB: read port addr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stA, dstB: write port addr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our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2286000" y="685800"/>
            <a:ext cx="7010280" cy="4419360"/>
            <a:chOff x="2286000" y="685800"/>
            <a:chExt cx="7010280" cy="4419360"/>
          </a:xfrm>
        </p:grpSpPr>
        <p:sp>
          <p:nvSpPr>
            <p:cNvPr id="1190" name=""/>
            <p:cNvSpPr/>
            <p:nvPr/>
          </p:nvSpPr>
          <p:spPr>
            <a:xfrm>
              <a:off x="3505320" y="6858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505320" y="99036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05320" y="9903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86000" y="99036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477120" y="99036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505320" y="14475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05320" y="175248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05320" y="1752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286000" y="1752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77120" y="1752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05320" y="2209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05320" y="251460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505320" y="25146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86000" y="25146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77120" y="25146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505320" y="29718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05320" y="327636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505320" y="32763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327636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77120" y="327636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505320" y="37335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05320" y="480060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05320" y="48006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86000" y="48006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77120" y="48006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505320" y="4495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05320" y="403848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505320" y="4038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86000" y="4038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4771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609480" y="5181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rc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RMMOVL, IOPL, IPUSHL  } : r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OPL, IRET } : RES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RNONE; # Don't need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ilding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4967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a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Boolean functions of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uously respond to input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on data and implement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orage El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able memo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-addressabl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ed only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647600" y="4343400"/>
            <a:ext cx="2819520" cy="1600200"/>
            <a:chOff x="4647600" y="4343400"/>
            <a:chExt cx="2819520" cy="1600200"/>
          </a:xfrm>
        </p:grpSpPr>
        <p:sp>
          <p:nvSpPr>
            <p:cNvPr id="264" name=""/>
            <p:cNvSpPr/>
            <p:nvPr/>
          </p:nvSpPr>
          <p:spPr>
            <a:xfrm>
              <a:off x="5105520" y="4419360"/>
              <a:ext cx="1524240" cy="1524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05520" y="4647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520" y="54864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24840" y="50292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29760" y="50292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dst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48320" y="464796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648320" y="46479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47600" y="495288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64832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600" y="57909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629760" y="50292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629400" y="53337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48320" y="43434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8320" y="54864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48320" y="51814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29760" y="47242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624360" y="5715000"/>
              <a:ext cx="304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28560" y="5562360"/>
              <a:ext cx="538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572000" y="762120"/>
            <a:ext cx="1685880" cy="1752480"/>
            <a:chOff x="4572000" y="762120"/>
            <a:chExt cx="1685880" cy="1752480"/>
          </a:xfrm>
        </p:grpSpPr>
        <p:sp>
          <p:nvSpPr>
            <p:cNvPr id="283" name=""/>
            <p:cNvSpPr/>
            <p:nvPr/>
          </p:nvSpPr>
          <p:spPr>
            <a:xfrm>
              <a:off x="5724360" y="1066680"/>
              <a:ext cx="0" cy="304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495760" y="1219320"/>
              <a:ext cx="457200" cy="1295280"/>
              <a:chOff x="5495760" y="1219320"/>
              <a:chExt cx="457200" cy="1295280"/>
            </a:xfrm>
          </p:grpSpPr>
          <p:sp>
            <p:nvSpPr>
              <p:cNvPr id="285" name=""/>
              <p:cNvSpPr/>
              <p:nvPr/>
            </p:nvSpPr>
            <p:spPr>
              <a:xfrm>
                <a:off x="5495760" y="1219320"/>
                <a:ext cx="457200" cy="1295280"/>
              </a:xfrm>
              <a:custGeom>
                <a:avLst/>
                <a:gdLst/>
                <a:ahLst/>
                <a:rect l="l" t="t" r="r" b="b"/>
                <a:pathLst>
                  <a:path w="288" h="816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624"/>
                    </a:lnTo>
                    <a:lnTo>
                      <a:pt x="0" y="8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cc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72080" y="1447560"/>
                <a:ext cx="380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952960" y="1828800"/>
              <a:ext cx="304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19440" y="76212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u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90840" y="144792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90840" y="228600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81360" y="129528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0" y="2101680"/>
              <a:ext cx="61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095880" y="2209680"/>
            <a:ext cx="1371600" cy="1130040"/>
            <a:chOff x="6095880" y="2209680"/>
            <a:chExt cx="1371600" cy="1130040"/>
          </a:xfrm>
        </p:grpSpPr>
        <p:sp>
          <p:nvSpPr>
            <p:cNvPr id="294" name=""/>
            <p:cNvSpPr/>
            <p:nvPr/>
          </p:nvSpPr>
          <p:spPr>
            <a:xfrm>
              <a:off x="7010280" y="2666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00800" y="2209680"/>
              <a:ext cx="671400" cy="106668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1066680"/>
                <a:gd name="textAreaBottom" fmla="*/ 1033920 h 1066680"/>
              </a:gdLst>
              <a:ahLst/>
              <a:rect l="textAreaLeft" t="textAreaTop" r="textAreaRight" b="textAreaBottom"/>
              <a:pathLst>
                <a:path w="21600" h="34310">
                  <a:moveTo>
                    <a:pt x="3600" y="0"/>
                  </a:moveTo>
                  <a:arcTo wR="3600" hR="3600" stAng="16200000" swAng="-5400000"/>
                  <a:lnTo>
                    <a:pt x="0" y="30710"/>
                  </a:lnTo>
                  <a:arcTo wR="3600" hR="3600" stAng="10800000" swAng="-5400000"/>
                  <a:lnTo>
                    <a:pt x="18000" y="34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00800" y="2209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2971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43828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5880" y="312408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162920" y="990720"/>
            <a:ext cx="1371600" cy="1066680"/>
            <a:chOff x="7162920" y="990720"/>
            <a:chExt cx="1371600" cy="1066680"/>
          </a:xfrm>
        </p:grpSpPr>
        <p:sp>
          <p:nvSpPr>
            <p:cNvPr id="301" name=""/>
            <p:cNvSpPr/>
            <p:nvPr/>
          </p:nvSpPr>
          <p:spPr>
            <a:xfrm>
              <a:off x="8077320" y="1447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7480" y="990720"/>
              <a:ext cx="671760" cy="1066680"/>
            </a:xfrm>
            <a:custGeom>
              <a:avLst/>
              <a:gdLst>
                <a:gd name="textAreaLeft" fmla="*/ 32760 w 671760"/>
                <a:gd name="textAreaRight" fmla="*/ 639000 w 671760"/>
                <a:gd name="textAreaTop" fmla="*/ 32760 h 1066680"/>
                <a:gd name="textAreaBottom" fmla="*/ 1033920 h 1066680"/>
              </a:gdLst>
              <a:ahLst/>
              <a:rect l="textAreaLeft" t="textAreaTop" r="textAreaRight" b="textAreaBottom"/>
              <a:pathLst>
                <a:path w="21600" h="34292">
                  <a:moveTo>
                    <a:pt x="3600" y="0"/>
                  </a:moveTo>
                  <a:arcTo wR="3600" hR="3600" stAng="16200000" swAng="-5400000"/>
                  <a:lnTo>
                    <a:pt x="0" y="30692"/>
                  </a:lnTo>
                  <a:arcTo wR="3600" hR="3600" stAng="10800000" swAng="-5400000"/>
                  <a:lnTo>
                    <a:pt x="18000" y="342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2920" y="1219320"/>
              <a:ext cx="3045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62920" y="1905120"/>
              <a:ext cx="3045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620120" y="4419720"/>
            <a:ext cx="990360" cy="1846800"/>
            <a:chOff x="7620120" y="4419720"/>
            <a:chExt cx="990360" cy="1846800"/>
          </a:xfrm>
        </p:grpSpPr>
        <p:sp>
          <p:nvSpPr>
            <p:cNvPr id="306" name=""/>
            <p:cNvSpPr/>
            <p:nvPr/>
          </p:nvSpPr>
          <p:spPr>
            <a:xfrm>
              <a:off x="8229600" y="51055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1000" y="4419720"/>
              <a:ext cx="228600" cy="1295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77320" y="571500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96440" y="592596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20120" y="51055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 Destin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2514600" y="685800"/>
            <a:ext cx="7010280" cy="4419720"/>
            <a:chOff x="2514600" y="685800"/>
            <a:chExt cx="7010280" cy="4419720"/>
          </a:xfrm>
        </p:grpSpPr>
        <p:sp>
          <p:nvSpPr>
            <p:cNvPr id="1223" name=""/>
            <p:cNvSpPr/>
            <p:nvPr/>
          </p:nvSpPr>
          <p:spPr>
            <a:xfrm>
              <a:off x="3733920" y="3276720"/>
              <a:ext cx="2819160" cy="304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05720" y="32767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n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733920" y="25146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7057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733920" y="1752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705720" y="1752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n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733920" y="990720"/>
              <a:ext cx="2819160" cy="304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B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33920" y="6858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14600" y="9907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33920" y="14479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733920" y="1752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33920" y="2209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920" y="25146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33920" y="29718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733920" y="32767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733920" y="37339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33920" y="4495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14600" y="1752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14600" y="25146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14600" y="32767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14600" y="4038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514600" y="48006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705720" y="9907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733920" y="9907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7339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733920" y="4038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057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733920" y="48006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733920" y="48006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05720" y="4800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533520" y="5181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dstE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IRMOVL, IOPL} : rB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USHL, IPOPL, ICALL, IRET } : RES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RNONE;  # Don't need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4586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mplements 4 required function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Generates condition code valu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gister with 3 condition code bit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utes branch fla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CC: Should condition code register be loaded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A: Input A to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B: Input B to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fun: What function should ALU comput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05612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U A In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876920" y="57150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133720" y="533520"/>
            <a:ext cx="7010280" cy="4419000"/>
            <a:chOff x="2133720" y="533520"/>
            <a:chExt cx="7010280" cy="4419000"/>
          </a:xfrm>
        </p:grpSpPr>
        <p:sp>
          <p:nvSpPr>
            <p:cNvPr id="1260" name=""/>
            <p:cNvSpPr/>
            <p:nvPr/>
          </p:nvSpPr>
          <p:spPr>
            <a:xfrm>
              <a:off x="3353040" y="388584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24840" y="388584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53040" y="3124080"/>
              <a:ext cx="2819160" cy="30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324840" y="3124080"/>
              <a:ext cx="28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53040" y="236196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24840" y="236196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353040" y="159984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24840" y="159984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353040" y="838080"/>
              <a:ext cx="2819160" cy="30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OP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324840" y="838080"/>
              <a:ext cx="28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53040" y="533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33720" y="838080"/>
              <a:ext cx="121932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353040" y="12952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353040" y="15998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353040" y="20570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353040" y="23619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53040" y="28191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353040" y="31240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353040" y="35812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53040" y="43430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53040" y="8380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53040" y="38858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133720" y="159984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33720" y="236196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33720" y="3124080"/>
              <a:ext cx="121932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33720" y="388584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133720" y="464796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353040" y="464796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324840" y="464796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353040" y="46479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838080" y="5054760"/>
            <a:ext cx="800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lu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OPL } : 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IRMOVL, IRMMOVL, IMRMOVL }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CALL, IPUSHL } : -4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ET, IPOPL } : 4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Other instructions don't need 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U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876920" y="57150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1523880" y="914400"/>
            <a:ext cx="7010280" cy="4419720"/>
            <a:chOff x="1523880" y="914400"/>
            <a:chExt cx="7010280" cy="4419720"/>
          </a:xfrm>
        </p:grpSpPr>
        <p:sp>
          <p:nvSpPr>
            <p:cNvPr id="1294" name=""/>
            <p:cNvSpPr/>
            <p:nvPr/>
          </p:nvSpPr>
          <p:spPr>
            <a:xfrm>
              <a:off x="2743200" y="4267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15000" y="4267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43200" y="350532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15000" y="3505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43200" y="27432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15000" y="2743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43200" y="1981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15000" y="1981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43200" y="121932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O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15000" y="1219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43200" y="914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523880" y="1219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743200" y="1676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743200" y="19810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743200" y="2438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743200" y="27432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743200" y="3200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743200" y="35053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43200" y="3962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743200" y="4724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43200" y="12193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743200" y="42670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523880" y="19810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27432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23880" y="3505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523880" y="42670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523880" y="50292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743200" y="50292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15000" y="5029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43200" y="50292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752480" y="548640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lufun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OPL : ifu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ALUAD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2814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s or writes memory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read: should word be rea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write: should word be writt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addr.: Selec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data.: Select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36528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Addr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1905120" y="914400"/>
            <a:ext cx="7010280" cy="4419360"/>
            <a:chOff x="1905120" y="914400"/>
            <a:chExt cx="7010280" cy="4419360"/>
          </a:xfrm>
        </p:grpSpPr>
        <p:sp>
          <p:nvSpPr>
            <p:cNvPr id="1330" name=""/>
            <p:cNvSpPr/>
            <p:nvPr/>
          </p:nvSpPr>
          <p:spPr>
            <a:xfrm>
              <a:off x="3124440" y="914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905120" y="1219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124440" y="1676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124440" y="2438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24440" y="3200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4440" y="3962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124440" y="4724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124440" y="12193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96240" y="1219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1905120" y="1981080"/>
              <a:ext cx="7010280" cy="304560"/>
              <a:chOff x="1905120" y="1981080"/>
              <a:chExt cx="7010280" cy="304560"/>
            </a:xfrm>
          </p:grpSpPr>
          <p:sp>
            <p:nvSpPr>
              <p:cNvPr id="1340" name=""/>
              <p:cNvSpPr/>
              <p:nvPr/>
            </p:nvSpPr>
            <p:spPr>
              <a:xfrm>
                <a:off x="3124440" y="1981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E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905120" y="1981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096240" y="1981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value to memory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1905120" y="2743200"/>
              <a:ext cx="7010280" cy="304560"/>
              <a:chOff x="1905120" y="2743200"/>
              <a:chExt cx="7010280" cy="304560"/>
            </a:xfrm>
          </p:grpSpPr>
          <p:sp>
            <p:nvSpPr>
              <p:cNvPr id="1344" name=""/>
              <p:cNvSpPr/>
              <p:nvPr/>
            </p:nvSpPr>
            <p:spPr>
              <a:xfrm>
                <a:off x="3124440" y="274320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A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905120" y="27432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96240" y="27432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from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1905120" y="4267080"/>
              <a:ext cx="7010280" cy="304560"/>
              <a:chOff x="1905120" y="4267080"/>
              <a:chExt cx="7010280" cy="304560"/>
            </a:xfrm>
          </p:grpSpPr>
          <p:sp>
            <p:nvSpPr>
              <p:cNvPr id="1348" name=""/>
              <p:cNvSpPr/>
              <p:nvPr/>
            </p:nvSpPr>
            <p:spPr>
              <a:xfrm>
                <a:off x="3124440" y="4267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E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05120" y="4267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096240" y="4267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return value on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1905120" y="5029200"/>
              <a:ext cx="7010280" cy="304560"/>
              <a:chOff x="1905120" y="5029200"/>
              <a:chExt cx="7010280" cy="304560"/>
            </a:xfrm>
          </p:grpSpPr>
          <p:sp>
            <p:nvSpPr>
              <p:cNvPr id="1352" name=""/>
              <p:cNvSpPr/>
              <p:nvPr/>
            </p:nvSpPr>
            <p:spPr>
              <a:xfrm>
                <a:off x="3124440" y="502920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A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905120" y="50292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096240" y="50292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>
              <a:off x="1905120" y="3505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24440" y="35053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96240" y="3505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914400" y="546732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em_addr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MMOVL, IPUSHL, ICALL, IMRMOVL } : val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OPL, IRET } : 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Other instructions don't need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71600" y="1295280"/>
            <a:ext cx="7010280" cy="4419360"/>
            <a:chOff x="1371600" y="1295280"/>
            <a:chExt cx="7010280" cy="4419360"/>
          </a:xfrm>
        </p:grpSpPr>
        <p:sp>
          <p:nvSpPr>
            <p:cNvPr id="1361" name=""/>
            <p:cNvSpPr/>
            <p:nvPr/>
          </p:nvSpPr>
          <p:spPr>
            <a:xfrm>
              <a:off x="2590920" y="1295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371600" y="16002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590920" y="20574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590920" y="28191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590920" y="3581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590920" y="43434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90920" y="51051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90920" y="160020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62720" y="16002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1371600" y="2361960"/>
              <a:ext cx="7010280" cy="304560"/>
              <a:chOff x="1371600" y="2361960"/>
              <a:chExt cx="7010280" cy="304560"/>
            </a:xfrm>
          </p:grpSpPr>
          <p:sp>
            <p:nvSpPr>
              <p:cNvPr id="1371" name=""/>
              <p:cNvSpPr/>
              <p:nvPr/>
            </p:nvSpPr>
            <p:spPr>
              <a:xfrm>
                <a:off x="2590920" y="236196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E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371600" y="23619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62720" y="23619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value to memory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1371600" y="3124080"/>
              <a:ext cx="7010280" cy="304560"/>
              <a:chOff x="1371600" y="3124080"/>
              <a:chExt cx="7010280" cy="304560"/>
            </a:xfrm>
          </p:grpSpPr>
          <p:sp>
            <p:nvSpPr>
              <p:cNvPr id="1375" name=""/>
              <p:cNvSpPr/>
              <p:nvPr/>
            </p:nvSpPr>
            <p:spPr>
              <a:xfrm>
                <a:off x="2590920" y="3124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ff33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A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371600" y="3124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562720" y="3124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from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1371600" y="4647960"/>
              <a:ext cx="7010280" cy="304560"/>
              <a:chOff x="1371600" y="4647960"/>
              <a:chExt cx="7010280" cy="304560"/>
            </a:xfrm>
          </p:grpSpPr>
          <p:sp>
            <p:nvSpPr>
              <p:cNvPr id="1379" name=""/>
              <p:cNvSpPr/>
              <p:nvPr/>
            </p:nvSpPr>
            <p:spPr>
              <a:xfrm>
                <a:off x="2590920" y="464796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E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371600" y="46479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562720" y="46479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return value on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1371600" y="5410080"/>
              <a:ext cx="7010280" cy="304560"/>
              <a:chOff x="1371600" y="5410080"/>
              <a:chExt cx="7010280" cy="304560"/>
            </a:xfrm>
          </p:grpSpPr>
          <p:sp>
            <p:nvSpPr>
              <p:cNvPr id="1383" name=""/>
              <p:cNvSpPr/>
              <p:nvPr/>
            </p:nvSpPr>
            <p:spPr>
              <a:xfrm>
                <a:off x="2590920" y="5410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ff33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A]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371600" y="5410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562720" y="5410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371600" y="38862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590920" y="388620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62720" y="38862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685800" y="58672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mem_read = icode in { IMRMOVL, IPOPL, IRET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C Updat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533376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 P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next value of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1312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C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pdat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2209680" y="380880"/>
            <a:ext cx="7010280" cy="4419360"/>
            <a:chOff x="2209680" y="380880"/>
            <a:chExt cx="7010280" cy="4419360"/>
          </a:xfrm>
        </p:grpSpPr>
        <p:sp>
          <p:nvSpPr>
            <p:cNvPr id="1395" name=""/>
            <p:cNvSpPr/>
            <p:nvPr/>
          </p:nvSpPr>
          <p:spPr>
            <a:xfrm>
              <a:off x="3428640" y="38088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428640" y="1143000"/>
              <a:ext cx="28195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28640" y="190476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8640" y="266688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428640" y="3429000"/>
              <a:ext cx="28195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28640" y="419076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01" name=""/>
            <p:cNvGrpSpPr/>
            <p:nvPr/>
          </p:nvGrpSpPr>
          <p:grpSpPr>
            <a:xfrm>
              <a:off x="2209680" y="685800"/>
              <a:ext cx="7010280" cy="304560"/>
              <a:chOff x="2209680" y="685800"/>
              <a:chExt cx="7010280" cy="304560"/>
            </a:xfrm>
          </p:grpSpPr>
          <p:sp>
            <p:nvSpPr>
              <p:cNvPr id="1402" name=""/>
              <p:cNvSpPr/>
              <p:nvPr/>
            </p:nvSpPr>
            <p:spPr>
              <a:xfrm>
                <a:off x="3429000" y="68580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209680" y="6858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400800" y="6858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2209680" y="1447560"/>
              <a:ext cx="7010280" cy="304560"/>
              <a:chOff x="2209680" y="1447560"/>
              <a:chExt cx="7010280" cy="30456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9000" y="144756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209680" y="14475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400800" y="14475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2209680" y="2209680"/>
              <a:ext cx="7010280" cy="304560"/>
              <a:chOff x="2209680" y="2209680"/>
              <a:chExt cx="7010280" cy="304560"/>
            </a:xfrm>
          </p:grpSpPr>
          <p:sp>
            <p:nvSpPr>
              <p:cNvPr id="1410" name=""/>
              <p:cNvSpPr/>
              <p:nvPr/>
            </p:nvSpPr>
            <p:spPr>
              <a:xfrm>
                <a:off x="3429000" y="220968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209680" y="22096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400800" y="22096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2209680" y="2971800"/>
              <a:ext cx="7010280" cy="304560"/>
              <a:chOff x="2209680" y="2971800"/>
              <a:chExt cx="7010280" cy="304560"/>
            </a:xfrm>
          </p:grpSpPr>
          <p:sp>
            <p:nvSpPr>
              <p:cNvPr id="1414" name=""/>
              <p:cNvSpPr/>
              <p:nvPr/>
            </p:nvSpPr>
            <p:spPr>
              <a:xfrm>
                <a:off x="3429000" y="297180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Bch ? valC :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209680" y="29718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00800" y="29718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2209680" y="3733560"/>
              <a:ext cx="7010280" cy="304560"/>
              <a:chOff x="2209680" y="3733560"/>
              <a:chExt cx="7010280" cy="304560"/>
            </a:xfrm>
          </p:grpSpPr>
          <p:sp>
            <p:nvSpPr>
              <p:cNvPr id="1418" name=""/>
              <p:cNvSpPr/>
              <p:nvPr/>
            </p:nvSpPr>
            <p:spPr>
              <a:xfrm>
                <a:off x="3429000" y="373356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209680" y="37335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00800" y="37335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t PC to destination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2209680" y="4495680"/>
              <a:ext cx="7010280" cy="304560"/>
              <a:chOff x="2209680" y="4495680"/>
              <a:chExt cx="7010280" cy="304560"/>
            </a:xfrm>
          </p:grpSpPr>
          <p:sp>
            <p:nvSpPr>
              <p:cNvPr id="1422" name=""/>
              <p:cNvSpPr/>
              <p:nvPr/>
            </p:nvSpPr>
            <p:spPr>
              <a:xfrm>
                <a:off x="3429000" y="449568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209680" y="44956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400800" y="44956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t PC to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5" name=""/>
          <p:cNvSpPr/>
          <p:nvPr/>
        </p:nvSpPr>
        <p:spPr>
          <a:xfrm>
            <a:off x="2209680" y="4952880"/>
            <a:ext cx="5334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_pc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CALL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JXX &amp;&amp; Bch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RET : val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val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723920" y="1218960"/>
            <a:ext cx="38610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. Cod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ll updated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a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1488960" y="1676520"/>
            <a:ext cx="3463920" cy="37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dware Control Langu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press limited aspects of hardwar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s we want to explore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o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Boole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specify word size---bytes, 32-bit words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ool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bool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int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>
            <a:off x="601992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952880" y="3124080"/>
            <a:ext cx="36324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sec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starting to react to state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678168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648320" y="3124080"/>
            <a:ext cx="393696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sec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result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689616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410080" y="3124080"/>
            <a:ext cx="31752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starting to react to state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45" name=""/>
          <p:cNvSpPr/>
          <p:nvPr/>
        </p:nvSpPr>
        <p:spPr>
          <a:xfrm>
            <a:off x="762012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5410080" y="3124080"/>
            <a:ext cx="31752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result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every instruction as series of simple ste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 same general flow for each instruction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emble registers, memories, predesigned combinational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 with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o slow to be practi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one cycle, must propagate through instruction memory, register file, ALU, and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to run clock very slow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units only active for fraction of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ify by type of value retur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amp;&amp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||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!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Comparis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=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!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Members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in { B, C, D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0760" indent="-2242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 == B || A == C || A == 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d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e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 a : A; b : B; c : C 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te test expression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word express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238880" y="6172200"/>
            <a:ext cx="16765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561528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6623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unter register (P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 code register (C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i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cess same memory spac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ata: for reading/writing program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ruction: for reading instruction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struction Flow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struction at address specified by P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through stag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1200" y="5713560"/>
            <a:ext cx="25416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81840" y="5713560"/>
            <a:ext cx="25560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0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32600" y="322200"/>
            <a:ext cx="171360" cy="50529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04440" y="54450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53400" y="5564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5800" y="5386320"/>
            <a:ext cx="115092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22840" y="5373720"/>
            <a:ext cx="114768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90400" y="54309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39000" y="55497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77240" y="5445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27120" y="55641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65920" y="5386320"/>
            <a:ext cx="51588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4760" y="5373720"/>
            <a:ext cx="51120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62840" y="54309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13080" y="55497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56840" y="28940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54960" y="2838600"/>
            <a:ext cx="301320" cy="2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42000" y="2827440"/>
            <a:ext cx="298440" cy="21276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42440" y="28796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83160" y="295740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981840" y="2870280"/>
            <a:ext cx="736560" cy="268200"/>
            <a:chOff x="6981840" y="2870280"/>
            <a:chExt cx="736560" cy="268200"/>
          </a:xfrm>
        </p:grpSpPr>
        <p:sp>
          <p:nvSpPr>
            <p:cNvPr id="339" name=""/>
            <p:cNvSpPr/>
            <p:nvPr/>
          </p:nvSpPr>
          <p:spPr>
            <a:xfrm>
              <a:off x="6996240" y="2884320"/>
              <a:ext cx="722160" cy="254160"/>
            </a:xfrm>
            <a:custGeom>
              <a:avLst/>
              <a:gdLst/>
              <a:ahLst/>
              <a:rect l="l" t="t" r="r" b="b"/>
              <a:pathLst>
                <a:path w="910" h="321">
                  <a:moveTo>
                    <a:pt x="0" y="321"/>
                  </a:moveTo>
                  <a:lnTo>
                    <a:pt x="228" y="0"/>
                  </a:lnTo>
                  <a:lnTo>
                    <a:pt x="683" y="0"/>
                  </a:lnTo>
                  <a:lnTo>
                    <a:pt x="91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81840" y="2870280"/>
              <a:ext cx="722160" cy="253800"/>
            </a:xfrm>
            <a:custGeom>
              <a:avLst/>
              <a:gdLst/>
              <a:ahLst/>
              <a:rect l="l" t="t" r="r" b="b"/>
              <a:pathLst>
                <a:path w="909" h="321">
                  <a:moveTo>
                    <a:pt x="0" y="321"/>
                  </a:moveTo>
                  <a:lnTo>
                    <a:pt x="227" y="0"/>
                  </a:lnTo>
                  <a:lnTo>
                    <a:pt x="682" y="0"/>
                  </a:lnTo>
                  <a:lnTo>
                    <a:pt x="909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268760" y="294336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56640" y="1519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80320" y="1636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38840" y="1438200"/>
            <a:ext cx="6001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27680" y="1425600"/>
            <a:ext cx="5954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42240" y="15048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67720" y="162252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940440" y="2884320"/>
            <a:ext cx="196560" cy="55800"/>
            <a:chOff x="6940440" y="2884320"/>
            <a:chExt cx="196560" cy="55800"/>
          </a:xfrm>
        </p:grpSpPr>
        <p:sp>
          <p:nvSpPr>
            <p:cNvPr id="349" name=""/>
            <p:cNvSpPr/>
            <p:nvPr/>
          </p:nvSpPr>
          <p:spPr>
            <a:xfrm flipH="1">
              <a:off x="6992640" y="2911320"/>
              <a:ext cx="1443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40440" y="2884320"/>
              <a:ext cx="55800" cy="55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5"/>
                  </a:lnTo>
                  <a:lnTo>
                    <a:pt x="7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029200" y="5502240"/>
            <a:ext cx="4046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3240" y="5562720"/>
            <a:ext cx="540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4356000"/>
            <a:ext cx="511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4343400"/>
            <a:ext cx="732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2911320"/>
            <a:ext cx="5364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29718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554120"/>
            <a:ext cx="536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160" y="16002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746280"/>
            <a:ext cx="6764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3960" y="762120"/>
            <a:ext cx="1026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95760" y="4906800"/>
            <a:ext cx="595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22840" y="4938840"/>
            <a:ext cx="244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18680" y="4938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02200" y="4938840"/>
            <a:ext cx="165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5712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06160" y="50576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6196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64400" y="51753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05520" y="6138720"/>
            <a:ext cx="425520" cy="21276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9040" y="61992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302520" y="2890800"/>
            <a:ext cx="345960" cy="42840"/>
            <a:chOff x="6302520" y="2890800"/>
            <a:chExt cx="345960" cy="42840"/>
          </a:xfrm>
        </p:grpSpPr>
        <p:sp>
          <p:nvSpPr>
            <p:cNvPr id="400" name=""/>
            <p:cNvSpPr/>
            <p:nvPr/>
          </p:nvSpPr>
          <p:spPr>
            <a:xfrm>
              <a:off x="663732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1680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9448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739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5308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3112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1024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8828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674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4688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245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404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8316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612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4032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02520" y="2890800"/>
              <a:ext cx="44280" cy="428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7"/>
                  </a:lnTo>
                  <a:lnTo>
                    <a:pt x="55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7067520" y="507672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388200" y="50767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02520" y="4992840"/>
            <a:ext cx="169560" cy="253800"/>
          </a:xfrm>
          <a:custGeom>
            <a:avLst/>
            <a:gdLst/>
            <a:ahLst/>
            <a:rect l="l" t="t" r="r" b="b"/>
            <a:pathLst>
              <a:path w="214" h="320">
                <a:moveTo>
                  <a:pt x="214" y="320"/>
                </a:moveTo>
                <a:lnTo>
                  <a:pt x="0" y="160"/>
                </a:lnTo>
                <a:lnTo>
                  <a:pt x="214" y="0"/>
                </a:lnTo>
                <a:lnTo>
                  <a:pt x="214" y="32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2080" y="4906800"/>
            <a:ext cx="638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86440" y="4938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2520" y="45673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24680" y="4483080"/>
            <a:ext cx="16992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0" y="321"/>
                </a:moveTo>
                <a:lnTo>
                  <a:pt x="214" y="160"/>
                </a:lnTo>
                <a:lnTo>
                  <a:pt x="0" y="0"/>
                </a:lnTo>
                <a:lnTo>
                  <a:pt x="0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45360" y="4270320"/>
            <a:ext cx="59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1664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15720" y="4302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7080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1736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15720" y="44211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7152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07360" y="4057560"/>
            <a:ext cx="85680" cy="3412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72080" y="4057560"/>
            <a:ext cx="10209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302520" y="397368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11920" y="384660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8004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73000" y="38768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2628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02520" y="3379680"/>
            <a:ext cx="10634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80280" y="32940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94600" y="312408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45360" y="3166920"/>
            <a:ext cx="63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184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15720" y="3198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722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45360" y="2954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17720" y="2986200"/>
            <a:ext cx="177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280280" y="257184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31040" y="2571840"/>
            <a:ext cx="9349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02520" y="2487600"/>
            <a:ext cx="16956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84840" y="236052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99200" y="239076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16760" y="4567320"/>
            <a:ext cx="4683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46840" y="4483080"/>
            <a:ext cx="169920" cy="254160"/>
          </a:xfrm>
          <a:custGeom>
            <a:avLst/>
            <a:gdLst/>
            <a:ahLst/>
            <a:rect l="l" t="t" r="r" b="b"/>
            <a:pathLst>
              <a:path w="213" h="321">
                <a:moveTo>
                  <a:pt x="213" y="321"/>
                </a:moveTo>
                <a:lnTo>
                  <a:pt x="0" y="160"/>
                </a:lnTo>
                <a:lnTo>
                  <a:pt x="213" y="0"/>
                </a:lnTo>
                <a:lnTo>
                  <a:pt x="213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213760" y="874800"/>
            <a:ext cx="171360" cy="37782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32600" y="746280"/>
            <a:ext cx="225252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18280" y="6605640"/>
            <a:ext cx="2463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75440" y="6521400"/>
            <a:ext cx="85680" cy="1699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1200" y="63514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02520" y="2104920"/>
            <a:ext cx="807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24680" y="19782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40440" y="18082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02520" y="1892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77040" y="1924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3680" y="1924200"/>
            <a:ext cx="2736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24680" y="112860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1128600"/>
            <a:ext cx="6382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02520" y="104472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1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31040" y="915840"/>
            <a:ext cx="6364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28840" y="94788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96440" y="322200"/>
            <a:ext cx="85680" cy="63691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5440" y="5883120"/>
            <a:ext cx="85680" cy="2556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61120" y="6012000"/>
            <a:ext cx="8920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67520" y="5883120"/>
            <a:ext cx="85680" cy="2145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236520"/>
            <a:ext cx="260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160" y="312840"/>
            <a:ext cx="28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02520" y="576360"/>
            <a:ext cx="1487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75240" y="6080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68200" y="6080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621120" y="60804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32600" y="322200"/>
            <a:ext cx="25495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67560" y="359100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53600" y="3591000"/>
            <a:ext cx="2538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02520" y="152280"/>
            <a:ext cx="1487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76320" y="184320"/>
            <a:ext cx="3283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30800" y="533520"/>
            <a:ext cx="2403720" cy="5902200"/>
          </a:xfrm>
          <a:custGeom>
            <a:avLst/>
            <a:gdLst/>
            <a:ahLst/>
            <a:rect l="l" t="t" r="r" b="b"/>
            <a:pathLst>
              <a:path w="1514" h="3718">
                <a:moveTo>
                  <a:pt x="26" y="3342"/>
                </a:moveTo>
                <a:cubicBezTo>
                  <a:pt x="32" y="2836"/>
                  <a:pt x="0" y="863"/>
                  <a:pt x="62" y="306"/>
                </a:cubicBezTo>
                <a:cubicBezTo>
                  <a:pt x="62" y="306"/>
                  <a:pt x="398" y="0"/>
                  <a:pt x="398" y="0"/>
                </a:cubicBezTo>
                <a:cubicBezTo>
                  <a:pt x="398" y="0"/>
                  <a:pt x="1250" y="0"/>
                  <a:pt x="1250" y="0"/>
                </a:cubicBezTo>
                <a:cubicBezTo>
                  <a:pt x="1250" y="0"/>
                  <a:pt x="1514" y="318"/>
                  <a:pt x="1514" y="318"/>
                </a:cubicBezTo>
                <a:cubicBezTo>
                  <a:pt x="1514" y="318"/>
                  <a:pt x="1514" y="3102"/>
                  <a:pt x="1514" y="3102"/>
                </a:cubicBezTo>
                <a:cubicBezTo>
                  <a:pt x="1514" y="3102"/>
                  <a:pt x="1410" y="3542"/>
                  <a:pt x="1226" y="3630"/>
                </a:cubicBezTo>
                <a:cubicBezTo>
                  <a:pt x="1042" y="3718"/>
                  <a:pt x="570" y="3638"/>
                  <a:pt x="410" y="3630"/>
                </a:cubicBezTo>
                <a:cubicBezTo>
                  <a:pt x="250" y="3622"/>
                  <a:pt x="296" y="3592"/>
                  <a:pt x="266" y="358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30800" y="533520"/>
            <a:ext cx="2403720" cy="5305320"/>
          </a:xfrm>
          <a:custGeom>
            <a:avLst/>
            <a:gdLst/>
            <a:ahLst/>
            <a:rect l="l" t="t" r="r" b="b"/>
            <a:pathLst>
              <a:path w="1514" h="3342">
                <a:moveTo>
                  <a:pt x="26" y="3342"/>
                </a:moveTo>
                <a:cubicBezTo>
                  <a:pt x="32" y="2836"/>
                  <a:pt x="0" y="863"/>
                  <a:pt x="62" y="306"/>
                </a:cubicBezTo>
                <a:cubicBezTo>
                  <a:pt x="62" y="306"/>
                  <a:pt x="398" y="0"/>
                  <a:pt x="398" y="0"/>
                </a:cubicBezTo>
                <a:cubicBezTo>
                  <a:pt x="398" y="0"/>
                  <a:pt x="1250" y="0"/>
                  <a:pt x="1250" y="0"/>
                </a:cubicBezTo>
                <a:cubicBezTo>
                  <a:pt x="1250" y="0"/>
                  <a:pt x="1514" y="318"/>
                  <a:pt x="1514" y="318"/>
                </a:cubicBezTo>
                <a:cubicBezTo>
                  <a:pt x="1514" y="318"/>
                  <a:pt x="1514" y="2638"/>
                  <a:pt x="1514" y="310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990720"/>
            <a:ext cx="57240" cy="4819680"/>
          </a:xfrm>
          <a:custGeom>
            <a:avLst/>
            <a:gdLst/>
            <a:ahLst/>
            <a:rect l="l" t="t" r="r" b="b"/>
            <a:pathLst>
              <a:path w="36" h="3036">
                <a:moveTo>
                  <a:pt x="0" y="3036"/>
                </a:moveTo>
                <a:cubicBezTo>
                  <a:pt x="6" y="2530"/>
                  <a:pt x="30" y="506"/>
                  <a:pt x="3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72200" y="4495680"/>
            <a:ext cx="19080" cy="1295640"/>
          </a:xfrm>
          <a:custGeom>
            <a:avLst/>
            <a:gdLst/>
            <a:ahLst/>
            <a:rect l="l" t="t" r="r" b="b"/>
            <a:pathLst>
              <a:path w="12" h="816">
                <a:moveTo>
                  <a:pt x="0" y="816"/>
                </a:moveTo>
                <a:cubicBezTo>
                  <a:pt x="2" y="680"/>
                  <a:pt x="10" y="136"/>
                  <a:pt x="12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7238880" y="6172200"/>
            <a:ext cx="16765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561528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6623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struction from instruction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 value or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r write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program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1200" y="5713560"/>
            <a:ext cx="25416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81840" y="5713560"/>
            <a:ext cx="25560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0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32600" y="322200"/>
            <a:ext cx="171360" cy="50529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04440" y="54450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53400" y="5564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35800" y="5386320"/>
            <a:ext cx="115092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22840" y="5373720"/>
            <a:ext cx="114768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90400" y="54309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39000" y="55497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77240" y="5445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27120" y="55641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65920" y="5386320"/>
            <a:ext cx="51588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4760" y="5373720"/>
            <a:ext cx="51120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62840" y="54309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13080" y="55497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56840" y="28940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54960" y="2838600"/>
            <a:ext cx="301320" cy="2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42000" y="2827440"/>
            <a:ext cx="298440" cy="21276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42440" y="28796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83160" y="295740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981840" y="2870280"/>
            <a:ext cx="736560" cy="268200"/>
            <a:chOff x="6981840" y="2870280"/>
            <a:chExt cx="736560" cy="268200"/>
          </a:xfrm>
        </p:grpSpPr>
        <p:sp>
          <p:nvSpPr>
            <p:cNvPr id="520" name=""/>
            <p:cNvSpPr/>
            <p:nvPr/>
          </p:nvSpPr>
          <p:spPr>
            <a:xfrm>
              <a:off x="6996240" y="2884320"/>
              <a:ext cx="722160" cy="254160"/>
            </a:xfrm>
            <a:custGeom>
              <a:avLst/>
              <a:gdLst/>
              <a:ahLst/>
              <a:rect l="l" t="t" r="r" b="b"/>
              <a:pathLst>
                <a:path w="910" h="321">
                  <a:moveTo>
                    <a:pt x="0" y="321"/>
                  </a:moveTo>
                  <a:lnTo>
                    <a:pt x="228" y="0"/>
                  </a:lnTo>
                  <a:lnTo>
                    <a:pt x="683" y="0"/>
                  </a:lnTo>
                  <a:lnTo>
                    <a:pt x="91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81840" y="2870280"/>
              <a:ext cx="722160" cy="253800"/>
            </a:xfrm>
            <a:custGeom>
              <a:avLst/>
              <a:gdLst/>
              <a:ahLst/>
              <a:rect l="l" t="t" r="r" b="b"/>
              <a:pathLst>
                <a:path w="909" h="321">
                  <a:moveTo>
                    <a:pt x="0" y="321"/>
                  </a:moveTo>
                  <a:lnTo>
                    <a:pt x="227" y="0"/>
                  </a:lnTo>
                  <a:lnTo>
                    <a:pt x="682" y="0"/>
                  </a:lnTo>
                  <a:lnTo>
                    <a:pt x="909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268760" y="294336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56640" y="1519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80320" y="1636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38840" y="1438200"/>
            <a:ext cx="6001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27680" y="1425600"/>
            <a:ext cx="5954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942240" y="15048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867720" y="162252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940440" y="2884320"/>
            <a:ext cx="196560" cy="55800"/>
            <a:chOff x="6940440" y="2884320"/>
            <a:chExt cx="196560" cy="55800"/>
          </a:xfrm>
        </p:grpSpPr>
        <p:sp>
          <p:nvSpPr>
            <p:cNvPr id="530" name=""/>
            <p:cNvSpPr/>
            <p:nvPr/>
          </p:nvSpPr>
          <p:spPr>
            <a:xfrm flipH="1">
              <a:off x="6992640" y="2911320"/>
              <a:ext cx="1443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40440" y="2884320"/>
              <a:ext cx="55800" cy="55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5"/>
                  </a:lnTo>
                  <a:lnTo>
                    <a:pt x="7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5029200" y="5502240"/>
            <a:ext cx="4046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3240" y="5562720"/>
            <a:ext cx="540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4356000"/>
            <a:ext cx="511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4343400"/>
            <a:ext cx="732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29200" y="2911320"/>
            <a:ext cx="5364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52880" y="29718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1554120"/>
            <a:ext cx="536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52160" y="16002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29200" y="746280"/>
            <a:ext cx="6764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53960" y="762120"/>
            <a:ext cx="1026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95760" y="4906800"/>
            <a:ext cx="595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38680" y="4938840"/>
            <a:ext cx="244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18680" y="4938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902200" y="4938840"/>
            <a:ext cx="165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5712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06160" y="50576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96196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4400" y="51753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05520" y="6138720"/>
            <a:ext cx="425520" cy="21276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79040" y="61992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6302520" y="2890800"/>
            <a:ext cx="345960" cy="42840"/>
            <a:chOff x="6302520" y="2890800"/>
            <a:chExt cx="345960" cy="42840"/>
          </a:xfrm>
        </p:grpSpPr>
        <p:sp>
          <p:nvSpPr>
            <p:cNvPr id="581" name=""/>
            <p:cNvSpPr/>
            <p:nvPr/>
          </p:nvSpPr>
          <p:spPr>
            <a:xfrm>
              <a:off x="663732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1680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9448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739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112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1024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8828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674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4688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245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0404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316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612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4032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02520" y="2890800"/>
              <a:ext cx="44280" cy="428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7"/>
                  </a:lnTo>
                  <a:lnTo>
                    <a:pt x="55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7067520" y="507672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88200" y="50767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02520" y="4992840"/>
            <a:ext cx="169560" cy="253800"/>
          </a:xfrm>
          <a:custGeom>
            <a:avLst/>
            <a:gdLst/>
            <a:ahLst/>
            <a:rect l="l" t="t" r="r" b="b"/>
            <a:pathLst>
              <a:path w="214" h="320">
                <a:moveTo>
                  <a:pt x="214" y="320"/>
                </a:moveTo>
                <a:lnTo>
                  <a:pt x="0" y="160"/>
                </a:lnTo>
                <a:lnTo>
                  <a:pt x="214" y="0"/>
                </a:lnTo>
                <a:lnTo>
                  <a:pt x="214" y="32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72080" y="4906800"/>
            <a:ext cx="638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86440" y="4938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45673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24680" y="4483080"/>
            <a:ext cx="16992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0" y="321"/>
                </a:moveTo>
                <a:lnTo>
                  <a:pt x="214" y="160"/>
                </a:lnTo>
                <a:lnTo>
                  <a:pt x="0" y="0"/>
                </a:lnTo>
                <a:lnTo>
                  <a:pt x="0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345360" y="4270320"/>
            <a:ext cx="59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41664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615720" y="4302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7080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1736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15720" y="44211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67152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07360" y="4057560"/>
            <a:ext cx="85680" cy="3412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72080" y="4057560"/>
            <a:ext cx="10209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02520" y="397368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11920" y="384660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8004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173000" y="38768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2628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02520" y="3379680"/>
            <a:ext cx="10634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80280" y="32940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94600" y="312408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45360" y="3166920"/>
            <a:ext cx="63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4184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615720" y="3198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722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45360" y="2954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17720" y="2986200"/>
            <a:ext cx="177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80280" y="257184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31040" y="2571840"/>
            <a:ext cx="9349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02520" y="2487600"/>
            <a:ext cx="16956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84840" y="236052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99200" y="239076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916760" y="4567320"/>
            <a:ext cx="4683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746840" y="4483080"/>
            <a:ext cx="169920" cy="254160"/>
          </a:xfrm>
          <a:custGeom>
            <a:avLst/>
            <a:gdLst/>
            <a:ahLst/>
            <a:rect l="l" t="t" r="r" b="b"/>
            <a:pathLst>
              <a:path w="213" h="321">
                <a:moveTo>
                  <a:pt x="213" y="321"/>
                </a:moveTo>
                <a:lnTo>
                  <a:pt x="0" y="160"/>
                </a:lnTo>
                <a:lnTo>
                  <a:pt x="213" y="0"/>
                </a:lnTo>
                <a:lnTo>
                  <a:pt x="213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213760" y="874800"/>
            <a:ext cx="171360" cy="37782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32600" y="746280"/>
            <a:ext cx="225252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18280" y="6605640"/>
            <a:ext cx="2463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75440" y="6521400"/>
            <a:ext cx="85680" cy="1699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1200" y="63514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02520" y="2104920"/>
            <a:ext cx="807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24680" y="19782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40440" y="18082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02520" y="1892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77040" y="1924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83680" y="1924200"/>
            <a:ext cx="2736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24680" y="112860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72080" y="1128600"/>
            <a:ext cx="6382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302520" y="104472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1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431040" y="915840"/>
            <a:ext cx="6364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28840" y="94788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596440" y="322200"/>
            <a:ext cx="85680" cy="63691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75440" y="5883120"/>
            <a:ext cx="85680" cy="2556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61120" y="6012000"/>
            <a:ext cx="8920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067520" y="5883120"/>
            <a:ext cx="85680" cy="2145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29200" y="236520"/>
            <a:ext cx="260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952160" y="312840"/>
            <a:ext cx="28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02520" y="576360"/>
            <a:ext cx="1487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5240" y="6080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568200" y="6080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21120" y="60804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132600" y="322200"/>
            <a:ext cx="25495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467560" y="359100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553600" y="3591000"/>
            <a:ext cx="2538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302520" y="152280"/>
            <a:ext cx="1487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6320" y="184320"/>
            <a:ext cx="3283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Deco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90160" y="4572000"/>
            <a:ext cx="8294760" cy="18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code:ifu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onal register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:r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onal constant wor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523880" y="1219320"/>
            <a:ext cx="5181480" cy="3177360"/>
            <a:chOff x="1523880" y="1219320"/>
            <a:chExt cx="5181480" cy="3177360"/>
          </a:xfrm>
        </p:grpSpPr>
        <p:grpSp>
          <p:nvGrpSpPr>
            <p:cNvPr id="676" name=""/>
            <p:cNvGrpSpPr/>
            <p:nvPr/>
          </p:nvGrpSpPr>
          <p:grpSpPr>
            <a:xfrm>
              <a:off x="3047760" y="1998720"/>
              <a:ext cx="609840" cy="304560"/>
              <a:chOff x="3047760" y="1998720"/>
              <a:chExt cx="609840" cy="304560"/>
            </a:xfrm>
          </p:grpSpPr>
          <p:sp>
            <p:nvSpPr>
              <p:cNvPr id="677" name=""/>
              <p:cNvSpPr/>
              <p:nvPr/>
            </p:nvSpPr>
            <p:spPr>
              <a:xfrm>
                <a:off x="3047760" y="1998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352680" y="1998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47760" y="1998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3657600" y="1998720"/>
              <a:ext cx="609480" cy="304560"/>
              <a:chOff x="3657600" y="1998720"/>
              <a:chExt cx="609480" cy="304560"/>
            </a:xfrm>
          </p:grpSpPr>
          <p:sp>
            <p:nvSpPr>
              <p:cNvPr id="681" name=""/>
              <p:cNvSpPr/>
              <p:nvPr/>
            </p:nvSpPr>
            <p:spPr>
              <a:xfrm>
                <a:off x="3657600" y="19987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962160" y="19987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57600" y="1998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4267080" y="1998720"/>
              <a:ext cx="2438280" cy="3049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23880" y="283716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23880" y="314172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23880" y="344664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23880" y="375156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23880" y="405612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14600" y="230364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lnTo>
                    <a:pt x="144" y="432"/>
                  </a:lnTo>
                  <a:lnTo>
                    <a:pt x="432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14600" y="2303640"/>
              <a:ext cx="990360" cy="990720"/>
            </a:xfrm>
            <a:custGeom>
              <a:avLst/>
              <a:gdLst/>
              <a:ahLst/>
              <a:rect l="l" t="t" r="r" b="b"/>
              <a:pathLst>
                <a:path w="624" h="624">
                  <a:moveTo>
                    <a:pt x="0" y="624"/>
                  </a:moveTo>
                  <a:lnTo>
                    <a:pt x="192" y="624"/>
                  </a:lnTo>
                  <a:lnTo>
                    <a:pt x="624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14600" y="2303640"/>
              <a:ext cx="1295280" cy="129528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0" y="816"/>
                  </a:moveTo>
                  <a:lnTo>
                    <a:pt x="240" y="816"/>
                  </a:lnTo>
                  <a:lnTo>
                    <a:pt x="816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14600" y="2303640"/>
              <a:ext cx="1600200" cy="160020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0" y="1008"/>
                  </a:moveTo>
                  <a:lnTo>
                    <a:pt x="336" y="1008"/>
                  </a:lnTo>
                  <a:lnTo>
                    <a:pt x="1008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14600" y="2303640"/>
              <a:ext cx="2590560" cy="1905120"/>
            </a:xfrm>
            <a:custGeom>
              <a:avLst/>
              <a:gdLst/>
              <a:ahLst/>
              <a:rect l="l" t="t" r="r" b="b"/>
              <a:pathLst>
                <a:path w="1632" h="1200">
                  <a:moveTo>
                    <a:pt x="0" y="1200"/>
                  </a:moveTo>
                  <a:lnTo>
                    <a:pt x="816" y="120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00000">
              <a:off x="3847680" y="1503720"/>
              <a:ext cx="228600" cy="609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18"/>
                  </a:lnTo>
                  <a:cubicBezTo>
                    <a:pt x="10800" y="9618"/>
                    <a:pt x="5400" y="10518"/>
                    <a:pt x="0" y="10518"/>
                  </a:cubicBezTo>
                  <a:cubicBezTo>
                    <a:pt x="5400" y="10518"/>
                    <a:pt x="10800" y="11418"/>
                    <a:pt x="10800" y="1231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5400000">
              <a:off x="5371560" y="588960"/>
              <a:ext cx="228600" cy="2438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1"/>
                  </a:lnTo>
                  <a:cubicBezTo>
                    <a:pt x="10800" y="9871"/>
                    <a:pt x="5400" y="10771"/>
                    <a:pt x="0" y="10771"/>
                  </a:cubicBezTo>
                  <a:cubicBezTo>
                    <a:pt x="5400" y="10771"/>
                    <a:pt x="10800" y="11671"/>
                    <a:pt x="10800" y="1257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51680" y="1219320"/>
              <a:ext cx="1021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ptio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51800" y="1236960"/>
              <a:ext cx="1021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ptio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Arith./Logical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2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perand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form 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438280" y="1066680"/>
            <a:ext cx="3657600" cy="609840"/>
            <a:chOff x="2438280" y="1066680"/>
            <a:chExt cx="3657600" cy="609840"/>
          </a:xfrm>
        </p:grpSpPr>
        <p:sp>
          <p:nvSpPr>
            <p:cNvPr id="703" name=""/>
            <p:cNvSpPr/>
            <p:nvPr/>
          </p:nvSpPr>
          <p:spPr>
            <a:xfrm>
              <a:off x="2438280" y="1066680"/>
              <a:ext cx="36576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2666880" y="1219320"/>
              <a:ext cx="3124440" cy="304560"/>
              <a:chOff x="2666880" y="1219320"/>
              <a:chExt cx="3124440" cy="304560"/>
            </a:xfrm>
          </p:grpSpPr>
          <p:sp>
            <p:nvSpPr>
              <p:cNvPr id="705" name=""/>
              <p:cNvSpPr/>
              <p:nvPr/>
            </p:nvSpPr>
            <p:spPr>
              <a:xfrm>
                <a:off x="2666880" y="1219320"/>
                <a:ext cx="1905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OPl 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, 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4572000" y="1219320"/>
                <a:ext cx="609480" cy="304560"/>
                <a:chOff x="4572000" y="1219320"/>
                <a:chExt cx="609480" cy="3045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57200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Courier New"/>
                    </a:rPr>
                    <a:t>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876920" y="121932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n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572000" y="121932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5181480" y="1219320"/>
                <a:ext cx="609840" cy="304560"/>
                <a:chOff x="5181480" y="1219320"/>
                <a:chExt cx="609840" cy="304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518148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48640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181480" y="121932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52Z</dcterms:modified>
  <cp:revision>71</cp:revision>
  <dc:subject>SRC Review Slides</dc:subject>
  <dc:title>Formal Processor Verification</dc:title>
</cp:coreProperties>
</file>