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3A71043B-DF5E-4C8D-AE65-2F21066B803F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45280" y="533520"/>
            <a:ext cx="5758560" cy="34311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Pipelined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Part I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290160" y="5486400"/>
            <a:ext cx="8294760" cy="94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ach operation depends on result from preceding on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828800" y="1143000"/>
            <a:ext cx="4267080" cy="2513520"/>
            <a:chOff x="1828800" y="1143000"/>
            <a:chExt cx="4267080" cy="2513520"/>
          </a:xfrm>
        </p:grpSpPr>
        <p:sp>
          <p:nvSpPr>
            <p:cNvPr id="430" name=""/>
            <p:cNvSpPr/>
            <p:nvPr/>
          </p:nvSpPr>
          <p:spPr>
            <a:xfrm>
              <a:off x="1905120" y="229392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324760" y="332424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368440" y="1690560"/>
              <a:ext cx="273708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ination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62720" y="1676520"/>
              <a:ext cx="21564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099040" y="227952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708520" y="2965320"/>
              <a:ext cx="0" cy="435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828800" y="1143000"/>
              <a:ext cx="4267080" cy="762120"/>
            </a:xfrm>
            <a:custGeom>
              <a:avLst/>
              <a:gdLst/>
              <a:ahLst/>
              <a:rect l="l" t="t" r="r" b="b"/>
              <a:pathLst>
                <a:path w="2688" h="480">
                  <a:moveTo>
                    <a:pt x="2496" y="432"/>
                  </a:moveTo>
                  <a:lnTo>
                    <a:pt x="2688" y="432"/>
                  </a:lnTo>
                  <a:lnTo>
                    <a:pt x="2688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336" y="480"/>
                  </a:lnTo>
                </a:path>
              </a:pathLst>
            </a:custGeom>
            <a:noFill/>
            <a:ln w="28440">
              <a:solidFill>
                <a:srgbClr val="33cc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762120" y="3733920"/>
            <a:ext cx="6400800" cy="1252800"/>
            <a:chOff x="762120" y="3733920"/>
            <a:chExt cx="6400800" cy="1252800"/>
          </a:xfrm>
        </p:grpSpPr>
        <p:sp>
          <p:nvSpPr>
            <p:cNvPr id="438" name=""/>
            <p:cNvSpPr/>
            <p:nvPr/>
          </p:nvSpPr>
          <p:spPr>
            <a:xfrm>
              <a:off x="1600200" y="4973400"/>
              <a:ext cx="55627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47560" y="4654440"/>
              <a:ext cx="63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62120" y="373392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62120" y="403848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62120" y="4343400"/>
              <a:ext cx="838080" cy="3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676520" y="3740040"/>
              <a:ext cx="182880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271680" y="3878280"/>
              <a:ext cx="419400" cy="333000"/>
            </a:xfrm>
            <a:custGeom>
              <a:avLst/>
              <a:gdLst/>
              <a:ahLst/>
              <a:rect l="l" t="t" r="r" b="b"/>
              <a:pathLst>
                <a:path w="264" h="600">
                  <a:moveTo>
                    <a:pt x="144" y="0"/>
                  </a:moveTo>
                  <a:cubicBezTo>
                    <a:pt x="185" y="5"/>
                    <a:pt x="169" y="8"/>
                    <a:pt x="198" y="18"/>
                  </a:cubicBezTo>
                  <a:cubicBezTo>
                    <a:pt x="240" y="30"/>
                    <a:pt x="252" y="62"/>
                    <a:pt x="264" y="99"/>
                  </a:cubicBezTo>
                  <a:cubicBezTo>
                    <a:pt x="260" y="139"/>
                    <a:pt x="192" y="230"/>
                    <a:pt x="171" y="261"/>
                  </a:cubicBezTo>
                  <a:cubicBezTo>
                    <a:pt x="162" y="274"/>
                    <a:pt x="142" y="287"/>
                    <a:pt x="129" y="297"/>
                  </a:cubicBezTo>
                  <a:cubicBezTo>
                    <a:pt x="113" y="311"/>
                    <a:pt x="97" y="317"/>
                    <a:pt x="78" y="342"/>
                  </a:cubicBezTo>
                  <a:cubicBezTo>
                    <a:pt x="59" y="363"/>
                    <a:pt x="31" y="400"/>
                    <a:pt x="15" y="423"/>
                  </a:cubicBezTo>
                  <a:cubicBezTo>
                    <a:pt x="3" y="445"/>
                    <a:pt x="0" y="459"/>
                    <a:pt x="3" y="477"/>
                  </a:cubicBezTo>
                  <a:cubicBezTo>
                    <a:pt x="6" y="495"/>
                    <a:pt x="11" y="511"/>
                    <a:pt x="33" y="531"/>
                  </a:cubicBezTo>
                  <a:cubicBezTo>
                    <a:pt x="55" y="551"/>
                    <a:pt x="117" y="589"/>
                    <a:pt x="135" y="600"/>
                  </a:cubicBezTo>
                  <a:cubicBezTo>
                    <a:pt x="145" y="597"/>
                    <a:pt x="144" y="594"/>
                    <a:pt x="144" y="600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505320" y="4059000"/>
              <a:ext cx="182880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334120" y="4378320"/>
              <a:ext cx="1828800" cy="30420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105520" y="4211640"/>
              <a:ext cx="419040" cy="333000"/>
            </a:xfrm>
            <a:custGeom>
              <a:avLst/>
              <a:gdLst/>
              <a:ahLst/>
              <a:rect l="l" t="t" r="r" b="b"/>
              <a:pathLst>
                <a:path w="264" h="600">
                  <a:moveTo>
                    <a:pt x="144" y="0"/>
                  </a:moveTo>
                  <a:cubicBezTo>
                    <a:pt x="185" y="5"/>
                    <a:pt x="169" y="8"/>
                    <a:pt x="198" y="18"/>
                  </a:cubicBezTo>
                  <a:cubicBezTo>
                    <a:pt x="240" y="30"/>
                    <a:pt x="252" y="62"/>
                    <a:pt x="264" y="99"/>
                  </a:cubicBezTo>
                  <a:cubicBezTo>
                    <a:pt x="260" y="139"/>
                    <a:pt x="192" y="230"/>
                    <a:pt x="171" y="261"/>
                  </a:cubicBezTo>
                  <a:cubicBezTo>
                    <a:pt x="162" y="274"/>
                    <a:pt x="142" y="287"/>
                    <a:pt x="129" y="297"/>
                  </a:cubicBezTo>
                  <a:cubicBezTo>
                    <a:pt x="113" y="311"/>
                    <a:pt x="97" y="317"/>
                    <a:pt x="78" y="342"/>
                  </a:cubicBezTo>
                  <a:cubicBezTo>
                    <a:pt x="59" y="363"/>
                    <a:pt x="31" y="400"/>
                    <a:pt x="15" y="423"/>
                  </a:cubicBezTo>
                  <a:cubicBezTo>
                    <a:pt x="3" y="445"/>
                    <a:pt x="0" y="459"/>
                    <a:pt x="3" y="477"/>
                  </a:cubicBezTo>
                  <a:cubicBezTo>
                    <a:pt x="6" y="495"/>
                    <a:pt x="11" y="511"/>
                    <a:pt x="33" y="531"/>
                  </a:cubicBezTo>
                  <a:cubicBezTo>
                    <a:pt x="55" y="551"/>
                    <a:pt x="117" y="589"/>
                    <a:pt x="135" y="600"/>
                  </a:cubicBezTo>
                  <a:cubicBezTo>
                    <a:pt x="145" y="597"/>
                    <a:pt x="144" y="594"/>
                    <a:pt x="144" y="600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Hazard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ult does not feed back around in time for next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ing has changed behavior of syste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143000" y="1219320"/>
            <a:ext cx="6629400" cy="2541960"/>
            <a:chOff x="1143000" y="1219320"/>
            <a:chExt cx="6629400" cy="2541960"/>
          </a:xfrm>
        </p:grpSpPr>
        <p:sp>
          <p:nvSpPr>
            <p:cNvPr id="451" name=""/>
            <p:cNvSpPr/>
            <p:nvPr/>
          </p:nvSpPr>
          <p:spPr>
            <a:xfrm>
              <a:off x="2978280" y="1780920"/>
              <a:ext cx="215640" cy="12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1430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5146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124080" y="3070080"/>
              <a:ext cx="0" cy="205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55120" y="342900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606680" y="1780920"/>
              <a:ext cx="901440" cy="1282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35680" y="1780920"/>
              <a:ext cx="215640" cy="12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004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720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181480" y="3070080"/>
              <a:ext cx="0" cy="205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664080" y="1780920"/>
              <a:ext cx="901440" cy="1282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093080" y="1780920"/>
              <a:ext cx="215640" cy="12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2578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629400" y="2384280"/>
              <a:ext cx="45720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38880" y="3070080"/>
              <a:ext cx="0" cy="434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721480" y="1780920"/>
              <a:ext cx="901440" cy="1282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24080" y="3276360"/>
              <a:ext cx="41148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219320" y="1219320"/>
              <a:ext cx="6553080" cy="761760"/>
            </a:xfrm>
            <a:custGeom>
              <a:avLst/>
              <a:gdLst/>
              <a:ahLst/>
              <a:rect l="l" t="t" r="r" b="b"/>
              <a:pathLst>
                <a:path w="4128" h="480">
                  <a:moveTo>
                    <a:pt x="3840" y="480"/>
                  </a:moveTo>
                  <a:lnTo>
                    <a:pt x="4128" y="480"/>
                  </a:lnTo>
                  <a:lnTo>
                    <a:pt x="4128" y="0"/>
                  </a:lnTo>
                  <a:lnTo>
                    <a:pt x="0" y="0"/>
                  </a:lnTo>
                  <a:lnTo>
                    <a:pt x="0" y="480"/>
                  </a:lnTo>
                  <a:lnTo>
                    <a:pt x="240" y="480"/>
                  </a:lnTo>
                </a:path>
              </a:pathLst>
            </a:custGeom>
            <a:noFill/>
            <a:ln w="38160">
              <a:solidFill>
                <a:srgbClr val="33cc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1905120" y="3581280"/>
            <a:ext cx="4572000" cy="1558080"/>
            <a:chOff x="1905120" y="3581280"/>
            <a:chExt cx="4572000" cy="1558080"/>
          </a:xfrm>
        </p:grpSpPr>
        <p:sp>
          <p:nvSpPr>
            <p:cNvPr id="470" name=""/>
            <p:cNvSpPr/>
            <p:nvPr/>
          </p:nvSpPr>
          <p:spPr>
            <a:xfrm>
              <a:off x="2819520" y="5111640"/>
              <a:ext cx="36576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90560" y="4807080"/>
              <a:ext cx="63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905120" y="358128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905120" y="388620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05120" y="419112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2819520" y="3587760"/>
              <a:ext cx="1828800" cy="304920"/>
              <a:chOff x="2819520" y="3587760"/>
              <a:chExt cx="1828800" cy="304920"/>
            </a:xfrm>
          </p:grpSpPr>
          <p:sp>
            <p:nvSpPr>
              <p:cNvPr id="476" name=""/>
              <p:cNvSpPr/>
              <p:nvPr/>
            </p:nvSpPr>
            <p:spPr>
              <a:xfrm>
                <a:off x="2819520" y="358776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429000" y="358776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038480" y="3587760"/>
                <a:ext cx="60984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3429000" y="3892680"/>
              <a:ext cx="1828800" cy="304560"/>
              <a:chOff x="3429000" y="3892680"/>
              <a:chExt cx="1828800" cy="304560"/>
            </a:xfrm>
          </p:grpSpPr>
          <p:sp>
            <p:nvSpPr>
              <p:cNvPr id="480" name=""/>
              <p:cNvSpPr/>
              <p:nvPr/>
            </p:nvSpPr>
            <p:spPr>
              <a:xfrm>
                <a:off x="3429000" y="3892680"/>
                <a:ext cx="60948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8480" y="3892680"/>
                <a:ext cx="60948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7960" y="3892680"/>
                <a:ext cx="60984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4038840" y="4197240"/>
              <a:ext cx="1828800" cy="304920"/>
              <a:chOff x="4038840" y="4197240"/>
              <a:chExt cx="1828800" cy="304920"/>
            </a:xfrm>
          </p:grpSpPr>
          <p:sp>
            <p:nvSpPr>
              <p:cNvPr id="484" name=""/>
              <p:cNvSpPr/>
              <p:nvPr/>
            </p:nvSpPr>
            <p:spPr>
              <a:xfrm>
                <a:off x="4038840" y="419724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648320" y="419724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257800" y="4197240"/>
                <a:ext cx="60984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87" name=""/>
            <p:cNvSpPr/>
            <p:nvPr/>
          </p:nvSpPr>
          <p:spPr>
            <a:xfrm>
              <a:off x="1905120" y="449568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88" name=""/>
            <p:cNvGrpSpPr/>
            <p:nvPr/>
          </p:nvGrpSpPr>
          <p:grpSpPr>
            <a:xfrm>
              <a:off x="4648320" y="4502160"/>
              <a:ext cx="1828800" cy="304920"/>
              <a:chOff x="4648320" y="4502160"/>
              <a:chExt cx="1828800" cy="304920"/>
            </a:xfrm>
          </p:grpSpPr>
          <p:sp>
            <p:nvSpPr>
              <p:cNvPr id="489" name=""/>
              <p:cNvSpPr/>
              <p:nvPr/>
            </p:nvSpPr>
            <p:spPr>
              <a:xfrm>
                <a:off x="4648320" y="450216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257800" y="450216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867280" y="4502160"/>
                <a:ext cx="60984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92" name=""/>
            <p:cNvSpPr/>
            <p:nvPr/>
          </p:nvSpPr>
          <p:spPr>
            <a:xfrm>
              <a:off x="4415040" y="3725640"/>
              <a:ext cx="419040" cy="952560"/>
            </a:xfrm>
            <a:custGeom>
              <a:avLst/>
              <a:gdLst/>
              <a:ahLst/>
              <a:rect l="l" t="t" r="r" b="b"/>
              <a:pathLst>
                <a:path w="264" h="600">
                  <a:moveTo>
                    <a:pt x="144" y="0"/>
                  </a:moveTo>
                  <a:cubicBezTo>
                    <a:pt x="185" y="5"/>
                    <a:pt x="169" y="8"/>
                    <a:pt x="198" y="18"/>
                  </a:cubicBezTo>
                  <a:cubicBezTo>
                    <a:pt x="240" y="30"/>
                    <a:pt x="252" y="62"/>
                    <a:pt x="264" y="99"/>
                  </a:cubicBezTo>
                  <a:cubicBezTo>
                    <a:pt x="260" y="139"/>
                    <a:pt x="192" y="230"/>
                    <a:pt x="171" y="261"/>
                  </a:cubicBezTo>
                  <a:cubicBezTo>
                    <a:pt x="162" y="274"/>
                    <a:pt x="142" y="287"/>
                    <a:pt x="129" y="297"/>
                  </a:cubicBezTo>
                  <a:cubicBezTo>
                    <a:pt x="113" y="311"/>
                    <a:pt x="97" y="317"/>
                    <a:pt x="78" y="342"/>
                  </a:cubicBezTo>
                  <a:cubicBezTo>
                    <a:pt x="59" y="363"/>
                    <a:pt x="31" y="400"/>
                    <a:pt x="15" y="423"/>
                  </a:cubicBezTo>
                  <a:cubicBezTo>
                    <a:pt x="3" y="445"/>
                    <a:pt x="0" y="459"/>
                    <a:pt x="3" y="477"/>
                  </a:cubicBezTo>
                  <a:cubicBezTo>
                    <a:pt x="6" y="495"/>
                    <a:pt x="11" y="511"/>
                    <a:pt x="33" y="531"/>
                  </a:cubicBezTo>
                  <a:cubicBezTo>
                    <a:pt x="55" y="551"/>
                    <a:pt x="117" y="589"/>
                    <a:pt x="135" y="600"/>
                  </a:cubicBezTo>
                  <a:cubicBezTo>
                    <a:pt x="145" y="597"/>
                    <a:pt x="144" y="594"/>
                    <a:pt x="144" y="600"/>
                  </a:cubicBezTo>
                </a:path>
              </a:pathLst>
            </a:custGeom>
            <a:noFill/>
            <a:ln w="28440">
              <a:solidFill>
                <a:srgbClr val="000066"/>
              </a:solidFill>
              <a:round/>
              <a:tailEnd len="med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 in Processo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90160" y="3200400"/>
            <a:ext cx="8294760" cy="32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sult from one instruction used as operand for anoth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ad-after-write (RAW) depend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common in actual program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make sure our pipeline handles these proper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et correct result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nimize performance impa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666880" y="1523880"/>
            <a:ext cx="3200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irmovl $50, %eax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666880" y="1981080"/>
            <a:ext cx="3200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addl %eax ,  %ebx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666880" y="2438280"/>
            <a:ext cx="3200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Courier New"/>
              </a:rPr>
              <a:t>3</a:t>
            </a:r>
            <a:r>
              <a:rPr b="1" lang="en-US" sz="1200" spc="-1" strike="noStrike">
                <a:solidFill>
                  <a:srgbClr val="000066"/>
                </a:solidFill>
                <a:latin typeface="Courier New"/>
              </a:rPr>
              <a:t>    mrmovl 100( %ebx ),  %edx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632040" y="1523880"/>
            <a:ext cx="1092240" cy="762120"/>
            <a:chOff x="3632040" y="1523880"/>
            <a:chExt cx="1092240" cy="762120"/>
          </a:xfrm>
        </p:grpSpPr>
        <p:sp>
          <p:nvSpPr>
            <p:cNvPr id="499" name=""/>
            <p:cNvSpPr/>
            <p:nvPr/>
          </p:nvSpPr>
          <p:spPr>
            <a:xfrm>
              <a:off x="4267080" y="1523880"/>
              <a:ext cx="457200" cy="30492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32040" y="1981080"/>
              <a:ext cx="457200" cy="30492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4051440" y="1771560"/>
              <a:ext cx="272880" cy="2793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4267080" y="1981080"/>
            <a:ext cx="546120" cy="762120"/>
            <a:chOff x="4267080" y="1981080"/>
            <a:chExt cx="546120" cy="762120"/>
          </a:xfrm>
        </p:grpSpPr>
        <p:sp>
          <p:nvSpPr>
            <p:cNvPr id="503" name=""/>
            <p:cNvSpPr/>
            <p:nvPr/>
          </p:nvSpPr>
          <p:spPr>
            <a:xfrm>
              <a:off x="4356000" y="1981080"/>
              <a:ext cx="457200" cy="30492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67080" y="2438280"/>
              <a:ext cx="457200" cy="304920"/>
            </a:xfrm>
            <a:prstGeom prst="ellipse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4495320" y="2286000"/>
              <a:ext cx="88920" cy="152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Hardwa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8242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ages occur in sequenc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One operation in process at a tim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08" name="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6880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4229280" y="152280"/>
            <a:ext cx="4076640" cy="6029280"/>
          </a:xfrm>
          <a:prstGeom prst="rect">
            <a:avLst/>
          </a:prstGeom>
          <a:ln w="0">
            <a:noFill/>
          </a:ln>
        </p:spPr>
      </p:pic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+ Hardwa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8242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till sequential implement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order PC stage to put at beginn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Stag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ask is to select PC for current instru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ased on results computed by previous instru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rocessor St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C is no longer stored in regis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ut, can determine PC based on other stored inform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4168800" cy="5692680"/>
          </a:xfrm>
          <a:prstGeom prst="rect">
            <a:avLst/>
          </a:prstGeom>
          <a:ln w="0">
            <a:noFill/>
          </a:ln>
        </p:spPr>
      </p:pic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428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dding Pipeline Register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4343400" y="762120"/>
            <a:ext cx="419580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Stag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419112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current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incremented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program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e AL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or write data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date register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419580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- Hardwa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9006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ipeline registers hold intermediate values from instruction execu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rward (Upward) Path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ues passed from one stage to nex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jump past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.g., valC passes through decod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4368600" cy="626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eedback Path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9006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edicted P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uess value of next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ranch inform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Jump taken/not-tak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all-through or targe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 poin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from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 updat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 register file write por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4419720" y="152280"/>
            <a:ext cx="4368600" cy="62629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5715000" y="5181480"/>
            <a:ext cx="1981080" cy="121932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1248" y="0"/>
                </a:moveTo>
                <a:lnTo>
                  <a:pt x="1248" y="768"/>
                </a:lnTo>
                <a:lnTo>
                  <a:pt x="0" y="768"/>
                </a:lnTo>
                <a:lnTo>
                  <a:pt x="0" y="672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419720" y="1752480"/>
            <a:ext cx="1143000" cy="3962520"/>
          </a:xfrm>
          <a:custGeom>
            <a:avLst/>
            <a:gdLst/>
            <a:ahLst/>
            <a:rect l="l" t="t" r="r" b="b"/>
            <a:pathLst>
              <a:path w="720" h="2496">
                <a:moveTo>
                  <a:pt x="672" y="48"/>
                </a:moveTo>
                <a:lnTo>
                  <a:pt x="672" y="0"/>
                </a:lnTo>
                <a:lnTo>
                  <a:pt x="0" y="0"/>
                </a:lnTo>
                <a:lnTo>
                  <a:pt x="0" y="2496"/>
                </a:lnTo>
                <a:lnTo>
                  <a:pt x="720" y="2496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5880" y="380880"/>
            <a:ext cx="2514600" cy="5410440"/>
          </a:xfrm>
          <a:custGeom>
            <a:avLst/>
            <a:gdLst/>
            <a:ahLst/>
            <a:rect l="l" t="t" r="r" b="b"/>
            <a:pathLst>
              <a:path w="1584" h="3408">
                <a:moveTo>
                  <a:pt x="432" y="48"/>
                </a:moveTo>
                <a:lnTo>
                  <a:pt x="432" y="0"/>
                </a:lnTo>
                <a:lnTo>
                  <a:pt x="1584" y="0"/>
                </a:lnTo>
                <a:lnTo>
                  <a:pt x="1584" y="3408"/>
                </a:lnTo>
                <a:lnTo>
                  <a:pt x="0" y="3408"/>
                </a:lnTo>
              </a:path>
            </a:pathLst>
          </a:custGeom>
          <a:noFill/>
          <a:ln w="3816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477120" y="304920"/>
            <a:ext cx="2209680" cy="3962160"/>
          </a:xfrm>
          <a:custGeom>
            <a:avLst/>
            <a:gdLst/>
            <a:ahLst/>
            <a:rect l="l" t="t" r="r" b="b"/>
            <a:pathLst>
              <a:path w="1392" h="2496">
                <a:moveTo>
                  <a:pt x="0" y="96"/>
                </a:moveTo>
                <a:lnTo>
                  <a:pt x="0" y="0"/>
                </a:lnTo>
                <a:lnTo>
                  <a:pt x="1392" y="0"/>
                </a:lnTo>
                <a:lnTo>
                  <a:pt x="1392" y="2496"/>
                </a:lnTo>
                <a:lnTo>
                  <a:pt x="480" y="2496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3329280" cy="971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redicting the P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90520" y="4495680"/>
            <a:ext cx="8624880" cy="193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rt fetch of new instruction after current one has completed fetch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ot enough time to reliably determine next instructio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uess which instruction will follow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cover if prediction was incorrec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971800" y="152280"/>
            <a:ext cx="5046840" cy="41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verview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General Principles of Pipelining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Go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icult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reating a Pipelined Y86 Processor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rranging SEQ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erting pipeline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oblems with data and control haza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ur Prediction Strateg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s that Don’t Transfer Contro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next PC to be val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ways reli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all and Unconditional Jum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next PC to be valC (destinat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ways reliab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ditional Jump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redict next PC to be valC (destination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nly correct if branch is take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Typically right 60% of tim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turn Instruc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on’t try to predic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328920" cy="9716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covering from PC Mispredic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90520" y="4343040"/>
            <a:ext cx="8624880" cy="208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ispredicted Jum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ll see branch flag once instruction reaches memory st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an get fall-through PC from val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urn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Will get return PC whe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ret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reaches write-back stag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3657600" y="152280"/>
            <a:ext cx="5046840" cy="41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Demonst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09120" y="3504960"/>
            <a:ext cx="3048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3300"/>
                </a:solidFill>
                <a:latin typeface="Arial"/>
              </a:rPr>
              <a:t>File: </a:t>
            </a:r>
            <a:r>
              <a:rPr b="1" lang="en-US" sz="1800" spc="-1" strike="noStrike">
                <a:solidFill>
                  <a:srgbClr val="003300"/>
                </a:solidFill>
                <a:latin typeface="Courier New"/>
              </a:rPr>
              <a:t>demo-basic.ys</a:t>
            </a:r>
            <a:endParaRPr b="1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143000" y="990720"/>
            <a:ext cx="7010280" cy="5486040"/>
            <a:chOff x="1143000" y="990720"/>
            <a:chExt cx="7010280" cy="5486040"/>
          </a:xfrm>
        </p:grpSpPr>
        <p:sp>
          <p:nvSpPr>
            <p:cNvPr id="539" name=""/>
            <p:cNvSpPr/>
            <p:nvPr/>
          </p:nvSpPr>
          <p:spPr>
            <a:xfrm>
              <a:off x="1143000" y="13716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irmovl   $1,%eax  #I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0384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4956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528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4100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672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3244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816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2388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696080" y="9907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cc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384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4956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528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410080" y="1371600"/>
              <a:ext cx="457200" cy="3049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324480" y="167652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43000" y="16765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irmovl   $2,%ecx  #I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495680" y="167652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52880" y="167652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410080" y="1676520"/>
              <a:ext cx="457200" cy="3045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67280" y="1676520"/>
              <a:ext cx="457200" cy="3045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867280" y="1371600"/>
              <a:ext cx="457200" cy="30492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43000" y="19810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irmovl   $3,%edx  #I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1" name=""/>
            <p:cNvGrpSpPr/>
            <p:nvPr/>
          </p:nvGrpSpPr>
          <p:grpSpPr>
            <a:xfrm>
              <a:off x="4952880" y="1981080"/>
              <a:ext cx="2286000" cy="304920"/>
              <a:chOff x="4952880" y="1981080"/>
              <a:chExt cx="2286000" cy="304920"/>
            </a:xfrm>
          </p:grpSpPr>
          <p:sp>
            <p:nvSpPr>
              <p:cNvPr id="562" name=""/>
              <p:cNvSpPr/>
              <p:nvPr/>
            </p:nvSpPr>
            <p:spPr>
              <a:xfrm>
                <a:off x="4952880" y="1981080"/>
                <a:ext cx="457200" cy="30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410080" y="1981080"/>
                <a:ext cx="457200" cy="30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867280" y="1981080"/>
                <a:ext cx="457200" cy="30492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324480" y="1981080"/>
                <a:ext cx="457200" cy="30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781680" y="1981080"/>
                <a:ext cx="457200" cy="30492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143000" y="22860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irmovl   $4,%ebx  #I4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68" name=""/>
            <p:cNvGrpSpPr/>
            <p:nvPr/>
          </p:nvGrpSpPr>
          <p:grpSpPr>
            <a:xfrm>
              <a:off x="5410080" y="2286000"/>
              <a:ext cx="2286000" cy="304560"/>
              <a:chOff x="5410080" y="2286000"/>
              <a:chExt cx="2286000" cy="304560"/>
            </a:xfrm>
          </p:grpSpPr>
          <p:sp>
            <p:nvSpPr>
              <p:cNvPr id="569" name=""/>
              <p:cNvSpPr/>
              <p:nvPr/>
            </p:nvSpPr>
            <p:spPr>
              <a:xfrm>
                <a:off x="5410080" y="228600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67280" y="2286000"/>
                <a:ext cx="457200" cy="30456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24480" y="228600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781680" y="228600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238880" y="228600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1143000" y="25909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halt              #I5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75" name=""/>
            <p:cNvGrpSpPr/>
            <p:nvPr/>
          </p:nvGrpSpPr>
          <p:grpSpPr>
            <a:xfrm>
              <a:off x="5867280" y="2590920"/>
              <a:ext cx="2286000" cy="304560"/>
              <a:chOff x="5867280" y="2590920"/>
              <a:chExt cx="2286000" cy="304560"/>
            </a:xfrm>
          </p:grpSpPr>
          <p:sp>
            <p:nvSpPr>
              <p:cNvPr id="576" name=""/>
              <p:cNvSpPr/>
              <p:nvPr/>
            </p:nvSpPr>
            <p:spPr>
              <a:xfrm>
                <a:off x="5867280" y="2590920"/>
                <a:ext cx="457200" cy="30456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324480" y="259092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781680" y="259092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38880" y="259092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696080" y="2590920"/>
                <a:ext cx="457200" cy="3045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81" name=""/>
            <p:cNvSpPr/>
            <p:nvPr/>
          </p:nvSpPr>
          <p:spPr>
            <a:xfrm flipH="1">
              <a:off x="5638320" y="2895480"/>
              <a:ext cx="228600" cy="5335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324480" y="2895480"/>
              <a:ext cx="228600" cy="5335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638680" y="3048120"/>
              <a:ext cx="9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ycle 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5638680" y="3429000"/>
              <a:ext cx="914400" cy="609480"/>
              <a:chOff x="5638680" y="3429000"/>
              <a:chExt cx="914400" cy="609480"/>
            </a:xfrm>
          </p:grpSpPr>
          <p:sp>
            <p:nvSpPr>
              <p:cNvPr id="585" name=""/>
              <p:cNvSpPr/>
              <p:nvPr/>
            </p:nvSpPr>
            <p:spPr>
              <a:xfrm>
                <a:off x="5638680" y="3429000"/>
                <a:ext cx="91440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715000" y="3733560"/>
                <a:ext cx="7621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I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5638680" y="4038480"/>
              <a:ext cx="914400" cy="609480"/>
              <a:chOff x="5638680" y="4038480"/>
              <a:chExt cx="914400" cy="609480"/>
            </a:xfrm>
          </p:grpSpPr>
          <p:sp>
            <p:nvSpPr>
              <p:cNvPr id="588" name=""/>
              <p:cNvSpPr/>
              <p:nvPr/>
            </p:nvSpPr>
            <p:spPr>
              <a:xfrm>
                <a:off x="5638680" y="4038480"/>
                <a:ext cx="91440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15000" y="4343040"/>
                <a:ext cx="7621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I2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5638680" y="4648320"/>
              <a:ext cx="914400" cy="609480"/>
              <a:chOff x="5638680" y="4648320"/>
              <a:chExt cx="914400" cy="609480"/>
            </a:xfrm>
          </p:grpSpPr>
          <p:sp>
            <p:nvSpPr>
              <p:cNvPr id="591" name=""/>
              <p:cNvSpPr/>
              <p:nvPr/>
            </p:nvSpPr>
            <p:spPr>
              <a:xfrm>
                <a:off x="5638680" y="4648320"/>
                <a:ext cx="91440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715000" y="4952880"/>
                <a:ext cx="7621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I3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"/>
            <p:cNvGrpSpPr/>
            <p:nvPr/>
          </p:nvGrpSpPr>
          <p:grpSpPr>
            <a:xfrm>
              <a:off x="5638680" y="5257800"/>
              <a:ext cx="914400" cy="609480"/>
              <a:chOff x="5638680" y="5257800"/>
              <a:chExt cx="914400" cy="609480"/>
            </a:xfrm>
          </p:grpSpPr>
          <p:sp>
            <p:nvSpPr>
              <p:cNvPr id="594" name=""/>
              <p:cNvSpPr/>
              <p:nvPr/>
            </p:nvSpPr>
            <p:spPr>
              <a:xfrm>
                <a:off x="5638680" y="5257800"/>
                <a:ext cx="91440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715000" y="5562360"/>
                <a:ext cx="7621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I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"/>
            <p:cNvGrpSpPr/>
            <p:nvPr/>
          </p:nvGrpSpPr>
          <p:grpSpPr>
            <a:xfrm>
              <a:off x="5638680" y="5867280"/>
              <a:ext cx="914400" cy="609480"/>
              <a:chOff x="5638680" y="5867280"/>
              <a:chExt cx="914400" cy="609480"/>
            </a:xfrm>
          </p:grpSpPr>
          <p:sp>
            <p:nvSpPr>
              <p:cNvPr id="597" name=""/>
              <p:cNvSpPr/>
              <p:nvPr/>
            </p:nvSpPr>
            <p:spPr>
              <a:xfrm>
                <a:off x="5638680" y="5867280"/>
                <a:ext cx="914400" cy="6094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15000" y="6171840"/>
                <a:ext cx="762120" cy="304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Courier New"/>
                  </a:rPr>
                  <a:t>I5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3 Nop’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990720" y="838080"/>
            <a:ext cx="7926120" cy="5869080"/>
            <a:chOff x="990720" y="838080"/>
            <a:chExt cx="7926120" cy="5869080"/>
          </a:xfrm>
        </p:grpSpPr>
        <p:sp>
          <p:nvSpPr>
            <p:cNvPr id="601" name=""/>
            <p:cNvSpPr/>
            <p:nvPr/>
          </p:nvSpPr>
          <p:spPr>
            <a:xfrm>
              <a:off x="990720" y="12193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134360" y="12812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878120" y="12812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623680" y="128124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55400" y="12812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862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1043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3434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615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006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187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2578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4759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50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9331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3903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6294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475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0866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047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5438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761960" y="90792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862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097880" y="1263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3434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43560" y="1263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8006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05440" y="1263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2578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445720" y="1263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7150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91760" y="1263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8862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097880" y="1263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3434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43560" y="1263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8006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005440" y="1263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2578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445720" y="1263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715000" y="12193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891760" y="1263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990720" y="15238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134360" y="15858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878120" y="15858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730240" y="158580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155400" y="15858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434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555080" y="1568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006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000760" y="1568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2578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462640" y="1568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7150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02920" y="1568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172200" y="152388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348960" y="1568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3434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55080" y="1568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006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00760" y="1568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2578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462640" y="1568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715000" y="15238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902920" y="1568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172200" y="152388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348960" y="1568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990720" y="18288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34360" y="18907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878840" y="18907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8006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012280" y="18730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2578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457960" y="18730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7150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919840" y="18730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172200" y="182880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360120" y="1873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29400" y="18288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806160" y="18730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8006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012280" y="18730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2578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57960" y="18730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715000" y="18288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919840" y="18730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172200" y="182880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360120" y="18730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629400" y="18288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806160" y="18730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990720" y="21337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134360" y="21956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d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878840" y="21956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2578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469480" y="21780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7150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5915160" y="21780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172200" y="213372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77040" y="21780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629400" y="21337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817320" y="21780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0866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263360" y="21780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2578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469480" y="21780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7150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15160" y="21780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172200" y="213372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377040" y="21780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629400" y="21337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817320" y="21780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086600" y="21337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63360" y="21780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990720" y="24382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34360" y="25002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e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878840" y="25002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7150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926680" y="24829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172200" y="243828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372360" y="24829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629400" y="24382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834240" y="24829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0866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74520" y="24829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5438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720560" y="24829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150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926680" y="24829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172200" y="243828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372360" y="24829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629400" y="24382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834240" y="24829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866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274520" y="24829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543800" y="24382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720560" y="24829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990720" y="27432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134360" y="28051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f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878840" y="280512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411640" y="28051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17120" y="28051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836800" y="280512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048840" y="28051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172200" y="274320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6383880" y="27874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629400" y="27432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829560" y="27874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0866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291440" y="27874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5438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731720" y="27874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80010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8177760" y="27874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172200" y="2743200"/>
              <a:ext cx="458640" cy="306360"/>
            </a:xfrm>
            <a:prstGeom prst="rect">
              <a:avLst/>
            </a:prstGeom>
            <a:solidFill>
              <a:srgbClr val="b2b2b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383880" y="27874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629400" y="27432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829560" y="27874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0866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291440" y="27874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5438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731720" y="27874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001000" y="27432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177760" y="27874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4724280" y="3048120"/>
              <a:ext cx="144792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629400" y="3048120"/>
              <a:ext cx="144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0010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177040" y="90792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24280" y="4114800"/>
              <a:ext cx="1906560" cy="992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625000" y="41799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724280" y="4495680"/>
              <a:ext cx="190656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61080" y="454356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053320" y="456264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158800" y="45626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63360" y="454356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639760" y="453708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770800" y="454356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24280" y="4114800"/>
              <a:ext cx="1906560" cy="992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625000" y="41799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724280" y="4495680"/>
              <a:ext cx="190656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861080" y="454356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053320" y="456264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158800" y="45626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463360" y="454356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639760" y="453708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770800" y="454356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629400" y="57150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553520" y="57801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629400" y="6095880"/>
              <a:ext cx="1906560" cy="5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64040" y="6146640"/>
              <a:ext cx="3481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236720" y="614052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367760" y="614664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560000" y="61657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665480" y="61657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970040" y="614664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8068680" y="614664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221320" y="614664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764040" y="6380280"/>
              <a:ext cx="3481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236720" y="637380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367760" y="638028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560000" y="639936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665480" y="6399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970040" y="638028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068680" y="638028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8221680" y="638028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629400" y="57150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53520" y="57801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629400" y="6095880"/>
              <a:ext cx="1906560" cy="534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6764040" y="6146640"/>
              <a:ext cx="3481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36720" y="614052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367760" y="614664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560000" y="616572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665480" y="61657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970040" y="614664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8068680" y="614664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8221320" y="614664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64040" y="6380280"/>
              <a:ext cx="3481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236720" y="637380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367760" y="638028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7560000" y="639936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665480" y="6399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970040" y="638028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68680" y="6380280"/>
              <a:ext cx="1548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221680" y="638028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990720" y="9144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088280" y="96840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3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00600" y="3733920"/>
              <a:ext cx="175428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381640" y="3794040"/>
              <a:ext cx="6789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ycle 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458200" y="83808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8634240" y="90792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90720" y="304812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133640" y="311004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1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33" name=""/>
            <p:cNvGrpSpPr/>
            <p:nvPr/>
          </p:nvGrpSpPr>
          <p:grpSpPr>
            <a:xfrm>
              <a:off x="6629400" y="3048120"/>
              <a:ext cx="2287440" cy="2700360"/>
              <a:chOff x="6629400" y="3048120"/>
              <a:chExt cx="2287440" cy="2700360"/>
            </a:xfrm>
          </p:grpSpPr>
          <p:sp>
            <p:nvSpPr>
              <p:cNvPr id="834" name=""/>
              <p:cNvSpPr/>
              <p:nvPr/>
            </p:nvSpPr>
            <p:spPr>
              <a:xfrm>
                <a:off x="6629400" y="3048120"/>
                <a:ext cx="458640" cy="30636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841080" y="3092400"/>
                <a:ext cx="1242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866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7286760" y="309240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438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7748640" y="3092400"/>
                <a:ext cx="13644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0010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88920" y="309240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4582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634960" y="3092400"/>
                <a:ext cx="1926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6629400" y="3048120"/>
                <a:ext cx="458640" cy="30636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6841080" y="3092400"/>
                <a:ext cx="1242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70866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286760" y="309240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5438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7748640" y="3092400"/>
                <a:ext cx="13644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0010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8188920" y="309240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458200" y="3048120"/>
                <a:ext cx="458640" cy="30636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634960" y="3092400"/>
                <a:ext cx="1926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7086600" y="3352680"/>
                <a:ext cx="1447920" cy="236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629400" y="5410080"/>
                <a:ext cx="183024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7248600" y="547056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2 Nop’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762120" y="762120"/>
            <a:ext cx="7468920" cy="5563800"/>
            <a:chOff x="762120" y="762120"/>
            <a:chExt cx="7468920" cy="5563800"/>
          </a:xfrm>
        </p:grpSpPr>
        <p:sp>
          <p:nvSpPr>
            <p:cNvPr id="859" name=""/>
            <p:cNvSpPr/>
            <p:nvPr/>
          </p:nvSpPr>
          <p:spPr>
            <a:xfrm>
              <a:off x="762120" y="1143000"/>
              <a:ext cx="2590560" cy="3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05040" y="12049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649520" y="12049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2394360" y="120492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926800" y="12049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6576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8757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41148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3329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5720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7901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50292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52473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4864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045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9436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1617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4008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6189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580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0761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3152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533360" y="8319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6576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868560" y="1187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1148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314600" y="1187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5720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76120" y="1187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0292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216400" y="1187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4864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662440" y="1187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6576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868560" y="1187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148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314600" y="1187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5720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776120" y="1187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0292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216400" y="1187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486400" y="11430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662440" y="1187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2120" y="144756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905040" y="15094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649520" y="15094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501280" y="150948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926800" y="15094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1148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325760" y="14922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5720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771800" y="14922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0292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233320" y="14922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4864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673600" y="14922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943600" y="14475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6119640" y="1492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1148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325760" y="14922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720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771800" y="14922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0292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233320" y="14922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5486400" y="14475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673600" y="14922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943600" y="14475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119640" y="1492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62120" y="175248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905040" y="18144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650240" y="1814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5720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4782960" y="17971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0292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229000" y="17971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4864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90520" y="17971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943600" y="175248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130800" y="17971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4008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576840" y="17971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5720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782960" y="17971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50292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229000" y="17971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54864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690520" y="17971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943600" y="175248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130800" y="17971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6400800" y="17524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6576840" y="17971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62120" y="2057400"/>
              <a:ext cx="2590560" cy="30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905040" y="21193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d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1650240" y="21193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0292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240160" y="21016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4864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686200" y="21016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43600" y="205740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147720" y="21016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4008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588000" y="21016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8580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034040" y="21016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0292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240160" y="21016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4864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686200" y="21016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943600" y="205740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147720" y="21016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4008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588000" y="21016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858000" y="205740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034040" y="21016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2120" y="236196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905040" y="24238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e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650240" y="242388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182320" y="24238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88520" y="24238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607480" y="242388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820240" y="24238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4864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697360" y="2406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43600" y="23619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6143400" y="2406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4008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604920" y="2406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8580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045200" y="2406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3152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491240" y="2406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4864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5697360" y="24066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5943600" y="23619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6143400" y="24066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64008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604920" y="24066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8580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045200" y="24066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15200" y="23619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91240" y="24066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62120" y="266688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904320" y="272880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10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943600" y="266688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6154560" y="2711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64008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600600" y="2711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8580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7062120" y="2711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3152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502400" y="2711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7724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948440" y="2711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943600" y="2666880"/>
              <a:ext cx="458640" cy="30600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154560" y="27115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4008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600600" y="27115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8580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062120" y="27115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3152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502400" y="27115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772400" y="2666880"/>
              <a:ext cx="458640" cy="306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948440" y="27115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5181120" y="2971800"/>
              <a:ext cx="76212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400800" y="2971800"/>
              <a:ext cx="68580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772400" y="76212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948800" y="831960"/>
              <a:ext cx="17136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2120" y="83808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904320" y="89208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2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5181480" y="3733560"/>
              <a:ext cx="1906560" cy="992160"/>
              <a:chOff x="5181480" y="3733560"/>
              <a:chExt cx="1906560" cy="992160"/>
            </a:xfrm>
          </p:grpSpPr>
          <p:sp>
            <p:nvSpPr>
              <p:cNvPr id="1029" name=""/>
              <p:cNvSpPr/>
              <p:nvPr/>
            </p:nvSpPr>
            <p:spPr>
              <a:xfrm>
                <a:off x="5181480" y="373356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6081480" y="3798360"/>
                <a:ext cx="1926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81480" y="4114440"/>
                <a:ext cx="1906560" cy="306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317560" y="41619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509800" y="41810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616000" y="41810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920200" y="41619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6095880" y="41554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6227280" y="41619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038" name=""/>
            <p:cNvGrpSpPr/>
            <p:nvPr/>
          </p:nvGrpSpPr>
          <p:grpSpPr>
            <a:xfrm>
              <a:off x="5181480" y="5333760"/>
              <a:ext cx="1906560" cy="992160"/>
              <a:chOff x="5181480" y="5333760"/>
              <a:chExt cx="1906560" cy="992160"/>
            </a:xfrm>
          </p:grpSpPr>
          <p:sp>
            <p:nvSpPr>
              <p:cNvPr id="1039" name=""/>
              <p:cNvSpPr/>
              <p:nvPr/>
            </p:nvSpPr>
            <p:spPr>
              <a:xfrm>
                <a:off x="5181480" y="533376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6105240" y="539856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181480" y="5714640"/>
                <a:ext cx="1906560" cy="53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16480" y="5765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788080" y="5758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919480" y="5765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111360" y="5784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6217560" y="5784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6521760" y="5765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6620400" y="5765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6773040" y="576540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16480" y="599868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788080" y="59925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919480" y="599868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6111360" y="601776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217560" y="601776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6521760" y="599868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620400" y="599868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773400" y="599868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58" name=""/>
            <p:cNvSpPr/>
            <p:nvPr/>
          </p:nvSpPr>
          <p:spPr>
            <a:xfrm>
              <a:off x="6019920" y="4724280"/>
              <a:ext cx="257040" cy="60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156000" y="472608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156000" y="489744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156000" y="5068800"/>
              <a:ext cx="723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181480" y="373356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081480" y="3798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181480" y="4114800"/>
              <a:ext cx="1906560" cy="30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317560" y="416232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509800" y="418140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616000" y="4181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920200" y="416232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095880" y="415584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6227280" y="416232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81480" y="373356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081480" y="3798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181480" y="4114800"/>
              <a:ext cx="1906560" cy="3060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17560" y="416232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509800" y="418140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616000" y="41814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920200" y="416232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095880" y="415584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227280" y="4162320"/>
              <a:ext cx="99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5181480" y="3352680"/>
              <a:ext cx="2713320" cy="2972880"/>
              <a:chOff x="5181480" y="3352680"/>
              <a:chExt cx="2713320" cy="2972880"/>
            </a:xfrm>
          </p:grpSpPr>
          <p:sp>
            <p:nvSpPr>
              <p:cNvPr id="1081" name=""/>
              <p:cNvSpPr/>
              <p:nvPr/>
            </p:nvSpPr>
            <p:spPr>
              <a:xfrm>
                <a:off x="5181480" y="533340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105240" y="539856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181480" y="5714640"/>
                <a:ext cx="1906560" cy="53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316480" y="5765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788080" y="5758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919480" y="5765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111360" y="5784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217560" y="5784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521760" y="5765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620400" y="5765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773040" y="576540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316480" y="599868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788080" y="59925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919480" y="599868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6111360" y="601776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6217560" y="601776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6521760" y="599868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6620400" y="599868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6773400" y="599868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181480" y="533340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105240" y="539856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181480" y="5714640"/>
                <a:ext cx="1906560" cy="5346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316480" y="5765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788080" y="5758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919480" y="5765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111360" y="5784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217560" y="5784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521760" y="5765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620400" y="5765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773040" y="576540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16480" y="599868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788080" y="59925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919480" y="599868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111360" y="601776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6217560" y="601776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521760" y="599868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620400" y="599868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773400" y="599868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019920" y="4723920"/>
                <a:ext cx="257040" cy="60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156000" y="472572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156000" y="489708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156000" y="506844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181480" y="3352680"/>
                <a:ext cx="190656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838480" y="341280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6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125" name=""/>
              <p:cNvGrpSpPr/>
              <p:nvPr/>
            </p:nvGrpSpPr>
            <p:grpSpPr>
              <a:xfrm>
                <a:off x="6858000" y="5866920"/>
                <a:ext cx="533520" cy="172440"/>
                <a:chOff x="6858000" y="5866920"/>
                <a:chExt cx="533520" cy="172440"/>
              </a:xfrm>
            </p:grpSpPr>
            <p:sp>
              <p:nvSpPr>
                <p:cNvPr id="1126" name=""/>
                <p:cNvSpPr/>
                <p:nvPr/>
              </p:nvSpPr>
              <p:spPr>
                <a:xfrm flipH="1">
                  <a:off x="6950160" y="5866920"/>
                  <a:ext cx="441360" cy="125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6858000" y="5944320"/>
                  <a:ext cx="109440" cy="95040"/>
                </a:xfrm>
                <a:custGeom>
                  <a:avLst/>
                  <a:gdLst/>
                  <a:ahLst/>
                  <a:rect l="l" t="t" r="r" b="b"/>
                  <a:pathLst>
                    <a:path w="69" h="60">
                      <a:moveTo>
                        <a:pt x="52" y="0"/>
                      </a:moveTo>
                      <a:lnTo>
                        <a:pt x="0" y="47"/>
                      </a:lnTo>
                      <a:lnTo>
                        <a:pt x="69" y="60"/>
                      </a:lnTo>
                      <a:lnTo>
                        <a:pt x="5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28" name=""/>
              <p:cNvSpPr/>
              <p:nvPr/>
            </p:nvSpPr>
            <p:spPr>
              <a:xfrm>
                <a:off x="7315200" y="5714640"/>
                <a:ext cx="579600" cy="30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443720" y="5771880"/>
                <a:ext cx="397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Erro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1 N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1066680" y="685800"/>
            <a:ext cx="7011720" cy="6097320"/>
            <a:chOff x="1066680" y="685800"/>
            <a:chExt cx="7011720" cy="6097320"/>
          </a:xfrm>
        </p:grpSpPr>
        <p:sp>
          <p:nvSpPr>
            <p:cNvPr id="1132" name=""/>
            <p:cNvSpPr/>
            <p:nvPr/>
          </p:nvSpPr>
          <p:spPr>
            <a:xfrm>
              <a:off x="1066680" y="10666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209600" y="11286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954080" y="11286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2698920" y="112860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231360" y="11286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9621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1803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4193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375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8765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50947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53337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5519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7909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0091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2481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4663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7053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9235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1625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3807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619760" y="685800"/>
              <a:ext cx="45720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7837920" y="75564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962160" y="10666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173120" y="111096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419360" y="10666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19160" y="11109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876560" y="10666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080680" y="111096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5333760" y="10666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520960" y="111096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248160" y="1371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424200" y="14158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066680" y="137160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1209600" y="1433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1954080" y="1433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2805840" y="143352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231360" y="14335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419360" y="1371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630320" y="14158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876560" y="1371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5076360" y="14158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5333760" y="1371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5537880" y="14158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5790960" y="13716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978160" y="14158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5790960" y="10666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67000" y="11109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066680" y="167616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209600" y="173808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1954800" y="17380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765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087520" y="17208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3337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533560" y="17208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790960" y="16761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995080" y="17208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62481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6435360" y="17208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67053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881400" y="17208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8765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087520" y="17208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3337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533560" y="17208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790960" y="167616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995080" y="17208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2481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6435360" y="17208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6705360" y="167616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6881400" y="17208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66680" y="198108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209600" y="204300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d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1954800" y="204300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486880" y="204300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2593080" y="20430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912040" y="204300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124800" y="204300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3337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544720" y="202536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790960" y="19810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990760" y="20253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2481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6452280" y="202536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7053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892560" y="202536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1625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338600" y="20253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3337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544720" y="202536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90960" y="198108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990760" y="202536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2481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6452280" y="202536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7053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892560" y="202536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162560" y="198108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338600" y="202536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1066680" y="228600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208880" y="234792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f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5790960" y="22860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01920" y="2330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2481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447960" y="2330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7053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909480" y="2330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1625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349760" y="2330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6197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95800" y="2330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5790960" y="22860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01920" y="233028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2481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447960" y="233028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7053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909480" y="233028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1625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349760" y="233028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619760" y="2286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795800" y="233028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066680" y="68580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1208880" y="73980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1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>
              <a:off x="5028480" y="2590560"/>
              <a:ext cx="7621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6248160" y="259056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028840" y="32004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5928840" y="3265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5028840" y="3581280"/>
              <a:ext cx="190656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164920" y="362880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5357160" y="36478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463360" y="36478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67560" y="362880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943240" y="362268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074280" y="36288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028840" y="32004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928840" y="32652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028840" y="3581280"/>
              <a:ext cx="1906560" cy="306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5164920" y="3628800"/>
              <a:ext cx="178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[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5357160" y="364788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463360" y="364788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67560" y="3628800"/>
              <a:ext cx="1011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]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943240" y="3622680"/>
              <a:ext cx="66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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074280" y="3628800"/>
              <a:ext cx="1987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74" name=""/>
            <p:cNvGrpSpPr/>
            <p:nvPr/>
          </p:nvGrpSpPr>
          <p:grpSpPr>
            <a:xfrm>
              <a:off x="5028840" y="2819160"/>
              <a:ext cx="2745000" cy="3963960"/>
              <a:chOff x="5028840" y="2819160"/>
              <a:chExt cx="2745000" cy="3963960"/>
            </a:xfrm>
          </p:grpSpPr>
          <p:sp>
            <p:nvSpPr>
              <p:cNvPr id="1275" name=""/>
              <p:cNvSpPr/>
              <p:nvPr/>
            </p:nvSpPr>
            <p:spPr>
              <a:xfrm>
                <a:off x="5028840" y="579096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952600" y="585612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028840" y="61722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163840" y="62229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635440" y="62164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766840" y="62229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958720" y="62420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064920" y="62420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369120" y="62229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6467760" y="62229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620760" y="62229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163840" y="645624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635440" y="64497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766840" y="645624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958720" y="64753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6064920" y="647532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6369120" y="645624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6467760" y="645624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620760" y="645624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028840" y="579096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952600" y="585612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028840" y="61722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163840" y="62229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635440" y="621648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766840" y="62229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958720" y="62420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6064920" y="62420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6369120" y="62229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67760" y="62229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620760" y="62229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163840" y="645624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635440" y="64497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766840" y="645624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958720" y="647532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6064920" y="647532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6369120" y="645624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6467760" y="645624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6620760" y="645624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867280" y="5181480"/>
                <a:ext cx="257040" cy="60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003360" y="518292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003360" y="535464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003360" y="5526000"/>
                <a:ext cx="723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•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028840" y="2819160"/>
                <a:ext cx="19065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685840" y="287964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5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319" name=""/>
              <p:cNvGrpSpPr/>
              <p:nvPr/>
            </p:nvGrpSpPr>
            <p:grpSpPr>
              <a:xfrm>
                <a:off x="6705360" y="6248160"/>
                <a:ext cx="533160" cy="236520"/>
                <a:chOff x="6705360" y="6248160"/>
                <a:chExt cx="533160" cy="236520"/>
              </a:xfrm>
            </p:grpSpPr>
            <p:sp>
              <p:nvSpPr>
                <p:cNvPr id="1320" name=""/>
                <p:cNvSpPr/>
                <p:nvPr/>
              </p:nvSpPr>
              <p:spPr>
                <a:xfrm flipH="1">
                  <a:off x="6792480" y="6248160"/>
                  <a:ext cx="4460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6705360" y="6392880"/>
                  <a:ext cx="111240" cy="9180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46" y="0"/>
                      </a:moveTo>
                      <a:lnTo>
                        <a:pt x="0" y="53"/>
                      </a:lnTo>
                      <a:lnTo>
                        <a:pt x="70" y="58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2" name=""/>
              <p:cNvSpPr/>
              <p:nvPr/>
            </p:nvSpPr>
            <p:spPr>
              <a:xfrm>
                <a:off x="7194240" y="6019560"/>
                <a:ext cx="579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7322760" y="6076800"/>
                <a:ext cx="397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Erro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028840" y="419076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940000" y="425592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028840" y="449568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164920" y="455760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409720" y="45576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803920" y="4557600"/>
                <a:ext cx="253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164920" y="477828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410080" y="4778280"/>
                <a:ext cx="35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815440" y="477828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982840" y="479736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088680" y="479736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335" name=""/>
              <p:cNvGrpSpPr/>
              <p:nvPr/>
            </p:nvGrpSpPr>
            <p:grpSpPr>
              <a:xfrm>
                <a:off x="6705360" y="6172200"/>
                <a:ext cx="533520" cy="110880"/>
                <a:chOff x="6705360" y="6172200"/>
                <a:chExt cx="533520" cy="110880"/>
              </a:xfrm>
            </p:grpSpPr>
            <p:sp>
              <p:nvSpPr>
                <p:cNvPr id="1336" name=""/>
                <p:cNvSpPr/>
                <p:nvPr/>
              </p:nvSpPr>
              <p:spPr>
                <a:xfrm flipH="1">
                  <a:off x="6798960" y="6172200"/>
                  <a:ext cx="439920" cy="6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705360" y="6184800"/>
                  <a:ext cx="106200" cy="98280"/>
                </a:xfrm>
                <a:custGeom>
                  <a:avLst/>
                  <a:gdLst/>
                  <a:ahLst/>
                  <a:rect l="l" t="t" r="r" b="b"/>
                  <a:pathLst>
                    <a:path w="67" h="62">
                      <a:moveTo>
                        <a:pt x="58" y="0"/>
                      </a:moveTo>
                      <a:lnTo>
                        <a:pt x="0" y="40"/>
                      </a:lnTo>
                      <a:lnTo>
                        <a:pt x="67" y="62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ata Dependencies: No Nop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339" name=""/>
          <p:cNvGrpSpPr/>
          <p:nvPr/>
        </p:nvGrpSpPr>
        <p:grpSpPr>
          <a:xfrm>
            <a:off x="1281240" y="747720"/>
            <a:ext cx="6554520" cy="5335560"/>
            <a:chOff x="1281240" y="747720"/>
            <a:chExt cx="6554520" cy="5335560"/>
          </a:xfrm>
        </p:grpSpPr>
        <p:sp>
          <p:nvSpPr>
            <p:cNvPr id="1340" name=""/>
            <p:cNvSpPr/>
            <p:nvPr/>
          </p:nvSpPr>
          <p:spPr>
            <a:xfrm>
              <a:off x="1281240" y="11286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424880" y="1190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0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168640" y="119052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914200" y="1190520"/>
              <a:ext cx="53424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10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445920" y="119052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1767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3948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6339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8520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0911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092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5483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7664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0055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2236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4627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6808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9199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1380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377120" y="747720"/>
              <a:ext cx="4572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595280" y="817560"/>
              <a:ext cx="86040" cy="1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1767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388400" y="117324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6339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834080" y="117324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0911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295960" y="11732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548320" y="11286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736240" y="117324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4627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39480" y="147780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281240" y="143352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424880" y="14954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6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168640" y="149544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irmovl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020760" y="149544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$3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3445920" y="149544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6339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845600" y="147780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0911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291280" y="147780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548320" y="143352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753160" y="147780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005520" y="143352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193440" y="147780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005520" y="11286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182280" y="117324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0911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302800" y="178272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48320" y="173844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748480" y="178272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0055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210360" y="178272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4627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650640" y="178272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919920" y="173844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096680" y="178272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281240" y="173844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424880" y="1800360"/>
              <a:ext cx="7473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c: 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169360" y="1800360"/>
              <a:ext cx="427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dd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702160" y="1800360"/>
              <a:ext cx="1072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807640" y="1800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d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127320" y="1800360"/>
              <a:ext cx="21420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,%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339360" y="1800360"/>
              <a:ext cx="32076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eax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548320" y="2043000"/>
              <a:ext cx="458640" cy="3063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60000" y="2087640"/>
              <a:ext cx="1242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0055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205680" y="2087640"/>
              <a:ext cx="14688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4627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667560" y="208764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9199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107840" y="2087640"/>
              <a:ext cx="1699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377120" y="2043000"/>
              <a:ext cx="458640" cy="30636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553880" y="2087640"/>
              <a:ext cx="19260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281240" y="2043000"/>
              <a:ext cx="25905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424160" y="2104920"/>
              <a:ext cx="11743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0x00e: 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281240" y="824040"/>
              <a:ext cx="25905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423440" y="878040"/>
              <a:ext cx="128088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# demo-h0.y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4785840" y="2347920"/>
              <a:ext cx="76212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005520" y="2347920"/>
              <a:ext cx="6858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4786200" y="4100400"/>
              <a:ext cx="1906560" cy="9921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715000" y="4165560"/>
              <a:ext cx="1364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421" name=""/>
            <p:cNvGrpSpPr/>
            <p:nvPr/>
          </p:nvGrpSpPr>
          <p:grpSpPr>
            <a:xfrm>
              <a:off x="4786200" y="2728800"/>
              <a:ext cx="2745000" cy="3354480"/>
              <a:chOff x="4786200" y="2728800"/>
              <a:chExt cx="2745000" cy="3354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4786200" y="50911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710320" y="515628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786200" y="5472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921200" y="5522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393520" y="551664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524560" y="5522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716800" y="5541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822280" y="5541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6127200" y="5522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225840" y="5522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378480" y="55227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921200" y="5756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393520" y="5749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524560" y="5756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716800" y="5775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822280" y="5775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6127200" y="5756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6225840" y="5756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378480" y="575640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786200" y="509112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710320" y="5156280"/>
                <a:ext cx="1468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786200" y="54720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921200" y="552276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93520" y="551664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524560" y="552276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716800" y="554184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822280" y="554184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6127200" y="552276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6225840" y="552276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378480" y="552276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4921200" y="575640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393520" y="574992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524560" y="5756400"/>
                <a:ext cx="17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[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716800" y="57754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822280" y="57754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6127200" y="5756400"/>
                <a:ext cx="1011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]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225840" y="57564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378480" y="5756400"/>
                <a:ext cx="99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4786200" y="2728800"/>
                <a:ext cx="1906560" cy="33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443560" y="2789280"/>
                <a:ext cx="6789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Cycle 4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462" name=""/>
              <p:cNvGrpSpPr/>
              <p:nvPr/>
            </p:nvGrpSpPr>
            <p:grpSpPr>
              <a:xfrm>
                <a:off x="6462720" y="5548320"/>
                <a:ext cx="533160" cy="236520"/>
                <a:chOff x="6462720" y="5548320"/>
                <a:chExt cx="533160" cy="236520"/>
              </a:xfrm>
            </p:grpSpPr>
            <p:sp>
              <p:nvSpPr>
                <p:cNvPr id="1463" name=""/>
                <p:cNvSpPr/>
                <p:nvPr/>
              </p:nvSpPr>
              <p:spPr>
                <a:xfrm flipH="1">
                  <a:off x="6549840" y="5548320"/>
                  <a:ext cx="446040" cy="190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64" name=""/>
                <p:cNvSpPr/>
                <p:nvPr/>
              </p:nvSpPr>
              <p:spPr>
                <a:xfrm>
                  <a:off x="6462720" y="5692680"/>
                  <a:ext cx="111240" cy="92160"/>
                </a:xfrm>
                <a:custGeom>
                  <a:avLst/>
                  <a:gdLst/>
                  <a:ahLst/>
                  <a:rect l="l" t="t" r="r" b="b"/>
                  <a:pathLst>
                    <a:path w="70" h="58">
                      <a:moveTo>
                        <a:pt x="46" y="0"/>
                      </a:moveTo>
                      <a:lnTo>
                        <a:pt x="0" y="53"/>
                      </a:lnTo>
                      <a:lnTo>
                        <a:pt x="70" y="58"/>
                      </a:lnTo>
                      <a:lnTo>
                        <a:pt x="4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360" bIns="453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65" name=""/>
              <p:cNvSpPr/>
              <p:nvPr/>
            </p:nvSpPr>
            <p:spPr>
              <a:xfrm>
                <a:off x="6951600" y="5319720"/>
                <a:ext cx="579600" cy="30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080840" y="5376960"/>
                <a:ext cx="397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Erro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86200" y="3110040"/>
                <a:ext cx="1906560" cy="9921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698080" y="3174840"/>
                <a:ext cx="1699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786200" y="341460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922640" y="347652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167080" y="347652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561640" y="3476520"/>
                <a:ext cx="352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1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922640" y="3697200"/>
                <a:ext cx="2476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167440" y="3697200"/>
                <a:ext cx="35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573160" y="369720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740560" y="371628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846040" y="371628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d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478" name=""/>
              <p:cNvGrpSpPr/>
              <p:nvPr/>
            </p:nvGrpSpPr>
            <p:grpSpPr>
              <a:xfrm>
                <a:off x="6462720" y="5472000"/>
                <a:ext cx="533520" cy="111240"/>
                <a:chOff x="6462720" y="5472000"/>
                <a:chExt cx="533520" cy="111240"/>
              </a:xfrm>
            </p:grpSpPr>
            <p:sp>
              <p:nvSpPr>
                <p:cNvPr id="1479" name=""/>
                <p:cNvSpPr/>
                <p:nvPr/>
              </p:nvSpPr>
              <p:spPr>
                <a:xfrm flipH="1">
                  <a:off x="6556320" y="5472000"/>
                  <a:ext cx="439920" cy="6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6462720" y="5484960"/>
                  <a:ext cx="106200" cy="98280"/>
                </a:xfrm>
                <a:custGeom>
                  <a:avLst/>
                  <a:gdLst/>
                  <a:ahLst/>
                  <a:rect l="l" t="t" r="r" b="b"/>
                  <a:pathLst>
                    <a:path w="67" h="62">
                      <a:moveTo>
                        <a:pt x="58" y="0"/>
                      </a:moveTo>
                      <a:lnTo>
                        <a:pt x="0" y="40"/>
                      </a:lnTo>
                      <a:lnTo>
                        <a:pt x="67" y="62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81" name=""/>
              <p:cNvSpPr/>
              <p:nvPr/>
            </p:nvSpPr>
            <p:spPr>
              <a:xfrm>
                <a:off x="4786200" y="4405320"/>
                <a:ext cx="1906560" cy="5349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922640" y="4468680"/>
                <a:ext cx="198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117760" y="4468680"/>
                <a:ext cx="3481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a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590440" y="4462560"/>
                <a:ext cx="662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Wingdings 3"/>
                    <a:ea typeface="Wingdings 3"/>
                  </a:rPr>
                  <a:t>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717520" y="4468680"/>
                <a:ext cx="756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 + 3 = 3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923000" y="4687920"/>
                <a:ext cx="2185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_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138640" y="4687920"/>
                <a:ext cx="3589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st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544720" y="4687920"/>
                <a:ext cx="15480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= 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712120" y="4707000"/>
                <a:ext cx="1072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%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817600" y="4707000"/>
                <a:ext cx="3207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ourier New"/>
                  </a:rPr>
                  <a:t>eax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290160" y="4952880"/>
            <a:ext cx="8294760" cy="1479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hould only execute first 8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380880" y="1828800"/>
            <a:ext cx="8610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0:    xorl %eax,%eax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2:    jne  t             # Not take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7:    irmovl $1, %eax    # Fall throug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d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e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f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0:   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1: t: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irmovl $3, %ed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# Target (Should not execute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7:    </a:t>
            </a:r>
            <a:r>
              <a:rPr b="1" i="1" lang="en-US" sz="1800" spc="-1" strike="noStrike">
                <a:solidFill>
                  <a:srgbClr val="000066"/>
                </a:solidFill>
                <a:latin typeface="Courier New"/>
              </a:rPr>
              <a:t>irmovl $4, %ecx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# Should not execu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d:    irmovl $5, %edx    # Should not execu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84440" y="1219320"/>
            <a:ext cx="13266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mo-j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ranch Misprediction Tra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496" name="" descr=""/>
          <p:cNvPicPr/>
          <p:nvPr/>
        </p:nvPicPr>
        <p:blipFill>
          <a:blip r:embed="rId1"/>
          <a:stretch/>
        </p:blipFill>
        <p:spPr>
          <a:xfrm>
            <a:off x="1447920" y="838080"/>
            <a:ext cx="6462720" cy="5911920"/>
          </a:xfrm>
          <a:prstGeom prst="rect">
            <a:avLst/>
          </a:prstGeom>
          <a:ln w="0">
            <a:noFill/>
          </a:ln>
        </p:spPr>
      </p:pic>
      <p:sp>
        <p:nvSpPr>
          <p:cNvPr id="1497" name=""/>
          <p:cNvSpPr/>
          <p:nvPr/>
        </p:nvSpPr>
        <p:spPr>
          <a:xfrm>
            <a:off x="304920" y="3352680"/>
            <a:ext cx="45720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444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orrectly execute two instructions at branch targe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"/>
          <p:cNvSpPr/>
          <p:nvPr/>
        </p:nvSpPr>
        <p:spPr>
          <a:xfrm>
            <a:off x="228600" y="914400"/>
            <a:ext cx="86104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0:    irmovl Stack,%esp  # Intialize stack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6:    n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  # Avoid hazard on %es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7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8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9:    call p             # Procedure cal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0e:    irmovl $5,%esi    # Return poin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14:    hal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0: .pos 0x2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0: p: nop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procedur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1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2:    no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3:    ret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4:    irmovl $1,%eax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2a:    irmovl $2,%ecx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0:    irmovl $3,%edx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036:    irmovl $4,%ebx       # Should not be executed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: .pos 0x100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0x100: Stack:                # Stack: Stack pointer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tur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290160" y="5943600"/>
            <a:ext cx="8294760" cy="488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quire lots of nops to avoid data haza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>
            <a:off x="5330520" y="304920"/>
            <a:ext cx="1600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demo-ret.y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Real-World Pipelines: Car Wash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657600" y="3886200"/>
            <a:ext cx="463536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4000"/>
          </a:bodyPr>
          <a:p>
            <a:pPr marL="92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dea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178200" indent="-5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vide process into independent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78200" indent="-5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ove objects through stages in sequenc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178200" indent="-583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t any given times, multiple objects being process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838080" y="1143000"/>
            <a:ext cx="2514600" cy="2319480"/>
            <a:chOff x="838080" y="1143000"/>
            <a:chExt cx="2514600" cy="2319480"/>
          </a:xfrm>
        </p:grpSpPr>
        <p:pic>
          <p:nvPicPr>
            <p:cNvPr id="88" name="story.car.wash.ap%5B1%5D" descr=""/>
            <p:cNvPicPr/>
            <p:nvPr/>
          </p:nvPicPr>
          <p:blipFill>
            <a:blip r:embed="rId1"/>
            <a:stretch/>
          </p:blipFill>
          <p:spPr>
            <a:xfrm>
              <a:off x="838080" y="1541520"/>
              <a:ext cx="2514600" cy="192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838080" y="1143000"/>
              <a:ext cx="23623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Sequenti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181480" y="1143000"/>
            <a:ext cx="1622160" cy="2449080"/>
            <a:chOff x="5181480" y="1143000"/>
            <a:chExt cx="1622160" cy="2449080"/>
          </a:xfrm>
        </p:grpSpPr>
        <p:pic>
          <p:nvPicPr>
            <p:cNvPr id="91" name="car-wash%5B1%5D" descr=""/>
            <p:cNvPicPr/>
            <p:nvPr/>
          </p:nvPicPr>
          <p:blipFill>
            <a:blip r:embed="rId2"/>
            <a:stretch/>
          </p:blipFill>
          <p:spPr>
            <a:xfrm>
              <a:off x="5181480" y="1523880"/>
              <a:ext cx="1622160" cy="20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181480" y="1143000"/>
              <a:ext cx="16002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aralle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762120" y="3657600"/>
            <a:ext cx="2743200" cy="2100240"/>
            <a:chOff x="762120" y="3657600"/>
            <a:chExt cx="2743200" cy="2100240"/>
          </a:xfrm>
        </p:grpSpPr>
        <p:pic>
          <p:nvPicPr>
            <p:cNvPr id="94" name="CarWash11" descr=""/>
            <p:cNvPicPr/>
            <p:nvPr/>
          </p:nvPicPr>
          <p:blipFill>
            <a:blip r:embed="rId3"/>
            <a:stretch/>
          </p:blipFill>
          <p:spPr>
            <a:xfrm>
              <a:off x="762120" y="4038840"/>
              <a:ext cx="274320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762120" y="3657600"/>
              <a:ext cx="2666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Pipelined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26600" y="-3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correct Return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503" name="" descr=""/>
          <p:cNvPicPr/>
          <p:nvPr/>
        </p:nvPicPr>
        <p:blipFill>
          <a:blip r:embed="rId1"/>
          <a:stretch/>
        </p:blipFill>
        <p:spPr>
          <a:xfrm>
            <a:off x="2057400" y="685800"/>
            <a:ext cx="6453360" cy="6073920"/>
          </a:xfrm>
          <a:prstGeom prst="rect">
            <a:avLst/>
          </a:prstGeom>
          <a:ln w="0">
            <a:noFill/>
          </a:ln>
        </p:spPr>
      </p:pic>
      <p:sp>
        <p:nvSpPr>
          <p:cNvPr id="1504" name=""/>
          <p:cNvSpPr/>
          <p:nvPr/>
        </p:nvSpPr>
        <p:spPr>
          <a:xfrm>
            <a:off x="380880" y="2743200"/>
            <a:ext cx="464832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1" marL="743040" indent="-2444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correctly execute 3 instructions following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Break instruction execution into 5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un instructions through in pipelined mod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’t handle dependencies between instructions when instructions follow too close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ta dependenc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One instruction writes register, later one reads i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dependenc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ruction sets PC in way that pipeline did not predict correctl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ispredicted branch and return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xing the Pipelin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e’ll do that next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ational Exampl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90160" y="3581280"/>
            <a:ext cx="8294760" cy="285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ation requires total of 300 picosecon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itional 20 picoseconds to save result in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must have clock cycle of at least 320 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676520" y="1219320"/>
            <a:ext cx="6273360" cy="2237040"/>
            <a:chOff x="1676520" y="1219320"/>
            <a:chExt cx="6273360" cy="2237040"/>
          </a:xfrm>
        </p:grpSpPr>
        <p:sp>
          <p:nvSpPr>
            <p:cNvPr id="99" name=""/>
            <p:cNvSpPr/>
            <p:nvPr/>
          </p:nvSpPr>
          <p:spPr>
            <a:xfrm>
              <a:off x="2139840" y="1552320"/>
              <a:ext cx="2502000" cy="12823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inational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111640" y="1552320"/>
              <a:ext cx="216000" cy="1282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052800" y="12193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30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2520" y="121932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67652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4832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57800" y="2841480"/>
              <a:ext cx="0" cy="228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92760" y="312408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1904760"/>
              <a:ext cx="24858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elay = 3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hroughput = 3.12 GO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3-Way Pipelined Vers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0160" y="3581280"/>
            <a:ext cx="8294760" cy="285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ystem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vide combinational logic into 3 blocks of 100 ps each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begin new operation as soon as previous one passes through stage A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egin new operation every 120 p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verall latency increa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60 ps from start to finish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588960" y="1219320"/>
            <a:ext cx="8722800" cy="2389680"/>
            <a:chOff x="588960" y="1219320"/>
            <a:chExt cx="8722800" cy="2389680"/>
          </a:xfrm>
        </p:grpSpPr>
        <p:sp>
          <p:nvSpPr>
            <p:cNvPr id="111" name=""/>
            <p:cNvSpPr/>
            <p:nvPr/>
          </p:nvSpPr>
          <p:spPr>
            <a:xfrm>
              <a:off x="2423880" y="1629000"/>
              <a:ext cx="21564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896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6020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70040" y="2917800"/>
              <a:ext cx="0" cy="206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00360" y="327672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280" y="1629000"/>
              <a:ext cx="90144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81280" y="1629000"/>
              <a:ext cx="21564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64600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1760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27440" y="2917800"/>
              <a:ext cx="0" cy="206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09680" y="1629000"/>
              <a:ext cx="90144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38680" y="1629000"/>
              <a:ext cx="21564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0340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75000" y="2232000"/>
              <a:ext cx="456840" cy="0"/>
            </a:xfrm>
            <a:prstGeom prst="line">
              <a:avLst/>
            </a:prstGeom>
            <a:ln w="381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84840" y="2917800"/>
              <a:ext cx="0" cy="435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67080" y="1629000"/>
              <a:ext cx="90144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126440" y="12193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0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174400" y="121932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183840" y="12193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0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231800" y="121932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41240" y="121932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0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89200" y="121932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0040" y="3124440"/>
              <a:ext cx="411444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25960" y="1981440"/>
              <a:ext cx="24858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elay = 36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hroughput = 8.33 GO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ipeline Diagram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Unpipelin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not start new operation until previous one complet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3-Way Pipelined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p to 3 operations in process simultaneous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09480" y="1981080"/>
            <a:ext cx="7238880" cy="1072080"/>
            <a:chOff x="609480" y="1981080"/>
            <a:chExt cx="7238880" cy="1072080"/>
          </a:xfrm>
        </p:grpSpPr>
        <p:sp>
          <p:nvSpPr>
            <p:cNvPr id="138" name=""/>
            <p:cNvSpPr/>
            <p:nvPr/>
          </p:nvSpPr>
          <p:spPr>
            <a:xfrm>
              <a:off x="1371240" y="3047760"/>
              <a:ext cx="64771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042640" y="2720880"/>
              <a:ext cx="63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7560" y="1981080"/>
              <a:ext cx="1752480" cy="3045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09480" y="198108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480" y="228564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040" y="2285640"/>
              <a:ext cx="175284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52880" y="2590560"/>
              <a:ext cx="1752480" cy="30492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9480" y="259056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609480" y="4390920"/>
            <a:ext cx="3885840" cy="1246680"/>
            <a:chOff x="609480" y="4390920"/>
            <a:chExt cx="3885840" cy="1246680"/>
          </a:xfrm>
        </p:grpSpPr>
        <p:grpSp>
          <p:nvGrpSpPr>
            <p:cNvPr id="147" name=""/>
            <p:cNvGrpSpPr/>
            <p:nvPr/>
          </p:nvGrpSpPr>
          <p:grpSpPr>
            <a:xfrm>
              <a:off x="1447560" y="4390920"/>
              <a:ext cx="3047760" cy="1246680"/>
              <a:chOff x="1447560" y="4390920"/>
              <a:chExt cx="3047760" cy="1246680"/>
            </a:xfrm>
          </p:grpSpPr>
          <p:sp>
            <p:nvSpPr>
              <p:cNvPr id="148" name=""/>
              <p:cNvSpPr/>
              <p:nvPr/>
            </p:nvSpPr>
            <p:spPr>
              <a:xfrm>
                <a:off x="1447560" y="5610240"/>
                <a:ext cx="304776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118600" y="5305320"/>
                <a:ext cx="6325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Tim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1447560" y="4390920"/>
                <a:ext cx="1828800" cy="304920"/>
                <a:chOff x="1447560" y="4390920"/>
                <a:chExt cx="1828800" cy="304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47560" y="4390920"/>
                  <a:ext cx="60948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057040" y="4390920"/>
                  <a:ext cx="60948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B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666520" y="4390920"/>
                  <a:ext cx="60984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2057040" y="4695840"/>
                <a:ext cx="1828800" cy="304920"/>
                <a:chOff x="2057040" y="4695840"/>
                <a:chExt cx="1828800" cy="30492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2057040" y="4695840"/>
                  <a:ext cx="60948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666520" y="4695840"/>
                  <a:ext cx="60948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B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3276000" y="4695840"/>
                  <a:ext cx="609840" cy="30492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2666520" y="5000760"/>
                <a:ext cx="1828800" cy="304560"/>
                <a:chOff x="2666520" y="5000760"/>
                <a:chExt cx="1828800" cy="30456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2666520" y="5000760"/>
                  <a:ext cx="609480" cy="3045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76000" y="5000760"/>
                  <a:ext cx="609480" cy="3045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B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885480" y="5000760"/>
                  <a:ext cx="609840" cy="30456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66"/>
                      </a:solidFill>
                      <a:latin typeface="Arial"/>
                    </a:rPr>
                    <a:t>C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2" name=""/>
            <p:cNvSpPr/>
            <p:nvPr/>
          </p:nvSpPr>
          <p:spPr>
            <a:xfrm>
              <a:off x="609480" y="441972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09480" y="472428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9480" y="502920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895480" y="4191120"/>
            <a:ext cx="0" cy="129528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Operating a Pipelin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1219320"/>
            <a:ext cx="8075880" cy="2167200"/>
            <a:chOff x="0" y="1219320"/>
            <a:chExt cx="8075880" cy="2167200"/>
          </a:xfrm>
        </p:grpSpPr>
        <p:sp>
          <p:nvSpPr>
            <p:cNvPr id="168" name=""/>
            <p:cNvSpPr/>
            <p:nvPr/>
          </p:nvSpPr>
          <p:spPr>
            <a:xfrm>
              <a:off x="4037400" y="3054240"/>
              <a:ext cx="63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1600200"/>
              <a:ext cx="1586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1905120"/>
              <a:ext cx="1586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0" y="2209680"/>
              <a:ext cx="1586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1730520" y="1606680"/>
              <a:ext cx="3460680" cy="304560"/>
              <a:chOff x="1730520" y="1606680"/>
              <a:chExt cx="3460680" cy="304560"/>
            </a:xfrm>
          </p:grpSpPr>
          <p:sp>
            <p:nvSpPr>
              <p:cNvPr id="173" name=""/>
              <p:cNvSpPr/>
              <p:nvPr/>
            </p:nvSpPr>
            <p:spPr>
              <a:xfrm>
                <a:off x="1730520" y="1606680"/>
                <a:ext cx="1153440" cy="3045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883960" y="1606680"/>
                <a:ext cx="1153440" cy="3045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037400" y="1606680"/>
                <a:ext cx="1153800" cy="3045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2884320" y="1911240"/>
              <a:ext cx="3460680" cy="304920"/>
              <a:chOff x="2884320" y="1911240"/>
              <a:chExt cx="3460680" cy="304920"/>
            </a:xfrm>
          </p:grpSpPr>
          <p:sp>
            <p:nvSpPr>
              <p:cNvPr id="177" name=""/>
              <p:cNvSpPr/>
              <p:nvPr/>
            </p:nvSpPr>
            <p:spPr>
              <a:xfrm>
                <a:off x="2884320" y="1911240"/>
                <a:ext cx="115344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037760" y="1911240"/>
                <a:ext cx="115344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191200" y="1911240"/>
                <a:ext cx="115380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4038120" y="2216160"/>
              <a:ext cx="3460680" cy="304920"/>
              <a:chOff x="4038120" y="2216160"/>
              <a:chExt cx="3460680" cy="304920"/>
            </a:xfrm>
          </p:grpSpPr>
          <p:sp>
            <p:nvSpPr>
              <p:cNvPr id="181" name=""/>
              <p:cNvSpPr/>
              <p:nvPr/>
            </p:nvSpPr>
            <p:spPr>
              <a:xfrm>
                <a:off x="4038120" y="2216160"/>
                <a:ext cx="1153440" cy="304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191560" y="2216160"/>
                <a:ext cx="1153440" cy="304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45000" y="2216160"/>
                <a:ext cx="1153800" cy="30492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1730520" y="2673360"/>
              <a:ext cx="5768280" cy="152280"/>
              <a:chOff x="1730520" y="2673360"/>
              <a:chExt cx="5768280" cy="152280"/>
            </a:xfrm>
          </p:grpSpPr>
          <p:sp>
            <p:nvSpPr>
              <p:cNvPr id="185" name=""/>
              <p:cNvSpPr/>
              <p:nvPr/>
            </p:nvSpPr>
            <p:spPr>
              <a:xfrm>
                <a:off x="1730520" y="2749320"/>
                <a:ext cx="576828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3052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288396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3740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19156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34500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498800" y="2673360"/>
                <a:ext cx="0" cy="152280"/>
              </a:xfrm>
              <a:prstGeom prst="line">
                <a:avLst/>
              </a:prstGeom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297800" y="2825640"/>
              <a:ext cx="6778080" cy="307080"/>
              <a:chOff x="1297800" y="2825640"/>
              <a:chExt cx="6778080" cy="307080"/>
            </a:xfrm>
          </p:grpSpPr>
          <p:sp>
            <p:nvSpPr>
              <p:cNvPr id="193" name=""/>
              <p:cNvSpPr/>
              <p:nvPr/>
            </p:nvSpPr>
            <p:spPr>
              <a:xfrm>
                <a:off x="1297800" y="2825640"/>
                <a:ext cx="100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451960" y="2825640"/>
                <a:ext cx="100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12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605400" y="2825640"/>
                <a:ext cx="100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24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758840" y="2825640"/>
                <a:ext cx="100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36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913000" y="2825640"/>
                <a:ext cx="100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48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66440" y="2825640"/>
                <a:ext cx="1009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64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1730520" y="1219320"/>
              <a:ext cx="6003360" cy="228600"/>
            </a:xfrm>
            <a:custGeom>
              <a:avLst/>
              <a:gdLst/>
              <a:ahLst/>
              <a:rect l="l" t="t" r="r" b="b"/>
              <a:pathLst>
                <a:path w="1998" h="192">
                  <a:moveTo>
                    <a:pt x="0" y="0"/>
                  </a:moveTo>
                  <a:lnTo>
                    <a:pt x="192" y="0"/>
                  </a:lnTo>
                  <a:lnTo>
                    <a:pt x="192" y="192"/>
                  </a:lnTo>
                  <a:lnTo>
                    <a:pt x="384" y="192"/>
                  </a:lnTo>
                  <a:lnTo>
                    <a:pt x="384" y="0"/>
                  </a:lnTo>
                  <a:lnTo>
                    <a:pt x="576" y="0"/>
                  </a:lnTo>
                  <a:lnTo>
                    <a:pt x="576" y="192"/>
                  </a:lnTo>
                  <a:lnTo>
                    <a:pt x="768" y="192"/>
                  </a:lnTo>
                  <a:lnTo>
                    <a:pt x="768" y="0"/>
                  </a:lnTo>
                  <a:lnTo>
                    <a:pt x="960" y="0"/>
                  </a:lnTo>
                  <a:lnTo>
                    <a:pt x="960" y="192"/>
                  </a:lnTo>
                  <a:lnTo>
                    <a:pt x="1152" y="192"/>
                  </a:lnTo>
                  <a:lnTo>
                    <a:pt x="1152" y="0"/>
                  </a:lnTo>
                  <a:lnTo>
                    <a:pt x="1344" y="0"/>
                  </a:lnTo>
                  <a:lnTo>
                    <a:pt x="1344" y="192"/>
                  </a:lnTo>
                  <a:lnTo>
                    <a:pt x="1536" y="192"/>
                  </a:lnTo>
                  <a:lnTo>
                    <a:pt x="1536" y="0"/>
                  </a:lnTo>
                  <a:lnTo>
                    <a:pt x="1728" y="0"/>
                  </a:lnTo>
                  <a:lnTo>
                    <a:pt x="1728" y="192"/>
                  </a:lnTo>
                  <a:lnTo>
                    <a:pt x="1920" y="192"/>
                  </a:lnTo>
                  <a:cubicBezTo>
                    <a:pt x="1920" y="128"/>
                    <a:pt x="1920" y="64"/>
                    <a:pt x="1920" y="0"/>
                  </a:cubicBezTo>
                  <a:cubicBezTo>
                    <a:pt x="1992" y="0"/>
                    <a:pt x="1982" y="0"/>
                    <a:pt x="1998" y="0"/>
                  </a:cubicBezTo>
                </a:path>
              </a:pathLst>
            </a:custGeom>
            <a:noFill/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1219320"/>
              <a:ext cx="15861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762120" y="830160"/>
            <a:ext cx="6402600" cy="5293440"/>
            <a:chOff x="762120" y="830160"/>
            <a:chExt cx="6402600" cy="5293440"/>
          </a:xfrm>
        </p:grpSpPr>
        <p:grpSp>
          <p:nvGrpSpPr>
            <p:cNvPr id="202" name=""/>
            <p:cNvGrpSpPr/>
            <p:nvPr/>
          </p:nvGrpSpPr>
          <p:grpSpPr>
            <a:xfrm>
              <a:off x="762120" y="3733920"/>
              <a:ext cx="6402600" cy="2389680"/>
              <a:chOff x="762120" y="3733920"/>
              <a:chExt cx="6402600" cy="2389680"/>
            </a:xfrm>
          </p:grpSpPr>
          <p:sp>
            <p:nvSpPr>
              <p:cNvPr id="203" name=""/>
              <p:cNvSpPr/>
              <p:nvPr/>
            </p:nvSpPr>
            <p:spPr>
              <a:xfrm>
                <a:off x="2590920" y="4191120"/>
                <a:ext cx="228600" cy="129528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2590920" y="419112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743560" y="548640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474240" y="5791320"/>
                <a:ext cx="690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1219320" y="4191120"/>
                <a:ext cx="901800" cy="128268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648320" y="419112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800960" y="548640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276720" y="4191120"/>
                <a:ext cx="901800" cy="1282680"/>
              </a:xfrm>
              <a:prstGeom prst="rect">
                <a:avLst/>
              </a:prstGeom>
              <a:solidFill>
                <a:srgbClr val="5f5f5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705720" y="419112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858360" y="5486400"/>
                <a:ext cx="0" cy="43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334120" y="4191120"/>
                <a:ext cx="90180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300320" y="373392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348280" y="373392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357720" y="373392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05680" y="373392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415120" y="373392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463080" y="373392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743560" y="5715000"/>
                <a:ext cx="4114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621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1337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1911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2485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48769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819520" y="472428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3733920" y="830160"/>
              <a:ext cx="430560" cy="1913040"/>
              <a:chOff x="3733920" y="830160"/>
              <a:chExt cx="430560" cy="1913040"/>
            </a:xfrm>
          </p:grpSpPr>
          <p:sp>
            <p:nvSpPr>
              <p:cNvPr id="228" name=""/>
              <p:cNvSpPr/>
              <p:nvPr/>
            </p:nvSpPr>
            <p:spPr>
              <a:xfrm>
                <a:off x="3949560" y="1066680"/>
                <a:ext cx="0" cy="1676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33920" y="830160"/>
                <a:ext cx="430560" cy="31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239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0" name=""/>
          <p:cNvGrpSpPr/>
          <p:nvPr/>
        </p:nvGrpSpPr>
        <p:grpSpPr>
          <a:xfrm>
            <a:off x="762120" y="838080"/>
            <a:ext cx="6402600" cy="5293440"/>
            <a:chOff x="762120" y="838080"/>
            <a:chExt cx="6402600" cy="5293440"/>
          </a:xfrm>
        </p:grpSpPr>
        <p:grpSp>
          <p:nvGrpSpPr>
            <p:cNvPr id="231" name=""/>
            <p:cNvGrpSpPr/>
            <p:nvPr/>
          </p:nvGrpSpPr>
          <p:grpSpPr>
            <a:xfrm>
              <a:off x="762120" y="3741840"/>
              <a:ext cx="6402600" cy="2389680"/>
              <a:chOff x="762120" y="3741840"/>
              <a:chExt cx="6402600" cy="2389680"/>
            </a:xfrm>
          </p:grpSpPr>
          <p:sp>
            <p:nvSpPr>
              <p:cNvPr id="232" name=""/>
              <p:cNvSpPr/>
              <p:nvPr/>
            </p:nvSpPr>
            <p:spPr>
              <a:xfrm>
                <a:off x="2590920" y="4199040"/>
                <a:ext cx="228600" cy="12952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648320" y="4199040"/>
                <a:ext cx="228600" cy="129528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590920" y="419904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7435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74240" y="5799240"/>
                <a:ext cx="690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219320" y="4199040"/>
                <a:ext cx="90180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648320" y="419904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8009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276720" y="4199040"/>
                <a:ext cx="90180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05720" y="419904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858360" y="5494320"/>
                <a:ext cx="0" cy="43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334120" y="4199040"/>
                <a:ext cx="90180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3003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482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3577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4056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4151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4630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743560" y="5722920"/>
                <a:ext cx="4114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621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1337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911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2485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8769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2819520" y="47610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886200" y="838080"/>
              <a:ext cx="430560" cy="1913040"/>
              <a:chOff x="3886200" y="838080"/>
              <a:chExt cx="430560" cy="1913040"/>
            </a:xfrm>
          </p:grpSpPr>
          <p:sp>
            <p:nvSpPr>
              <p:cNvPr id="258" name=""/>
              <p:cNvSpPr/>
              <p:nvPr/>
            </p:nvSpPr>
            <p:spPr>
              <a:xfrm>
                <a:off x="4101840" y="1074600"/>
                <a:ext cx="0" cy="1676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886200" y="838080"/>
                <a:ext cx="430560" cy="31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241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762120" y="838080"/>
            <a:ext cx="6402600" cy="5293440"/>
            <a:chOff x="762120" y="838080"/>
            <a:chExt cx="6402600" cy="5293440"/>
          </a:xfrm>
        </p:grpSpPr>
        <p:grpSp>
          <p:nvGrpSpPr>
            <p:cNvPr id="261" name=""/>
            <p:cNvGrpSpPr/>
            <p:nvPr/>
          </p:nvGrpSpPr>
          <p:grpSpPr>
            <a:xfrm>
              <a:off x="762120" y="3741840"/>
              <a:ext cx="6402600" cy="2389680"/>
              <a:chOff x="762120" y="3741840"/>
              <a:chExt cx="6402600" cy="2389680"/>
            </a:xfrm>
          </p:grpSpPr>
          <p:sp>
            <p:nvSpPr>
              <p:cNvPr id="262" name=""/>
              <p:cNvSpPr/>
              <p:nvPr/>
            </p:nvSpPr>
            <p:spPr>
              <a:xfrm>
                <a:off x="2590920" y="4179960"/>
                <a:ext cx="228600" cy="12952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648320" y="4179960"/>
                <a:ext cx="228600" cy="129528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590920" y="417996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7435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648320" y="417996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8009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05720" y="419904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858360" y="5494320"/>
                <a:ext cx="0" cy="43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3003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3482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3577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4056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4151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4630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219320" y="4179960"/>
                <a:ext cx="9018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219320" y="4179960"/>
                <a:ext cx="609840" cy="1295280"/>
              </a:xfrm>
              <a:custGeom>
                <a:avLst/>
                <a:gdLst/>
                <a:ahLst/>
                <a:rect l="l" t="t" r="r" b="b"/>
                <a:pathLst>
                  <a:path w="464" h="816">
                    <a:moveTo>
                      <a:pt x="0" y="0"/>
                    </a:moveTo>
                    <a:lnTo>
                      <a:pt x="0" y="816"/>
                    </a:lnTo>
                    <a:lnTo>
                      <a:pt x="240" y="816"/>
                    </a:lnTo>
                    <a:cubicBezTo>
                      <a:pt x="312" y="776"/>
                      <a:pt x="400" y="672"/>
                      <a:pt x="432" y="576"/>
                    </a:cubicBezTo>
                    <a:cubicBezTo>
                      <a:pt x="464" y="480"/>
                      <a:pt x="464" y="336"/>
                      <a:pt x="432" y="240"/>
                    </a:cubicBezTo>
                    <a:cubicBezTo>
                      <a:pt x="400" y="144"/>
                      <a:pt x="312" y="40"/>
                      <a:pt x="240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219320" y="4179960"/>
                <a:ext cx="9018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276720" y="4179960"/>
                <a:ext cx="90180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276720" y="4179960"/>
                <a:ext cx="698760" cy="1295280"/>
              </a:xfrm>
              <a:custGeom>
                <a:avLst/>
                <a:gdLst/>
                <a:ahLst/>
                <a:rect l="l" t="t" r="r" b="b"/>
                <a:pathLst>
                  <a:path w="440" h="816">
                    <a:moveTo>
                      <a:pt x="0" y="0"/>
                    </a:moveTo>
                    <a:lnTo>
                      <a:pt x="0" y="816"/>
                    </a:lnTo>
                    <a:lnTo>
                      <a:pt x="199" y="816"/>
                    </a:lnTo>
                    <a:cubicBezTo>
                      <a:pt x="260" y="783"/>
                      <a:pt x="332" y="726"/>
                      <a:pt x="368" y="617"/>
                    </a:cubicBezTo>
                    <a:cubicBezTo>
                      <a:pt x="394" y="521"/>
                      <a:pt x="440" y="256"/>
                      <a:pt x="414" y="160"/>
                    </a:cubicBezTo>
                    <a:cubicBezTo>
                      <a:pt x="387" y="64"/>
                      <a:pt x="258" y="40"/>
                      <a:pt x="19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6ccf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276720" y="4179960"/>
                <a:ext cx="9018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347080" y="4179960"/>
                <a:ext cx="901440" cy="1282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347080" y="4179960"/>
                <a:ext cx="609480" cy="1295280"/>
              </a:xfrm>
              <a:custGeom>
                <a:avLst/>
                <a:gdLst/>
                <a:ahLst/>
                <a:rect l="l" t="t" r="r" b="b"/>
                <a:pathLst>
                  <a:path w="384" h="816">
                    <a:moveTo>
                      <a:pt x="0" y="0"/>
                    </a:moveTo>
                    <a:lnTo>
                      <a:pt x="0" y="816"/>
                    </a:lnTo>
                    <a:lnTo>
                      <a:pt x="199" y="816"/>
                    </a:lnTo>
                    <a:cubicBezTo>
                      <a:pt x="258" y="776"/>
                      <a:pt x="349" y="667"/>
                      <a:pt x="358" y="576"/>
                    </a:cubicBezTo>
                    <a:cubicBezTo>
                      <a:pt x="384" y="480"/>
                      <a:pt x="279" y="366"/>
                      <a:pt x="253" y="270"/>
                    </a:cubicBezTo>
                    <a:cubicBezTo>
                      <a:pt x="226" y="174"/>
                      <a:pt x="258" y="40"/>
                      <a:pt x="19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f5f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347080" y="4179960"/>
                <a:ext cx="90144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474240" y="5799240"/>
                <a:ext cx="690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743560" y="5722920"/>
                <a:ext cx="4114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621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1337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1911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485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8769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2819520" y="471312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"/>
            <p:cNvGrpSpPr/>
            <p:nvPr/>
          </p:nvGrpSpPr>
          <p:grpSpPr>
            <a:xfrm>
              <a:off x="4370400" y="838080"/>
              <a:ext cx="430560" cy="1913040"/>
              <a:chOff x="4370400" y="838080"/>
              <a:chExt cx="430560" cy="1913040"/>
            </a:xfrm>
          </p:grpSpPr>
          <p:sp>
            <p:nvSpPr>
              <p:cNvPr id="294" name=""/>
              <p:cNvSpPr/>
              <p:nvPr/>
            </p:nvSpPr>
            <p:spPr>
              <a:xfrm>
                <a:off x="4584600" y="1074600"/>
                <a:ext cx="0" cy="1676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370400" y="838080"/>
                <a:ext cx="430560" cy="31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30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"/>
          <p:cNvGrpSpPr/>
          <p:nvPr/>
        </p:nvGrpSpPr>
        <p:grpSpPr>
          <a:xfrm>
            <a:off x="762120" y="838080"/>
            <a:ext cx="6402600" cy="5293440"/>
            <a:chOff x="762120" y="838080"/>
            <a:chExt cx="6402600" cy="5293440"/>
          </a:xfrm>
        </p:grpSpPr>
        <p:grpSp>
          <p:nvGrpSpPr>
            <p:cNvPr id="297" name=""/>
            <p:cNvGrpSpPr/>
            <p:nvPr/>
          </p:nvGrpSpPr>
          <p:grpSpPr>
            <a:xfrm>
              <a:off x="762120" y="3741840"/>
              <a:ext cx="6402600" cy="2389680"/>
              <a:chOff x="762120" y="3741840"/>
              <a:chExt cx="6402600" cy="23896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90920" y="4208400"/>
                <a:ext cx="228600" cy="129528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48320" y="4208400"/>
                <a:ext cx="228600" cy="129528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05720" y="4208400"/>
                <a:ext cx="228600" cy="1295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90920" y="4199040"/>
                <a:ext cx="216000" cy="128268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435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74240" y="5799240"/>
                <a:ext cx="690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219320" y="4199040"/>
                <a:ext cx="901800" cy="12826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648320" y="4199040"/>
                <a:ext cx="216000" cy="130464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800960" y="5494320"/>
                <a:ext cx="0" cy="2286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4199040"/>
                <a:ext cx="901800" cy="1282680"/>
              </a:xfrm>
              <a:prstGeom prst="rect">
                <a:avLst/>
              </a:prstGeom>
              <a:solidFill>
                <a:srgbClr val="66cc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05720" y="4199040"/>
                <a:ext cx="216000" cy="1304640"/>
              </a:xfrm>
              <a:prstGeom prst="rect">
                <a:avLst/>
              </a:prstGeom>
              <a:noFill/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858360" y="5494320"/>
                <a:ext cx="0" cy="434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4120" y="4199040"/>
                <a:ext cx="901800" cy="1282680"/>
              </a:xfrm>
              <a:prstGeom prst="rect">
                <a:avLst/>
              </a:prstGeom>
              <a:solidFill>
                <a:srgbClr val="5f5f5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003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23464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3577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056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415120" y="3741840"/>
                <a:ext cx="79092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10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63080" y="3741840"/>
                <a:ext cx="67824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743560" y="5722920"/>
                <a:ext cx="411480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621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1337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c0c0c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1911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2485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8769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5f5f5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819520" y="4665600"/>
                <a:ext cx="457200" cy="228600"/>
              </a:xfrm>
              <a:prstGeom prst="rightArrow">
                <a:avLst>
                  <a:gd name="adj1" fmla="val 16667"/>
                  <a:gd name="adj2" fmla="val 66667"/>
                </a:avLst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4903920" y="838080"/>
              <a:ext cx="430560" cy="1913040"/>
              <a:chOff x="4903920" y="838080"/>
              <a:chExt cx="430560" cy="1913040"/>
            </a:xfrm>
          </p:grpSpPr>
          <p:sp>
            <p:nvSpPr>
              <p:cNvPr id="325" name=""/>
              <p:cNvSpPr/>
              <p:nvPr/>
            </p:nvSpPr>
            <p:spPr>
              <a:xfrm>
                <a:off x="5118120" y="1074600"/>
                <a:ext cx="0" cy="16765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03920" y="838080"/>
                <a:ext cx="430560" cy="312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359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: Nonuniform Delay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90160" y="4876560"/>
            <a:ext cx="8294760" cy="155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hroughput limited by slowest st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ther stages sit idle for much of the tim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allenging to partition system into balanced sta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07880" y="1143000"/>
            <a:ext cx="8723160" cy="2389680"/>
            <a:chOff x="407880" y="1143000"/>
            <a:chExt cx="8723160" cy="2389680"/>
          </a:xfrm>
        </p:grpSpPr>
        <p:sp>
          <p:nvSpPr>
            <p:cNvPr id="330" name=""/>
            <p:cNvSpPr/>
            <p:nvPr/>
          </p:nvSpPr>
          <p:spPr>
            <a:xfrm>
              <a:off x="1785960" y="1552680"/>
              <a:ext cx="21600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78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3222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932120" y="2841480"/>
              <a:ext cx="0" cy="206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120000" y="3200400"/>
              <a:ext cx="6904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300560" y="1552680"/>
              <a:ext cx="21600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080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8368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46720" y="2841480"/>
              <a:ext cx="0" cy="2066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65280" y="1552680"/>
              <a:ext cx="136548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357960" y="1552680"/>
              <a:ext cx="216000" cy="1282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g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226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94280" y="2155680"/>
              <a:ext cx="457200" cy="0"/>
            </a:xfrm>
            <a:prstGeom prst="line">
              <a:avLst/>
            </a:prstGeom>
            <a:ln w="50760">
              <a:solidFill>
                <a:srgbClr val="33cc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04120" y="2841480"/>
              <a:ext cx="0" cy="4352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986360" y="1552680"/>
              <a:ext cx="90180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12800" y="1143000"/>
              <a:ext cx="762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5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536840" y="114300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41600" y="1143000"/>
              <a:ext cx="116676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5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051440" y="114300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60880" y="1143000"/>
              <a:ext cx="790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10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08840" y="1143000"/>
              <a:ext cx="6782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2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32120" y="3048120"/>
              <a:ext cx="45720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645240" y="1905120"/>
              <a:ext cx="24858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elay = 510 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hroughput = 5.88 GO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65080" y="1523880"/>
              <a:ext cx="457200" cy="12826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Comb.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66"/>
                  </a:solidFill>
                  <a:latin typeface="Arial"/>
                </a:rPr>
                <a:t>logic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676520" y="3352680"/>
            <a:ext cx="5790960" cy="1252800"/>
            <a:chOff x="1676520" y="3352680"/>
            <a:chExt cx="5790960" cy="1252800"/>
          </a:xfrm>
        </p:grpSpPr>
        <p:sp>
          <p:nvSpPr>
            <p:cNvPr id="355" name=""/>
            <p:cNvSpPr/>
            <p:nvPr/>
          </p:nvSpPr>
          <p:spPr>
            <a:xfrm>
              <a:off x="2438280" y="4578120"/>
              <a:ext cx="502920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09680" y="4273200"/>
              <a:ext cx="6325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520" y="3352680"/>
              <a:ext cx="83808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1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676520" y="365724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676520" y="3962160"/>
              <a:ext cx="8380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OP3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2590920" y="3358800"/>
              <a:ext cx="2743200" cy="304920"/>
              <a:chOff x="2590920" y="3358800"/>
              <a:chExt cx="2743200" cy="304920"/>
            </a:xfrm>
          </p:grpSpPr>
          <p:sp>
            <p:nvSpPr>
              <p:cNvPr id="361" name=""/>
              <p:cNvSpPr/>
              <p:nvPr/>
            </p:nvSpPr>
            <p:spPr>
              <a:xfrm>
                <a:off x="2590920" y="3358800"/>
                <a:ext cx="30456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505320" y="3358800"/>
                <a:ext cx="91440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419720" y="335880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2590920" y="3358800"/>
                <a:ext cx="91440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419720" y="3358800"/>
                <a:ext cx="91440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"/>
            <p:cNvGrpSpPr/>
            <p:nvPr/>
          </p:nvGrpSpPr>
          <p:grpSpPr>
            <a:xfrm>
              <a:off x="3505320" y="3663720"/>
              <a:ext cx="2743200" cy="304920"/>
              <a:chOff x="3505320" y="3663720"/>
              <a:chExt cx="2743200" cy="304920"/>
            </a:xfrm>
          </p:grpSpPr>
          <p:sp>
            <p:nvSpPr>
              <p:cNvPr id="367" name=""/>
              <p:cNvSpPr/>
              <p:nvPr/>
            </p:nvSpPr>
            <p:spPr>
              <a:xfrm>
                <a:off x="3505320" y="3663720"/>
                <a:ext cx="30456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19720" y="3663720"/>
                <a:ext cx="91440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34120" y="3663720"/>
                <a:ext cx="609480" cy="30492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3505320" y="3663720"/>
                <a:ext cx="91440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334120" y="3663720"/>
                <a:ext cx="914400" cy="30492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"/>
            <p:cNvGrpSpPr/>
            <p:nvPr/>
          </p:nvGrpSpPr>
          <p:grpSpPr>
            <a:xfrm>
              <a:off x="4419720" y="3968640"/>
              <a:ext cx="2743200" cy="304560"/>
              <a:chOff x="4419720" y="3968640"/>
              <a:chExt cx="2743200" cy="304560"/>
            </a:xfrm>
          </p:grpSpPr>
          <p:sp>
            <p:nvSpPr>
              <p:cNvPr id="373" name=""/>
              <p:cNvSpPr/>
              <p:nvPr/>
            </p:nvSpPr>
            <p:spPr>
              <a:xfrm>
                <a:off x="4419720" y="3968640"/>
                <a:ext cx="30456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334120" y="3968640"/>
                <a:ext cx="91440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248520" y="3968640"/>
                <a:ext cx="609480" cy="30456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419720" y="3968640"/>
                <a:ext cx="914400" cy="30456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248520" y="3968640"/>
                <a:ext cx="914400" cy="30456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Limitations: Register Overhea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90160" y="3657600"/>
            <a:ext cx="8294760" cy="277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 try to deepen pipeline, overhead of loading registers becomes more significan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ercentage of clock cycle spent loading register: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-stage pipeline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6.25%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3-stage pipeline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16.67% 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6-stage pipeline: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28.57%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dec" pos="348624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igh speeds of modern processor designs obtained through very deep pipelining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361800" y="1173240"/>
            <a:ext cx="8447760" cy="2283120"/>
            <a:chOff x="361800" y="1173240"/>
            <a:chExt cx="8447760" cy="2283120"/>
          </a:xfrm>
        </p:grpSpPr>
        <p:sp>
          <p:nvSpPr>
            <p:cNvPr id="381" name=""/>
            <p:cNvSpPr/>
            <p:nvPr/>
          </p:nvSpPr>
          <p:spPr>
            <a:xfrm>
              <a:off x="4727880" y="3124080"/>
              <a:ext cx="40723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Delay = 420 ps, Throughput = 14.29 GOP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361800" y="1173240"/>
              <a:ext cx="8447760" cy="2283120"/>
              <a:chOff x="361800" y="1173240"/>
              <a:chExt cx="8447760" cy="2283120"/>
            </a:xfrm>
          </p:grpSpPr>
          <p:sp>
            <p:nvSpPr>
              <p:cNvPr id="383" name=""/>
              <p:cNvSpPr/>
              <p:nvPr/>
            </p:nvSpPr>
            <p:spPr>
              <a:xfrm>
                <a:off x="1670040" y="2084040"/>
                <a:ext cx="4129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61800" y="2084040"/>
                <a:ext cx="41148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12248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164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249408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41324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6568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78484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23728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15644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608880" y="2084040"/>
                <a:ext cx="4111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7978680" y="2084040"/>
                <a:ext cx="412920" cy="0"/>
              </a:xfrm>
              <a:prstGeom prst="line">
                <a:avLst/>
              </a:prstGeom>
              <a:ln w="50760">
                <a:solidFill>
                  <a:srgbClr val="33cc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1306800" y="3124080"/>
                <a:ext cx="690480" cy="33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Clock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1539720" y="1541160"/>
                <a:ext cx="19368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1670040" y="2701800"/>
                <a:ext cx="0" cy="3423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17480" y="1541160"/>
                <a:ext cx="46692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033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2891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911320" y="1541160"/>
                <a:ext cx="19224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1640" y="2701800"/>
                <a:ext cx="0" cy="274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2089080" y="1541160"/>
                <a:ext cx="46692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19749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26607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4282920" y="1541160"/>
                <a:ext cx="19224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4413240" y="2701800"/>
                <a:ext cx="0" cy="274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459240" y="1541160"/>
                <a:ext cx="46836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3465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0305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654520" y="1541160"/>
                <a:ext cx="19224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784840" y="2701800"/>
                <a:ext cx="0" cy="274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830840" y="1541160"/>
                <a:ext cx="46836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7181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4039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26120" y="1541160"/>
                <a:ext cx="19224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156440" y="2701800"/>
                <a:ext cx="0" cy="274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202440" y="1541160"/>
                <a:ext cx="46836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0897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755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8397720" y="1541160"/>
                <a:ext cx="192240" cy="11538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g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528040" y="2701800"/>
                <a:ext cx="0" cy="2743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574040" y="1541160"/>
                <a:ext cx="468360" cy="1153800"/>
              </a:xfrm>
              <a:prstGeom prst="rect">
                <a:avLst/>
              </a:prstGeom>
              <a:solidFill>
                <a:srgbClr val="ccffff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Comb.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200" spc="-1" strike="noStrike">
                    <a:solidFill>
                      <a:srgbClr val="000066"/>
                    </a:solidFill>
                    <a:latin typeface="Arial"/>
                  </a:rPr>
                  <a:t>logic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613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5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8147160" y="1173240"/>
                <a:ext cx="662400" cy="326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20 p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670040" y="2976480"/>
                <a:ext cx="6875640" cy="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5-30T16:35:16Z</dcterms:modified>
  <cp:revision>77</cp:revision>
  <dc:subject>SRC Review Slides</dc:subject>
  <dc:title>Formal Processor Verification</dc:title>
</cp:coreProperties>
</file>