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0E0D855F-3E36-4FF5-A6A2-A7998E49BF5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533520"/>
            <a:ext cx="5758560" cy="343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Pipelined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90160" y="5486400"/>
            <a:ext cx="829476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operation depends on result from preceding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828800" y="1143000"/>
            <a:ext cx="4267080" cy="2513520"/>
            <a:chOff x="1828800" y="1143000"/>
            <a:chExt cx="4267080" cy="2513520"/>
          </a:xfrm>
        </p:grpSpPr>
        <p:sp>
          <p:nvSpPr>
            <p:cNvPr id="430" name=""/>
            <p:cNvSpPr/>
            <p:nvPr/>
          </p:nvSpPr>
          <p:spPr>
            <a:xfrm>
              <a:off x="1905120" y="229392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24760" y="332424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8440" y="1690560"/>
              <a:ext cx="273708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720" y="167652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99040" y="227952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08520" y="296532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8800" y="1143000"/>
              <a:ext cx="4267080" cy="762120"/>
            </a:xfrm>
            <a:custGeom>
              <a:avLst/>
              <a:gdLst/>
              <a:ahLst/>
              <a:rect l="l" t="t" r="r" b="b"/>
              <a:pathLst>
                <a:path w="2688" h="480">
                  <a:moveTo>
                    <a:pt x="2496" y="432"/>
                  </a:moveTo>
                  <a:lnTo>
                    <a:pt x="2688" y="432"/>
                  </a:lnTo>
                  <a:lnTo>
                    <a:pt x="2688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336" y="48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2120" y="3733920"/>
            <a:ext cx="6400800" cy="1252800"/>
            <a:chOff x="762120" y="3733920"/>
            <a:chExt cx="6400800" cy="1252800"/>
          </a:xfrm>
        </p:grpSpPr>
        <p:sp>
          <p:nvSpPr>
            <p:cNvPr id="438" name=""/>
            <p:cNvSpPr/>
            <p:nvPr/>
          </p:nvSpPr>
          <p:spPr>
            <a:xfrm>
              <a:off x="1600200" y="4973400"/>
              <a:ext cx="5562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47560" y="465444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2120" y="37339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2120" y="40384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120" y="4343400"/>
              <a:ext cx="8380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6520" y="3740040"/>
              <a:ext cx="18288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1680" y="3878280"/>
              <a:ext cx="419400" cy="33300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4059000"/>
              <a:ext cx="18288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34120" y="4378320"/>
              <a:ext cx="1828800" cy="304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4211640"/>
              <a:ext cx="419040" cy="33300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Haza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ult does not feed back around in time for next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has changed behavior of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143000" y="1219320"/>
            <a:ext cx="6629400" cy="2541960"/>
            <a:chOff x="1143000" y="1219320"/>
            <a:chExt cx="6629400" cy="2541960"/>
          </a:xfrm>
        </p:grpSpPr>
        <p:sp>
          <p:nvSpPr>
            <p:cNvPr id="451" name=""/>
            <p:cNvSpPr/>
            <p:nvPr/>
          </p:nvSpPr>
          <p:spPr>
            <a:xfrm>
              <a:off x="29782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0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146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24080" y="3070080"/>
              <a:ext cx="0" cy="205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5120" y="342900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066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356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04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720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3070080"/>
              <a:ext cx="0" cy="205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640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930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578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294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38880" y="3070080"/>
              <a:ext cx="0" cy="43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214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24080" y="3276360"/>
              <a:ext cx="4114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19320" y="1219320"/>
              <a:ext cx="6553080" cy="761760"/>
            </a:xfrm>
            <a:custGeom>
              <a:avLst/>
              <a:gdLst/>
              <a:ahLst/>
              <a:rect l="l" t="t" r="r" b="b"/>
              <a:pathLst>
                <a:path w="4128" h="480">
                  <a:moveTo>
                    <a:pt x="3840" y="480"/>
                  </a:moveTo>
                  <a:lnTo>
                    <a:pt x="4128" y="480"/>
                  </a:lnTo>
                  <a:lnTo>
                    <a:pt x="4128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240" y="480"/>
                  </a:lnTo>
                </a:path>
              </a:pathLst>
            </a:custGeom>
            <a:noFill/>
            <a:ln w="38160">
              <a:solidFill>
                <a:srgbClr val="33cc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905120" y="3581280"/>
            <a:ext cx="4572000" cy="1558080"/>
            <a:chOff x="1905120" y="3581280"/>
            <a:chExt cx="4572000" cy="1558080"/>
          </a:xfrm>
        </p:grpSpPr>
        <p:sp>
          <p:nvSpPr>
            <p:cNvPr id="470" name=""/>
            <p:cNvSpPr/>
            <p:nvPr/>
          </p:nvSpPr>
          <p:spPr>
            <a:xfrm>
              <a:off x="2819520" y="5111640"/>
              <a:ext cx="3657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90560" y="480708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5120" y="35812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5120" y="388620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5120" y="41911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819520" y="3587760"/>
              <a:ext cx="1828800" cy="304920"/>
              <a:chOff x="2819520" y="3587760"/>
              <a:chExt cx="1828800" cy="304920"/>
            </a:xfrm>
          </p:grpSpPr>
          <p:sp>
            <p:nvSpPr>
              <p:cNvPr id="476" name=""/>
              <p:cNvSpPr/>
              <p:nvPr/>
            </p:nvSpPr>
            <p:spPr>
              <a:xfrm>
                <a:off x="2819520" y="35877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429000" y="35877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38480" y="358776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429000" y="3892680"/>
              <a:ext cx="1828800" cy="304560"/>
              <a:chOff x="3429000" y="3892680"/>
              <a:chExt cx="1828800" cy="304560"/>
            </a:xfrm>
          </p:grpSpPr>
          <p:sp>
            <p:nvSpPr>
              <p:cNvPr id="480" name=""/>
              <p:cNvSpPr/>
              <p:nvPr/>
            </p:nvSpPr>
            <p:spPr>
              <a:xfrm>
                <a:off x="3429000" y="389268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8480" y="389268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7960" y="3892680"/>
                <a:ext cx="60984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038840" y="4197240"/>
              <a:ext cx="1828800" cy="304920"/>
              <a:chOff x="4038840" y="4197240"/>
              <a:chExt cx="1828800" cy="304920"/>
            </a:xfrm>
          </p:grpSpPr>
          <p:sp>
            <p:nvSpPr>
              <p:cNvPr id="484" name=""/>
              <p:cNvSpPr/>
              <p:nvPr/>
            </p:nvSpPr>
            <p:spPr>
              <a:xfrm>
                <a:off x="4038840" y="419724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648320" y="419724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57800" y="419724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905120" y="44956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648320" y="4502160"/>
              <a:ext cx="1828800" cy="304920"/>
              <a:chOff x="4648320" y="4502160"/>
              <a:chExt cx="1828800" cy="304920"/>
            </a:xfrm>
          </p:grpSpPr>
          <p:sp>
            <p:nvSpPr>
              <p:cNvPr id="489" name=""/>
              <p:cNvSpPr/>
              <p:nvPr/>
            </p:nvSpPr>
            <p:spPr>
              <a:xfrm>
                <a:off x="4648320" y="45021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57800" y="45021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7280" y="450216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4415040" y="3725640"/>
              <a:ext cx="419040" cy="95256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 in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829476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ult from one instruction used as operand for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-after-write (RAW) depend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common in actual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make sure our pipeline handles these proper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correct resul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ize performance impa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15238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irmovl $50, %ea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19810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addl %eax ,  %eb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4382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mrmovl 100( %ebx ),  %ed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32040" y="1523880"/>
            <a:ext cx="1092240" cy="762120"/>
            <a:chOff x="3632040" y="1523880"/>
            <a:chExt cx="1092240" cy="762120"/>
          </a:xfrm>
        </p:grpSpPr>
        <p:sp>
          <p:nvSpPr>
            <p:cNvPr id="499" name=""/>
            <p:cNvSpPr/>
            <p:nvPr/>
          </p:nvSpPr>
          <p:spPr>
            <a:xfrm>
              <a:off x="4267080" y="15238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32040" y="19810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051440" y="1771560"/>
              <a:ext cx="272880" cy="27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267080" y="1981080"/>
            <a:ext cx="546120" cy="762120"/>
            <a:chOff x="4267080" y="1981080"/>
            <a:chExt cx="546120" cy="762120"/>
          </a:xfrm>
        </p:grpSpPr>
        <p:sp>
          <p:nvSpPr>
            <p:cNvPr id="503" name=""/>
            <p:cNvSpPr/>
            <p:nvPr/>
          </p:nvSpPr>
          <p:spPr>
            <a:xfrm>
              <a:off x="4356000" y="19810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67080" y="24382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4495320" y="2286000"/>
              <a:ext cx="8892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ges occur in sequen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peration in process at a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68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4229280" y="152280"/>
            <a:ext cx="4076640" cy="60292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+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ill sequential imple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order PC stage to put at beginn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Stag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sk is to select PC for current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results computed by previous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or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C is no longer stored in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, can determine PC based on other stored inform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168800" cy="56926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428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ing Pipeline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343400" y="76212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curr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r write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-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registers hold intermediate values from instruction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 (Upward) Pa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assed from one stage to n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jump pas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valC passes through de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edback Pat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icted P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value of nex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ken/not-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ll-through or targe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upda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register file write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715000" y="5181480"/>
            <a:ext cx="1981080" cy="121932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1248" y="0"/>
                </a:moveTo>
                <a:lnTo>
                  <a:pt x="1248" y="768"/>
                </a:lnTo>
                <a:lnTo>
                  <a:pt x="0" y="768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9720" y="1752480"/>
            <a:ext cx="1143000" cy="3962520"/>
          </a:xfrm>
          <a:custGeom>
            <a:avLst/>
            <a:gdLst/>
            <a:ahLst/>
            <a:rect l="l" t="t" r="r" b="b"/>
            <a:pathLst>
              <a:path w="720" h="2496">
                <a:moveTo>
                  <a:pt x="672" y="48"/>
                </a:moveTo>
                <a:lnTo>
                  <a:pt x="672" y="0"/>
                </a:lnTo>
                <a:lnTo>
                  <a:pt x="0" y="0"/>
                </a:lnTo>
                <a:lnTo>
                  <a:pt x="0" y="2496"/>
                </a:lnTo>
                <a:lnTo>
                  <a:pt x="720" y="2496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5880" y="380880"/>
            <a:ext cx="2514600" cy="5410440"/>
          </a:xfrm>
          <a:custGeom>
            <a:avLst/>
            <a:gdLst/>
            <a:ahLst/>
            <a:rect l="l" t="t" r="r" b="b"/>
            <a:pathLst>
              <a:path w="1584" h="3408">
                <a:moveTo>
                  <a:pt x="432" y="48"/>
                </a:moveTo>
                <a:lnTo>
                  <a:pt x="432" y="0"/>
                </a:lnTo>
                <a:lnTo>
                  <a:pt x="1584" y="0"/>
                </a:lnTo>
                <a:lnTo>
                  <a:pt x="1584" y="3408"/>
                </a:lnTo>
                <a:lnTo>
                  <a:pt x="0" y="3408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304920"/>
            <a:ext cx="2209680" cy="3962160"/>
          </a:xfrm>
          <a:custGeom>
            <a:avLst/>
            <a:gdLst/>
            <a:ahLst/>
            <a:rect l="l" t="t" r="r" b="b"/>
            <a:pathLst>
              <a:path w="1392" h="2496">
                <a:moveTo>
                  <a:pt x="0" y="96"/>
                </a:moveTo>
                <a:lnTo>
                  <a:pt x="0" y="0"/>
                </a:lnTo>
                <a:lnTo>
                  <a:pt x="1392" y="0"/>
                </a:lnTo>
                <a:lnTo>
                  <a:pt x="1392" y="2496"/>
                </a:lnTo>
                <a:lnTo>
                  <a:pt x="480" y="2496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3329280" cy="9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dicting the P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0520" y="4495680"/>
            <a:ext cx="862488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fetch of new instruction after current one has completed fetch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enough time to reliably determine next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instruction will fol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over if prediction was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04684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Principles of Pipelin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ng a Pipelined Y86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rranging SEQ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ing pipelin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blems with data and control haza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ur Prediction Strateg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that Don’t Transfer Contro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and Uncondition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C (destina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C (destina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correct if branch is 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right 60% of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try to predi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328920" cy="9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overing from PC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4343040"/>
            <a:ext cx="8624880" cy="20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ed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see branch flag once instruction reaches memory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get fall-through PC from val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get return PC 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ches write-back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504684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Demonst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3504960"/>
            <a:ext cx="3048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ile: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demo-basic.ys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43000" y="990720"/>
            <a:ext cx="7010280" cy="5486040"/>
            <a:chOff x="1143000" y="990720"/>
            <a:chExt cx="7010280" cy="5486040"/>
          </a:xfrm>
        </p:grpSpPr>
        <p:sp>
          <p:nvSpPr>
            <p:cNvPr id="539" name=""/>
            <p:cNvSpPr/>
            <p:nvPr/>
          </p:nvSpPr>
          <p:spPr>
            <a:xfrm>
              <a:off x="1143000" y="1371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1,%eax  #I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384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956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528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100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672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244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16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388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960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43000" y="16765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2,%ecx  #I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56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528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100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67280" y="1676520"/>
              <a:ext cx="457200" cy="304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67280" y="1371600"/>
              <a:ext cx="457200" cy="304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43000" y="1981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3,%edx  #I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4952880" y="1981080"/>
              <a:ext cx="2286000" cy="304920"/>
              <a:chOff x="4952880" y="1981080"/>
              <a:chExt cx="2286000" cy="304920"/>
            </a:xfrm>
          </p:grpSpPr>
          <p:sp>
            <p:nvSpPr>
              <p:cNvPr id="562" name=""/>
              <p:cNvSpPr/>
              <p:nvPr/>
            </p:nvSpPr>
            <p:spPr>
              <a:xfrm>
                <a:off x="49528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100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7280" y="1981080"/>
                <a:ext cx="457200" cy="3049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244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816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143000" y="2286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4,%ebx  #I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410080" y="2286000"/>
              <a:ext cx="2286000" cy="304560"/>
              <a:chOff x="5410080" y="2286000"/>
              <a:chExt cx="2286000" cy="304560"/>
            </a:xfrm>
          </p:grpSpPr>
          <p:sp>
            <p:nvSpPr>
              <p:cNvPr id="569" name=""/>
              <p:cNvSpPr/>
              <p:nvPr/>
            </p:nvSpPr>
            <p:spPr>
              <a:xfrm>
                <a:off x="54100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7280" y="2286000"/>
                <a:ext cx="457200" cy="3045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244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816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388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143000" y="25909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halt              #I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5867280" y="2590920"/>
              <a:ext cx="2286000" cy="304560"/>
              <a:chOff x="5867280" y="2590920"/>
              <a:chExt cx="2286000" cy="304560"/>
            </a:xfrm>
          </p:grpSpPr>
          <p:sp>
            <p:nvSpPr>
              <p:cNvPr id="576" name=""/>
              <p:cNvSpPr/>
              <p:nvPr/>
            </p:nvSpPr>
            <p:spPr>
              <a:xfrm>
                <a:off x="5867280" y="2590920"/>
                <a:ext cx="457200" cy="3045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244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7816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388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960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 flipH="1">
              <a:off x="5638320" y="2895480"/>
              <a:ext cx="228600" cy="533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24480" y="2895480"/>
              <a:ext cx="228600" cy="533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8680" y="30481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ycle 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638680" y="3429000"/>
              <a:ext cx="914400" cy="609480"/>
              <a:chOff x="5638680" y="3429000"/>
              <a:chExt cx="914400" cy="609480"/>
            </a:xfrm>
          </p:grpSpPr>
          <p:sp>
            <p:nvSpPr>
              <p:cNvPr id="585" name=""/>
              <p:cNvSpPr/>
              <p:nvPr/>
            </p:nvSpPr>
            <p:spPr>
              <a:xfrm>
                <a:off x="5638680" y="342900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15000" y="373356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638680" y="4038480"/>
              <a:ext cx="914400" cy="609480"/>
              <a:chOff x="5638680" y="4038480"/>
              <a:chExt cx="914400" cy="609480"/>
            </a:xfrm>
          </p:grpSpPr>
          <p:sp>
            <p:nvSpPr>
              <p:cNvPr id="588" name=""/>
              <p:cNvSpPr/>
              <p:nvPr/>
            </p:nvSpPr>
            <p:spPr>
              <a:xfrm>
                <a:off x="5638680" y="403848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15000" y="434304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5638680" y="4648320"/>
              <a:ext cx="914400" cy="609480"/>
              <a:chOff x="5638680" y="4648320"/>
              <a:chExt cx="914400" cy="609480"/>
            </a:xfrm>
          </p:grpSpPr>
          <p:sp>
            <p:nvSpPr>
              <p:cNvPr id="591" name=""/>
              <p:cNvSpPr/>
              <p:nvPr/>
            </p:nvSpPr>
            <p:spPr>
              <a:xfrm>
                <a:off x="5638680" y="464832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15000" y="495288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5638680" y="5257800"/>
              <a:ext cx="914400" cy="609480"/>
              <a:chOff x="5638680" y="5257800"/>
              <a:chExt cx="914400" cy="60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5638680" y="525780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15000" y="556236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5638680" y="5867280"/>
              <a:ext cx="914400" cy="609480"/>
              <a:chOff x="5638680" y="5867280"/>
              <a:chExt cx="914400" cy="609480"/>
            </a:xfrm>
          </p:grpSpPr>
          <p:sp>
            <p:nvSpPr>
              <p:cNvPr id="597" name=""/>
              <p:cNvSpPr/>
              <p:nvPr/>
            </p:nvSpPr>
            <p:spPr>
              <a:xfrm>
                <a:off x="5638680" y="586728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15000" y="617184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3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90720" y="838080"/>
            <a:ext cx="7926120" cy="5869080"/>
            <a:chOff x="990720" y="838080"/>
            <a:chExt cx="7926120" cy="5869080"/>
          </a:xfrm>
        </p:grpSpPr>
        <p:sp>
          <p:nvSpPr>
            <p:cNvPr id="601" name=""/>
            <p:cNvSpPr/>
            <p:nvPr/>
          </p:nvSpPr>
          <p:spPr>
            <a:xfrm>
              <a:off x="990720" y="12193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34360" y="1281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78120" y="1281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3680" y="128124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55400" y="1281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86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43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434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615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006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187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578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759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50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331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903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294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475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866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047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438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619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862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97880" y="1263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34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43560" y="1263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006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05440" y="1263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578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5720" y="1263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150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91760" y="1263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862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97880" y="1263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434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43560" y="1263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006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05440" y="1263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578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45720" y="1263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150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91760" y="1263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90720" y="15238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34360" y="15858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78120" y="15858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30240" y="158580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55400" y="15858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434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55080" y="1568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006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00760" y="1568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78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62640" y="1568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50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02920" y="1568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72200" y="15238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8960" y="1568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34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55080" y="1568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00760" y="1568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578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62640" y="1568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150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02920" y="1568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72200" y="15238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48960" y="1568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90720" y="18288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34360" y="18907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78840" y="1890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006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12280" y="18730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578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57960" y="18730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150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19840" y="18730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72200" y="18288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60120" y="1873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29400" y="18288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06160" y="18730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06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12280" y="18730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578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57960" y="18730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150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19840" y="18730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72200" y="18288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60120" y="1873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29400" y="18288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06160" y="18730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90720" y="21337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34360" y="219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78840" y="2195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578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69480" y="21780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150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15160" y="21780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72200" y="213372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77040" y="21780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29400" y="21337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17320" y="21780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866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63360" y="21780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578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69480" y="21780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50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15160" y="21780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2200" y="213372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77040" y="21780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29400" y="21337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17320" y="21780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866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63360" y="21780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90720" y="2438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34360" y="25002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78840" y="25002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150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26680" y="24829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72200" y="24382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72360" y="24829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29400" y="24382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34240" y="24829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866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4520" y="24829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438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720560" y="24829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150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26680" y="24829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72200" y="24382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72360" y="24829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29400" y="24382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34240" y="24829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74520" y="24829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438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20560" y="24829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90720" y="27432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34360" y="28051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f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78840" y="28051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11640" y="28051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17120" y="28051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36800" y="280512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48840" y="28051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72200" y="27432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83880" y="27874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29400" y="27432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29560" y="27874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866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91440" y="27874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438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31720" y="27874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010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177760" y="27874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72200" y="27432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83880" y="27874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27432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29560" y="27874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866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91440" y="27874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438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31720" y="27874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010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77760" y="27874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724280" y="3048120"/>
              <a:ext cx="144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29400" y="3048120"/>
              <a:ext cx="144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010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77040" y="90792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24280" y="4114800"/>
              <a:ext cx="1906560" cy="99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25000" y="4179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4280" y="44956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1080" y="454356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53320" y="45626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58800" y="4562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63360" y="454356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39760" y="45370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70800" y="454356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24280" y="4114800"/>
              <a:ext cx="1906560" cy="99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25000" y="4179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24280" y="44956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1080" y="454356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53320" y="45626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58800" y="4562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63360" y="454356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39760" y="45370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70800" y="454356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29400" y="57150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53520" y="57801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29400" y="609588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64040" y="614664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236720" y="614052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367760" y="614664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60000" y="61657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65480" y="6165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70040" y="614664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68680" y="614664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21320" y="614664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64040" y="638028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36720" y="63738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67760" y="638028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60000" y="6399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65480" y="6399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70040" y="638028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068680" y="638028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21680" y="63802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29400" y="57150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53520" y="57801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29400" y="609588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64040" y="614664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36720" y="614052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67760" y="614664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60000" y="61657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65480" y="6165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70040" y="614664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68680" y="614664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21320" y="614664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64040" y="638028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36720" y="63738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367760" y="638028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60000" y="6399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65480" y="6399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70040" y="638028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68680" y="638028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21680" y="63802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90720" y="9144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88280" y="96840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3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600" y="3733920"/>
              <a:ext cx="1754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81640" y="3794040"/>
              <a:ext cx="678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ycle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458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634240" y="90792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0720" y="30481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33640" y="311004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1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629400" y="3048120"/>
              <a:ext cx="2287440" cy="2700360"/>
              <a:chOff x="6629400" y="3048120"/>
              <a:chExt cx="2287440" cy="2700360"/>
            </a:xfrm>
          </p:grpSpPr>
          <p:sp>
            <p:nvSpPr>
              <p:cNvPr id="834" name=""/>
              <p:cNvSpPr/>
              <p:nvPr/>
            </p:nvSpPr>
            <p:spPr>
              <a:xfrm>
                <a:off x="6629400" y="3048120"/>
                <a:ext cx="458640" cy="306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41080" y="3092400"/>
                <a:ext cx="1242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866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86760" y="309240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438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48640" y="309240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0010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88920" y="309240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4582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34960" y="309240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629400" y="3048120"/>
                <a:ext cx="458640" cy="306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841080" y="3092400"/>
                <a:ext cx="1242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866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286760" y="309240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438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48640" y="309240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0010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188920" y="309240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4582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34960" y="309240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86600" y="3352680"/>
                <a:ext cx="144792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629400" y="5410080"/>
                <a:ext cx="18302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248600" y="547056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2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62120" y="762120"/>
            <a:ext cx="7468920" cy="5563800"/>
            <a:chOff x="762120" y="762120"/>
            <a:chExt cx="7468920" cy="5563800"/>
          </a:xfrm>
        </p:grpSpPr>
        <p:sp>
          <p:nvSpPr>
            <p:cNvPr id="859" name=""/>
            <p:cNvSpPr/>
            <p:nvPr/>
          </p:nvSpPr>
          <p:spPr>
            <a:xfrm>
              <a:off x="762120" y="1143000"/>
              <a:ext cx="259056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0504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4952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94360" y="12049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26800" y="1204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57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5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14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332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72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90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29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47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86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045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61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00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18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76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15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33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576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148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720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292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864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576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20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292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864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2120" y="144756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5040" y="1509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49520" y="1509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501280" y="15094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26800" y="1509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720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292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864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3600" y="14475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720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4864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43600" y="14475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62120" y="17524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5040" y="18144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50240" y="1814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5720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292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864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943600" y="17524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008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720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0292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43600" y="17524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008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62120" y="2057400"/>
              <a:ext cx="259056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05040" y="2119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50240" y="2119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292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864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05740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008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580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0292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64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43600" y="205740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008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580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2120" y="236196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5040" y="24238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50240" y="24238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82320" y="2423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8520" y="2423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07480" y="242388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20240" y="2423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64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3600" y="23619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08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580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152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64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43600" y="23619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4008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580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52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2120" y="26668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4320" y="272880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43600" y="26668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008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580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152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724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26668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008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580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3152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724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5181120" y="2971800"/>
              <a:ext cx="76212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00800" y="2971800"/>
              <a:ext cx="68580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72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948800" y="83196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2120" y="8380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04320" y="89208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2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181480" y="3733560"/>
              <a:ext cx="1906560" cy="992160"/>
              <a:chOff x="5181480" y="3733560"/>
              <a:chExt cx="1906560" cy="992160"/>
            </a:xfrm>
          </p:grpSpPr>
          <p:sp>
            <p:nvSpPr>
              <p:cNvPr id="1029" name=""/>
              <p:cNvSpPr/>
              <p:nvPr/>
            </p:nvSpPr>
            <p:spPr>
              <a:xfrm>
                <a:off x="5181480" y="37335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081480" y="379836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81480" y="4114440"/>
                <a:ext cx="1906560" cy="30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317560" y="4161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509800" y="4181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616000" y="4181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920200" y="4161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095880" y="4155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27280" y="4161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181480" y="5333760"/>
              <a:ext cx="1906560" cy="992160"/>
              <a:chOff x="5181480" y="5333760"/>
              <a:chExt cx="1906560" cy="9921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81480" y="53337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6019920" y="4724280"/>
              <a:ext cx="2570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56000" y="472608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56000" y="48974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56000" y="506880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81480" y="373356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81480" y="4114800"/>
              <a:ext cx="1906560" cy="30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1756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0980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16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20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95880" y="415584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27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81480" y="373356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81480" y="4114800"/>
              <a:ext cx="1906560" cy="30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1756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0980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616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920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095880" y="415584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27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181480" y="3352680"/>
              <a:ext cx="2713320" cy="2972880"/>
              <a:chOff x="5181480" y="3352680"/>
              <a:chExt cx="2713320" cy="2972880"/>
            </a:xfrm>
          </p:grpSpPr>
          <p:sp>
            <p:nvSpPr>
              <p:cNvPr id="1081" name=""/>
              <p:cNvSpPr/>
              <p:nvPr/>
            </p:nvSpPr>
            <p:spPr>
              <a:xfrm>
                <a:off x="5181480" y="533340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181480" y="533340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19920" y="4723920"/>
                <a:ext cx="257040" cy="60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156000" y="472572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56000" y="489708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56000" y="50684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81480" y="3352680"/>
                <a:ext cx="19065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38480" y="341280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858000" y="5866920"/>
                <a:ext cx="533520" cy="172440"/>
                <a:chOff x="6858000" y="5866920"/>
                <a:chExt cx="533520" cy="172440"/>
              </a:xfrm>
            </p:grpSpPr>
            <p:sp>
              <p:nvSpPr>
                <p:cNvPr id="1126" name=""/>
                <p:cNvSpPr/>
                <p:nvPr/>
              </p:nvSpPr>
              <p:spPr>
                <a:xfrm flipH="1">
                  <a:off x="6950160" y="5866920"/>
                  <a:ext cx="441360" cy="12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858000" y="5944320"/>
                  <a:ext cx="109440" cy="95040"/>
                </a:xfrm>
                <a:custGeom>
                  <a:avLst/>
                  <a:gdLst/>
                  <a:ahLst/>
                  <a:rect l="l" t="t" r="r" b="b"/>
                  <a:pathLst>
                    <a:path w="69" h="60">
                      <a:moveTo>
                        <a:pt x="52" y="0"/>
                      </a:moveTo>
                      <a:lnTo>
                        <a:pt x="0" y="47"/>
                      </a:lnTo>
                      <a:lnTo>
                        <a:pt x="69" y="6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7315200" y="5714640"/>
                <a:ext cx="5796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43720" y="577188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1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066680" y="685800"/>
            <a:ext cx="7011720" cy="6097320"/>
            <a:chOff x="1066680" y="685800"/>
            <a:chExt cx="7011720" cy="6097320"/>
          </a:xfrm>
        </p:grpSpPr>
        <p:sp>
          <p:nvSpPr>
            <p:cNvPr id="1132" name=""/>
            <p:cNvSpPr/>
            <p:nvPr/>
          </p:nvSpPr>
          <p:spPr>
            <a:xfrm>
              <a:off x="1066680" y="10666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209600" y="1128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54080" y="1128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98920" y="112860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31360" y="1128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21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803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193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375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765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947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3337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5519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909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0091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481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663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053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9235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1625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807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197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379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621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3120" y="11109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193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19160" y="11109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765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80680" y="11109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337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20960" y="11109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2481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424200" y="14158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66680" y="13716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09600" y="1433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54080" y="1433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05840" y="14335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31360" y="1433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193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30320" y="14158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765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76360" y="14158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3337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37880" y="14158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90960" y="1371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78160" y="14158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90960" y="10666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67000" y="1110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066680" y="167616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09600" y="17380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954800" y="17380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765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087520" y="1720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3337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533560" y="1720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790960" y="16761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5080" y="1720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481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35360" y="1720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053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81400" y="1720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765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87520" y="1720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3337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33560" y="1720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90960" y="16761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95080" y="1720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481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5360" y="1720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7053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881400" y="1720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6680" y="1981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209600" y="20430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54800" y="204300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486880" y="20430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93080" y="20430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912040" y="204300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124800" y="20430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337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44720" y="20253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790960" y="19810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990760" y="20253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2481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52280" y="20253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053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892560" y="20253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1625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38600" y="20253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337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4720" y="20253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90960" y="19810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990760" y="20253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81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452280" y="20253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053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92560" y="20253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1625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38600" y="20253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6680" y="22860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08880" y="2347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f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90960" y="2286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01920" y="2330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81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447960" y="2330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053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09480" y="2330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1625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349760" y="2330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197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95800" y="2330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0960" y="2286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01920" y="2330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481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47960" y="2330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053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09480" y="2330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625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349760" y="2330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197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795800" y="2330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66680" y="6858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208880" y="73980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1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5028480" y="259056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259056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28840" y="32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28840" y="3265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28840" y="35812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64920" y="362880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357160" y="3647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63360" y="3647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67560" y="362880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43240" y="36226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74280" y="36288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28840" y="32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28840" y="3265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28840" y="35812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64920" y="362880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57160" y="3647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63360" y="3647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67560" y="362880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43240" y="36226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74280" y="36288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5028840" y="2819160"/>
              <a:ext cx="2745000" cy="3963960"/>
              <a:chOff x="5028840" y="2819160"/>
              <a:chExt cx="2745000" cy="3963960"/>
            </a:xfrm>
          </p:grpSpPr>
          <p:sp>
            <p:nvSpPr>
              <p:cNvPr id="1275" name=""/>
              <p:cNvSpPr/>
              <p:nvPr/>
            </p:nvSpPr>
            <p:spPr>
              <a:xfrm>
                <a:off x="5028840" y="57909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52600" y="58561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28840" y="61722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163840" y="62229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635440" y="6216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766840" y="6222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58720" y="6242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064920" y="6242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369120" y="6222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67760" y="62229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620760" y="6222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3840" y="64562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635440" y="64497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766840" y="64562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58720" y="64753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064920" y="64753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369120" y="64562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67760" y="64562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20760" y="6456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028840" y="57909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52600" y="58561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028840" y="61722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163840" y="62229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35440" y="6216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66840" y="6222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58720" y="6242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064920" y="6242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369120" y="6222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67760" y="62229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620760" y="6222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163840" y="64562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635440" y="64497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766840" y="64562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8720" y="64753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064920" y="64753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369120" y="64562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67760" y="64562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620760" y="6456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7280" y="5181480"/>
                <a:ext cx="25704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03360" y="518292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03360" y="53546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03360" y="552600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28840" y="281916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685840" y="287964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19" name=""/>
              <p:cNvGrpSpPr/>
              <p:nvPr/>
            </p:nvGrpSpPr>
            <p:grpSpPr>
              <a:xfrm>
                <a:off x="6705360" y="6248160"/>
                <a:ext cx="533160" cy="236520"/>
                <a:chOff x="6705360" y="6248160"/>
                <a:chExt cx="533160" cy="236520"/>
              </a:xfrm>
            </p:grpSpPr>
            <p:sp>
              <p:nvSpPr>
                <p:cNvPr id="1320" name=""/>
                <p:cNvSpPr/>
                <p:nvPr/>
              </p:nvSpPr>
              <p:spPr>
                <a:xfrm flipH="1">
                  <a:off x="6792480" y="624816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705360" y="6392880"/>
                  <a:ext cx="111240" cy="9180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2" name=""/>
              <p:cNvSpPr/>
              <p:nvPr/>
            </p:nvSpPr>
            <p:spPr>
              <a:xfrm>
                <a:off x="7194240" y="601956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322760" y="607680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028840" y="41907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940000" y="425592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28840" y="449568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64920" y="45576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409720" y="45576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03920" y="4557600"/>
                <a:ext cx="253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64920" y="477828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10080" y="477828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15440" y="47782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982840" y="47973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088680" y="47973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6705360" y="6172200"/>
                <a:ext cx="533520" cy="110880"/>
                <a:chOff x="6705360" y="6172200"/>
                <a:chExt cx="533520" cy="110880"/>
              </a:xfrm>
            </p:grpSpPr>
            <p:sp>
              <p:nvSpPr>
                <p:cNvPr id="1336" name=""/>
                <p:cNvSpPr/>
                <p:nvPr/>
              </p:nvSpPr>
              <p:spPr>
                <a:xfrm flipH="1">
                  <a:off x="6798960" y="61722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705360" y="618480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No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281240" y="747720"/>
            <a:ext cx="6554520" cy="5335560"/>
            <a:chOff x="1281240" y="747720"/>
            <a:chExt cx="6554520" cy="5335560"/>
          </a:xfrm>
        </p:grpSpPr>
        <p:sp>
          <p:nvSpPr>
            <p:cNvPr id="1340" name=""/>
            <p:cNvSpPr/>
            <p:nvPr/>
          </p:nvSpPr>
          <p:spPr>
            <a:xfrm>
              <a:off x="1281240" y="1128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42488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6864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14200" y="11905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45920" y="1190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76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394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33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52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091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09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483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7664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055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236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462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80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919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38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77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95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767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388400" y="11732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6339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834080" y="11732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0911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295960" y="11732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48320" y="1128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36240" y="11732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627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39480" y="1477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81240" y="143352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2488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6864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020760" y="14954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445920" y="14954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339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45600" y="1477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911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91280" y="1477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48320" y="14335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53160" y="1477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0055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193440" y="1477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055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82280" y="11732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0911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02800" y="17827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48320" y="173844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48480" y="17827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055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10360" y="17827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4627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50640" y="17827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199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096680" y="1782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81240" y="17384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424880" y="1800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69360" y="180036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02160" y="1800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80764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127320" y="180036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33936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48320" y="2043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60000" y="20876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0055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205680" y="20876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627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67560" y="2087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199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07840" y="20876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3771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53880" y="20876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281240" y="20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24160" y="2104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281240" y="8240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423440" y="87804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85840" y="23479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005520" y="2347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786200" y="41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15000" y="41655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4786200" y="2728800"/>
              <a:ext cx="2745000" cy="3354480"/>
              <a:chOff x="4786200" y="2728800"/>
              <a:chExt cx="2745000" cy="3354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786200" y="272880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443560" y="278928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6462720" y="5548320"/>
                <a:ext cx="533160" cy="236520"/>
                <a:chOff x="6462720" y="5548320"/>
                <a:chExt cx="533160" cy="236520"/>
              </a:xfrm>
            </p:grpSpPr>
            <p:sp>
              <p:nvSpPr>
                <p:cNvPr id="1463" name=""/>
                <p:cNvSpPr/>
                <p:nvPr/>
              </p:nvSpPr>
              <p:spPr>
                <a:xfrm flipH="1">
                  <a:off x="6549840" y="554832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462720" y="5692680"/>
                  <a:ext cx="111240" cy="9216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5" name=""/>
              <p:cNvSpPr/>
              <p:nvPr/>
            </p:nvSpPr>
            <p:spPr>
              <a:xfrm>
                <a:off x="6951600" y="531972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080840" y="537696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86200" y="311004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698080" y="317484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86200" y="34146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22640" y="347652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167080" y="347652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561640" y="3476520"/>
                <a:ext cx="352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922640" y="36972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167440" y="369720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573160" y="36972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740560" y="37162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46040" y="37162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6462720" y="5472000"/>
                <a:ext cx="533520" cy="111240"/>
                <a:chOff x="6462720" y="5472000"/>
                <a:chExt cx="533520" cy="111240"/>
              </a:xfrm>
            </p:grpSpPr>
            <p:sp>
              <p:nvSpPr>
                <p:cNvPr id="1479" name=""/>
                <p:cNvSpPr/>
                <p:nvPr/>
              </p:nvSpPr>
              <p:spPr>
                <a:xfrm flipH="1">
                  <a:off x="6556320" y="54720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462720" y="548496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"/>
              <p:cNvSpPr/>
              <p:nvPr/>
            </p:nvSpPr>
            <p:spPr>
              <a:xfrm>
                <a:off x="4786200" y="440532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922640" y="446868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17760" y="446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590440" y="446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17520" y="4468680"/>
                <a:ext cx="756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 + 3 = 3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923000" y="4687920"/>
                <a:ext cx="218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138640" y="468792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544720" y="468792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712120" y="47070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17600" y="47070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290160" y="495288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only execute first 8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80880" y="182880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 t 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 %eax    # Fall thr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f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0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t: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3,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Target (Should not execut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7: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4, 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d:    irmovl $5, %edx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84440" y="1219320"/>
            <a:ext cx="132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j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Tr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462720" cy="591192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304920" y="3352680"/>
            <a:ext cx="4572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orrectly execute two instructions at branch targ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228600" y="91440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irmovl Stack,%esp  # Intialize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6:    n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Avoid hazard on 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8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9:    call p             # Procedure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irmovl $5,%esi    # Return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4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.pos 0x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p: n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1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2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3:    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4:    irmovl $1,%ea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a:    irmovl $2,%ec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0:    irmovl $3,%ed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6:    irmovl $4,%ebx  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Stack:                # Stack: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290160" y="5943600"/>
            <a:ext cx="829476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 lots of nops to avoid data haza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330520" y="304920"/>
            <a:ext cx="160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ret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-World Pipelines: Car Was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57600" y="3886200"/>
            <a:ext cx="4635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9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process into independen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objects through stages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s, multiple objects being pro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38080" y="1143000"/>
            <a:ext cx="2514600" cy="2319480"/>
            <a:chOff x="838080" y="1143000"/>
            <a:chExt cx="2514600" cy="2319480"/>
          </a:xfrm>
        </p:grpSpPr>
        <p:pic>
          <p:nvPicPr>
            <p:cNvPr id="88" name="story.car.wash.ap%5B1%5D" descr=""/>
            <p:cNvPicPr/>
            <p:nvPr/>
          </p:nvPicPr>
          <p:blipFill>
            <a:blip r:embed="rId1"/>
            <a:stretch/>
          </p:blipFill>
          <p:spPr>
            <a:xfrm>
              <a:off x="838080" y="1541520"/>
              <a:ext cx="2514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38080" y="1143000"/>
              <a:ext cx="2362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equenti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181480" y="1143000"/>
            <a:ext cx="1622160" cy="2449080"/>
            <a:chOff x="5181480" y="1143000"/>
            <a:chExt cx="1622160" cy="2449080"/>
          </a:xfrm>
        </p:grpSpPr>
        <p:pic>
          <p:nvPicPr>
            <p:cNvPr id="91" name="car-wash%5B1%5D" descr=""/>
            <p:cNvPicPr/>
            <p:nvPr/>
          </p:nvPicPr>
          <p:blipFill>
            <a:blip r:embed="rId2"/>
            <a:stretch/>
          </p:blipFill>
          <p:spPr>
            <a:xfrm>
              <a:off x="5181480" y="1523880"/>
              <a:ext cx="1622160" cy="20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81480" y="1143000"/>
              <a:ext cx="160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3657600"/>
            <a:ext cx="2743200" cy="2100240"/>
            <a:chOff x="762120" y="3657600"/>
            <a:chExt cx="2743200" cy="2100240"/>
          </a:xfrm>
        </p:grpSpPr>
        <p:pic>
          <p:nvPicPr>
            <p:cNvPr id="94" name="CarWash11" descr=""/>
            <p:cNvPicPr/>
            <p:nvPr/>
          </p:nvPicPr>
          <p:blipFill>
            <a:blip r:embed="rId3"/>
            <a:stretch/>
          </p:blipFill>
          <p:spPr>
            <a:xfrm>
              <a:off x="762120" y="4038840"/>
              <a:ext cx="274320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62120" y="3657600"/>
              <a:ext cx="2666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ipelin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correct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6453360" cy="607392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380880" y="2743200"/>
            <a:ext cx="4648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orrectly execute 3 instructions follow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eak instruction execution into 5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instructions through in pipeline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handle dependencies between instructions when instructions follow too clos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nstruction writes register, later one reads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depend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sets PC in way that pipeline did not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spredicted branch and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 the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do that next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a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 requires total of 300 pic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20 picoseconds to save result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ust have clock cycle of at least 320 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76520" y="1219320"/>
            <a:ext cx="6273360" cy="2237040"/>
            <a:chOff x="1676520" y="1219320"/>
            <a:chExt cx="6273360" cy="2237040"/>
          </a:xfrm>
        </p:grpSpPr>
        <p:sp>
          <p:nvSpPr>
            <p:cNvPr id="99" name=""/>
            <p:cNvSpPr/>
            <p:nvPr/>
          </p:nvSpPr>
          <p:spPr>
            <a:xfrm>
              <a:off x="2139840" y="1552320"/>
              <a:ext cx="250200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11640" y="1552320"/>
              <a:ext cx="21600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5280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252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832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841480"/>
              <a:ext cx="0" cy="228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92760" y="312408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190476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3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3.12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-Way Pipelined Ver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combinational logic into 3 blocks of 100 ps ea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new operation as soon as previous one passes through stage 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 new operation every 120 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latency incre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60 ps from start to finis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88960" y="1219320"/>
            <a:ext cx="8722800" cy="2389680"/>
            <a:chOff x="588960" y="1219320"/>
            <a:chExt cx="8722800" cy="2389680"/>
          </a:xfrm>
        </p:grpSpPr>
        <p:sp>
          <p:nvSpPr>
            <p:cNvPr id="111" name=""/>
            <p:cNvSpPr/>
            <p:nvPr/>
          </p:nvSpPr>
          <p:spPr>
            <a:xfrm>
              <a:off x="24238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896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2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70040" y="291780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360" y="327672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2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12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460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76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27440" y="291780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96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386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034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750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4840" y="291780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670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264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44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38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318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12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892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0040" y="3124440"/>
              <a:ext cx="411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25960" y="198144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36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8.33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Dia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start new operation until previous one comple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-Way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3 operations in proces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09480" y="1981080"/>
            <a:ext cx="7238880" cy="1072080"/>
            <a:chOff x="609480" y="1981080"/>
            <a:chExt cx="7238880" cy="1072080"/>
          </a:xfrm>
        </p:grpSpPr>
        <p:sp>
          <p:nvSpPr>
            <p:cNvPr id="138" name=""/>
            <p:cNvSpPr/>
            <p:nvPr/>
          </p:nvSpPr>
          <p:spPr>
            <a:xfrm>
              <a:off x="1371240" y="3047760"/>
              <a:ext cx="64771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42640" y="272088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560" y="1981080"/>
              <a:ext cx="1752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19810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228564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040" y="2285640"/>
              <a:ext cx="1752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2590560"/>
              <a:ext cx="1752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259056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480" y="4390920"/>
            <a:ext cx="3885840" cy="1246680"/>
            <a:chOff x="609480" y="4390920"/>
            <a:chExt cx="3885840" cy="1246680"/>
          </a:xfrm>
        </p:grpSpPr>
        <p:grpSp>
          <p:nvGrpSpPr>
            <p:cNvPr id="147" name=""/>
            <p:cNvGrpSpPr/>
            <p:nvPr/>
          </p:nvGrpSpPr>
          <p:grpSpPr>
            <a:xfrm>
              <a:off x="1447560" y="4390920"/>
              <a:ext cx="3047760" cy="1246680"/>
              <a:chOff x="1447560" y="4390920"/>
              <a:chExt cx="3047760" cy="1246680"/>
            </a:xfrm>
          </p:grpSpPr>
          <p:sp>
            <p:nvSpPr>
              <p:cNvPr id="148" name=""/>
              <p:cNvSpPr/>
              <p:nvPr/>
            </p:nvSpPr>
            <p:spPr>
              <a:xfrm>
                <a:off x="1447560" y="5610240"/>
                <a:ext cx="30477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18600" y="5305320"/>
                <a:ext cx="632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Tim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447560" y="4390920"/>
                <a:ext cx="1828800" cy="304920"/>
                <a:chOff x="1447560" y="4390920"/>
                <a:chExt cx="1828800" cy="304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47560" y="439092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57040" y="439092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666520" y="4390920"/>
                  <a:ext cx="60984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057040" y="4695840"/>
                <a:ext cx="1828800" cy="304920"/>
                <a:chOff x="2057040" y="4695840"/>
                <a:chExt cx="1828800" cy="3049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57040" y="469584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666520" y="469584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276000" y="4695840"/>
                  <a:ext cx="60984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666520" y="5000760"/>
                <a:ext cx="1828800" cy="304560"/>
                <a:chOff x="2666520" y="5000760"/>
                <a:chExt cx="1828800" cy="304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666520" y="5000760"/>
                  <a:ext cx="60948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76000" y="5000760"/>
                  <a:ext cx="60948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85480" y="5000760"/>
                  <a:ext cx="60984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609480" y="44197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80" y="47242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502920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895480" y="4191120"/>
            <a:ext cx="0" cy="12952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rating a Pipel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1219320"/>
            <a:ext cx="8075880" cy="2167200"/>
            <a:chOff x="0" y="1219320"/>
            <a:chExt cx="8075880" cy="2167200"/>
          </a:xfrm>
        </p:grpSpPr>
        <p:sp>
          <p:nvSpPr>
            <p:cNvPr id="168" name=""/>
            <p:cNvSpPr/>
            <p:nvPr/>
          </p:nvSpPr>
          <p:spPr>
            <a:xfrm>
              <a:off x="4037400" y="305424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600200"/>
              <a:ext cx="1586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1905120"/>
              <a:ext cx="1586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2209680"/>
              <a:ext cx="1586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30520" y="1606680"/>
              <a:ext cx="3460680" cy="304560"/>
              <a:chOff x="1730520" y="1606680"/>
              <a:chExt cx="346068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1730520" y="1606680"/>
                <a:ext cx="115344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83960" y="1606680"/>
                <a:ext cx="115344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37400" y="1606680"/>
                <a:ext cx="115380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884320" y="1911240"/>
              <a:ext cx="3460680" cy="304920"/>
              <a:chOff x="2884320" y="1911240"/>
              <a:chExt cx="3460680" cy="304920"/>
            </a:xfrm>
          </p:grpSpPr>
          <p:sp>
            <p:nvSpPr>
              <p:cNvPr id="177" name=""/>
              <p:cNvSpPr/>
              <p:nvPr/>
            </p:nvSpPr>
            <p:spPr>
              <a:xfrm>
                <a:off x="2884320" y="1911240"/>
                <a:ext cx="11534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7760" y="1911240"/>
                <a:ext cx="11534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91200" y="1911240"/>
                <a:ext cx="11538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038120" y="2216160"/>
              <a:ext cx="3460680" cy="304920"/>
              <a:chOff x="4038120" y="2216160"/>
              <a:chExt cx="346068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4038120" y="2216160"/>
                <a:ext cx="115344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91560" y="2216160"/>
                <a:ext cx="115344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45000" y="2216160"/>
                <a:ext cx="115380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730520" y="2673360"/>
              <a:ext cx="5768280" cy="152280"/>
              <a:chOff x="1730520" y="2673360"/>
              <a:chExt cx="5768280" cy="152280"/>
            </a:xfrm>
          </p:grpSpPr>
          <p:sp>
            <p:nvSpPr>
              <p:cNvPr id="185" name=""/>
              <p:cNvSpPr/>
              <p:nvPr/>
            </p:nvSpPr>
            <p:spPr>
              <a:xfrm>
                <a:off x="1730520" y="2749320"/>
                <a:ext cx="57682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3052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8396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374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9156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450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988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97800" y="2825640"/>
              <a:ext cx="6778080" cy="307080"/>
              <a:chOff x="1297800" y="2825640"/>
              <a:chExt cx="6778080" cy="3070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780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51960" y="2825640"/>
                <a:ext cx="100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12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0540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24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5884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36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13000" y="2825640"/>
                <a:ext cx="100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48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6644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64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730520" y="1219320"/>
              <a:ext cx="6003360" cy="228600"/>
            </a:xfrm>
            <a:custGeom>
              <a:avLst/>
              <a:gdLst/>
              <a:ahLst/>
              <a:rect l="l" t="t" r="r" b="b"/>
              <a:pathLst>
                <a:path w="1998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  <a:lnTo>
                    <a:pt x="384" y="0"/>
                  </a:lnTo>
                  <a:lnTo>
                    <a:pt x="576" y="0"/>
                  </a:lnTo>
                  <a:lnTo>
                    <a:pt x="576" y="192"/>
                  </a:lnTo>
                  <a:lnTo>
                    <a:pt x="768" y="192"/>
                  </a:lnTo>
                  <a:lnTo>
                    <a:pt x="768" y="0"/>
                  </a:lnTo>
                  <a:lnTo>
                    <a:pt x="960" y="0"/>
                  </a:lnTo>
                  <a:lnTo>
                    <a:pt x="960" y="192"/>
                  </a:lnTo>
                  <a:lnTo>
                    <a:pt x="1152" y="192"/>
                  </a:lnTo>
                  <a:lnTo>
                    <a:pt x="1152" y="0"/>
                  </a:lnTo>
                  <a:lnTo>
                    <a:pt x="1344" y="0"/>
                  </a:lnTo>
                  <a:lnTo>
                    <a:pt x="1344" y="192"/>
                  </a:lnTo>
                  <a:lnTo>
                    <a:pt x="1536" y="192"/>
                  </a:lnTo>
                  <a:lnTo>
                    <a:pt x="1536" y="0"/>
                  </a:lnTo>
                  <a:lnTo>
                    <a:pt x="1728" y="0"/>
                  </a:lnTo>
                  <a:lnTo>
                    <a:pt x="1728" y="192"/>
                  </a:lnTo>
                  <a:lnTo>
                    <a:pt x="1920" y="192"/>
                  </a:lnTo>
                  <a:cubicBezTo>
                    <a:pt x="1920" y="128"/>
                    <a:pt x="1920" y="64"/>
                    <a:pt x="1920" y="0"/>
                  </a:cubicBezTo>
                  <a:cubicBezTo>
                    <a:pt x="1992" y="0"/>
                    <a:pt x="1982" y="0"/>
                    <a:pt x="1998" y="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1219320"/>
              <a:ext cx="1586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2120" y="830160"/>
            <a:ext cx="6402600" cy="5293440"/>
            <a:chOff x="762120" y="830160"/>
            <a:chExt cx="6402600" cy="5293440"/>
          </a:xfrm>
        </p:grpSpPr>
        <p:grpSp>
          <p:nvGrpSpPr>
            <p:cNvPr id="202" name=""/>
            <p:cNvGrpSpPr/>
            <p:nvPr/>
          </p:nvGrpSpPr>
          <p:grpSpPr>
            <a:xfrm>
              <a:off x="762120" y="3733920"/>
              <a:ext cx="6402600" cy="2389680"/>
              <a:chOff x="762120" y="3733920"/>
              <a:chExt cx="6402600" cy="238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2590920" y="419112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909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43560" y="548640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74240" y="579132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19320" y="4191120"/>
                <a:ext cx="901800" cy="128268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483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00960" y="548640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6720" y="4191120"/>
                <a:ext cx="901800" cy="12826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58360" y="548640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4120" y="419112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003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482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577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056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151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630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43560" y="571500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21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337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911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485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9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195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733920" y="830160"/>
              <a:ext cx="430560" cy="1913040"/>
              <a:chOff x="3733920" y="830160"/>
              <a:chExt cx="430560" cy="1913040"/>
            </a:xfrm>
          </p:grpSpPr>
          <p:sp>
            <p:nvSpPr>
              <p:cNvPr id="228" name=""/>
              <p:cNvSpPr/>
              <p:nvPr/>
            </p:nvSpPr>
            <p:spPr>
              <a:xfrm>
                <a:off x="3949560" y="106668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33920" y="83016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3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31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32" name=""/>
              <p:cNvSpPr/>
              <p:nvPr/>
            </p:nvSpPr>
            <p:spPr>
              <a:xfrm>
                <a:off x="2590920" y="419904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48320" y="419904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09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483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767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057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341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482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21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1337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911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769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195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886200" y="838080"/>
              <a:ext cx="430560" cy="1913040"/>
              <a:chOff x="3886200" y="838080"/>
              <a:chExt cx="430560" cy="1913040"/>
            </a:xfrm>
          </p:grpSpPr>
          <p:sp>
            <p:nvSpPr>
              <p:cNvPr id="258" name=""/>
              <p:cNvSpPr/>
              <p:nvPr/>
            </p:nvSpPr>
            <p:spPr>
              <a:xfrm>
                <a:off x="410184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8620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4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61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62" name=""/>
              <p:cNvSpPr/>
              <p:nvPr/>
            </p:nvSpPr>
            <p:spPr>
              <a:xfrm>
                <a:off x="2590920" y="417996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48320" y="417996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90920" y="417996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48320" y="417996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482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4179960"/>
                <a:ext cx="609840" cy="1295280"/>
              </a:xfrm>
              <a:custGeom>
                <a:avLst/>
                <a:gdLst/>
                <a:ahLst/>
                <a:rect l="l" t="t" r="r" b="b"/>
                <a:pathLst>
                  <a:path w="46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240" y="816"/>
                    </a:lnTo>
                    <a:cubicBezTo>
                      <a:pt x="312" y="776"/>
                      <a:pt x="400" y="672"/>
                      <a:pt x="432" y="576"/>
                    </a:cubicBezTo>
                    <a:cubicBezTo>
                      <a:pt x="464" y="480"/>
                      <a:pt x="464" y="336"/>
                      <a:pt x="432" y="240"/>
                    </a:cubicBezTo>
                    <a:cubicBezTo>
                      <a:pt x="400" y="144"/>
                      <a:pt x="312" y="40"/>
                      <a:pt x="240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76720" y="417996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6720" y="4179960"/>
                <a:ext cx="698760" cy="1295280"/>
              </a:xfrm>
              <a:custGeom>
                <a:avLst/>
                <a:gdLst/>
                <a:ahLst/>
                <a:rect l="l" t="t" r="r" b="b"/>
                <a:pathLst>
                  <a:path w="440" h="816">
                    <a:moveTo>
                      <a:pt x="0" y="0"/>
                    </a:moveTo>
                    <a:lnTo>
                      <a:pt x="0" y="816"/>
                    </a:lnTo>
                    <a:lnTo>
                      <a:pt x="199" y="816"/>
                    </a:lnTo>
                    <a:cubicBezTo>
                      <a:pt x="260" y="783"/>
                      <a:pt x="332" y="726"/>
                      <a:pt x="368" y="617"/>
                    </a:cubicBezTo>
                    <a:cubicBezTo>
                      <a:pt x="394" y="521"/>
                      <a:pt x="440" y="256"/>
                      <a:pt x="414" y="160"/>
                    </a:cubicBezTo>
                    <a:cubicBezTo>
                      <a:pt x="387" y="64"/>
                      <a:pt x="258" y="40"/>
                      <a:pt x="19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767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47080" y="4179960"/>
                <a:ext cx="90144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47080" y="4179960"/>
                <a:ext cx="609480" cy="1295280"/>
              </a:xfrm>
              <a:custGeom>
                <a:avLst/>
                <a:gdLst/>
                <a:ahLst/>
                <a:rect l="l" t="t" r="r" b="b"/>
                <a:pathLst>
                  <a:path w="38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199" y="816"/>
                    </a:lnTo>
                    <a:cubicBezTo>
                      <a:pt x="258" y="776"/>
                      <a:pt x="349" y="667"/>
                      <a:pt x="358" y="576"/>
                    </a:cubicBezTo>
                    <a:cubicBezTo>
                      <a:pt x="384" y="480"/>
                      <a:pt x="279" y="366"/>
                      <a:pt x="253" y="270"/>
                    </a:cubicBezTo>
                    <a:cubicBezTo>
                      <a:pt x="226" y="174"/>
                      <a:pt x="258" y="40"/>
                      <a:pt x="19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47080" y="4179960"/>
                <a:ext cx="90144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21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911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485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69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95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370400" y="838080"/>
              <a:ext cx="430560" cy="1913040"/>
              <a:chOff x="4370400" y="838080"/>
              <a:chExt cx="430560" cy="1913040"/>
            </a:xfrm>
          </p:grpSpPr>
          <p:sp>
            <p:nvSpPr>
              <p:cNvPr id="294" name=""/>
              <p:cNvSpPr/>
              <p:nvPr/>
            </p:nvSpPr>
            <p:spPr>
              <a:xfrm>
                <a:off x="458460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7040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30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97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90920" y="420840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48320" y="420840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05720" y="4208400"/>
                <a:ext cx="22860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09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19320" y="4199040"/>
                <a:ext cx="901800" cy="1282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48320" y="4199040"/>
                <a:ext cx="216000" cy="130464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4199040"/>
                <a:ext cx="901800" cy="128268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05720" y="4199040"/>
                <a:ext cx="216000" cy="130464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4120" y="4199040"/>
                <a:ext cx="901800" cy="12826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464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21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11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485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769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195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903920" y="838080"/>
              <a:ext cx="430560" cy="1913040"/>
              <a:chOff x="4903920" y="838080"/>
              <a:chExt cx="430560" cy="1913040"/>
            </a:xfrm>
          </p:grpSpPr>
          <p:sp>
            <p:nvSpPr>
              <p:cNvPr id="325" name=""/>
              <p:cNvSpPr/>
              <p:nvPr/>
            </p:nvSpPr>
            <p:spPr>
              <a:xfrm>
                <a:off x="511812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0392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35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: Nonuniform Del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160" y="4876560"/>
            <a:ext cx="8294760" cy="15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oughput limited by slowest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stages sit idle for much of th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llenging to partition system into balanced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07880" y="1143000"/>
            <a:ext cx="8723160" cy="2389680"/>
            <a:chOff x="407880" y="1143000"/>
            <a:chExt cx="8723160" cy="2389680"/>
          </a:xfrm>
        </p:grpSpPr>
        <p:sp>
          <p:nvSpPr>
            <p:cNvPr id="330" name=""/>
            <p:cNvSpPr/>
            <p:nvPr/>
          </p:nvSpPr>
          <p:spPr>
            <a:xfrm>
              <a:off x="17859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8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222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2120" y="284148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20000" y="320040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05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80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368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46720" y="284148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5280" y="1552680"/>
              <a:ext cx="136548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579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226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942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4120" y="284148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86360" y="1552680"/>
              <a:ext cx="90180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2800" y="1143000"/>
              <a:ext cx="762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368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41600" y="1143000"/>
              <a:ext cx="1166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5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514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60880" y="1143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088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32120" y="3048120"/>
              <a:ext cx="45720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45240" y="190512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51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5.88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65080" y="1523880"/>
              <a:ext cx="45720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676520" y="3352680"/>
            <a:ext cx="5790960" cy="1252800"/>
            <a:chOff x="1676520" y="3352680"/>
            <a:chExt cx="5790960" cy="1252800"/>
          </a:xfrm>
        </p:grpSpPr>
        <p:sp>
          <p:nvSpPr>
            <p:cNvPr id="355" name=""/>
            <p:cNvSpPr/>
            <p:nvPr/>
          </p:nvSpPr>
          <p:spPr>
            <a:xfrm>
              <a:off x="2438280" y="4578120"/>
              <a:ext cx="5029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09680" y="427320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520" y="33526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76520" y="365724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396216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2590920" y="3358800"/>
              <a:ext cx="2743200" cy="304920"/>
              <a:chOff x="2590920" y="3358800"/>
              <a:chExt cx="2743200" cy="304920"/>
            </a:xfrm>
          </p:grpSpPr>
          <p:sp>
            <p:nvSpPr>
              <p:cNvPr id="361" name=""/>
              <p:cNvSpPr/>
              <p:nvPr/>
            </p:nvSpPr>
            <p:spPr>
              <a:xfrm>
                <a:off x="2590920" y="3358800"/>
                <a:ext cx="30456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505320" y="3358800"/>
                <a:ext cx="9144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19720" y="335880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90920" y="335880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19720" y="335880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505320" y="3663720"/>
              <a:ext cx="2743200" cy="304920"/>
              <a:chOff x="3505320" y="3663720"/>
              <a:chExt cx="2743200" cy="304920"/>
            </a:xfrm>
          </p:grpSpPr>
          <p:sp>
            <p:nvSpPr>
              <p:cNvPr id="367" name=""/>
              <p:cNvSpPr/>
              <p:nvPr/>
            </p:nvSpPr>
            <p:spPr>
              <a:xfrm>
                <a:off x="3505320" y="3663720"/>
                <a:ext cx="30456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9720" y="3663720"/>
                <a:ext cx="9144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34120" y="366372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505320" y="366372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4120" y="366372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19720" y="3968640"/>
              <a:ext cx="2743200" cy="304560"/>
              <a:chOff x="4419720" y="3968640"/>
              <a:chExt cx="2743200" cy="3045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19720" y="3968640"/>
                <a:ext cx="30456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968640"/>
                <a:ext cx="91440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48520" y="396864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19720" y="3968640"/>
                <a:ext cx="914400" cy="3045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48520" y="3968640"/>
                <a:ext cx="914400" cy="3045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: Register Overh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160" y="3657600"/>
            <a:ext cx="8294760" cy="27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try to deepen pipeline, overhead of loading registers becomes more significa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centage of clock cycle spent loading regist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.25%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.67%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8.57%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speeds of modern processor designs obtained through very deep pipeli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61800" y="1173240"/>
            <a:ext cx="8447760" cy="2283120"/>
            <a:chOff x="361800" y="1173240"/>
            <a:chExt cx="8447760" cy="2283120"/>
          </a:xfrm>
        </p:grpSpPr>
        <p:sp>
          <p:nvSpPr>
            <p:cNvPr id="381" name=""/>
            <p:cNvSpPr/>
            <p:nvPr/>
          </p:nvSpPr>
          <p:spPr>
            <a:xfrm>
              <a:off x="4727880" y="3124080"/>
              <a:ext cx="407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420 ps, Throughput = 14.29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61800" y="1173240"/>
              <a:ext cx="8447760" cy="2283120"/>
              <a:chOff x="361800" y="1173240"/>
              <a:chExt cx="8447760" cy="2283120"/>
            </a:xfrm>
          </p:grpSpPr>
          <p:sp>
            <p:nvSpPr>
              <p:cNvPr id="383" name=""/>
              <p:cNvSpPr/>
              <p:nvPr/>
            </p:nvSpPr>
            <p:spPr>
              <a:xfrm>
                <a:off x="1670040" y="2084040"/>
                <a:ext cx="4129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1800" y="2084040"/>
                <a:ext cx="41148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224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16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940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132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656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848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372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564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6088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78680" y="2084040"/>
                <a:ext cx="4129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306800" y="312408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39720" y="1541160"/>
                <a:ext cx="19368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670040" y="2701800"/>
                <a:ext cx="0" cy="3423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7480" y="1541160"/>
                <a:ext cx="46692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33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89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113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16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89080" y="1541160"/>
                <a:ext cx="46692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9749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6607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829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132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592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46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30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6545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848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308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18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039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261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564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024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897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75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977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280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5740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613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147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70040" y="2976480"/>
                <a:ext cx="68756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5:16Z</dcterms:modified>
  <cp:revision>77</cp:revision>
  <dc:subject>SRC Review Slides</dc:subject>
  <dc:title>Formal Processor Verification</dc:title>
</cp:coreProperties>
</file>