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117032E-B916-40AC-A5C5-0A4847A2D8D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428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X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2952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95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10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24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5812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384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9528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956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28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100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19051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495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100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672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244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209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8672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3244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816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" y="2819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10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3244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81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38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3124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3244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816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96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153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96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85800" y="9907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0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257800" y="2057400"/>
            <a:ext cx="152280" cy="76212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2362320"/>
            <a:ext cx="152280" cy="45720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10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867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44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388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72200" y="2666880"/>
            <a:ext cx="152280" cy="15264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2514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153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2971440" y="3429000"/>
            <a:ext cx="1981080" cy="1917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419360" y="3429000"/>
            <a:ext cx="990360" cy="130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71800" y="4952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402240" y="510552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867280" y="4114800"/>
            <a:ext cx="1447920" cy="609480"/>
            <a:chOff x="5867280" y="4114800"/>
            <a:chExt cx="1447920" cy="609480"/>
          </a:xfrm>
        </p:grpSpPr>
        <p:sp>
          <p:nvSpPr>
            <p:cNvPr id="1393" name=""/>
            <p:cNvSpPr/>
            <p:nvPr/>
          </p:nvSpPr>
          <p:spPr>
            <a:xfrm>
              <a:off x="5867280" y="411480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67280" y="4406760"/>
              <a:ext cx="14479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67280" y="5943600"/>
            <a:ext cx="1447920" cy="838080"/>
            <a:chOff x="5867280" y="5943600"/>
            <a:chExt cx="1447920" cy="838080"/>
          </a:xfrm>
        </p:grpSpPr>
        <p:sp>
          <p:nvSpPr>
            <p:cNvPr id="1396" name=""/>
            <p:cNvSpPr/>
            <p:nvPr/>
          </p:nvSpPr>
          <p:spPr>
            <a:xfrm>
              <a:off x="586728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6728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5003640" y="541008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419720" y="4724280"/>
            <a:ext cx="1447560" cy="609480"/>
            <a:chOff x="4419720" y="4724280"/>
            <a:chExt cx="1447560" cy="609480"/>
          </a:xfrm>
        </p:grpSpPr>
        <p:sp>
          <p:nvSpPr>
            <p:cNvPr id="1400" name=""/>
            <p:cNvSpPr/>
            <p:nvPr/>
          </p:nvSpPr>
          <p:spPr>
            <a:xfrm>
              <a:off x="4419720" y="472428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19720" y="501624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4419720" y="5943600"/>
            <a:ext cx="1447560" cy="838080"/>
            <a:chOff x="4419720" y="5943600"/>
            <a:chExt cx="1447560" cy="838080"/>
          </a:xfrm>
        </p:grpSpPr>
        <p:sp>
          <p:nvSpPr>
            <p:cNvPr id="1403" name=""/>
            <p:cNvSpPr/>
            <p:nvPr/>
          </p:nvSpPr>
          <p:spPr>
            <a:xfrm>
              <a:off x="4419720" y="5943600"/>
              <a:ext cx="144756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19720" y="6235560"/>
              <a:ext cx="12189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971800" y="5334120"/>
            <a:ext cx="1447560" cy="609480"/>
            <a:chOff x="2971800" y="5334120"/>
            <a:chExt cx="1447560" cy="609480"/>
          </a:xfrm>
        </p:grpSpPr>
        <p:sp>
          <p:nvSpPr>
            <p:cNvPr id="1406" name=""/>
            <p:cNvSpPr/>
            <p:nvPr/>
          </p:nvSpPr>
          <p:spPr>
            <a:xfrm>
              <a:off x="2971800" y="533412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71800" y="562608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E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2971800" y="5943600"/>
            <a:ext cx="1447920" cy="838080"/>
            <a:chOff x="2971800" y="5943600"/>
            <a:chExt cx="1447920" cy="838080"/>
          </a:xfrm>
        </p:grpSpPr>
        <p:sp>
          <p:nvSpPr>
            <p:cNvPr id="1409" name=""/>
            <p:cNvSpPr/>
            <p:nvPr/>
          </p:nvSpPr>
          <p:spPr>
            <a:xfrm>
              <a:off x="297180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7180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419720" y="43434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6728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867280" y="3429000"/>
            <a:ext cx="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24480" y="3429000"/>
            <a:ext cx="99072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Happens When Stalling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82947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ing instruction held back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ing instruction stays in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bbles injected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dynamically generated nop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ve through later st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18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304920" y="1143000"/>
            <a:ext cx="2895480" cy="1600200"/>
            <a:chOff x="304920" y="1143000"/>
            <a:chExt cx="2895480" cy="1600200"/>
          </a:xfrm>
        </p:grpSpPr>
        <p:sp>
          <p:nvSpPr>
            <p:cNvPr id="1424" name=""/>
            <p:cNvSpPr/>
            <p:nvPr/>
          </p:nvSpPr>
          <p:spPr>
            <a:xfrm>
              <a:off x="304920" y="1143000"/>
              <a:ext cx="2895480" cy="160020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3160" y="15242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3160" y="18288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3160" y="21337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3160" y="12193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3160" y="24386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1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8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45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5334120" y="1295280"/>
            <a:ext cx="2666880" cy="1981440"/>
            <a:chOff x="5334120" y="1295280"/>
            <a:chExt cx="2666880" cy="1981440"/>
          </a:xfrm>
        </p:grpSpPr>
        <p:sp>
          <p:nvSpPr>
            <p:cNvPr id="1452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34120" y="2819520"/>
              <a:ext cx="2666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809880" y="1600200"/>
            <a:ext cx="1524240" cy="1523880"/>
            <a:chOff x="3809880" y="1600200"/>
            <a:chExt cx="1524240" cy="1523880"/>
          </a:xfrm>
        </p:grpSpPr>
        <p:sp>
          <p:nvSpPr>
            <p:cNvPr id="1459" name=""/>
            <p:cNvSpPr/>
            <p:nvPr/>
          </p:nvSpPr>
          <p:spPr>
            <a:xfrm>
              <a:off x="3809880" y="16002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rite B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9880" y="19047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09880" y="220968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09880" y="25146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09880" y="28191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Sta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80520" y="5238720"/>
            <a:ext cx="8294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detects stall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mode signals for how pipeline registers should upd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31800" y="835200"/>
            <a:ext cx="629748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Register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175000" y="1217520"/>
            <a:ext cx="3305520" cy="1117800"/>
            <a:chOff x="5175000" y="1217520"/>
            <a:chExt cx="3305520" cy="1117800"/>
          </a:xfrm>
        </p:grpSpPr>
        <p:sp>
          <p:nvSpPr>
            <p:cNvPr id="1469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7500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77040" y="1374840"/>
              <a:ext cx="4921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69744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580160" y="1359000"/>
              <a:ext cx="9003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780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6945480" y="1297080"/>
              <a:ext cx="912600" cy="1038240"/>
              <a:chOff x="6945480" y="1297080"/>
              <a:chExt cx="912600" cy="103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1" name=""/>
          <p:cNvGrpSpPr/>
          <p:nvPr/>
        </p:nvGrpSpPr>
        <p:grpSpPr>
          <a:xfrm>
            <a:off x="4834080" y="3103560"/>
            <a:ext cx="3630600" cy="1136520"/>
            <a:chOff x="4834080" y="3103560"/>
            <a:chExt cx="3630600" cy="1136520"/>
          </a:xfrm>
        </p:grpSpPr>
        <p:sp>
          <p:nvSpPr>
            <p:cNvPr id="1492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3408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5628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5796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7836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5964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67016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6924600" y="3201840"/>
              <a:ext cx="914400" cy="1038240"/>
              <a:chOff x="6924600" y="3201840"/>
              <a:chExt cx="914400" cy="103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1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2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2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3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834080" y="4863960"/>
            <a:ext cx="3843360" cy="1155960"/>
            <a:chOff x="4834080" y="4863960"/>
            <a:chExt cx="3843360" cy="1155960"/>
          </a:xfrm>
        </p:grpSpPr>
        <p:grpSp>
          <p:nvGrpSpPr>
            <p:cNvPr id="1536" name=""/>
            <p:cNvGrpSpPr/>
            <p:nvPr/>
          </p:nvGrpSpPr>
          <p:grpSpPr>
            <a:xfrm>
              <a:off x="4834080" y="4863960"/>
              <a:ext cx="3843360" cy="1155960"/>
              <a:chOff x="4834080" y="4863960"/>
              <a:chExt cx="3843360" cy="1155960"/>
            </a:xfrm>
          </p:grpSpPr>
          <p:sp>
            <p:nvSpPr>
              <p:cNvPr id="1537" name=""/>
              <p:cNvSpPr/>
              <p:nvPr/>
            </p:nvSpPr>
            <p:spPr>
              <a:xfrm>
                <a:off x="4834080" y="5021280"/>
                <a:ext cx="493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291440" y="4981680"/>
                <a:ext cx="183960" cy="10382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62360" y="51847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62360" y="5405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62360" y="56246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15520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57960" y="5021280"/>
                <a:ext cx="49212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67944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561440" y="5014800"/>
                <a:ext cx="1116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69440" y="5052960"/>
                <a:ext cx="6818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utput = 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358480" y="5068800"/>
                <a:ext cx="2980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nop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6926400" y="5419800"/>
              <a:ext cx="3650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473960" y="5419800"/>
              <a:ext cx="3668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09480" y="1297080"/>
            <a:ext cx="4737240" cy="1360440"/>
            <a:chOff x="609480" y="1297080"/>
            <a:chExt cx="4737240" cy="1360440"/>
          </a:xfrm>
        </p:grpSpPr>
        <p:sp>
          <p:nvSpPr>
            <p:cNvPr id="1559" name=""/>
            <p:cNvSpPr/>
            <p:nvPr/>
          </p:nvSpPr>
          <p:spPr>
            <a:xfrm>
              <a:off x="4853160" y="1374840"/>
              <a:ext cx="4935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40040" y="13590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4912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43200" y="13590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51200" y="14065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06640" y="21924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017160" y="22399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1752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99000" y="21924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09520" y="223992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0148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480" y="166068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09480" y="3201840"/>
            <a:ext cx="4016520" cy="1341720"/>
            <a:chOff x="609480" y="3201840"/>
            <a:chExt cx="4016520" cy="1341720"/>
          </a:xfrm>
        </p:grpSpPr>
        <p:sp>
          <p:nvSpPr>
            <p:cNvPr id="1592" name=""/>
            <p:cNvSpPr/>
            <p:nvPr/>
          </p:nvSpPr>
          <p:spPr>
            <a:xfrm>
              <a:off x="372096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3004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24120" y="3244680"/>
              <a:ext cx="7747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832120" y="329256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87560" y="407844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79360" y="41259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9772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679920" y="407844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90440" y="412596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8240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1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480" y="354636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l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09480" y="5016600"/>
            <a:ext cx="4016520" cy="1298520"/>
            <a:chOff x="609480" y="5016600"/>
            <a:chExt cx="4016520" cy="1298520"/>
          </a:xfrm>
        </p:grpSpPr>
        <p:sp>
          <p:nvSpPr>
            <p:cNvPr id="1624" name=""/>
            <p:cNvSpPr/>
            <p:nvPr/>
          </p:nvSpPr>
          <p:spPr>
            <a:xfrm>
              <a:off x="3720960" y="50166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30040" y="50641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24120" y="50166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32120" y="50641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87560" y="58500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98440" y="58975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9844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9920" y="58500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67400" y="5897520"/>
              <a:ext cx="5403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8168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9480" y="533412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ub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ïv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isn’t written until completion of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urce operands read from register file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s to be in register file at start of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generated in execute or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value directly from generating instruction 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s to be available at end of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34434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 value in W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 as valB for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14600" y="914400"/>
            <a:ext cx="5973840" cy="4449600"/>
            <a:chOff x="2514600" y="914400"/>
            <a:chExt cx="5973840" cy="4449600"/>
          </a:xfrm>
        </p:grpSpPr>
        <p:sp>
          <p:nvSpPr>
            <p:cNvPr id="1640" name=""/>
            <p:cNvSpPr/>
            <p:nvPr/>
          </p:nvSpPr>
          <p:spPr>
            <a:xfrm>
              <a:off x="2514600" y="121932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5968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5656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44440" y="1268280"/>
              <a:ext cx="419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260960" y="1268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308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0065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9588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730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6272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384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277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0488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9280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699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6596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353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2468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2018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8972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72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565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3224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14600" y="146196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5968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5656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24360" y="151272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0960" y="15127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14600" y="1706400"/>
              <a:ext cx="20718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59680" y="17575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40000" y="17575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14600" y="195120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59680" y="200016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240000" y="200016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14600" y="219384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59680" y="224460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45040" y="224460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57240" y="2244600"/>
              <a:ext cx="84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4976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002480" y="2244600"/>
              <a:ext cx="168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17528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14600" y="2438280"/>
              <a:ext cx="20718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74800" y="2487600"/>
              <a:ext cx="922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2514600" y="914400"/>
              <a:ext cx="5973840" cy="4449600"/>
              <a:chOff x="2514600" y="914400"/>
              <a:chExt cx="5973840" cy="4449600"/>
            </a:xfrm>
          </p:grpSpPr>
          <p:sp>
            <p:nvSpPr>
              <p:cNvPr id="178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562284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2468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121600" y="914400"/>
                <a:ext cx="36504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265600" y="9698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514600" y="974880"/>
                <a:ext cx="20718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660400" y="1019160"/>
                <a:ext cx="1006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 demo-h2.ys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49800" y="2986200"/>
                <a:ext cx="152424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76840" y="3033720"/>
                <a:ext cx="5493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22840" y="3290760"/>
                <a:ext cx="2438640" cy="79380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798240" y="334332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85160" y="3595680"/>
                <a:ext cx="97632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203600" y="363384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356240" y="364968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446960" y="364968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681680" y="363384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827120" y="362916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7560" y="36338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22840" y="4570560"/>
                <a:ext cx="2438640" cy="7934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819840" y="462276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97720" y="487512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722640" y="491652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092000" y="491184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97480" y="491652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350120" y="493236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40480" y="493236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75200" y="491652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758000" y="4916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881480" y="4916520"/>
                <a:ext cx="1562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2264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92000" y="510840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01800" y="511344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1960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726320" y="511344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46560" y="51134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719760" y="4083120"/>
                <a:ext cx="206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828840" y="408456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828840" y="422100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28840" y="435924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22840" y="359568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45960" y="363852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963400" y="363852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279840" y="3638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411960" y="364824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4120" y="364824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745960" y="381780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64840" y="3817800"/>
                <a:ext cx="311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73720" y="3817800"/>
                <a:ext cx="2005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2840" y="4875120"/>
                <a:ext cx="97632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747760" y="491796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064200" y="491796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195960" y="49338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288120" y="49338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47760" y="508788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064200" y="508788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195960" y="50976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288120" y="50976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7085160" y="3949560"/>
                <a:ext cx="852480" cy="925560"/>
                <a:chOff x="7085160" y="3949560"/>
                <a:chExt cx="852480" cy="92556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7085160" y="3949560"/>
                  <a:ext cx="804600" cy="811440"/>
                </a:xfrm>
                <a:custGeom>
                  <a:avLst/>
                  <a:gdLst/>
                  <a:ahLst/>
                  <a:rect l="l" t="t" r="r" b="b"/>
                  <a:pathLst>
                    <a:path w="1012" h="1022">
                      <a:moveTo>
                        <a:pt x="0" y="0"/>
                      </a:moveTo>
                      <a:lnTo>
                        <a:pt x="0" y="29"/>
                      </a:lnTo>
                      <a:lnTo>
                        <a:pt x="998" y="29"/>
                      </a:lnTo>
                      <a:lnTo>
                        <a:pt x="998" y="15"/>
                      </a:lnTo>
                      <a:lnTo>
                        <a:pt x="984" y="15"/>
                      </a:lnTo>
                      <a:lnTo>
                        <a:pt x="985" y="19"/>
                      </a:lnTo>
                      <a:lnTo>
                        <a:pt x="988" y="24"/>
                      </a:lnTo>
                      <a:lnTo>
                        <a:pt x="993" y="27"/>
                      </a:lnTo>
                      <a:lnTo>
                        <a:pt x="984" y="15"/>
                      </a:lnTo>
                      <a:lnTo>
                        <a:pt x="984" y="1022"/>
                      </a:lnTo>
                      <a:lnTo>
                        <a:pt x="1012" y="1022"/>
                      </a:lnTo>
                      <a:lnTo>
                        <a:pt x="1012" y="15"/>
                      </a:lnTo>
                      <a:lnTo>
                        <a:pt x="1012" y="15"/>
                      </a:lnTo>
                      <a:lnTo>
                        <a:pt x="1011" y="10"/>
                      </a:lnTo>
                      <a:lnTo>
                        <a:pt x="1008" y="5"/>
                      </a:lnTo>
                      <a:lnTo>
                        <a:pt x="1003" y="2"/>
                      </a:lnTo>
                      <a:lnTo>
                        <a:pt x="9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7819920" y="4759200"/>
                  <a:ext cx="117720" cy="115920"/>
                </a:xfrm>
                <a:custGeom>
                  <a:avLst/>
                  <a:gdLst/>
                  <a:ahLst/>
                  <a:rect l="l" t="t" r="r" b="b"/>
                  <a:pathLst>
                    <a:path w="149" h="147">
                      <a:moveTo>
                        <a:pt x="0" y="0"/>
                      </a:moveTo>
                      <a:lnTo>
                        <a:pt x="74" y="147"/>
                      </a:lnTo>
                      <a:lnTo>
                        <a:pt x="14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pass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90160" y="1066320"/>
            <a:ext cx="3900600" cy="53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 logic selects valA and val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ly from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: get valA or valB from later pipelin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ing Sour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: v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back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rcRect l="33811" t="0" r="0" b="28351"/>
          <a:stretch/>
        </p:blipFill>
        <p:spPr>
          <a:xfrm>
            <a:off x="4876920" y="228600"/>
            <a:ext cx="38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344304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ted by ALU during previous cyc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memory as val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just generated by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execute as val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5725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33760" y="76320"/>
            <a:ext cx="362268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4102200" cy="51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additional feedback paths from E, M, and W pipeline registers in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logic blocks to select from multiple sources for valA and valB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rcRect l="0" t="0" r="0" b="23382"/>
          <a:stretch/>
        </p:blipFill>
        <p:spPr>
          <a:xfrm>
            <a:off x="76320" y="380880"/>
            <a:ext cx="52927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rcRect l="38875" t="0" r="0" b="27245"/>
          <a:stretch/>
        </p:blipFill>
        <p:spPr>
          <a:xfrm>
            <a:off x="380880" y="838080"/>
            <a:ext cx="3235320" cy="556272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3886200" y="1066680"/>
            <a:ext cx="5245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# What should be the A value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E_val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incremented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icode in { ICALL, IJXX } : D_val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execu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E_dstE : e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M : m_valM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memor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E : M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write back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M : W_valM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E : W_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value read from 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d_r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ke the pipelined processor work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having register R as source follows shortly after instruction having register R as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ndition, don’t want to slow down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 conditional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design predicts all branches as being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wo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return addres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hree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king Sure It Really 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multiple special cases happen simultaneousl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2660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 of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ad-use depend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needed by end of decode stage in cycle 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read from memory in memory stage of cycle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50120" cy="55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using instruction for one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then pick up loaded value by forwarding from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407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2660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rcRect l="0" t="30137" r="0" b="23167"/>
          <a:stretch/>
        </p:blipFill>
        <p:spPr>
          <a:xfrm>
            <a:off x="1752480" y="1219320"/>
            <a:ext cx="529596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3" name=""/>
          <p:cNvGraphicFramePr/>
          <p:nvPr/>
        </p:nvGraphicFramePr>
        <p:xfrm>
          <a:off x="914400" y="5105520"/>
          <a:ext cx="6630840" cy="108252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68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90160" y="3352320"/>
            <a:ext cx="4357800" cy="30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instructions in fetch and decode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914400" y="762120"/>
            <a:ext cx="7326360" cy="2399760"/>
            <a:chOff x="914400" y="762120"/>
            <a:chExt cx="7326360" cy="2399760"/>
          </a:xfrm>
        </p:grpSpPr>
        <p:sp>
          <p:nvSpPr>
            <p:cNvPr id="1887" name=""/>
            <p:cNvSpPr/>
            <p:nvPr/>
          </p:nvSpPr>
          <p:spPr>
            <a:xfrm>
              <a:off x="914400" y="108576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04472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500560" y="11253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28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25160" y="1125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57192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6344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6072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526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498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414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86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2876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2748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3179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1664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067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90544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955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946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846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34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734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914400" y="134604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4472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77336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06040" y="13856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021840" y="138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14400" y="160488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4472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77336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9984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060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16720" y="164448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376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4760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14400" y="1863360"/>
              <a:ext cx="22035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4472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2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7336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500920" y="19033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21840" y="1903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14400" y="212400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4472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8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7336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50128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1376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25160" y="21636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31800" y="2158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3764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2720" y="2158920"/>
              <a:ext cx="854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Load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8576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14400" y="76212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45080" y="79668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682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74080" y="7966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u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840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89880" y="7966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14400" y="264132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45080" y="268092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e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74080" y="26809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921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397960" y="2680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79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12680" y="2676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1708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32520" y="2676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Use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6152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14400" y="290160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44000" y="294156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2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94600" y="2382480"/>
              <a:ext cx="39024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68840" y="242064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834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843240" y="242064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722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23040" y="242064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0722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2306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054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753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94600" y="264132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4641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834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58000" y="26794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722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232400" y="26794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61360" y="264132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11840" y="26794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6136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1976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14400" y="2382480"/>
              <a:ext cx="2009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73720" y="24159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94600" y="290160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4749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834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53320" y="29383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722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46800" y="29383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61360" y="2901600"/>
              <a:ext cx="39024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21200" y="29383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5016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001000" y="29383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5166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97000" y="26794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90544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0861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153120" y="2473200"/>
              <a:ext cx="141480" cy="167400"/>
              <a:chOff x="6153120" y="2473200"/>
              <a:chExt cx="141480" cy="167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6164280" y="251244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9" h="164">
                    <a:moveTo>
                      <a:pt x="0" y="164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53120" y="2499840"/>
                <a:ext cx="65160" cy="140760"/>
              </a:xfrm>
              <a:custGeom>
                <a:avLst/>
                <a:gdLst/>
                <a:ahLst/>
                <a:rect l="l" t="t" r="r" b="b"/>
                <a:pathLst>
                  <a:path w="84" h="179">
                    <a:moveTo>
                      <a:pt x="0" y="179"/>
                    </a:moveTo>
                    <a:lnTo>
                      <a:pt x="31" y="179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30"/>
                    </a:lnTo>
                    <a:lnTo>
                      <a:pt x="21" y="29"/>
                    </a:lnTo>
                    <a:lnTo>
                      <a:pt x="26" y="25"/>
                    </a:lnTo>
                    <a:lnTo>
                      <a:pt x="29" y="20"/>
                    </a:lnTo>
                    <a:lnTo>
                      <a:pt x="15" y="30"/>
                    </a:lnTo>
                    <a:lnTo>
                      <a:pt x="84" y="30"/>
                    </a:lnTo>
                    <a:lnTo>
                      <a:pt x="8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216480" y="2473200"/>
                <a:ext cx="78120" cy="788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06" name=""/>
            <p:cNvSpPr/>
            <p:nvPr/>
          </p:nvSpPr>
          <p:spPr>
            <a:xfrm>
              <a:off x="77850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434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108" name=""/>
          <p:cNvGraphicFramePr/>
          <p:nvPr/>
        </p:nvGraphicFramePr>
        <p:xfrm>
          <a:off x="457200" y="5029200"/>
          <a:ext cx="7689960" cy="94284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 branch as ta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2 instructions at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cel when mispredi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branch not-taken in execut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following cycle, replace instructions in execute and decode by bubb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ide effects have occurred y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9148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Mispredicted Bran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1219320" y="419112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8" name="" descr=""/>
          <p:cNvPicPr/>
          <p:nvPr/>
        </p:nvPicPr>
        <p:blipFill>
          <a:blip r:embed="rId1"/>
          <a:srcRect l="1441" t="26156" r="12076" b="51144"/>
          <a:stretch/>
        </p:blipFill>
        <p:spPr>
          <a:xfrm>
            <a:off x="2133720" y="1676520"/>
            <a:ext cx="458136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791480" cy="28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2" name=""/>
          <p:cNvGraphicFramePr/>
          <p:nvPr/>
        </p:nvGraphicFramePr>
        <p:xfrm>
          <a:off x="762120" y="4800600"/>
          <a:ext cx="7689600" cy="941400"/>
        </p:xfrm>
        <a:graphic>
          <a:graphicData uri="http://schemas.openxmlformats.org/drawingml/2006/table">
            <a:tbl>
              <a:tblPr/>
              <a:tblGrid>
                <a:gridCol w="236340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228600" y="13716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i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b:    irmovl $5,%esi 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irmovl $-1,%edi    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6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7:    irmovl $1,%ea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d:    irmovl $2,%ec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33:    irmovl $3,%ed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9:    irmovl $4,%eb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29440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viously executed three addition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262120" y="304920"/>
            <a:ext cx="1738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b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990720" y="9907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133280" y="105264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0384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250160" y="10350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956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696200" y="10350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28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157720" y="10350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100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98000" y="10350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3244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501240" y="13399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98160" y="13478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956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707360" y="13399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528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153400" y="13399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4100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614920" y="13399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72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55200" y="13399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8672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044040" y="10350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16002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198160" y="16527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9528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164560" y="16444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100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10600" y="16444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672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72120" y="16444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244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512400" y="16444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958440" y="16444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90720" y="19051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198160" y="19573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4100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621760" y="194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8672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67800" y="19494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529320" y="1949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816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969600" y="19494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388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415640" y="19494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90720" y="2209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133640" y="227160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197440" y="227160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43000" y="22716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367800" y="22716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92960" y="227160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990720" y="6858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134360" y="73980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773360" y="7398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78840" y="7398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5181120" y="2514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324480" y="25146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5181480" y="3200400"/>
            <a:ext cx="1906560" cy="1598760"/>
            <a:chOff x="5181480" y="3200400"/>
            <a:chExt cx="1906560" cy="1598760"/>
          </a:xfrm>
        </p:grpSpPr>
        <p:sp>
          <p:nvSpPr>
            <p:cNvPr id="2228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43600" y="419112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80400" y="419256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80400" y="436392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80400" y="45356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880" y="3200400"/>
            <a:ext cx="4648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, stall at fetch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ile in decode, execute, and memory s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decod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 stall when reach write-back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247" name=""/>
          <p:cNvGraphicFramePr/>
          <p:nvPr/>
        </p:nvGraphicFramePr>
        <p:xfrm>
          <a:off x="1371600" y="518148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8" name="" descr=""/>
          <p:cNvPicPr/>
          <p:nvPr/>
        </p:nvPicPr>
        <p:blipFill>
          <a:blip r:embed="rId1"/>
          <a:srcRect l="0" t="6224" r="0" b="0"/>
          <a:stretch/>
        </p:blipFill>
        <p:spPr>
          <a:xfrm>
            <a:off x="2209680" y="1066680"/>
            <a:ext cx="4753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90720" y="1143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132920" y="120492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0384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249800" y="1187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4956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95480" y="1187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9528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157000" y="11872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4100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97640" y="11872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3244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00520" y="14922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990720" y="14479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97440" y="15001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4956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707000" y="1492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528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152680" y="1492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4100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614200" y="1492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8672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54840" y="14922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8672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43320" y="11872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990720" y="17524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197440" y="18050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9528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164200" y="17971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100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609880" y="17971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8672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71400" y="17971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3244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12040" y="17971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7816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957720" y="17971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90720" y="20574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197440" y="21099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100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621400" y="21016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8672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67080" y="21016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244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28600" y="21016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7816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969240" y="21016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2388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414920" y="21016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990720" y="23623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133280" y="242424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197440" y="242424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942280" y="242424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367800" y="242424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792240" y="2424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990720" y="838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134000" y="89208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773000" y="89208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78840" y="89208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3200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29" name=""/>
          <p:cNvGraphicFramePr/>
          <p:nvPr/>
        </p:nvGraphicFramePr>
        <p:xfrm>
          <a:off x="685800" y="3048120"/>
          <a:ext cx="7689960" cy="9144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Control Ca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294760" cy="55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tion (on next cycl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332" name=""/>
          <p:cNvGraphicFramePr/>
          <p:nvPr/>
        </p:nvGraphicFramePr>
        <p:xfrm>
          <a:off x="1143000" y="1523880"/>
          <a:ext cx="6630840" cy="202248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0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3" name=""/>
          <p:cNvGraphicFramePr/>
          <p:nvPr/>
        </p:nvGraphicFramePr>
        <p:xfrm>
          <a:off x="914400" y="434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290160" y="5714640"/>
            <a:ext cx="82947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pipeline control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occurs at start of following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5160" cy="46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itial Version of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880" y="99072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F_stall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stall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E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cases that can arise on same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-taken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at branch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that reads from memory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80200" cy="20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handle as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s F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PC selection logic will be using M_valM anyh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33520" y="990720"/>
            <a:ext cx="3049560" cy="1633320"/>
            <a:chOff x="533520" y="990720"/>
            <a:chExt cx="3049560" cy="1633320"/>
          </a:xfrm>
        </p:grpSpPr>
        <p:sp>
          <p:nvSpPr>
            <p:cNvPr id="2346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2210040" y="990720"/>
              <a:ext cx="1373040" cy="1328760"/>
              <a:chOff x="2210040" y="990720"/>
              <a:chExt cx="1373040" cy="1328760"/>
            </a:xfrm>
          </p:grpSpPr>
          <p:sp>
            <p:nvSpPr>
              <p:cNvPr id="2371" name=""/>
              <p:cNvSpPr/>
              <p:nvPr/>
            </p:nvSpPr>
            <p:spPr>
              <a:xfrm>
                <a:off x="2667240" y="167652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210040" y="167652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484000" y="173664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667240" y="1981080"/>
                <a:ext cx="915840" cy="306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000600" y="202896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210040" y="1981080"/>
                <a:ext cx="4586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473200" y="2041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667240" y="137160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210040" y="137160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449800" y="143208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362320" y="990720"/>
                <a:ext cx="12207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764080" y="105732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171600" y="1038240"/>
                <a:ext cx="1134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1398600" y="2286000"/>
              <a:ext cx="1776600" cy="304920"/>
              <a:chOff x="1398600" y="2286000"/>
              <a:chExt cx="1776600" cy="304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1447920" y="2381400"/>
                <a:ext cx="1676520" cy="209520"/>
              </a:xfrm>
              <a:custGeom>
                <a:avLst/>
                <a:gdLst/>
                <a:ahLst/>
                <a:rect l="l" t="t" r="r" b="b"/>
                <a:pathLst>
                  <a:path w="1056" h="132">
                    <a:moveTo>
                      <a:pt x="0" y="0"/>
                    </a:moveTo>
                    <a:lnTo>
                      <a:pt x="0" y="132"/>
                    </a:lnTo>
                    <a:lnTo>
                      <a:pt x="1056" y="132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39860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7512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1295640" y="2286000"/>
              <a:ext cx="1982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664280" y="2346480"/>
              <a:ext cx="1332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416" name=""/>
          <p:cNvGraphicFramePr/>
          <p:nvPr/>
        </p:nvGraphicFramePr>
        <p:xfrm>
          <a:off x="685800" y="2819520"/>
          <a:ext cx="7689960" cy="18540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7" name="" descr=""/>
          <p:cNvPicPr/>
          <p:nvPr/>
        </p:nvPicPr>
        <p:blipFill>
          <a:blip r:embed="rId1"/>
          <a:srcRect l="0" t="75612" r="0" b="0"/>
          <a:stretch/>
        </p:blipFill>
        <p:spPr>
          <a:xfrm>
            <a:off x="4343400" y="990720"/>
            <a:ext cx="43736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attempt to bubbl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pipeline register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ed by processor as pipeline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484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8" name=""/>
          <p:cNvGraphicFramePr/>
          <p:nvPr/>
        </p:nvGraphicFramePr>
        <p:xfrm>
          <a:off x="609480" y="2819520"/>
          <a:ext cx="7689960" cy="199692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 + 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555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ed Pipeline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"/>
          <p:cNvSpPr/>
          <p:nvPr/>
        </p:nvSpPr>
        <p:spPr>
          <a:xfrm>
            <a:off x="533520" y="990720"/>
            <a:ext cx="8445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660033"/>
                </a:solidFill>
                <a:latin typeface="Courier New"/>
              </a:rPr>
              <a:t># but not condition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!(E_icode in { IMRMOVL, IPOPL 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E_dstM in { d_srcA, d_srcB }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handled by forwar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performance penal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requires one cycle st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cel instructions when detect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wo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fetch stage wh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e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Combin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nalyze carefu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version had subtle bu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rises with unusual instruction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2120" y="762120"/>
            <a:ext cx="7468920" cy="5564160"/>
            <a:chOff x="762120" y="762120"/>
            <a:chExt cx="7468920" cy="5564160"/>
          </a:xfrm>
        </p:grpSpPr>
        <p:sp>
          <p:nvSpPr>
            <p:cNvPr id="93" name=""/>
            <p:cNvSpPr/>
            <p:nvPr/>
          </p:nvSpPr>
          <p:spPr>
            <a:xfrm>
              <a:off x="762120" y="11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1447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504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952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1280" y="15098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6800" y="15098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17524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2057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2362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5040" y="2424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50240" y="24242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2320" y="2424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852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07480" y="242424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024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2666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81120" y="297180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97180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838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181480" y="3733920"/>
              <a:ext cx="1906560" cy="992160"/>
              <a:chOff x="5181480" y="3733920"/>
              <a:chExt cx="1906560" cy="992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81480" y="37339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1480" y="379872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480" y="411480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17560" y="416232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09800" y="4181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16000" y="41814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0200" y="416232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5880" y="41558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7280" y="416232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81480" y="5334120"/>
              <a:ext cx="1906560" cy="992160"/>
              <a:chOff x="5181480" y="5334120"/>
              <a:chExt cx="1906560" cy="99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181480" y="5334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81480" y="571500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019920" y="472428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11480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3600" y="4114800"/>
              <a:ext cx="114444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81480" y="3352680"/>
              <a:ext cx="2713320" cy="2973600"/>
              <a:chOff x="5181480" y="3352680"/>
              <a:chExt cx="2713320" cy="2973600"/>
            </a:xfrm>
          </p:grpSpPr>
          <p:sp>
            <p:nvSpPr>
              <p:cNvPr id="315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47242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56000" y="4726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56000" y="4897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6000" y="50688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81480" y="3352680"/>
                <a:ext cx="19065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8480" y="34131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858000" y="5867280"/>
                <a:ext cx="533520" cy="173160"/>
                <a:chOff x="6858000" y="5867280"/>
                <a:chExt cx="533520" cy="17316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6950160" y="5867280"/>
                  <a:ext cx="441360" cy="12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58000" y="5945040"/>
                  <a:ext cx="109440" cy="9540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15200" y="571500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43720" y="577224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366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448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for 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instruction follows too closely after one that writes register, slow it dow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instruction in de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inject nop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530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549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urce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 and srcB of current instruction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tination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E and dstM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in execute, memory, and write-back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stall for register ID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bsence of register opera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07080" y="2293920"/>
            <a:ext cx="258840" cy="58680"/>
            <a:chOff x="5707080" y="2293920"/>
            <a:chExt cx="258840" cy="58680"/>
          </a:xfrm>
        </p:grpSpPr>
        <p:sp>
          <p:nvSpPr>
            <p:cNvPr id="579" name=""/>
            <p:cNvSpPr/>
            <p:nvPr/>
          </p:nvSpPr>
          <p:spPr>
            <a:xfrm flipH="1">
              <a:off x="5764320" y="2324160"/>
              <a:ext cx="201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07080" y="2293920"/>
              <a:ext cx="60480" cy="586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0"/>
                  </a:moveTo>
                  <a:lnTo>
                    <a:pt x="0" y="38"/>
                  </a:lnTo>
                  <a:lnTo>
                    <a:pt x="76" y="7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772320" y="1271520"/>
            <a:ext cx="65160" cy="595440"/>
            <a:chOff x="6772320" y="1271520"/>
            <a:chExt cx="65160" cy="595440"/>
          </a:xfrm>
        </p:grpSpPr>
        <p:sp>
          <p:nvSpPr>
            <p:cNvPr id="582" name=""/>
            <p:cNvSpPr/>
            <p:nvPr/>
          </p:nvSpPr>
          <p:spPr>
            <a:xfrm>
              <a:off x="6792840" y="1333440"/>
              <a:ext cx="2376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72320" y="12715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518000" y="337500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5480" y="34304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18000" y="182088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06560" y="187632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18000" y="493560"/>
            <a:ext cx="3889440" cy="23040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07640" y="549360"/>
            <a:ext cx="96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0" y="60278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05480" y="60832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18000" y="46562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6560" y="4711680"/>
            <a:ext cx="73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68680" y="51912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6560" y="53182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5126040"/>
            <a:ext cx="114948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75200" y="5113440"/>
            <a:ext cx="114444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2840" y="51753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00720" y="53038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17040" y="51912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75560" y="53182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80160" y="5126040"/>
            <a:ext cx="55404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67560" y="5113440"/>
            <a:ext cx="55080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0840" y="51753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59720" y="53038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30640" y="416232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4400" y="428940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80160" y="4073400"/>
            <a:ext cx="60012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67560" y="4062240"/>
            <a:ext cx="595080" cy="411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6240" y="414648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28560" y="42735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82280" y="22813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845320" y="2185920"/>
            <a:ext cx="792000" cy="290520"/>
            <a:chOff x="5845320" y="2185920"/>
            <a:chExt cx="792000" cy="290520"/>
          </a:xfrm>
        </p:grpSpPr>
        <p:sp>
          <p:nvSpPr>
            <p:cNvPr id="614" name=""/>
            <p:cNvSpPr/>
            <p:nvPr/>
          </p:nvSpPr>
          <p:spPr>
            <a:xfrm>
              <a:off x="5859360" y="2201760"/>
              <a:ext cx="777960" cy="274680"/>
            </a:xfrm>
            <a:custGeom>
              <a:avLst/>
              <a:gdLst/>
              <a:ahLst/>
              <a:rect l="l" t="t" r="r" b="b"/>
              <a:pathLst>
                <a:path w="980" h="346">
                  <a:moveTo>
                    <a:pt x="0" y="346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5320" y="2185920"/>
              <a:ext cx="776160" cy="274680"/>
            </a:xfrm>
            <a:custGeom>
              <a:avLst/>
              <a:gdLst/>
              <a:ahLst/>
              <a:rect l="l" t="t" r="r" b="b"/>
              <a:pathLst>
                <a:path w="980" h="345">
                  <a:moveTo>
                    <a:pt x="0" y="345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166440" y="22669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08880" y="96048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7600" y="1087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59400" y="873000"/>
            <a:ext cx="64620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48240" y="860400"/>
            <a:ext cx="641520" cy="412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93040" y="94464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21400" y="1073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24560" y="5616720"/>
            <a:ext cx="549360" cy="320400"/>
          </a:xfrm>
          <a:custGeom>
            <a:avLst/>
            <a:gdLst/>
            <a:ahLst/>
            <a:rect l="l" t="t" r="r" b="b"/>
            <a:pathLst>
              <a:path w="691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7" y="402"/>
                </a:lnTo>
                <a:lnTo>
                  <a:pt x="650" y="399"/>
                </a:lnTo>
                <a:lnTo>
                  <a:pt x="661" y="391"/>
                </a:lnTo>
                <a:lnTo>
                  <a:pt x="672" y="384"/>
                </a:lnTo>
                <a:lnTo>
                  <a:pt x="679" y="373"/>
                </a:lnTo>
                <a:lnTo>
                  <a:pt x="686" y="363"/>
                </a:lnTo>
                <a:lnTo>
                  <a:pt x="690" y="349"/>
                </a:lnTo>
                <a:lnTo>
                  <a:pt x="691" y="336"/>
                </a:lnTo>
                <a:lnTo>
                  <a:pt x="691" y="67"/>
                </a:lnTo>
                <a:lnTo>
                  <a:pt x="690" y="54"/>
                </a:lnTo>
                <a:lnTo>
                  <a:pt x="686" y="41"/>
                </a:lnTo>
                <a:lnTo>
                  <a:pt x="679" y="30"/>
                </a:lnTo>
                <a:lnTo>
                  <a:pt x="672" y="19"/>
                </a:lnTo>
                <a:lnTo>
                  <a:pt x="661" y="12"/>
                </a:lnTo>
                <a:lnTo>
                  <a:pt x="650" y="5"/>
                </a:lnTo>
                <a:lnTo>
                  <a:pt x="637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3920" y="56721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64680" y="57816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765760" y="5479920"/>
            <a:ext cx="65160" cy="136800"/>
            <a:chOff x="5765760" y="5479920"/>
            <a:chExt cx="65160" cy="136800"/>
          </a:xfrm>
        </p:grpSpPr>
        <p:sp>
          <p:nvSpPr>
            <p:cNvPr id="627" name=""/>
            <p:cNvSpPr/>
            <p:nvPr/>
          </p:nvSpPr>
          <p:spPr>
            <a:xfrm>
              <a:off x="5788080" y="55418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5760" y="5479920"/>
              <a:ext cx="65160" cy="637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29360" y="4884840"/>
            <a:ext cx="41040" cy="228240"/>
            <a:chOff x="5229360" y="4884840"/>
            <a:chExt cx="41040" cy="228240"/>
          </a:xfrm>
        </p:grpSpPr>
        <p:sp>
          <p:nvSpPr>
            <p:cNvPr id="630" name=""/>
            <p:cNvSpPr/>
            <p:nvPr/>
          </p:nvSpPr>
          <p:spPr>
            <a:xfrm flipV="1">
              <a:off x="52498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293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504040" y="4884840"/>
            <a:ext cx="41040" cy="228240"/>
            <a:chOff x="5504040" y="4884840"/>
            <a:chExt cx="41040" cy="228240"/>
          </a:xfrm>
        </p:grpSpPr>
        <p:sp>
          <p:nvSpPr>
            <p:cNvPr id="633" name=""/>
            <p:cNvSpPr/>
            <p:nvPr/>
          </p:nvSpPr>
          <p:spPr>
            <a:xfrm flipV="1">
              <a:off x="552456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404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76920" y="4884840"/>
            <a:ext cx="42840" cy="228240"/>
            <a:chOff x="5776920" y="4884840"/>
            <a:chExt cx="42840" cy="228240"/>
          </a:xfrm>
        </p:grpSpPr>
        <p:sp>
          <p:nvSpPr>
            <p:cNvPr id="636" name=""/>
            <p:cNvSpPr/>
            <p:nvPr/>
          </p:nvSpPr>
          <p:spPr>
            <a:xfrm flipV="1">
              <a:off x="579924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76920" y="488484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040440" y="4884840"/>
            <a:ext cx="65160" cy="228600"/>
            <a:chOff x="6040440" y="4884840"/>
            <a:chExt cx="65160" cy="228600"/>
          </a:xfrm>
        </p:grpSpPr>
        <p:sp>
          <p:nvSpPr>
            <p:cNvPr id="639" name=""/>
            <p:cNvSpPr/>
            <p:nvPr/>
          </p:nvSpPr>
          <p:spPr>
            <a:xfrm>
              <a:off x="6060960" y="4946760"/>
              <a:ext cx="237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40440" y="48848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910560" y="4884840"/>
            <a:ext cx="64800" cy="228600"/>
            <a:chOff x="6910560" y="4884840"/>
            <a:chExt cx="64800" cy="228600"/>
          </a:xfrm>
        </p:grpSpPr>
        <p:sp>
          <p:nvSpPr>
            <p:cNvPr id="642" name=""/>
            <p:cNvSpPr/>
            <p:nvPr/>
          </p:nvSpPr>
          <p:spPr>
            <a:xfrm>
              <a:off x="6931080" y="4946760"/>
              <a:ext cx="223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10560" y="488484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73920" y="4943520"/>
            <a:ext cx="1279440" cy="65160"/>
            <a:chOff x="6073920" y="4943520"/>
            <a:chExt cx="1279440" cy="65160"/>
          </a:xfrm>
        </p:grpSpPr>
        <p:sp>
          <p:nvSpPr>
            <p:cNvPr id="645" name=""/>
            <p:cNvSpPr/>
            <p:nvPr/>
          </p:nvSpPr>
          <p:spPr>
            <a:xfrm>
              <a:off x="6073920" y="4965840"/>
              <a:ext cx="12175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9640" y="4943520"/>
              <a:ext cx="6372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0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942240" y="5035680"/>
            <a:ext cx="411120" cy="64800"/>
            <a:chOff x="6942240" y="5035680"/>
            <a:chExt cx="411120" cy="64800"/>
          </a:xfrm>
        </p:grpSpPr>
        <p:sp>
          <p:nvSpPr>
            <p:cNvPr id="648" name=""/>
            <p:cNvSpPr/>
            <p:nvPr/>
          </p:nvSpPr>
          <p:spPr>
            <a:xfrm>
              <a:off x="6942240" y="5056200"/>
              <a:ext cx="3492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89640" y="5035680"/>
              <a:ext cx="6372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765760" y="5205240"/>
            <a:ext cx="1874880" cy="1200240"/>
            <a:chOff x="5765760" y="5205240"/>
            <a:chExt cx="1874880" cy="1200240"/>
          </a:xfrm>
        </p:grpSpPr>
        <p:sp>
          <p:nvSpPr>
            <p:cNvPr id="651" name=""/>
            <p:cNvSpPr/>
            <p:nvPr/>
          </p:nvSpPr>
          <p:spPr>
            <a:xfrm>
              <a:off x="5788080" y="5205240"/>
              <a:ext cx="1852560" cy="1200240"/>
            </a:xfrm>
            <a:custGeom>
              <a:avLst/>
              <a:gdLst/>
              <a:ahLst/>
              <a:rect l="l" t="t" r="r" b="b"/>
              <a:pathLst>
                <a:path w="2334" h="1512">
                  <a:moveTo>
                    <a:pt x="2334" y="0"/>
                  </a:moveTo>
                  <a:lnTo>
                    <a:pt x="2305" y="0"/>
                  </a:lnTo>
                  <a:lnTo>
                    <a:pt x="2305" y="1498"/>
                  </a:lnTo>
                  <a:lnTo>
                    <a:pt x="2320" y="1498"/>
                  </a:lnTo>
                  <a:lnTo>
                    <a:pt x="2320" y="1483"/>
                  </a:lnTo>
                  <a:lnTo>
                    <a:pt x="2314" y="1484"/>
                  </a:lnTo>
                  <a:lnTo>
                    <a:pt x="2310" y="1488"/>
                  </a:lnTo>
                  <a:lnTo>
                    <a:pt x="2307" y="1492"/>
                  </a:lnTo>
                  <a:lnTo>
                    <a:pt x="2320" y="1483"/>
                  </a:lnTo>
                  <a:lnTo>
                    <a:pt x="14" y="1483"/>
                  </a:lnTo>
                  <a:lnTo>
                    <a:pt x="14" y="1498"/>
                  </a:lnTo>
                  <a:lnTo>
                    <a:pt x="29" y="1498"/>
                  </a:lnTo>
                  <a:lnTo>
                    <a:pt x="28" y="1492"/>
                  </a:lnTo>
                  <a:lnTo>
                    <a:pt x="24" y="1488"/>
                  </a:lnTo>
                  <a:lnTo>
                    <a:pt x="20" y="1484"/>
                  </a:lnTo>
                  <a:lnTo>
                    <a:pt x="29" y="1498"/>
                  </a:lnTo>
                  <a:lnTo>
                    <a:pt x="29" y="1403"/>
                  </a:lnTo>
                  <a:lnTo>
                    <a:pt x="0" y="1403"/>
                  </a:lnTo>
                  <a:lnTo>
                    <a:pt x="0" y="1498"/>
                  </a:lnTo>
                  <a:lnTo>
                    <a:pt x="0" y="1498"/>
                  </a:lnTo>
                  <a:lnTo>
                    <a:pt x="1" y="1504"/>
                  </a:lnTo>
                  <a:lnTo>
                    <a:pt x="5" y="1507"/>
                  </a:lnTo>
                  <a:lnTo>
                    <a:pt x="8" y="1511"/>
                  </a:lnTo>
                  <a:lnTo>
                    <a:pt x="14" y="1512"/>
                  </a:lnTo>
                  <a:lnTo>
                    <a:pt x="2320" y="1512"/>
                  </a:lnTo>
                  <a:lnTo>
                    <a:pt x="2320" y="1512"/>
                  </a:lnTo>
                  <a:lnTo>
                    <a:pt x="2326" y="1511"/>
                  </a:lnTo>
                  <a:lnTo>
                    <a:pt x="2329" y="1507"/>
                  </a:lnTo>
                  <a:lnTo>
                    <a:pt x="2333" y="1504"/>
                  </a:lnTo>
                  <a:lnTo>
                    <a:pt x="2334" y="1498"/>
                  </a:lnTo>
                  <a:lnTo>
                    <a:pt x="2334" y="1498"/>
                  </a:lnTo>
                  <a:lnTo>
                    <a:pt x="2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65760" y="6256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8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000760" y="4884840"/>
            <a:ext cx="41040" cy="228240"/>
            <a:chOff x="5000760" y="4884840"/>
            <a:chExt cx="41040" cy="228240"/>
          </a:xfrm>
        </p:grpSpPr>
        <p:sp>
          <p:nvSpPr>
            <p:cNvPr id="654" name=""/>
            <p:cNvSpPr/>
            <p:nvPr/>
          </p:nvSpPr>
          <p:spPr>
            <a:xfrm flipV="1">
              <a:off x="50212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007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66100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160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424640" y="3603600"/>
            <a:ext cx="41400" cy="229680"/>
            <a:chOff x="7424640" y="3603600"/>
            <a:chExt cx="41400" cy="229680"/>
          </a:xfrm>
        </p:grpSpPr>
        <p:sp>
          <p:nvSpPr>
            <p:cNvPr id="659" name=""/>
            <p:cNvSpPr/>
            <p:nvPr/>
          </p:nvSpPr>
          <p:spPr>
            <a:xfrm flipV="1">
              <a:off x="7445520" y="3642840"/>
              <a:ext cx="144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2464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699320" y="3603600"/>
            <a:ext cx="41400" cy="274320"/>
            <a:chOff x="7699320" y="3603600"/>
            <a:chExt cx="41400" cy="274320"/>
          </a:xfrm>
        </p:grpSpPr>
        <p:sp>
          <p:nvSpPr>
            <p:cNvPr id="662" name=""/>
            <p:cNvSpPr/>
            <p:nvPr/>
          </p:nvSpPr>
          <p:spPr>
            <a:xfrm flipV="1">
              <a:off x="771984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932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730872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2" y="30"/>
                </a:lnTo>
                <a:lnTo>
                  <a:pt x="0" y="38"/>
                </a:lnTo>
                <a:lnTo>
                  <a:pt x="0" y="192"/>
                </a:lnTo>
                <a:lnTo>
                  <a:pt x="2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8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8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8828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83400" y="3741840"/>
            <a:ext cx="27324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9360" y="378468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02520" y="374184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3480" y="37749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03400" y="388476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047000" y="3603600"/>
            <a:ext cx="65160" cy="458640"/>
            <a:chOff x="7047000" y="3603600"/>
            <a:chExt cx="65160" cy="458640"/>
          </a:xfrm>
        </p:grpSpPr>
        <p:sp>
          <p:nvSpPr>
            <p:cNvPr id="672" name=""/>
            <p:cNvSpPr/>
            <p:nvPr/>
          </p:nvSpPr>
          <p:spPr>
            <a:xfrm>
              <a:off x="7067520" y="3665520"/>
              <a:ext cx="2376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700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713640" y="3846600"/>
            <a:ext cx="149040" cy="215640"/>
            <a:chOff x="6713640" y="3846600"/>
            <a:chExt cx="149040" cy="215640"/>
          </a:xfrm>
        </p:grpSpPr>
        <p:sp>
          <p:nvSpPr>
            <p:cNvPr id="675" name=""/>
            <p:cNvSpPr/>
            <p:nvPr/>
          </p:nvSpPr>
          <p:spPr>
            <a:xfrm>
              <a:off x="6775560" y="3867120"/>
              <a:ext cx="87120" cy="195120"/>
            </a:xfrm>
            <a:custGeom>
              <a:avLst/>
              <a:gdLst/>
              <a:ahLst/>
              <a:rect l="l" t="t" r="r" b="b"/>
              <a:pathLst>
                <a:path w="109" h="245">
                  <a:moveTo>
                    <a:pt x="81" y="245"/>
                  </a:moveTo>
                  <a:lnTo>
                    <a:pt x="109" y="24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8" y="9"/>
                  </a:lnTo>
                  <a:lnTo>
                    <a:pt x="105" y="5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95" y="29"/>
                  </a:lnTo>
                  <a:lnTo>
                    <a:pt x="81" y="15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9" y="28"/>
                  </a:lnTo>
                  <a:lnTo>
                    <a:pt x="95" y="15"/>
                  </a:lnTo>
                  <a:lnTo>
                    <a:pt x="81" y="15"/>
                  </a:lnTo>
                  <a:lnTo>
                    <a:pt x="8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3640" y="3846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497640" y="4016520"/>
            <a:ext cx="547560" cy="685800"/>
            <a:chOff x="6497640" y="4016520"/>
            <a:chExt cx="547560" cy="685800"/>
          </a:xfrm>
        </p:grpSpPr>
        <p:sp>
          <p:nvSpPr>
            <p:cNvPr id="678" name=""/>
            <p:cNvSpPr/>
            <p:nvPr/>
          </p:nvSpPr>
          <p:spPr>
            <a:xfrm>
              <a:off x="6519960" y="4078440"/>
              <a:ext cx="525240" cy="623880"/>
            </a:xfrm>
            <a:custGeom>
              <a:avLst/>
              <a:gdLst/>
              <a:ahLst/>
              <a:rect l="l" t="t" r="r" b="b"/>
              <a:pathLst>
                <a:path w="663" h="786">
                  <a:moveTo>
                    <a:pt x="634" y="786"/>
                  </a:moveTo>
                  <a:lnTo>
                    <a:pt x="663" y="786"/>
                  </a:lnTo>
                  <a:lnTo>
                    <a:pt x="663" y="601"/>
                  </a:lnTo>
                  <a:lnTo>
                    <a:pt x="663" y="601"/>
                  </a:lnTo>
                  <a:lnTo>
                    <a:pt x="662" y="595"/>
                  </a:lnTo>
                  <a:lnTo>
                    <a:pt x="658" y="591"/>
                  </a:lnTo>
                  <a:lnTo>
                    <a:pt x="655" y="588"/>
                  </a:lnTo>
                  <a:lnTo>
                    <a:pt x="649" y="586"/>
                  </a:lnTo>
                  <a:lnTo>
                    <a:pt x="15" y="586"/>
                  </a:lnTo>
                  <a:lnTo>
                    <a:pt x="15" y="601"/>
                  </a:lnTo>
                  <a:lnTo>
                    <a:pt x="29" y="601"/>
                  </a:lnTo>
                  <a:lnTo>
                    <a:pt x="28" y="595"/>
                  </a:lnTo>
                  <a:lnTo>
                    <a:pt x="24" y="591"/>
                  </a:lnTo>
                  <a:lnTo>
                    <a:pt x="21" y="588"/>
                  </a:lnTo>
                  <a:lnTo>
                    <a:pt x="29" y="60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01"/>
                  </a:lnTo>
                  <a:lnTo>
                    <a:pt x="0" y="601"/>
                  </a:lnTo>
                  <a:lnTo>
                    <a:pt x="1" y="607"/>
                  </a:lnTo>
                  <a:lnTo>
                    <a:pt x="5" y="610"/>
                  </a:lnTo>
                  <a:lnTo>
                    <a:pt x="9" y="614"/>
                  </a:lnTo>
                  <a:lnTo>
                    <a:pt x="15" y="615"/>
                  </a:lnTo>
                  <a:lnTo>
                    <a:pt x="649" y="615"/>
                  </a:lnTo>
                  <a:lnTo>
                    <a:pt x="634" y="601"/>
                  </a:lnTo>
                  <a:lnTo>
                    <a:pt x="635" y="607"/>
                  </a:lnTo>
                  <a:lnTo>
                    <a:pt x="639" y="610"/>
                  </a:lnTo>
                  <a:lnTo>
                    <a:pt x="643" y="614"/>
                  </a:lnTo>
                  <a:lnTo>
                    <a:pt x="649" y="601"/>
                  </a:lnTo>
                  <a:lnTo>
                    <a:pt x="634" y="601"/>
                  </a:lnTo>
                  <a:lnTo>
                    <a:pt x="63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97640" y="401652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97640" y="3603600"/>
            <a:ext cx="65160" cy="138240"/>
            <a:chOff x="6497640" y="3603600"/>
            <a:chExt cx="65160" cy="138240"/>
          </a:xfrm>
        </p:grpSpPr>
        <p:sp>
          <p:nvSpPr>
            <p:cNvPr id="681" name=""/>
            <p:cNvSpPr/>
            <p:nvPr/>
          </p:nvSpPr>
          <p:spPr>
            <a:xfrm>
              <a:off x="6519960" y="3665520"/>
              <a:ext cx="21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764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753160" y="2552760"/>
            <a:ext cx="411120" cy="274680"/>
          </a:xfrm>
          <a:custGeom>
            <a:avLst/>
            <a:gdLst/>
            <a:ahLst/>
            <a:rect l="l" t="t" r="r" b="b"/>
            <a:pathLst>
              <a:path w="518" h="345">
                <a:moveTo>
                  <a:pt x="57" y="0"/>
                </a:moveTo>
                <a:lnTo>
                  <a:pt x="45" y="1"/>
                </a:lnTo>
                <a:lnTo>
                  <a:pt x="35" y="5"/>
                </a:lnTo>
                <a:lnTo>
                  <a:pt x="25" y="9"/>
                </a:lnTo>
                <a:lnTo>
                  <a:pt x="17" y="17"/>
                </a:lnTo>
                <a:lnTo>
                  <a:pt x="9" y="25"/>
                </a:lnTo>
                <a:lnTo>
                  <a:pt x="5" y="35"/>
                </a:lnTo>
                <a:lnTo>
                  <a:pt x="1" y="45"/>
                </a:lnTo>
                <a:lnTo>
                  <a:pt x="0" y="57"/>
                </a:lnTo>
                <a:lnTo>
                  <a:pt x="0" y="288"/>
                </a:lnTo>
                <a:lnTo>
                  <a:pt x="1" y="300"/>
                </a:lnTo>
                <a:lnTo>
                  <a:pt x="5" y="311"/>
                </a:lnTo>
                <a:lnTo>
                  <a:pt x="9" y="320"/>
                </a:lnTo>
                <a:lnTo>
                  <a:pt x="17" y="329"/>
                </a:lnTo>
                <a:lnTo>
                  <a:pt x="25" y="336"/>
                </a:lnTo>
                <a:lnTo>
                  <a:pt x="35" y="341"/>
                </a:lnTo>
                <a:lnTo>
                  <a:pt x="45" y="344"/>
                </a:lnTo>
                <a:lnTo>
                  <a:pt x="57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3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7" y="300"/>
                </a:lnTo>
                <a:lnTo>
                  <a:pt x="518" y="288"/>
                </a:lnTo>
                <a:lnTo>
                  <a:pt x="518" y="57"/>
                </a:lnTo>
                <a:lnTo>
                  <a:pt x="517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3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0544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5404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02520" y="255276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5480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0340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857920" y="2827440"/>
            <a:ext cx="65160" cy="593640"/>
            <a:chOff x="5857920" y="2827440"/>
            <a:chExt cx="65160" cy="593640"/>
          </a:xfrm>
        </p:grpSpPr>
        <p:sp>
          <p:nvSpPr>
            <p:cNvPr id="690" name=""/>
            <p:cNvSpPr/>
            <p:nvPr/>
          </p:nvSpPr>
          <p:spPr>
            <a:xfrm>
              <a:off x="5878440" y="2889360"/>
              <a:ext cx="2376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5792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178680" y="2049480"/>
            <a:ext cx="63360" cy="136440"/>
            <a:chOff x="6178680" y="2049480"/>
            <a:chExt cx="63360" cy="136440"/>
          </a:xfrm>
        </p:grpSpPr>
        <p:sp>
          <p:nvSpPr>
            <p:cNvPr id="693" name=""/>
            <p:cNvSpPr/>
            <p:nvPr/>
          </p:nvSpPr>
          <p:spPr>
            <a:xfrm>
              <a:off x="6199200" y="2111400"/>
              <a:ext cx="2232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78680" y="204948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924520" y="2460600"/>
            <a:ext cx="2232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19960" y="2460600"/>
            <a:ext cx="2196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19960" y="2963880"/>
            <a:ext cx="2196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002200" y="2049480"/>
            <a:ext cx="38160" cy="1371240"/>
            <a:chOff x="5002200" y="2049480"/>
            <a:chExt cx="38160" cy="1371240"/>
          </a:xfrm>
        </p:grpSpPr>
        <p:sp>
          <p:nvSpPr>
            <p:cNvPr id="699" name=""/>
            <p:cNvSpPr/>
            <p:nvPr/>
          </p:nvSpPr>
          <p:spPr>
            <a:xfrm flipV="1">
              <a:off x="502128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0220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426440" y="2049480"/>
            <a:ext cx="38160" cy="1371240"/>
            <a:chOff x="7426440" y="2049480"/>
            <a:chExt cx="38160" cy="1371240"/>
          </a:xfrm>
        </p:grpSpPr>
        <p:sp>
          <p:nvSpPr>
            <p:cNvPr id="702" name=""/>
            <p:cNvSpPr/>
            <p:nvPr/>
          </p:nvSpPr>
          <p:spPr>
            <a:xfrm flipV="1">
              <a:off x="744552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644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01120" y="2049480"/>
            <a:ext cx="37800" cy="1371240"/>
            <a:chOff x="7701120" y="2049480"/>
            <a:chExt cx="37800" cy="1371240"/>
          </a:xfrm>
        </p:grpSpPr>
        <p:sp>
          <p:nvSpPr>
            <p:cNvPr id="705" name=""/>
            <p:cNvSpPr/>
            <p:nvPr/>
          </p:nvSpPr>
          <p:spPr>
            <a:xfrm flipV="1">
              <a:off x="7719840" y="2085480"/>
              <a:ext cx="180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01120" y="20494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00760" y="3603600"/>
            <a:ext cx="41040" cy="1098720"/>
            <a:chOff x="5000760" y="3603600"/>
            <a:chExt cx="41040" cy="1098720"/>
          </a:xfrm>
        </p:grpSpPr>
        <p:sp>
          <p:nvSpPr>
            <p:cNvPr id="708" name=""/>
            <p:cNvSpPr/>
            <p:nvPr/>
          </p:nvSpPr>
          <p:spPr>
            <a:xfrm flipV="1">
              <a:off x="50212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007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229360" y="3603600"/>
            <a:ext cx="41040" cy="1098720"/>
            <a:chOff x="5229360" y="3603600"/>
            <a:chExt cx="41040" cy="1098720"/>
          </a:xfrm>
        </p:grpSpPr>
        <p:sp>
          <p:nvSpPr>
            <p:cNvPr id="711" name=""/>
            <p:cNvSpPr/>
            <p:nvPr/>
          </p:nvSpPr>
          <p:spPr>
            <a:xfrm flipV="1">
              <a:off x="52498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93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502320" y="1271520"/>
            <a:ext cx="55800" cy="138240"/>
            <a:chOff x="6502320" y="1271520"/>
            <a:chExt cx="55800" cy="138240"/>
          </a:xfrm>
        </p:grpSpPr>
        <p:sp>
          <p:nvSpPr>
            <p:cNvPr id="714" name=""/>
            <p:cNvSpPr/>
            <p:nvPr/>
          </p:nvSpPr>
          <p:spPr>
            <a:xfrm>
              <a:off x="6521400" y="1325520"/>
              <a:ext cx="17640" cy="8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02320" y="1271520"/>
              <a:ext cx="55800" cy="572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35" y="0"/>
                  </a:lnTo>
                  <a:lnTo>
                    <a:pt x="0" y="71"/>
                  </a:lnTo>
                  <a:lnTo>
                    <a:pt x="6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543720" y="1592280"/>
            <a:ext cx="261720" cy="103320"/>
            <a:chOff x="6543720" y="1592280"/>
            <a:chExt cx="261720" cy="103320"/>
          </a:xfrm>
        </p:grpSpPr>
        <p:sp>
          <p:nvSpPr>
            <p:cNvPr id="717" name=""/>
            <p:cNvSpPr/>
            <p:nvPr/>
          </p:nvSpPr>
          <p:spPr>
            <a:xfrm>
              <a:off x="6564240" y="1654200"/>
              <a:ext cx="241200" cy="41400"/>
            </a:xfrm>
            <a:custGeom>
              <a:avLst/>
              <a:gdLst/>
              <a:ahLst/>
              <a:rect l="l" t="t" r="r" b="b"/>
              <a:pathLst>
                <a:path w="302" h="51">
                  <a:moveTo>
                    <a:pt x="302" y="51"/>
                  </a:moveTo>
                  <a:lnTo>
                    <a:pt x="302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4" y="27"/>
                  </a:lnTo>
                  <a:lnTo>
                    <a:pt x="20" y="24"/>
                  </a:lnTo>
                  <a:lnTo>
                    <a:pt x="29" y="3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30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4372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524560" y="906480"/>
            <a:ext cx="411120" cy="318960"/>
          </a:xfrm>
          <a:custGeom>
            <a:avLst/>
            <a:gdLst/>
            <a:ahLst/>
            <a:rect l="l" t="t" r="r" b="b"/>
            <a:pathLst>
              <a:path w="518" h="404">
                <a:moveTo>
                  <a:pt x="67" y="0"/>
                </a:moveTo>
                <a:lnTo>
                  <a:pt x="54" y="2"/>
                </a:lnTo>
                <a:lnTo>
                  <a:pt x="40" y="5"/>
                </a:lnTo>
                <a:lnTo>
                  <a:pt x="30" y="12"/>
                </a:lnTo>
                <a:lnTo>
                  <a:pt x="19" y="20"/>
                </a:lnTo>
                <a:lnTo>
                  <a:pt x="12" y="30"/>
                </a:lnTo>
                <a:lnTo>
                  <a:pt x="4" y="41"/>
                </a:lnTo>
                <a:lnTo>
                  <a:pt x="1" y="55"/>
                </a:lnTo>
                <a:lnTo>
                  <a:pt x="0" y="68"/>
                </a:lnTo>
                <a:lnTo>
                  <a:pt x="0" y="337"/>
                </a:lnTo>
                <a:lnTo>
                  <a:pt x="1" y="350"/>
                </a:lnTo>
                <a:lnTo>
                  <a:pt x="4" y="363"/>
                </a:lnTo>
                <a:lnTo>
                  <a:pt x="12" y="374"/>
                </a:lnTo>
                <a:lnTo>
                  <a:pt x="19" y="385"/>
                </a:lnTo>
                <a:lnTo>
                  <a:pt x="30" y="392"/>
                </a:lnTo>
                <a:lnTo>
                  <a:pt x="40" y="399"/>
                </a:lnTo>
                <a:lnTo>
                  <a:pt x="54" y="403"/>
                </a:lnTo>
                <a:lnTo>
                  <a:pt x="67" y="404"/>
                </a:lnTo>
                <a:lnTo>
                  <a:pt x="451" y="404"/>
                </a:lnTo>
                <a:lnTo>
                  <a:pt x="464" y="403"/>
                </a:lnTo>
                <a:lnTo>
                  <a:pt x="477" y="399"/>
                </a:lnTo>
                <a:lnTo>
                  <a:pt x="488" y="392"/>
                </a:lnTo>
                <a:lnTo>
                  <a:pt x="499" y="385"/>
                </a:lnTo>
                <a:lnTo>
                  <a:pt x="506" y="374"/>
                </a:lnTo>
                <a:lnTo>
                  <a:pt x="514" y="363"/>
                </a:lnTo>
                <a:lnTo>
                  <a:pt x="517" y="350"/>
                </a:lnTo>
                <a:lnTo>
                  <a:pt x="518" y="337"/>
                </a:lnTo>
                <a:lnTo>
                  <a:pt x="518" y="68"/>
                </a:lnTo>
                <a:lnTo>
                  <a:pt x="517" y="55"/>
                </a:lnTo>
                <a:lnTo>
                  <a:pt x="514" y="41"/>
                </a:lnTo>
                <a:lnTo>
                  <a:pt x="506" y="30"/>
                </a:lnTo>
                <a:lnTo>
                  <a:pt x="499" y="20"/>
                </a:lnTo>
                <a:lnTo>
                  <a:pt x="488" y="12"/>
                </a:lnTo>
                <a:lnTo>
                  <a:pt x="477" y="5"/>
                </a:lnTo>
                <a:lnTo>
                  <a:pt x="464" y="2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2720" y="961920"/>
            <a:ext cx="1958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42080" y="961920"/>
            <a:ext cx="25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39040" y="1071720"/>
            <a:ext cx="264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726240" y="723960"/>
            <a:ext cx="65160" cy="136440"/>
            <a:chOff x="6726240" y="723960"/>
            <a:chExt cx="65160" cy="136440"/>
          </a:xfrm>
        </p:grpSpPr>
        <p:sp>
          <p:nvSpPr>
            <p:cNvPr id="724" name=""/>
            <p:cNvSpPr/>
            <p:nvPr/>
          </p:nvSpPr>
          <p:spPr>
            <a:xfrm>
              <a:off x="6748560" y="785880"/>
              <a:ext cx="219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6240" y="7239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178680" y="723960"/>
            <a:ext cx="63360" cy="1143000"/>
            <a:chOff x="6178680" y="723960"/>
            <a:chExt cx="63360" cy="1143000"/>
          </a:xfrm>
        </p:grpSpPr>
        <p:sp>
          <p:nvSpPr>
            <p:cNvPr id="727" name=""/>
            <p:cNvSpPr/>
            <p:nvPr/>
          </p:nvSpPr>
          <p:spPr>
            <a:xfrm>
              <a:off x="6199200" y="785880"/>
              <a:ext cx="22320" cy="10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8680" y="723960"/>
              <a:ext cx="633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210360" y="1592280"/>
            <a:ext cx="261720" cy="193680"/>
            <a:chOff x="6210360" y="1592280"/>
            <a:chExt cx="261720" cy="193680"/>
          </a:xfrm>
        </p:grpSpPr>
        <p:sp>
          <p:nvSpPr>
            <p:cNvPr id="730" name=""/>
            <p:cNvSpPr/>
            <p:nvPr/>
          </p:nvSpPr>
          <p:spPr>
            <a:xfrm>
              <a:off x="6210360" y="1654200"/>
              <a:ext cx="239760" cy="131760"/>
            </a:xfrm>
            <a:custGeom>
              <a:avLst/>
              <a:gdLst/>
              <a:ahLst/>
              <a:rect l="l" t="t" r="r" b="b"/>
              <a:pathLst>
                <a:path w="303" h="167">
                  <a:moveTo>
                    <a:pt x="0" y="138"/>
                  </a:moveTo>
                  <a:lnTo>
                    <a:pt x="0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94" y="165"/>
                  </a:lnTo>
                  <a:lnTo>
                    <a:pt x="298" y="162"/>
                  </a:lnTo>
                  <a:lnTo>
                    <a:pt x="301" y="158"/>
                  </a:lnTo>
                  <a:lnTo>
                    <a:pt x="303" y="152"/>
                  </a:lnTo>
                  <a:lnTo>
                    <a:pt x="303" y="0"/>
                  </a:lnTo>
                  <a:lnTo>
                    <a:pt x="274" y="0"/>
                  </a:lnTo>
                  <a:lnTo>
                    <a:pt x="274" y="152"/>
                  </a:lnTo>
                  <a:lnTo>
                    <a:pt x="288" y="138"/>
                  </a:lnTo>
                  <a:lnTo>
                    <a:pt x="282" y="139"/>
                  </a:lnTo>
                  <a:lnTo>
                    <a:pt x="279" y="143"/>
                  </a:lnTo>
                  <a:lnTo>
                    <a:pt x="275" y="146"/>
                  </a:lnTo>
                  <a:lnTo>
                    <a:pt x="274" y="152"/>
                  </a:lnTo>
                  <a:lnTo>
                    <a:pt x="288" y="152"/>
                  </a:lnTo>
                  <a:lnTo>
                    <a:pt x="28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159228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26440" y="723960"/>
            <a:ext cx="38160" cy="1143000"/>
            <a:chOff x="7426440" y="723960"/>
            <a:chExt cx="38160" cy="1143000"/>
          </a:xfrm>
        </p:grpSpPr>
        <p:sp>
          <p:nvSpPr>
            <p:cNvPr id="733" name=""/>
            <p:cNvSpPr/>
            <p:nvPr/>
          </p:nvSpPr>
          <p:spPr>
            <a:xfrm flipV="1">
              <a:off x="744552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2644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01120" y="723960"/>
            <a:ext cx="37800" cy="1143000"/>
            <a:chOff x="7701120" y="723960"/>
            <a:chExt cx="37800" cy="1143000"/>
          </a:xfrm>
        </p:grpSpPr>
        <p:sp>
          <p:nvSpPr>
            <p:cNvPr id="736" name=""/>
            <p:cNvSpPr/>
            <p:nvPr/>
          </p:nvSpPr>
          <p:spPr>
            <a:xfrm flipV="1">
              <a:off x="7719840" y="758880"/>
              <a:ext cx="180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01120" y="7239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5040" y="960480"/>
            <a:ext cx="403200" cy="74520"/>
            <a:chOff x="5945040" y="960480"/>
            <a:chExt cx="403200" cy="74520"/>
          </a:xfrm>
        </p:grpSpPr>
        <p:sp>
          <p:nvSpPr>
            <p:cNvPr id="739" name=""/>
            <p:cNvSpPr/>
            <p:nvPr/>
          </p:nvSpPr>
          <p:spPr>
            <a:xfrm>
              <a:off x="6264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42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182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59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736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4988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7920" y="9921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03800" y="9921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818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952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357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134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96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67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5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73720" y="96048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0" y="94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945040" y="1096920"/>
            <a:ext cx="403200" cy="74520"/>
            <a:chOff x="5945040" y="1096920"/>
            <a:chExt cx="403200" cy="74520"/>
          </a:xfrm>
        </p:grpSpPr>
        <p:sp>
          <p:nvSpPr>
            <p:cNvPr id="756" name=""/>
            <p:cNvSpPr/>
            <p:nvPr/>
          </p:nvSpPr>
          <p:spPr>
            <a:xfrm>
              <a:off x="6264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42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82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959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736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988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27920" y="11286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03800" y="11286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18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5952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357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134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96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7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45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3720" y="109692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3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348240" y="1363680"/>
            <a:ext cx="319320" cy="2286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48" y="0"/>
                </a:moveTo>
                <a:lnTo>
                  <a:pt x="38" y="1"/>
                </a:lnTo>
                <a:lnTo>
                  <a:pt x="30" y="3"/>
                </a:lnTo>
                <a:lnTo>
                  <a:pt x="22" y="8"/>
                </a:lnTo>
                <a:lnTo>
                  <a:pt x="14" y="14"/>
                </a:lnTo>
                <a:lnTo>
                  <a:pt x="8" y="21"/>
                </a:lnTo>
                <a:lnTo>
                  <a:pt x="4" y="30"/>
                </a:lnTo>
                <a:lnTo>
                  <a:pt x="1" y="38"/>
                </a:lnTo>
                <a:lnTo>
                  <a:pt x="0" y="48"/>
                </a:lnTo>
                <a:lnTo>
                  <a:pt x="0" y="240"/>
                </a:lnTo>
                <a:lnTo>
                  <a:pt x="1" y="249"/>
                </a:lnTo>
                <a:lnTo>
                  <a:pt x="4" y="259"/>
                </a:lnTo>
                <a:lnTo>
                  <a:pt x="8" y="266"/>
                </a:lnTo>
                <a:lnTo>
                  <a:pt x="14" y="273"/>
                </a:lnTo>
                <a:lnTo>
                  <a:pt x="22" y="279"/>
                </a:lnTo>
                <a:lnTo>
                  <a:pt x="30" y="284"/>
                </a:lnTo>
                <a:lnTo>
                  <a:pt x="38" y="287"/>
                </a:lnTo>
                <a:lnTo>
                  <a:pt x="48" y="288"/>
                </a:lnTo>
                <a:lnTo>
                  <a:pt x="355" y="288"/>
                </a:lnTo>
                <a:lnTo>
                  <a:pt x="365" y="287"/>
                </a:lnTo>
                <a:lnTo>
                  <a:pt x="375" y="284"/>
                </a:lnTo>
                <a:lnTo>
                  <a:pt x="382" y="279"/>
                </a:lnTo>
                <a:lnTo>
                  <a:pt x="389" y="273"/>
                </a:lnTo>
                <a:lnTo>
                  <a:pt x="395" y="266"/>
                </a:lnTo>
                <a:lnTo>
                  <a:pt x="400" y="259"/>
                </a:lnTo>
                <a:lnTo>
                  <a:pt x="402" y="249"/>
                </a:lnTo>
                <a:lnTo>
                  <a:pt x="403" y="240"/>
                </a:lnTo>
                <a:lnTo>
                  <a:pt x="403" y="48"/>
                </a:lnTo>
                <a:lnTo>
                  <a:pt x="402" y="38"/>
                </a:lnTo>
                <a:lnTo>
                  <a:pt x="400" y="30"/>
                </a:lnTo>
                <a:lnTo>
                  <a:pt x="395" y="21"/>
                </a:lnTo>
                <a:lnTo>
                  <a:pt x="389" y="14"/>
                </a:lnTo>
                <a:lnTo>
                  <a:pt x="382" y="8"/>
                </a:lnTo>
                <a:lnTo>
                  <a:pt x="375" y="3"/>
                </a:lnTo>
                <a:lnTo>
                  <a:pt x="365" y="1"/>
                </a:lnTo>
                <a:lnTo>
                  <a:pt x="355" y="0"/>
                </a:lnTo>
                <a:lnTo>
                  <a:pt x="4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680" y="142704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248680" y="3603600"/>
            <a:ext cx="41400" cy="274320"/>
            <a:chOff x="8248680" y="3603600"/>
            <a:chExt cx="41400" cy="274320"/>
          </a:xfrm>
        </p:grpSpPr>
        <p:sp>
          <p:nvSpPr>
            <p:cNvPr id="775" name=""/>
            <p:cNvSpPr/>
            <p:nvPr/>
          </p:nvSpPr>
          <p:spPr>
            <a:xfrm flipV="1">
              <a:off x="826920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4868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74000" y="3603600"/>
            <a:ext cx="41400" cy="229680"/>
            <a:chOff x="7974000" y="3603600"/>
            <a:chExt cx="41400" cy="229680"/>
          </a:xfrm>
        </p:grpSpPr>
        <p:sp>
          <p:nvSpPr>
            <p:cNvPr id="778" name=""/>
            <p:cNvSpPr/>
            <p:nvPr/>
          </p:nvSpPr>
          <p:spPr>
            <a:xfrm flipV="1">
              <a:off x="7994520" y="3642840"/>
              <a:ext cx="180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7400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785664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37640" y="3784680"/>
            <a:ext cx="177480" cy="961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31320" y="3741840"/>
            <a:ext cx="27432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3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4" y="200"/>
                </a:lnTo>
                <a:lnTo>
                  <a:pt x="346" y="192"/>
                </a:lnTo>
                <a:lnTo>
                  <a:pt x="346" y="38"/>
                </a:lnTo>
                <a:lnTo>
                  <a:pt x="344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1196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073920" y="392040"/>
            <a:ext cx="2573280" cy="5440320"/>
            <a:chOff x="6073920" y="392040"/>
            <a:chExt cx="2573280" cy="5440320"/>
          </a:xfrm>
        </p:grpSpPr>
        <p:sp>
          <p:nvSpPr>
            <p:cNvPr id="785" name=""/>
            <p:cNvSpPr/>
            <p:nvPr/>
          </p:nvSpPr>
          <p:spPr>
            <a:xfrm>
              <a:off x="6135840" y="392040"/>
              <a:ext cx="2511360" cy="5418360"/>
            </a:xfrm>
            <a:custGeom>
              <a:avLst/>
              <a:gdLst/>
              <a:ahLst/>
              <a:rect l="l" t="t" r="r" b="b"/>
              <a:pathLst>
                <a:path w="3164" h="6828">
                  <a:moveTo>
                    <a:pt x="772" y="188"/>
                  </a:moveTo>
                  <a:lnTo>
                    <a:pt x="801" y="188"/>
                  </a:lnTo>
                  <a:lnTo>
                    <a:pt x="801" y="15"/>
                  </a:lnTo>
                  <a:lnTo>
                    <a:pt x="787" y="15"/>
                  </a:lnTo>
                  <a:lnTo>
                    <a:pt x="787" y="29"/>
                  </a:lnTo>
                  <a:lnTo>
                    <a:pt x="793" y="28"/>
                  </a:lnTo>
                  <a:lnTo>
                    <a:pt x="796" y="24"/>
                  </a:lnTo>
                  <a:lnTo>
                    <a:pt x="800" y="21"/>
                  </a:lnTo>
                  <a:lnTo>
                    <a:pt x="787" y="29"/>
                  </a:lnTo>
                  <a:lnTo>
                    <a:pt x="3150" y="29"/>
                  </a:lnTo>
                  <a:lnTo>
                    <a:pt x="3150" y="15"/>
                  </a:lnTo>
                  <a:lnTo>
                    <a:pt x="3135" y="15"/>
                  </a:lnTo>
                  <a:lnTo>
                    <a:pt x="3136" y="21"/>
                  </a:lnTo>
                  <a:lnTo>
                    <a:pt x="3140" y="24"/>
                  </a:lnTo>
                  <a:lnTo>
                    <a:pt x="3144" y="28"/>
                  </a:lnTo>
                  <a:lnTo>
                    <a:pt x="3135" y="15"/>
                  </a:lnTo>
                  <a:lnTo>
                    <a:pt x="3135" y="6814"/>
                  </a:lnTo>
                  <a:lnTo>
                    <a:pt x="3150" y="6814"/>
                  </a:lnTo>
                  <a:lnTo>
                    <a:pt x="3150" y="6799"/>
                  </a:lnTo>
                  <a:lnTo>
                    <a:pt x="3144" y="6800"/>
                  </a:lnTo>
                  <a:lnTo>
                    <a:pt x="3140" y="6804"/>
                  </a:lnTo>
                  <a:lnTo>
                    <a:pt x="3136" y="6808"/>
                  </a:lnTo>
                  <a:lnTo>
                    <a:pt x="3150" y="6799"/>
                  </a:lnTo>
                  <a:lnTo>
                    <a:pt x="0" y="6799"/>
                  </a:lnTo>
                  <a:lnTo>
                    <a:pt x="0" y="6828"/>
                  </a:lnTo>
                  <a:lnTo>
                    <a:pt x="3150" y="6828"/>
                  </a:lnTo>
                  <a:lnTo>
                    <a:pt x="3150" y="6828"/>
                  </a:lnTo>
                  <a:lnTo>
                    <a:pt x="3156" y="6827"/>
                  </a:lnTo>
                  <a:lnTo>
                    <a:pt x="3159" y="6823"/>
                  </a:lnTo>
                  <a:lnTo>
                    <a:pt x="3163" y="6820"/>
                  </a:lnTo>
                  <a:lnTo>
                    <a:pt x="3164" y="6814"/>
                  </a:lnTo>
                  <a:lnTo>
                    <a:pt x="3164" y="6814"/>
                  </a:lnTo>
                  <a:lnTo>
                    <a:pt x="3164" y="15"/>
                  </a:lnTo>
                  <a:lnTo>
                    <a:pt x="3164" y="15"/>
                  </a:lnTo>
                  <a:lnTo>
                    <a:pt x="3163" y="9"/>
                  </a:lnTo>
                  <a:lnTo>
                    <a:pt x="3159" y="5"/>
                  </a:lnTo>
                  <a:lnTo>
                    <a:pt x="3156" y="1"/>
                  </a:lnTo>
                  <a:lnTo>
                    <a:pt x="3150" y="0"/>
                  </a:lnTo>
                  <a:lnTo>
                    <a:pt x="787" y="0"/>
                  </a:lnTo>
                  <a:lnTo>
                    <a:pt x="787" y="0"/>
                  </a:lnTo>
                  <a:lnTo>
                    <a:pt x="781" y="1"/>
                  </a:lnTo>
                  <a:lnTo>
                    <a:pt x="777" y="5"/>
                  </a:lnTo>
                  <a:lnTo>
                    <a:pt x="774" y="9"/>
                  </a:lnTo>
                  <a:lnTo>
                    <a:pt x="772" y="15"/>
                  </a:lnTo>
                  <a:lnTo>
                    <a:pt x="772" y="15"/>
                  </a:lnTo>
                  <a:lnTo>
                    <a:pt x="77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73920" y="5767560"/>
              <a:ext cx="6336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99200" y="299880"/>
            <a:ext cx="2538360" cy="2984760"/>
          </a:xfrm>
          <a:custGeom>
            <a:avLst/>
            <a:gdLst/>
            <a:ahLst/>
            <a:rect l="l" t="t" r="r" b="b"/>
            <a:pathLst>
              <a:path w="3198" h="3760">
                <a:moveTo>
                  <a:pt x="0" y="303"/>
                </a:moveTo>
                <a:lnTo>
                  <a:pt x="29" y="303"/>
                </a:lnTo>
                <a:lnTo>
                  <a:pt x="29" y="14"/>
                </a:lnTo>
                <a:lnTo>
                  <a:pt x="14" y="14"/>
                </a:lnTo>
                <a:lnTo>
                  <a:pt x="14" y="29"/>
                </a:lnTo>
                <a:lnTo>
                  <a:pt x="20" y="28"/>
                </a:lnTo>
                <a:lnTo>
                  <a:pt x="24" y="24"/>
                </a:lnTo>
                <a:lnTo>
                  <a:pt x="27" y="20"/>
                </a:lnTo>
                <a:lnTo>
                  <a:pt x="14" y="29"/>
                </a:lnTo>
                <a:lnTo>
                  <a:pt x="3184" y="29"/>
                </a:lnTo>
                <a:lnTo>
                  <a:pt x="3184" y="14"/>
                </a:lnTo>
                <a:lnTo>
                  <a:pt x="3170" y="14"/>
                </a:lnTo>
                <a:lnTo>
                  <a:pt x="3171" y="20"/>
                </a:lnTo>
                <a:lnTo>
                  <a:pt x="3174" y="24"/>
                </a:lnTo>
                <a:lnTo>
                  <a:pt x="3178" y="28"/>
                </a:lnTo>
                <a:lnTo>
                  <a:pt x="3170" y="14"/>
                </a:lnTo>
                <a:lnTo>
                  <a:pt x="3170" y="3760"/>
                </a:lnTo>
                <a:lnTo>
                  <a:pt x="3198" y="3760"/>
                </a:lnTo>
                <a:lnTo>
                  <a:pt x="3198" y="14"/>
                </a:lnTo>
                <a:lnTo>
                  <a:pt x="3198" y="14"/>
                </a:lnTo>
                <a:lnTo>
                  <a:pt x="3197" y="8"/>
                </a:lnTo>
                <a:lnTo>
                  <a:pt x="3194" y="5"/>
                </a:lnTo>
                <a:lnTo>
                  <a:pt x="3190" y="1"/>
                </a:lnTo>
                <a:lnTo>
                  <a:pt x="3184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5" y="5"/>
                </a:lnTo>
                <a:lnTo>
                  <a:pt x="1" y="8"/>
                </a:lnTo>
                <a:lnTo>
                  <a:pt x="0" y="14"/>
                </a:lnTo>
                <a:lnTo>
                  <a:pt x="0" y="14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262640" y="4121280"/>
            <a:ext cx="1371600" cy="64800"/>
            <a:chOff x="7262640" y="4121280"/>
            <a:chExt cx="1371600" cy="64800"/>
          </a:xfrm>
        </p:grpSpPr>
        <p:sp>
          <p:nvSpPr>
            <p:cNvPr id="789" name=""/>
            <p:cNvSpPr/>
            <p:nvPr/>
          </p:nvSpPr>
          <p:spPr>
            <a:xfrm>
              <a:off x="7324560" y="414180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62640" y="41212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35680" y="860400"/>
            <a:ext cx="3668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5880" y="893880"/>
            <a:ext cx="15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35680" y="1135080"/>
            <a:ext cx="3207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06600" y="116856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96160" y="2141640"/>
            <a:ext cx="412560" cy="318960"/>
          </a:xfrm>
          <a:custGeom>
            <a:avLst/>
            <a:gdLst/>
            <a:ahLst/>
            <a:rect l="l" t="t" r="r" b="b"/>
            <a:pathLst>
              <a:path w="518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451" y="403"/>
                </a:lnTo>
                <a:lnTo>
                  <a:pt x="464" y="402"/>
                </a:lnTo>
                <a:lnTo>
                  <a:pt x="477" y="399"/>
                </a:lnTo>
                <a:lnTo>
                  <a:pt x="488" y="391"/>
                </a:lnTo>
                <a:lnTo>
                  <a:pt x="499" y="384"/>
                </a:lnTo>
                <a:lnTo>
                  <a:pt x="506" y="373"/>
                </a:lnTo>
                <a:lnTo>
                  <a:pt x="514" y="363"/>
                </a:lnTo>
                <a:lnTo>
                  <a:pt x="517" y="349"/>
                </a:lnTo>
                <a:lnTo>
                  <a:pt x="518" y="336"/>
                </a:lnTo>
                <a:lnTo>
                  <a:pt x="518" y="67"/>
                </a:lnTo>
                <a:lnTo>
                  <a:pt x="517" y="54"/>
                </a:lnTo>
                <a:lnTo>
                  <a:pt x="514" y="41"/>
                </a:lnTo>
                <a:lnTo>
                  <a:pt x="506" y="30"/>
                </a:lnTo>
                <a:lnTo>
                  <a:pt x="499" y="19"/>
                </a:lnTo>
                <a:lnTo>
                  <a:pt x="488" y="12"/>
                </a:lnTo>
                <a:lnTo>
                  <a:pt x="477" y="5"/>
                </a:lnTo>
                <a:lnTo>
                  <a:pt x="464" y="1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48440" y="219708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59240" y="2306520"/>
            <a:ext cx="1468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485040" y="2247840"/>
            <a:ext cx="411120" cy="60480"/>
            <a:chOff x="6485040" y="2247840"/>
            <a:chExt cx="411120" cy="60480"/>
          </a:xfrm>
        </p:grpSpPr>
        <p:sp>
          <p:nvSpPr>
            <p:cNvPr id="815" name=""/>
            <p:cNvSpPr/>
            <p:nvPr/>
          </p:nvSpPr>
          <p:spPr>
            <a:xfrm flipH="1">
              <a:off x="6541920" y="2278080"/>
              <a:ext cx="354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5040" y="2247840"/>
              <a:ext cx="60120" cy="60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6" y="0"/>
                  </a:moveTo>
                  <a:lnTo>
                    <a:pt x="0" y="37"/>
                  </a:lnTo>
                  <a:lnTo>
                    <a:pt x="76" y="7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994360" y="2049480"/>
            <a:ext cx="843120" cy="925560"/>
            <a:chOff x="5994360" y="2049480"/>
            <a:chExt cx="843120" cy="925560"/>
          </a:xfrm>
        </p:grpSpPr>
        <p:sp>
          <p:nvSpPr>
            <p:cNvPr id="818" name=""/>
            <p:cNvSpPr/>
            <p:nvPr/>
          </p:nvSpPr>
          <p:spPr>
            <a:xfrm>
              <a:off x="6016680" y="2111400"/>
              <a:ext cx="799920" cy="863640"/>
            </a:xfrm>
            <a:custGeom>
              <a:avLst/>
              <a:gdLst/>
              <a:ahLst/>
              <a:rect l="l" t="t" r="r" b="b"/>
              <a:pathLst>
                <a:path w="1009" h="1089">
                  <a:moveTo>
                    <a:pt x="29" y="979"/>
                  </a:moveTo>
                  <a:lnTo>
                    <a:pt x="0" y="979"/>
                  </a:lnTo>
                  <a:lnTo>
                    <a:pt x="0" y="1074"/>
                  </a:lnTo>
                  <a:lnTo>
                    <a:pt x="0" y="1074"/>
                  </a:lnTo>
                  <a:lnTo>
                    <a:pt x="1" y="1080"/>
                  </a:lnTo>
                  <a:lnTo>
                    <a:pt x="5" y="1084"/>
                  </a:lnTo>
                  <a:lnTo>
                    <a:pt x="9" y="1087"/>
                  </a:lnTo>
                  <a:lnTo>
                    <a:pt x="15" y="1089"/>
                  </a:lnTo>
                  <a:lnTo>
                    <a:pt x="994" y="1089"/>
                  </a:lnTo>
                  <a:lnTo>
                    <a:pt x="994" y="1089"/>
                  </a:lnTo>
                  <a:lnTo>
                    <a:pt x="1000" y="1087"/>
                  </a:lnTo>
                  <a:lnTo>
                    <a:pt x="1004" y="1084"/>
                  </a:lnTo>
                  <a:lnTo>
                    <a:pt x="1008" y="1080"/>
                  </a:lnTo>
                  <a:lnTo>
                    <a:pt x="1009" y="1074"/>
                  </a:lnTo>
                  <a:lnTo>
                    <a:pt x="1009" y="0"/>
                  </a:lnTo>
                  <a:lnTo>
                    <a:pt x="980" y="0"/>
                  </a:lnTo>
                  <a:lnTo>
                    <a:pt x="980" y="1074"/>
                  </a:lnTo>
                  <a:lnTo>
                    <a:pt x="994" y="1060"/>
                  </a:lnTo>
                  <a:lnTo>
                    <a:pt x="988" y="1061"/>
                  </a:lnTo>
                  <a:lnTo>
                    <a:pt x="985" y="1065"/>
                  </a:lnTo>
                  <a:lnTo>
                    <a:pt x="981" y="1068"/>
                  </a:lnTo>
                  <a:lnTo>
                    <a:pt x="980" y="1074"/>
                  </a:lnTo>
                  <a:lnTo>
                    <a:pt x="994" y="1074"/>
                  </a:lnTo>
                  <a:lnTo>
                    <a:pt x="994" y="1060"/>
                  </a:lnTo>
                  <a:lnTo>
                    <a:pt x="15" y="1060"/>
                  </a:lnTo>
                  <a:lnTo>
                    <a:pt x="29" y="1074"/>
                  </a:lnTo>
                  <a:lnTo>
                    <a:pt x="28" y="1068"/>
                  </a:lnTo>
                  <a:lnTo>
                    <a:pt x="24" y="1065"/>
                  </a:lnTo>
                  <a:lnTo>
                    <a:pt x="21" y="1061"/>
                  </a:lnTo>
                  <a:lnTo>
                    <a:pt x="15" y="1074"/>
                  </a:lnTo>
                  <a:lnTo>
                    <a:pt x="29" y="1074"/>
                  </a:lnTo>
                  <a:lnTo>
                    <a:pt x="29" y="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436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2320" y="204948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65760" y="5937120"/>
            <a:ext cx="65160" cy="136800"/>
            <a:chOff x="5765760" y="5937120"/>
            <a:chExt cx="65160" cy="136800"/>
          </a:xfrm>
        </p:grpSpPr>
        <p:sp>
          <p:nvSpPr>
            <p:cNvPr id="822" name=""/>
            <p:cNvSpPr/>
            <p:nvPr/>
          </p:nvSpPr>
          <p:spPr>
            <a:xfrm>
              <a:off x="5788080" y="59990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65760" y="59371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425840" y="5357880"/>
            <a:ext cx="436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11160" y="5391000"/>
            <a:ext cx="339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5840" y="4030560"/>
            <a:ext cx="550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12240" y="4064040"/>
            <a:ext cx="4579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25840" y="2705040"/>
            <a:ext cx="579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12600" y="273852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25840" y="1195560"/>
            <a:ext cx="577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11160" y="122868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5840" y="152280"/>
            <a:ext cx="728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2600" y="185760"/>
            <a:ext cx="6393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38760" y="493560"/>
            <a:ext cx="27468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06080" y="55872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002200" y="723960"/>
            <a:ext cx="38160" cy="1143000"/>
            <a:chOff x="5002200" y="723960"/>
            <a:chExt cx="38160" cy="1143000"/>
          </a:xfrm>
        </p:grpSpPr>
        <p:sp>
          <p:nvSpPr>
            <p:cNvPr id="837" name=""/>
            <p:cNvSpPr/>
            <p:nvPr/>
          </p:nvSpPr>
          <p:spPr>
            <a:xfrm flipV="1">
              <a:off x="502128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0220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73920" y="1671480"/>
            <a:ext cx="2481120" cy="4069080"/>
            <a:chOff x="6073920" y="1671480"/>
            <a:chExt cx="2481120" cy="4069080"/>
          </a:xfrm>
        </p:grpSpPr>
        <p:sp>
          <p:nvSpPr>
            <p:cNvPr id="840" name=""/>
            <p:cNvSpPr/>
            <p:nvPr/>
          </p:nvSpPr>
          <p:spPr>
            <a:xfrm>
              <a:off x="6135840" y="1671480"/>
              <a:ext cx="2419200" cy="4048200"/>
            </a:xfrm>
            <a:custGeom>
              <a:avLst/>
              <a:gdLst/>
              <a:ahLst/>
              <a:rect l="l" t="t" r="r" b="b"/>
              <a:pathLst>
                <a:path w="3049" h="5099">
                  <a:moveTo>
                    <a:pt x="844" y="0"/>
                  </a:moveTo>
                  <a:lnTo>
                    <a:pt x="844" y="28"/>
                  </a:lnTo>
                  <a:lnTo>
                    <a:pt x="3034" y="28"/>
                  </a:lnTo>
                  <a:lnTo>
                    <a:pt x="3034" y="14"/>
                  </a:lnTo>
                  <a:lnTo>
                    <a:pt x="3020" y="14"/>
                  </a:lnTo>
                  <a:lnTo>
                    <a:pt x="3021" y="20"/>
                  </a:lnTo>
                  <a:lnTo>
                    <a:pt x="3025" y="24"/>
                  </a:lnTo>
                  <a:lnTo>
                    <a:pt x="3028" y="27"/>
                  </a:lnTo>
                  <a:lnTo>
                    <a:pt x="3020" y="14"/>
                  </a:lnTo>
                  <a:lnTo>
                    <a:pt x="3020" y="5084"/>
                  </a:lnTo>
                  <a:lnTo>
                    <a:pt x="3034" y="5084"/>
                  </a:lnTo>
                  <a:lnTo>
                    <a:pt x="3034" y="5070"/>
                  </a:lnTo>
                  <a:lnTo>
                    <a:pt x="3028" y="5071"/>
                  </a:lnTo>
                  <a:lnTo>
                    <a:pt x="3025" y="5075"/>
                  </a:lnTo>
                  <a:lnTo>
                    <a:pt x="3021" y="5078"/>
                  </a:lnTo>
                  <a:lnTo>
                    <a:pt x="3034" y="5070"/>
                  </a:lnTo>
                  <a:lnTo>
                    <a:pt x="0" y="5070"/>
                  </a:lnTo>
                  <a:lnTo>
                    <a:pt x="0" y="5099"/>
                  </a:lnTo>
                  <a:lnTo>
                    <a:pt x="3034" y="5099"/>
                  </a:lnTo>
                  <a:lnTo>
                    <a:pt x="3034" y="5099"/>
                  </a:lnTo>
                  <a:lnTo>
                    <a:pt x="3040" y="5098"/>
                  </a:lnTo>
                  <a:lnTo>
                    <a:pt x="3044" y="5094"/>
                  </a:lnTo>
                  <a:lnTo>
                    <a:pt x="3048" y="5090"/>
                  </a:lnTo>
                  <a:lnTo>
                    <a:pt x="3049" y="5084"/>
                  </a:lnTo>
                  <a:lnTo>
                    <a:pt x="3049" y="5084"/>
                  </a:lnTo>
                  <a:lnTo>
                    <a:pt x="3049" y="14"/>
                  </a:lnTo>
                  <a:lnTo>
                    <a:pt x="3049" y="14"/>
                  </a:lnTo>
                  <a:lnTo>
                    <a:pt x="3048" y="8"/>
                  </a:lnTo>
                  <a:lnTo>
                    <a:pt x="3044" y="4"/>
                  </a:lnTo>
                  <a:lnTo>
                    <a:pt x="3040" y="1"/>
                  </a:lnTo>
                  <a:lnTo>
                    <a:pt x="3034" y="0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3920" y="567540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0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799240" y="5479920"/>
            <a:ext cx="1176120" cy="101880"/>
            <a:chOff x="5799240" y="5479920"/>
            <a:chExt cx="1176120" cy="101880"/>
          </a:xfrm>
        </p:grpSpPr>
        <p:sp>
          <p:nvSpPr>
            <p:cNvPr id="843" name=""/>
            <p:cNvSpPr/>
            <p:nvPr/>
          </p:nvSpPr>
          <p:spPr>
            <a:xfrm>
              <a:off x="5799240" y="5541840"/>
              <a:ext cx="1154160" cy="39960"/>
            </a:xfrm>
            <a:custGeom>
              <a:avLst/>
              <a:gdLst/>
              <a:ahLst/>
              <a:rect l="l" t="t" r="r" b="b"/>
              <a:pathLst>
                <a:path w="1456" h="52">
                  <a:moveTo>
                    <a:pt x="0" y="23"/>
                  </a:moveTo>
                  <a:lnTo>
                    <a:pt x="0" y="52"/>
                  </a:lnTo>
                  <a:lnTo>
                    <a:pt x="1441" y="52"/>
                  </a:lnTo>
                  <a:lnTo>
                    <a:pt x="1441" y="52"/>
                  </a:lnTo>
                  <a:lnTo>
                    <a:pt x="1447" y="51"/>
                  </a:lnTo>
                  <a:lnTo>
                    <a:pt x="1451" y="47"/>
                  </a:lnTo>
                  <a:lnTo>
                    <a:pt x="1454" y="43"/>
                  </a:lnTo>
                  <a:lnTo>
                    <a:pt x="1456" y="37"/>
                  </a:lnTo>
                  <a:lnTo>
                    <a:pt x="1456" y="0"/>
                  </a:lnTo>
                  <a:lnTo>
                    <a:pt x="1427" y="0"/>
                  </a:lnTo>
                  <a:lnTo>
                    <a:pt x="1427" y="37"/>
                  </a:lnTo>
                  <a:lnTo>
                    <a:pt x="1441" y="23"/>
                  </a:lnTo>
                  <a:lnTo>
                    <a:pt x="1435" y="24"/>
                  </a:lnTo>
                  <a:lnTo>
                    <a:pt x="1432" y="28"/>
                  </a:lnTo>
                  <a:lnTo>
                    <a:pt x="1428" y="31"/>
                  </a:lnTo>
                  <a:lnTo>
                    <a:pt x="1427" y="37"/>
                  </a:lnTo>
                  <a:lnTo>
                    <a:pt x="1441" y="37"/>
                  </a:lnTo>
                  <a:lnTo>
                    <a:pt x="144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0560" y="5479920"/>
              <a:ext cx="64800" cy="637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759720" y="714240"/>
            <a:ext cx="458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29200" y="747720"/>
            <a:ext cx="277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05440" y="1290600"/>
            <a:ext cx="41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74200" y="1324080"/>
            <a:ext cx="230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597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8410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883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696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24760" y="4106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00720" y="414180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24760" y="43354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07920" y="43704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262640" y="3238560"/>
            <a:ext cx="1474920" cy="1176120"/>
            <a:chOff x="7262640" y="3238560"/>
            <a:chExt cx="1474920" cy="1176120"/>
          </a:xfrm>
        </p:grpSpPr>
        <p:sp>
          <p:nvSpPr>
            <p:cNvPr id="858" name=""/>
            <p:cNvSpPr/>
            <p:nvPr/>
          </p:nvSpPr>
          <p:spPr>
            <a:xfrm>
              <a:off x="7324560" y="3238560"/>
              <a:ext cx="1413000" cy="1154160"/>
            </a:xfrm>
            <a:custGeom>
              <a:avLst/>
              <a:gdLst/>
              <a:ahLst/>
              <a:rect l="l" t="t" r="r" b="b"/>
              <a:pathLst>
                <a:path w="1780" h="1455">
                  <a:moveTo>
                    <a:pt x="1780" y="0"/>
                  </a:moveTo>
                  <a:lnTo>
                    <a:pt x="1752" y="0"/>
                  </a:lnTo>
                  <a:lnTo>
                    <a:pt x="1752" y="1440"/>
                  </a:lnTo>
                  <a:lnTo>
                    <a:pt x="1766" y="1440"/>
                  </a:lnTo>
                  <a:lnTo>
                    <a:pt x="1766" y="1426"/>
                  </a:lnTo>
                  <a:lnTo>
                    <a:pt x="1760" y="1427"/>
                  </a:lnTo>
                  <a:lnTo>
                    <a:pt x="1756" y="1431"/>
                  </a:lnTo>
                  <a:lnTo>
                    <a:pt x="1753" y="1434"/>
                  </a:lnTo>
                  <a:lnTo>
                    <a:pt x="1766" y="1426"/>
                  </a:lnTo>
                  <a:lnTo>
                    <a:pt x="0" y="1426"/>
                  </a:lnTo>
                  <a:lnTo>
                    <a:pt x="0" y="1455"/>
                  </a:lnTo>
                  <a:lnTo>
                    <a:pt x="1766" y="1455"/>
                  </a:lnTo>
                  <a:lnTo>
                    <a:pt x="1766" y="1455"/>
                  </a:lnTo>
                  <a:lnTo>
                    <a:pt x="1772" y="1454"/>
                  </a:lnTo>
                  <a:lnTo>
                    <a:pt x="1776" y="1450"/>
                  </a:lnTo>
                  <a:lnTo>
                    <a:pt x="1779" y="1446"/>
                  </a:lnTo>
                  <a:lnTo>
                    <a:pt x="1780" y="1440"/>
                  </a:lnTo>
                  <a:lnTo>
                    <a:pt x="1780" y="1440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62640" y="43498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56640" y="153684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28280" y="156996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34480" y="156996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856640" y="4016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29720" y="40496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46000" y="404964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56640" y="42451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9720" y="42782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045640" y="427824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56640" y="55609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28280" y="559440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34480" y="559440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56640" y="5789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29720" y="582300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46000" y="582300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3640" y="37321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84560" y="3765600"/>
            <a:ext cx="86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69160" y="3765600"/>
            <a:ext cx="1746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42040" y="54799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2600" y="5513400"/>
            <a:ext cx="169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_PC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53360" y="4930920"/>
            <a:ext cx="549360" cy="320400"/>
          </a:xfrm>
          <a:custGeom>
            <a:avLst/>
            <a:gdLst/>
            <a:ahLst/>
            <a:rect l="l" t="t" r="r" b="b"/>
            <a:pathLst>
              <a:path w="692" h="403">
                <a:moveTo>
                  <a:pt x="67" y="0"/>
                </a:moveTo>
                <a:lnTo>
                  <a:pt x="54" y="1"/>
                </a:lnTo>
                <a:lnTo>
                  <a:pt x="41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5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5" y="362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1" y="398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8" y="402"/>
                </a:lnTo>
                <a:lnTo>
                  <a:pt x="651" y="398"/>
                </a:lnTo>
                <a:lnTo>
                  <a:pt x="662" y="391"/>
                </a:lnTo>
                <a:lnTo>
                  <a:pt x="672" y="384"/>
                </a:lnTo>
                <a:lnTo>
                  <a:pt x="680" y="373"/>
                </a:lnTo>
                <a:lnTo>
                  <a:pt x="687" y="362"/>
                </a:lnTo>
                <a:lnTo>
                  <a:pt x="690" y="349"/>
                </a:lnTo>
                <a:lnTo>
                  <a:pt x="692" y="336"/>
                </a:lnTo>
                <a:lnTo>
                  <a:pt x="692" y="67"/>
                </a:lnTo>
                <a:lnTo>
                  <a:pt x="690" y="54"/>
                </a:lnTo>
                <a:lnTo>
                  <a:pt x="687" y="41"/>
                </a:lnTo>
                <a:lnTo>
                  <a:pt x="680" y="30"/>
                </a:lnTo>
                <a:lnTo>
                  <a:pt x="672" y="19"/>
                </a:lnTo>
                <a:lnTo>
                  <a:pt x="662" y="12"/>
                </a:lnTo>
                <a:lnTo>
                  <a:pt x="651" y="5"/>
                </a:lnTo>
                <a:lnTo>
                  <a:pt x="638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30840" y="4986360"/>
            <a:ext cx="275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94920" y="50958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35680" y="493560"/>
            <a:ext cx="5508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55640" y="55872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85040" y="493560"/>
            <a:ext cx="5490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1040" y="55872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0872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88280" y="55872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8340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59360" y="55872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86320" y="182088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8840" y="1884240"/>
            <a:ext cx="153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38760" y="182088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906080" y="188424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35680" y="182088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5564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85040" y="182088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00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0872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88280" y="188424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8340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59360" y="188424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67520" y="3056040"/>
            <a:ext cx="237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38760" y="337500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06080" y="344016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11640" y="337500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09560" y="344016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61000" y="337500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881320" y="344016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10360" y="337500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032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59720" y="337500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7968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0872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88280" y="3440160"/>
            <a:ext cx="17748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8340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59360" y="3440160"/>
            <a:ext cx="19116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85664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764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13132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21196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35680" y="465624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55640" y="471960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59720" y="465624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79680" y="471960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38760" y="465624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06080" y="471960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11640" y="465624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09560" y="471960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632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692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24560" y="602784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89800" y="6093000"/>
            <a:ext cx="2995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21160" y="1592280"/>
            <a:ext cx="4361040" cy="4184640"/>
            <a:chOff x="4421160" y="1592280"/>
            <a:chExt cx="4361040" cy="4184640"/>
          </a:xfrm>
        </p:grpSpPr>
        <p:sp>
          <p:nvSpPr>
            <p:cNvPr id="943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6496200" y="2825640"/>
              <a:ext cx="595080" cy="230400"/>
              <a:chOff x="6496200" y="2825640"/>
              <a:chExt cx="595080" cy="230400"/>
            </a:xfrm>
          </p:grpSpPr>
          <p:sp>
            <p:nvSpPr>
              <p:cNvPr id="948" name=""/>
              <p:cNvSpPr/>
              <p:nvPr/>
            </p:nvSpPr>
            <p:spPr>
              <a:xfrm>
                <a:off x="6516720" y="2887560"/>
                <a:ext cx="574560" cy="168480"/>
              </a:xfrm>
              <a:custGeom>
                <a:avLst/>
                <a:gdLst/>
                <a:ahLst/>
                <a:rect l="l" t="t" r="r" b="b"/>
                <a:pathLst>
                  <a:path w="724" h="213">
                    <a:moveTo>
                      <a:pt x="695" y="213"/>
                    </a:moveTo>
                    <a:lnTo>
                      <a:pt x="724" y="213"/>
                    </a:lnTo>
                    <a:lnTo>
                      <a:pt x="724" y="38"/>
                    </a:lnTo>
                    <a:lnTo>
                      <a:pt x="724" y="38"/>
                    </a:lnTo>
                    <a:lnTo>
                      <a:pt x="722" y="32"/>
                    </a:lnTo>
                    <a:lnTo>
                      <a:pt x="719" y="29"/>
                    </a:lnTo>
                    <a:lnTo>
                      <a:pt x="715" y="25"/>
                    </a:lnTo>
                    <a:lnTo>
                      <a:pt x="709" y="24"/>
                    </a:lnTo>
                    <a:lnTo>
                      <a:pt x="14" y="24"/>
                    </a:lnTo>
                    <a:lnTo>
                      <a:pt x="14" y="38"/>
                    </a:lnTo>
                    <a:lnTo>
                      <a:pt x="28" y="38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5"/>
                    </a:lnTo>
                    <a:lnTo>
                      <a:pt x="28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48"/>
                    </a:lnTo>
                    <a:lnTo>
                      <a:pt x="8" y="52"/>
                    </a:lnTo>
                    <a:lnTo>
                      <a:pt x="14" y="53"/>
                    </a:lnTo>
                    <a:lnTo>
                      <a:pt x="709" y="53"/>
                    </a:lnTo>
                    <a:lnTo>
                      <a:pt x="695" y="38"/>
                    </a:lnTo>
                    <a:lnTo>
                      <a:pt x="696" y="44"/>
                    </a:lnTo>
                    <a:lnTo>
                      <a:pt x="700" y="48"/>
                    </a:lnTo>
                    <a:lnTo>
                      <a:pt x="703" y="52"/>
                    </a:lnTo>
                    <a:lnTo>
                      <a:pt x="709" y="38"/>
                    </a:lnTo>
                    <a:lnTo>
                      <a:pt x="695" y="38"/>
                    </a:lnTo>
                    <a:lnTo>
                      <a:pt x="695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96200" y="28256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8510760" y="2414520"/>
              <a:ext cx="64800" cy="138240"/>
              <a:chOff x="8510760" y="2414520"/>
              <a:chExt cx="64800" cy="138240"/>
            </a:xfrm>
          </p:grpSpPr>
          <p:sp>
            <p:nvSpPr>
              <p:cNvPr id="951" name=""/>
              <p:cNvSpPr/>
              <p:nvPr/>
            </p:nvSpPr>
            <p:spPr>
              <a:xfrm>
                <a:off x="853272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510760" y="2487600"/>
                <a:ext cx="64800" cy="651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0"/>
                    </a:moveTo>
                    <a:lnTo>
                      <a:pt x="40" y="82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602560" y="2414520"/>
              <a:ext cx="65160" cy="138240"/>
              <a:chOff x="8602560" y="2414520"/>
              <a:chExt cx="65160" cy="138240"/>
            </a:xfrm>
          </p:grpSpPr>
          <p:sp>
            <p:nvSpPr>
              <p:cNvPr id="954" name=""/>
              <p:cNvSpPr/>
              <p:nvPr/>
            </p:nvSpPr>
            <p:spPr>
              <a:xfrm>
                <a:off x="8623440" y="2414520"/>
                <a:ext cx="2376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602560" y="2487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694720" y="2414520"/>
              <a:ext cx="63360" cy="138240"/>
              <a:chOff x="8694720" y="2414520"/>
              <a:chExt cx="63360" cy="138240"/>
            </a:xfrm>
          </p:grpSpPr>
          <p:sp>
            <p:nvSpPr>
              <p:cNvPr id="957" name=""/>
              <p:cNvSpPr/>
              <p:nvPr/>
            </p:nvSpPr>
            <p:spPr>
              <a:xfrm>
                <a:off x="871524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4720" y="2487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519160" y="230508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8920" y="2244600"/>
              <a:ext cx="325440" cy="2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6320" y="2232000"/>
              <a:ext cx="322200" cy="23004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05120" y="228924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500800" y="2049480"/>
              <a:ext cx="47520" cy="189000"/>
              <a:chOff x="5500800" y="2049480"/>
              <a:chExt cx="47520" cy="189000"/>
            </a:xfrm>
          </p:grpSpPr>
          <p:sp>
            <p:nvSpPr>
              <p:cNvPr id="964" name=""/>
              <p:cNvSpPr/>
              <p:nvPr/>
            </p:nvSpPr>
            <p:spPr>
              <a:xfrm>
                <a:off x="5518080" y="2227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18080" y="2203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18080" y="2181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8080" y="2157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2135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8080" y="2112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18080" y="2089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00800" y="2049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823104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0232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8656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B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5960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3088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1512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A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24560" y="2049480"/>
              <a:ext cx="549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95120" y="2082960"/>
              <a:ext cx="2170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421160" y="1724040"/>
              <a:ext cx="1108080" cy="4052880"/>
              <a:chOff x="4421160" y="1724040"/>
              <a:chExt cx="1108080" cy="405288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4421160" y="1724040"/>
                <a:ext cx="1108080" cy="3378240"/>
                <a:chOff x="4421160" y="1724040"/>
                <a:chExt cx="1108080" cy="33782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518080" y="1809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518080" y="17859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518080" y="176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518080" y="1741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134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89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67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435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1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98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75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32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9080" y="1724040"/>
                  <a:ext cx="129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07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848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261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387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14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192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1688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465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1246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004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078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547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032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010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86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64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402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17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8960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8718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849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8261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803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781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757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735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7116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689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6656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6432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621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9756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5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5514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29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506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4830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60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70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21160" y="17287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421160" y="175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421160" y="1774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421160" y="179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421160" y="1820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421160" y="18432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421160" y="1866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421160" y="18892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421160" y="1913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21160" y="1935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421160" y="19573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421160" y="198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421160" y="2003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421160" y="202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421160" y="2049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421160" y="2071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421160" y="2095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421160" y="21178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421160" y="2141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421160" y="2163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421160" y="21859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21160" y="220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421160" y="2232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421160" y="225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421160" y="2278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421160" y="2300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421160" y="2324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421160" y="23464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421160" y="2370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421160" y="2392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421160" y="24145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421160" y="2438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421160" y="246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421160" y="248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421160" y="2506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421160" y="2529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421160" y="2552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421160" y="25750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421160" y="2598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21160" y="2620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421160" y="26431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421160" y="2666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21160" y="2689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421160" y="271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421160" y="2735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21160" y="2757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421160" y="2781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21160" y="2803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21160" y="2827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421160" y="2849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421160" y="2873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421160" y="2895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421160" y="2917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421160" y="294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421160" y="2963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421160" y="298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21160" y="3009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21160" y="3032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21160" y="3056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21160" y="3078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21160" y="3102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1160" y="3124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1160" y="3146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21160" y="317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21160" y="319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21160" y="321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21160" y="323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21160" y="3260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21160" y="3284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21160" y="3306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21160" y="3330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21160" y="3352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21160" y="3375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21160" y="3398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21160" y="342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21160" y="344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21160" y="346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21160" y="3489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421160" y="3513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21160" y="3535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21160" y="3559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21160" y="3581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21160" y="3603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21160" y="3627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21160" y="364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21160" y="3673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21160" y="369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421160" y="3718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21160" y="3741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421160" y="3763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421160" y="3787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421160" y="3809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21160" y="383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21160" y="3855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21160" y="3878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421160" y="3902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421160" y="392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421160" y="3948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21160" y="3970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421160" y="39924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421160" y="4016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21160" y="4038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21160" y="4062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421160" y="4084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21160" y="4106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421160" y="4130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421160" y="415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421160" y="4176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21160" y="4199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421160" y="42210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421160" y="4245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421160" y="4267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421160" y="4290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421160" y="4313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421160" y="4335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421160" y="4359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421160" y="438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421160" y="4405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421160" y="442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21160" y="44496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21160" y="4473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421160" y="4495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421160" y="4519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421160" y="4541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421160" y="4564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21160" y="4587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21160" y="461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421160" y="46339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21160" y="465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21160" y="46782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21160" y="4702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21160" y="4724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21160" y="4748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21160" y="4770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21160" y="4792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21160" y="4816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21160" y="48387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421160" y="48625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21160" y="488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21160" y="4908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421160" y="4930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421160" y="495288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421160" y="4976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421160" y="4998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21160" y="5022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21160" y="5045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211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21160" y="5091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4421160" y="511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421160" y="51372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421160" y="51595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21160" y="51814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421160" y="5205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421160" y="5227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21160" y="5251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21160" y="5273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1160" y="52959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21160" y="5319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421160" y="534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21160" y="5365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21160" y="53881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421160" y="54100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21160" y="5433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21160" y="54561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21160" y="54799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21160" y="550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21160" y="55245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21160" y="5548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21160" y="5570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21160" y="55944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21160" y="56167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21160" y="56386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21160" y="5662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21160" y="5684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421160" y="570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21160" y="5730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258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49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719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9424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18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03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64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6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324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6544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678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005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4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46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689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26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815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387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610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830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06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291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2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75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975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021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43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673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896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116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35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577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814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03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61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49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7220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59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3182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3420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364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3863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10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32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61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78480" y="5748480"/>
                <a:ext cx="1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7040" y="5729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5157720" y="1592280"/>
              <a:ext cx="550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29000" y="1625760"/>
              <a:ext cx="23832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6040440" y="3603600"/>
              <a:ext cx="65160" cy="1052640"/>
              <a:chOff x="6040440" y="3603600"/>
              <a:chExt cx="65160" cy="1052640"/>
            </a:xfrm>
          </p:grpSpPr>
          <p:sp>
            <p:nvSpPr>
              <p:cNvPr id="1261" name=""/>
              <p:cNvSpPr/>
              <p:nvPr/>
            </p:nvSpPr>
            <p:spPr>
              <a:xfrm>
                <a:off x="6060960" y="3665520"/>
                <a:ext cx="23760" cy="99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40440" y="3603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1275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1294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518112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181480" y="3733920"/>
            <a:ext cx="1828800" cy="2971800"/>
            <a:chOff x="5181480" y="3733920"/>
            <a:chExt cx="1828800" cy="2971800"/>
          </a:xfrm>
        </p:grpSpPr>
        <p:sp>
          <p:nvSpPr>
            <p:cNvPr id="1324" name=""/>
            <p:cNvSpPr/>
            <p:nvPr/>
          </p:nvSpPr>
          <p:spPr>
            <a:xfrm>
              <a:off x="5181480" y="3733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181480" y="41148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181480" y="57150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18040" y="5118120"/>
              <a:ext cx="2523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81480" y="4495680"/>
              <a:ext cx="1828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valE = 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609588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5T21:23:14Z</dcterms:modified>
  <cp:revision>89</cp:revision>
  <dc:subject>SRC Review Slides</dc:subject>
  <dc:title>Formal Processor Verification</dc:title>
</cp:coreProperties>
</file>