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9B92AD6-8B6C-425E-82DE-9A3EAE37267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533520"/>
            <a:ext cx="5652000" cy="262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Wrap-Up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re Realistic 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 Bo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ted into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es entire cache block (16 or 32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s current instruction from curren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ahead to fetch nex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reaches end of current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5172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s under which pipeline cannot continue normal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t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Curr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d address for instruction or dat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control err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te som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current or previous (depends on exception typ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card oth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exception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an unexpected procedure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962520"/>
            <a:ext cx="15228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0" y="672"/>
                </a:moveTo>
                <a:lnTo>
                  <a:pt x="192" y="672"/>
                </a:lnTo>
                <a:lnTo>
                  <a:pt x="192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Fetch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057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$-1                   # Invalid jump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743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                      # Halt 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962520"/>
            <a:ext cx="8294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Memory St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066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1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d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457200" cy="30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67280" y="2971800"/>
            <a:ext cx="457200" cy="1600200"/>
            <a:chOff x="5867280" y="2971800"/>
            <a:chExt cx="457200" cy="1600200"/>
          </a:xfrm>
        </p:grpSpPr>
        <p:sp>
          <p:nvSpPr>
            <p:cNvPr id="219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225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895480" y="4495320"/>
            <a:ext cx="2590920" cy="417240"/>
            <a:chOff x="2895480" y="4495320"/>
            <a:chExt cx="2590920" cy="417240"/>
          </a:xfrm>
        </p:grpSpPr>
        <p:sp>
          <p:nvSpPr>
            <p:cNvPr id="228" name=""/>
            <p:cNvSpPr/>
            <p:nvPr/>
          </p:nvSpPr>
          <p:spPr>
            <a:xfrm flipV="1">
              <a:off x="5105520" y="4495320"/>
              <a:ext cx="3808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45720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xception should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2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  # Set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t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irmovl $2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3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t: .byte 0xFF       #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0:    xor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2:    jne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14: t: 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???: (I’m lost!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4191120"/>
            <a:ext cx="2187720" cy="1102320"/>
            <a:chOff x="3733920" y="4191120"/>
            <a:chExt cx="2187720" cy="1102320"/>
          </a:xfrm>
        </p:grpSpPr>
        <p:sp>
          <p:nvSpPr>
            <p:cNvPr id="247" name=""/>
            <p:cNvSpPr/>
            <p:nvPr/>
          </p:nvSpPr>
          <p:spPr>
            <a:xfrm flipV="1">
              <a:off x="5105520" y="4191120"/>
              <a:ext cx="75960" cy="7617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495288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520" y="4572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410080" y="2971800"/>
            <a:ext cx="457200" cy="1600200"/>
            <a:chOff x="5410080" y="2971800"/>
            <a:chExt cx="457200" cy="1600200"/>
          </a:xfrm>
        </p:grpSpPr>
        <p:sp>
          <p:nvSpPr>
            <p:cNvPr id="251" name=""/>
            <p:cNvSpPr/>
            <p:nvPr/>
          </p:nvSpPr>
          <p:spPr>
            <a:xfrm>
              <a:off x="5410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00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26708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3962520"/>
              <a:ext cx="457200" cy="304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67280" y="2971800"/>
            <a:ext cx="457200" cy="1905120"/>
            <a:chOff x="5867280" y="2971800"/>
            <a:chExt cx="457200" cy="1905120"/>
          </a:xfrm>
        </p:grpSpPr>
        <p:sp>
          <p:nvSpPr>
            <p:cNvPr id="257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971800"/>
            <a:ext cx="457200" cy="1905120"/>
            <a:chOff x="6324480" y="2971800"/>
            <a:chExt cx="457200" cy="1905120"/>
          </a:xfrm>
        </p:grpSpPr>
        <p:sp>
          <p:nvSpPr>
            <p:cNvPr id="264" name=""/>
            <p:cNvSpPr/>
            <p:nvPr/>
          </p:nvSpPr>
          <p:spPr>
            <a:xfrm>
              <a:off x="63244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4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81680" y="2971800"/>
            <a:ext cx="457200" cy="1905120"/>
            <a:chOff x="6781680" y="2971800"/>
            <a:chExt cx="457200" cy="1905120"/>
          </a:xfrm>
        </p:grpSpPr>
        <p:sp>
          <p:nvSpPr>
            <p:cNvPr id="269" name=""/>
            <p:cNvSpPr/>
            <p:nvPr/>
          </p:nvSpPr>
          <p:spPr>
            <a:xfrm>
              <a:off x="67816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16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38880" y="2971800"/>
            <a:ext cx="457200" cy="1905120"/>
            <a:chOff x="7238880" y="2971800"/>
            <a:chExt cx="457200" cy="1905120"/>
          </a:xfrm>
        </p:grpSpPr>
        <p:sp>
          <p:nvSpPr>
            <p:cNvPr id="274" name=""/>
            <p:cNvSpPr/>
            <p:nvPr/>
          </p:nvSpPr>
          <p:spPr>
            <a:xfrm>
              <a:off x="72388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88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96080" y="2971800"/>
            <a:ext cx="457200" cy="1905120"/>
            <a:chOff x="7696080" y="2971800"/>
            <a:chExt cx="457200" cy="1905120"/>
          </a:xfrm>
        </p:grpSpPr>
        <p:sp>
          <p:nvSpPr>
            <p:cNvPr id="278" name=""/>
            <p:cNvSpPr/>
            <p:nvPr/>
          </p:nvSpPr>
          <p:spPr>
            <a:xfrm>
              <a:off x="76960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taining Exception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exception status field to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sets to either “AOK,” “ADR” (when bad fetch address), or “INS” (illegal instruc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ode &amp; execute pass values thr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either passes through or sets to “AD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 triggered only when instruction hits write b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66680" y="3352680"/>
            <a:ext cx="7086600" cy="381240"/>
            <a:chOff x="1066680" y="3352680"/>
            <a:chExt cx="7086600" cy="38124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52680" y="33526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predP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1219320"/>
            <a:ext cx="7086600" cy="380880"/>
            <a:chOff x="1066680" y="1219320"/>
            <a:chExt cx="7086600" cy="380880"/>
          </a:xfrm>
        </p:grpSpPr>
        <p:sp>
          <p:nvSpPr>
            <p:cNvPr id="286" name=""/>
            <p:cNvSpPr/>
            <p:nvPr/>
          </p:nvSpPr>
          <p:spPr>
            <a:xfrm>
              <a:off x="1066680" y="12193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81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792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66680" y="1752480"/>
            <a:ext cx="7086600" cy="381240"/>
            <a:chOff x="1066680" y="1752480"/>
            <a:chExt cx="7086600" cy="381240"/>
          </a:xfrm>
        </p:grpSpPr>
        <p:sp>
          <p:nvSpPr>
            <p:cNvPr id="294" name=""/>
            <p:cNvSpPr/>
            <p:nvPr/>
          </p:nvSpPr>
          <p:spPr>
            <a:xfrm>
              <a:off x="1066680" y="17524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Bch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792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66680" y="2286000"/>
            <a:ext cx="7086600" cy="380880"/>
            <a:chOff x="1066680" y="2286000"/>
            <a:chExt cx="7086600" cy="380880"/>
          </a:xfrm>
        </p:grpSpPr>
        <p:sp>
          <p:nvSpPr>
            <p:cNvPr id="303" name=""/>
            <p:cNvSpPr/>
            <p:nvPr/>
          </p:nvSpPr>
          <p:spPr>
            <a:xfrm>
              <a:off x="1066680" y="228600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09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6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960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4792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066680" y="2819520"/>
            <a:ext cx="7086600" cy="380880"/>
            <a:chOff x="1066680" y="2819520"/>
            <a:chExt cx="7086600" cy="380880"/>
          </a:xfrm>
        </p:grpSpPr>
        <p:sp>
          <p:nvSpPr>
            <p:cNvPr id="315" name=""/>
            <p:cNvSpPr/>
            <p:nvPr/>
          </p:nvSpPr>
          <p:spPr>
            <a:xfrm>
              <a:off x="1066680" y="28195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P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de Effects in Pipeline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following instruction should have any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3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# Sets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67280" y="2971800"/>
            <a:ext cx="457200" cy="1295280"/>
            <a:chOff x="5867280" y="2971800"/>
            <a:chExt cx="457200" cy="1295280"/>
          </a:xfrm>
        </p:grpSpPr>
        <p:sp>
          <p:nvSpPr>
            <p:cNvPr id="343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348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04080" y="4190760"/>
            <a:ext cx="2152440" cy="950400"/>
            <a:chOff x="5104080" y="4190760"/>
            <a:chExt cx="2152440" cy="950400"/>
          </a:xfrm>
        </p:grpSpPr>
        <p:sp>
          <p:nvSpPr>
            <p:cNvPr id="351" name=""/>
            <p:cNvSpPr/>
            <p:nvPr/>
          </p:nvSpPr>
          <p:spPr>
            <a:xfrm flipV="1">
              <a:off x="6172200" y="4190760"/>
              <a:ext cx="0" cy="6858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4080" y="4800600"/>
              <a:ext cx="2152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ition code 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Sid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sence of Exception Should Disable State Upd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detect exception in memory st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happen in same clock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ception passes to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memory write in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ired into the design of the PIP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have no control over th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t of Exception Hand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Exception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PC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PC of faulting instruction or of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pass through pipeline along with exception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handler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fixed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ed as part of IS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ven’t tried it ye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54380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8972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-Up of PIPE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al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 High-Performance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28992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160" y="3029040"/>
            <a:ext cx="8294760" cy="34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0101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can operate in independ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performed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necessarily in program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imits of functional un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sures behavior equivalent to sequential program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5960" y="304920"/>
            <a:ext cx="5655240" cy="3396600"/>
            <a:chOff x="3045960" y="304920"/>
            <a:chExt cx="5655240" cy="3396600"/>
          </a:xfrm>
        </p:grpSpPr>
        <p:sp>
          <p:nvSpPr>
            <p:cNvPr id="365" name=""/>
            <p:cNvSpPr/>
            <p:nvPr/>
          </p:nvSpPr>
          <p:spPr>
            <a:xfrm>
              <a:off x="5726880" y="3379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19191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2920" y="787320"/>
              <a:ext cx="5048280" cy="2914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7080" y="771480"/>
              <a:ext cx="5030640" cy="28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5600" y="3352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4280" y="1152360"/>
              <a:ext cx="4497120" cy="839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520" y="1401480"/>
              <a:ext cx="706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79560" y="1584360"/>
              <a:ext cx="348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02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0160" y="1390680"/>
              <a:ext cx="4291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/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3480" y="1542960"/>
              <a:ext cx="401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895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0232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0280" y="1542960"/>
              <a:ext cx="224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90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4920" y="1542960"/>
              <a:ext cx="2383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5760" y="1542960"/>
              <a:ext cx="2185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Div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88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61880" y="146664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183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0920" y="1466640"/>
              <a:ext cx="302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08880" y="2828880"/>
              <a:ext cx="1144440" cy="6109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51680" y="2963880"/>
              <a:ext cx="323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92280" y="3146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761840"/>
              <a:ext cx="147600" cy="1066320"/>
              <a:chOff x="6688080" y="1761840"/>
              <a:chExt cx="147600" cy="106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6746760" y="1761840"/>
                <a:ext cx="2880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88080" y="268236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905520" y="1761840"/>
              <a:ext cx="169920" cy="1066320"/>
              <a:chOff x="6905520" y="1761840"/>
              <a:chExt cx="169920" cy="106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6970680" y="192816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05520" y="1761840"/>
                <a:ext cx="169920" cy="171360"/>
              </a:xfrm>
              <a:custGeom>
                <a:avLst/>
                <a:gdLst/>
                <a:ahLst/>
                <a:rect l="l" t="t" r="r" b="b"/>
                <a:pathLst>
                  <a:path w="107" h="108">
                    <a:moveTo>
                      <a:pt x="107" y="108"/>
                    </a:moveTo>
                    <a:lnTo>
                      <a:pt x="53" y="0"/>
                    </a:lnTo>
                    <a:lnTo>
                      <a:pt x="0" y="108"/>
                    </a:lnTo>
                    <a:lnTo>
                      <a:pt x="10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297560" y="1761840"/>
              <a:ext cx="147960" cy="1066320"/>
              <a:chOff x="7297560" y="1761840"/>
              <a:chExt cx="147960" cy="106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56600" y="1761840"/>
                <a:ext cx="2844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97560" y="2682360"/>
                <a:ext cx="14796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515360" y="1761840"/>
              <a:ext cx="169560" cy="1066320"/>
              <a:chOff x="7515360" y="1761840"/>
              <a:chExt cx="169560" cy="1066320"/>
            </a:xfrm>
          </p:grpSpPr>
          <p:sp>
            <p:nvSpPr>
              <p:cNvPr id="399" name=""/>
              <p:cNvSpPr/>
              <p:nvPr/>
            </p:nvSpPr>
            <p:spPr>
              <a:xfrm>
                <a:off x="7580160" y="176184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5360" y="2658600"/>
                <a:ext cx="16956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3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246560" y="342720"/>
              <a:ext cx="105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7400" y="304920"/>
              <a:ext cx="872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1200" y="533160"/>
              <a:ext cx="375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K?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3280" y="2431800"/>
              <a:ext cx="45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41720" y="24876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19920" y="2423880"/>
              <a:ext cx="452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8720" y="247968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51480" y="221904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0280" y="227484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37040" y="227484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9760" y="220320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560" y="22590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5320" y="225900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414680" y="1076040"/>
              <a:ext cx="122400" cy="227880"/>
              <a:chOff x="4414680" y="1076040"/>
              <a:chExt cx="122400" cy="227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4658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146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634000" y="1076040"/>
              <a:ext cx="122400" cy="227880"/>
              <a:chOff x="5634000" y="1076040"/>
              <a:chExt cx="122400" cy="227880"/>
            </a:xfrm>
          </p:grpSpPr>
          <p:sp>
            <p:nvSpPr>
              <p:cNvPr id="418" name=""/>
              <p:cNvSpPr/>
              <p:nvPr/>
            </p:nvSpPr>
            <p:spPr>
              <a:xfrm>
                <a:off x="56847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40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43480" y="1076040"/>
              <a:ext cx="122400" cy="227880"/>
              <a:chOff x="6243480" y="1076040"/>
              <a:chExt cx="122400" cy="227880"/>
            </a:xfrm>
          </p:grpSpPr>
          <p:sp>
            <p:nvSpPr>
              <p:cNvPr id="421" name=""/>
              <p:cNvSpPr/>
              <p:nvPr/>
            </p:nvSpPr>
            <p:spPr>
              <a:xfrm>
                <a:off x="62946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434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53320" y="1076040"/>
              <a:ext cx="122040" cy="227880"/>
              <a:chOff x="6853320" y="1076040"/>
              <a:chExt cx="122040" cy="227880"/>
            </a:xfrm>
          </p:grpSpPr>
          <p:sp>
            <p:nvSpPr>
              <p:cNvPr id="424" name=""/>
              <p:cNvSpPr/>
              <p:nvPr/>
            </p:nvSpPr>
            <p:spPr>
              <a:xfrm>
                <a:off x="69040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533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462800" y="1076040"/>
              <a:ext cx="122400" cy="227880"/>
              <a:chOff x="7462800" y="1076040"/>
              <a:chExt cx="122400" cy="227880"/>
            </a:xfrm>
          </p:grpSpPr>
          <p:sp>
            <p:nvSpPr>
              <p:cNvPr id="427" name=""/>
              <p:cNvSpPr/>
              <p:nvPr/>
            </p:nvSpPr>
            <p:spPr>
              <a:xfrm>
                <a:off x="75135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628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475160" y="1062000"/>
              <a:ext cx="304812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800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49560" y="1390680"/>
              <a:ext cx="450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7640" y="1542960"/>
              <a:ext cx="3938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024520" y="1076040"/>
              <a:ext cx="122040" cy="227880"/>
              <a:chOff x="5024520" y="1076040"/>
              <a:chExt cx="122040" cy="227880"/>
            </a:xfrm>
          </p:grpSpPr>
          <p:sp>
            <p:nvSpPr>
              <p:cNvPr id="434" name=""/>
              <p:cNvSpPr/>
              <p:nvPr/>
            </p:nvSpPr>
            <p:spPr>
              <a:xfrm>
                <a:off x="50752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245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789360" y="2133360"/>
              <a:ext cx="3962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42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50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54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62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66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74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82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627440" y="2143080"/>
              <a:ext cx="11970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5880" y="2198520"/>
              <a:ext cx="10126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 Results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326880"/>
              <a:ext cx="89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045960" y="304920"/>
              <a:ext cx="713880" cy="404280"/>
              <a:chOff x="3045960" y="304920"/>
              <a:chExt cx="713880" cy="404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045960" y="304920"/>
                <a:ext cx="7138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57840" y="517320"/>
                <a:ext cx="7016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pdate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>
              <a:off x="3886200" y="533160"/>
              <a:ext cx="0" cy="15998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267080" y="533160"/>
              <a:ext cx="0" cy="761760"/>
            </a:xfrm>
            <a:prstGeom prst="line">
              <a:avLst/>
            </a:prstGeom>
            <a:ln w="19080">
              <a:solidFill>
                <a:srgbClr val="0033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600" y="304920"/>
              <a:ext cx="0" cy="761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83560" y="380880"/>
              <a:ext cx="9410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3904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3595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6 Micro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22680" y="579132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8312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itical to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–15 cycle penalty for mis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Target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12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bits of hist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ve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cognize repeated patterns, e.g., alternating taken–not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ling BTB mi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in cycle 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taken for negative offset, not taken for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ps vs.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His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information about prior history of branch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whether or not branch will be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branch taken, transition to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taken, transition to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branch taken when in state Yes! or Y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21520" y="3048120"/>
            <a:ext cx="7259040" cy="1427400"/>
            <a:chOff x="821520" y="3048120"/>
            <a:chExt cx="7259040" cy="1427400"/>
          </a:xfrm>
        </p:grpSpPr>
        <p:sp>
          <p:nvSpPr>
            <p:cNvPr id="508" name=""/>
            <p:cNvSpPr/>
            <p:nvPr/>
          </p:nvSpPr>
          <p:spPr>
            <a:xfrm>
              <a:off x="272376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988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9160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492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2940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940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184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392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564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83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83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044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044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021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021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714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1520" y="35042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1760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96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94200" y="358020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160" y="5333760"/>
            <a:ext cx="829476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xt generation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0" name="art_2_fig4%5B1%5D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635440" cy="372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51640" y="2133720"/>
            <a:ext cx="2114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l Tech. Journ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1, 2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Fea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ce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s traditional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s instructions in decoded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s required rate for instruction deco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-Pumped AL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instructions (add) run at 2X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y Deep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+ cycle branch penal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s very high clock r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ower than Pentium III for a given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0920" y="1143000"/>
            <a:ext cx="5297040" cy="1447920"/>
            <a:chOff x="2590920" y="1143000"/>
            <a:chExt cx="5297040" cy="1447920"/>
          </a:xfrm>
        </p:grpSpPr>
        <p:sp>
          <p:nvSpPr>
            <p:cNvPr id="535" name=""/>
            <p:cNvSpPr/>
            <p:nvPr/>
          </p:nvSpPr>
          <p:spPr>
            <a:xfrm>
              <a:off x="25909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2 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struct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485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1760" y="1143000"/>
              <a:ext cx="628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A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nstrs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000" y="1219320"/>
              <a:ext cx="515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uop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627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1680" y="2209680"/>
              <a:ext cx="0" cy="3812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5480" y="2209680"/>
              <a:ext cx="1032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or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gn Techniq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uniform framework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share hardware among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standard logic blocks with bits of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held in memories and clocked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done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cking of registers/memories sufficient to control overall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hancing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increases throughput and improves resour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maintains ISA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in Megahertz or Gigahert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stage partitioning and circuit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amount of work per stage sm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te at which instructions execu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: cycles per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average, how many clock cycles does each instruction requir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pipeline design and benchmark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how frequently are branches mispredicte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instructi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ly process new instruction almost every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hough each individual instruction has latency of 5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times must stall or cancel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CP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instructions executed to comple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 bubbles injected (C = I + B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   =   C/I   =   (I+B)/I   =  1.0 + B/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or B/I represents average penalty due to bub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782640" indent="0" algn="ctr">
              <a:spcBef>
                <a:spcPts val="6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/I = LP + MP + R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P: Penalty due to load/use hazard sta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loa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load instructions requiring st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P = 0.25 * 0.20 * 1 = 0.0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P: Penalty due to mispredicte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cond. jump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cond. jumps mispredict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P = 0.20 * 0.40 * 2 = 0.1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P: Penalty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return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P = 0.02 * 3 = 0.0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effect of penalties 0.05 + 0.16 + 0.06 = 0.2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I = 1.27    (Not bad!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7640" y="1143000"/>
            <a:ext cx="168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ypical Valu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3670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uring Fetch Cyc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ytes from instructio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icode to determine instruction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s 2 &amp; 4 require significant amount of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58867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Perform Everything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mpute incremented PC until know how much to increment it b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520" y="213372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9600" y="2133720"/>
            <a:ext cx="105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0080" y="14479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000320" y="418680"/>
            <a:ext cx="381240" cy="5791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1680" y="354636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4382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438280"/>
            <a:ext cx="243828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Fast PC Increment Circui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2971800"/>
            <a:ext cx="167652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-bit ad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334120" y="3809880"/>
            <a:ext cx="0" cy="9144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62720" y="380952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91320" y="3809520"/>
            <a:ext cx="0" cy="38124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724280"/>
            <a:ext cx="112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9760" y="4183200"/>
            <a:ext cx="128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3280" y="446076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971800"/>
            <a:ext cx="106668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9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809520"/>
            <a:ext cx="0" cy="11430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37160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666880"/>
            <a:ext cx="914400" cy="1524240"/>
          </a:xfrm>
          <a:custGeom>
            <a:avLst/>
            <a:gdLst/>
            <a:ahLst/>
            <a:rect l="l" t="t" r="r" b="b"/>
            <a:pathLst>
              <a:path w="576" h="1008">
                <a:moveTo>
                  <a:pt x="576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2666520"/>
            <a:ext cx="0" cy="3049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952880"/>
            <a:ext cx="236232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62520" y="495288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292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828800"/>
            <a:ext cx="28954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37160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1828800"/>
            <a:ext cx="0" cy="3808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3240" y="46483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8280" y="495288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438280"/>
            <a:ext cx="914400" cy="99072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576" y="672"/>
                </a:moveTo>
                <a:lnTo>
                  <a:pt x="384" y="672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6040" y="19051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1960" y="190512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36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60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4100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0666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30240" y="2819520"/>
            <a:ext cx="6232680" cy="1143000"/>
            <a:chOff x="930240" y="2819520"/>
            <a:chExt cx="6232680" cy="1143000"/>
          </a:xfrm>
        </p:grpSpPr>
        <p:grpSp>
          <p:nvGrpSpPr>
            <p:cNvPr id="148" name=""/>
            <p:cNvGrpSpPr/>
            <p:nvPr/>
          </p:nvGrpSpPr>
          <p:grpSpPr>
            <a:xfrm>
              <a:off x="930240" y="2819520"/>
              <a:ext cx="974880" cy="1143000"/>
              <a:chOff x="930240" y="2819520"/>
              <a:chExt cx="974880" cy="11430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30240" y="327672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Slow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248520" y="2819520"/>
              <a:ext cx="914400" cy="1143000"/>
              <a:chOff x="6248520" y="2819520"/>
              <a:chExt cx="914400" cy="114300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624852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7000" y="3276720"/>
                <a:ext cx="745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Fas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3663720" y="2133720"/>
            <a:ext cx="529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6600" y="22824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ifie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-Bit Increme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s as soon as PC sel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not needed until final MU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in parallel with memory r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52480" y="2133360"/>
            <a:ext cx="0" cy="6094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096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59092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241632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9440" y="192708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3720" y="2595600"/>
            <a:ext cx="125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0080" y="12193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15238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50680" y="1447920"/>
            <a:ext cx="93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-bit 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676520"/>
            <a:ext cx="7632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5800" y="1981080"/>
            <a:ext cx="5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263680"/>
            <a:ext cx="0" cy="152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76360" y="1142280"/>
            <a:ext cx="304920" cy="4267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7600" y="350532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16840" y="3048120"/>
            <a:ext cx="171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ndard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6T15:58:23Z</dcterms:modified>
  <cp:revision>95</cp:revision>
  <dc:subject>SRC Review Slides</dc:subject>
  <dc:title>Formal Processor Verification</dc:title>
</cp:coreProperties>
</file>