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200" y="640188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5779A4C9-7208-4381-9ABF-BD31E222D393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59280" y="6391800"/>
            <a:ext cx="10933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15-213, F’0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png"/><Relationship Id="rId5" Type="http://schemas.openxmlformats.org/officeDocument/2006/relationships/package" Target="../embeddings/oleObject3.docx"/><Relationship Id="rId6" Type="http://schemas.openxmlformats.org/officeDocument/2006/relationships/image" Target="../media/image3.png"/><Relationship Id="rId7" Type="http://schemas.openxmlformats.org/officeDocument/2006/relationships/package" Target="../embeddings/oleObject4.docx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95480" y="1523880"/>
            <a:ext cx="3478320" cy="15624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its and Bytes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ug. 29, 200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886040" y="2862000"/>
            <a:ext cx="5140080" cy="256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1000"/>
          </a:bodyPr>
          <a:p>
            <a:pPr marL="27396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28480" indent="-17424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y bits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28480" indent="-17424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presenting information as bi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13600" indent="-16920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inary/Hexadecima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13600" indent="-16920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yte representat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135800" indent="-1620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umber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135800" indent="-1620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haracters and string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135800" indent="-1620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structions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28480" indent="-17424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it-level manipula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13600" indent="-16920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oolean algebra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13600" indent="-16920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xpressing in C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565400" y="6586560"/>
            <a:ext cx="94428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15-213 F’02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76040" y="6510240"/>
            <a:ext cx="1355040" cy="2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class02.pp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447920" y="533520"/>
            <a:ext cx="63244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15-21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Arial"/>
              </a:rPr>
              <a:t>“</a:t>
            </a:r>
            <a:r>
              <a:rPr b="1" i="1" lang="en-US" sz="2800" spc="-1" strike="noStrike">
                <a:solidFill>
                  <a:srgbClr val="003300"/>
                </a:solidFill>
                <a:latin typeface="Arial"/>
              </a:rPr>
              <a:t>The Class That Gives CMU Its Zip!”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yte Ordering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ig Endia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east significant byte has highest addr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ittle Endia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east significant byte has lowest addr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mpl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ariable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has 4-byte representation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x01234567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ress given by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&amp;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x10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752480" y="4648320"/>
            <a:ext cx="5486400" cy="609480"/>
            <a:chOff x="1752480" y="4648320"/>
            <a:chExt cx="5486400" cy="609480"/>
          </a:xfrm>
        </p:grpSpPr>
        <p:sp>
          <p:nvSpPr>
            <p:cNvPr id="232" name=""/>
            <p:cNvSpPr/>
            <p:nvPr/>
          </p:nvSpPr>
          <p:spPr>
            <a:xfrm>
              <a:off x="3124080" y="4648320"/>
              <a:ext cx="6858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0x100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809880" y="4648320"/>
              <a:ext cx="6858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0x101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495680" y="4648320"/>
              <a:ext cx="6858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0x102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181480" y="4648320"/>
              <a:ext cx="6858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0x103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752480" y="4952880"/>
              <a:ext cx="68580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438280" y="4952880"/>
              <a:ext cx="68580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124080" y="4952880"/>
              <a:ext cx="68580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0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809880" y="4952880"/>
              <a:ext cx="68580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2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495680" y="4952880"/>
              <a:ext cx="68580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4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181480" y="4952880"/>
              <a:ext cx="68580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6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867280" y="4952880"/>
              <a:ext cx="68580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553080" y="4952880"/>
              <a:ext cx="68580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1752480" y="5486400"/>
            <a:ext cx="5486400" cy="609480"/>
            <a:chOff x="1752480" y="5486400"/>
            <a:chExt cx="5486400" cy="609480"/>
          </a:xfrm>
        </p:grpSpPr>
        <p:sp>
          <p:nvSpPr>
            <p:cNvPr id="245" name=""/>
            <p:cNvSpPr/>
            <p:nvPr/>
          </p:nvSpPr>
          <p:spPr>
            <a:xfrm>
              <a:off x="3124080" y="5486400"/>
              <a:ext cx="6858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0x100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809880" y="5486400"/>
              <a:ext cx="6858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0x101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495680" y="5486400"/>
              <a:ext cx="6858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0x102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181480" y="5486400"/>
              <a:ext cx="6858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0x103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752480" y="5791320"/>
              <a:ext cx="6858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438280" y="5791320"/>
              <a:ext cx="6858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124080" y="5791320"/>
              <a:ext cx="6858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6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809880" y="5791320"/>
              <a:ext cx="6858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4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495680" y="5791320"/>
              <a:ext cx="6858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2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181480" y="5791320"/>
              <a:ext cx="6858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0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867280" y="5791320"/>
              <a:ext cx="6858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553080" y="5791320"/>
              <a:ext cx="6858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533520" y="4572000"/>
            <a:ext cx="177948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Big Endia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33520" y="5410080"/>
            <a:ext cx="177948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Little Endia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124080" y="4952880"/>
            <a:ext cx="685800" cy="3049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9880" y="4952880"/>
            <a:ext cx="685800" cy="3049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2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495680" y="4952880"/>
            <a:ext cx="685800" cy="3049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181480" y="4952880"/>
            <a:ext cx="685800" cy="3049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67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791320"/>
            <a:ext cx="685800" cy="3045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67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809880" y="5791320"/>
            <a:ext cx="685800" cy="3045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95680" y="5791320"/>
            <a:ext cx="685800" cy="3045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2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181480" y="5791320"/>
            <a:ext cx="685800" cy="3045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ading Byte-Reversed Listing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90160" y="1220400"/>
            <a:ext cx="8319960" cy="518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r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isassembl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r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ext representation of binary machine co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r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enerated by program that reads the machine co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r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mple Fragmen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r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95360" y="3048120"/>
            <a:ext cx="8153280" cy="119124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58880"/>
                <a:tab algn="l" pos="4748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Address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Instruction Code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Assembly Rendi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58880"/>
                <a:tab algn="l" pos="4748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365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5b            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op    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58880"/>
                <a:tab algn="l" pos="4748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366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1 c3 ab 12 00 00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    $0x12ab,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58880"/>
                <a:tab algn="l" pos="4748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36c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3 bb 28 00 00 00 00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  $0x0,0x28(%ebx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5867280" y="3886200"/>
            <a:ext cx="609840" cy="914400"/>
          </a:xfrm>
          <a:prstGeom prst="line">
            <a:avLst/>
          </a:prstGeom>
          <a:ln w="38160">
            <a:solidFill>
              <a:srgbClr val="ff505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2971800" y="3886200"/>
            <a:ext cx="1600200" cy="2133360"/>
            <a:chOff x="2971800" y="3886200"/>
            <a:chExt cx="1600200" cy="2133360"/>
          </a:xfrm>
        </p:grpSpPr>
        <p:sp>
          <p:nvSpPr>
            <p:cNvPr id="272" name=""/>
            <p:cNvSpPr/>
            <p:nvPr/>
          </p:nvSpPr>
          <p:spPr>
            <a:xfrm rot="16200000">
              <a:off x="3733560" y="3124080"/>
              <a:ext cx="76320" cy="16002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41400 h 1600200"/>
                <a:gd name="textAreaBottom" fmla="*/ 15588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>
              <a:off x="3809880" y="3962160"/>
              <a:ext cx="533520" cy="2057400"/>
            </a:xfrm>
            <a:prstGeom prst="line">
              <a:avLst/>
            </a:prstGeom>
            <a:ln w="2844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303120" y="4343400"/>
            <a:ext cx="8307360" cy="12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4000"/>
          </a:bodyPr>
          <a:p>
            <a:pPr marL="246960" indent="-246960">
              <a:lnSpc>
                <a:spcPct val="95000"/>
              </a:lnSpc>
              <a:spcBef>
                <a:spcPts val="1500"/>
              </a:spcBef>
              <a:tabLst>
                <a:tab algn="l" pos="0"/>
                <a:tab algn="r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eciphering Number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76280" indent="-15732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r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alue: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x12ab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476280" indent="-15732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r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ad to 4 bytes: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x000012ab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476280" indent="-15732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r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plit into bytes: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0 00 12 ab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476280" indent="-15732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r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verse: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b 12 00 0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amining Data Representa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de to Print Byte Representation of Data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sting pointer t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unsigned char 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creates byte arra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295280" y="2209680"/>
            <a:ext cx="5943600" cy="283716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ypedef unsigned char *pointer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show_bytes(pointer start, int len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 = 0; i &lt; len; i++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0x%p\t0x%.2x\n",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art+i, start[i]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\n"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650840" y="5332320"/>
            <a:ext cx="353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intf directives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p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int point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x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int Hexadecima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show_bytes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Execution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00200" y="1981080"/>
            <a:ext cx="5943600" cy="106956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a = 15213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int a = 15213;\n"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how_bytes((pointer) &amp;a, sizeof(int)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523880" y="3584520"/>
            <a:ext cx="23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esult (Linux)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133720" y="4191120"/>
            <a:ext cx="5181480" cy="177084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a = 15213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ffffcb8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6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ffffcb9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3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ffffcba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ffffcbb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presenting Intege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int A = 15213;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int B = -15213;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long int C = 15213;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114800" y="1066680"/>
            <a:ext cx="3962520" cy="120276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ecimal: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521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inary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011 1011 0110 110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ex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3    B    6    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82560" y="2436840"/>
            <a:ext cx="1692360" cy="1677600"/>
            <a:chOff x="682560" y="2436840"/>
            <a:chExt cx="1692360" cy="1677600"/>
          </a:xfrm>
        </p:grpSpPr>
        <p:grpSp>
          <p:nvGrpSpPr>
            <p:cNvPr id="287" name=""/>
            <p:cNvGrpSpPr/>
            <p:nvPr/>
          </p:nvGrpSpPr>
          <p:grpSpPr>
            <a:xfrm>
              <a:off x="914400" y="2895840"/>
              <a:ext cx="609480" cy="1218600"/>
              <a:chOff x="914400" y="2895840"/>
              <a:chExt cx="609480" cy="1218600"/>
            </a:xfrm>
          </p:grpSpPr>
          <p:sp>
            <p:nvSpPr>
              <p:cNvPr id="288" name=""/>
              <p:cNvSpPr/>
              <p:nvPr/>
            </p:nvSpPr>
            <p:spPr>
              <a:xfrm>
                <a:off x="914400" y="289584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6D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914400" y="3200400"/>
                <a:ext cx="609480" cy="3042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3B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914400" y="350496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914400" y="380988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92" name=""/>
            <p:cNvSpPr/>
            <p:nvPr/>
          </p:nvSpPr>
          <p:spPr>
            <a:xfrm>
              <a:off x="682560" y="2436840"/>
              <a:ext cx="16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Linux/Alpha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2502360" y="2436840"/>
            <a:ext cx="814680" cy="1677960"/>
            <a:chOff x="2502360" y="2436840"/>
            <a:chExt cx="814680" cy="1677960"/>
          </a:xfrm>
        </p:grpSpPr>
        <p:grpSp>
          <p:nvGrpSpPr>
            <p:cNvPr id="294" name=""/>
            <p:cNvGrpSpPr/>
            <p:nvPr/>
          </p:nvGrpSpPr>
          <p:grpSpPr>
            <a:xfrm>
              <a:off x="2590920" y="2895840"/>
              <a:ext cx="609480" cy="1218960"/>
              <a:chOff x="2590920" y="2895840"/>
              <a:chExt cx="609480" cy="1218960"/>
            </a:xfrm>
          </p:grpSpPr>
          <p:sp>
            <p:nvSpPr>
              <p:cNvPr id="295" name=""/>
              <p:cNvSpPr/>
              <p:nvPr/>
            </p:nvSpPr>
            <p:spPr>
              <a:xfrm>
                <a:off x="2590920" y="350532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3B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590920" y="381024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6D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590920" y="289584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590920" y="320040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99" name=""/>
            <p:cNvSpPr/>
            <p:nvPr/>
          </p:nvSpPr>
          <p:spPr>
            <a:xfrm>
              <a:off x="2502360" y="2436840"/>
              <a:ext cx="8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un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1523880" y="3048120"/>
            <a:ext cx="1067040" cy="914400"/>
            <a:chOff x="1523880" y="3048120"/>
            <a:chExt cx="1067040" cy="914400"/>
          </a:xfrm>
        </p:grpSpPr>
        <p:sp>
          <p:nvSpPr>
            <p:cNvPr id="301" name=""/>
            <p:cNvSpPr/>
            <p:nvPr/>
          </p:nvSpPr>
          <p:spPr>
            <a:xfrm>
              <a:off x="1523880" y="3048120"/>
              <a:ext cx="1067040" cy="9144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523880" y="3352680"/>
              <a:ext cx="1067040" cy="3049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1523880" y="3352320"/>
              <a:ext cx="1067040" cy="3049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1523880" y="3048120"/>
              <a:ext cx="1067040" cy="9144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682560" y="4494240"/>
            <a:ext cx="1692360" cy="1677600"/>
            <a:chOff x="682560" y="4494240"/>
            <a:chExt cx="1692360" cy="1677600"/>
          </a:xfrm>
        </p:grpSpPr>
        <p:grpSp>
          <p:nvGrpSpPr>
            <p:cNvPr id="306" name=""/>
            <p:cNvGrpSpPr/>
            <p:nvPr/>
          </p:nvGrpSpPr>
          <p:grpSpPr>
            <a:xfrm>
              <a:off x="914400" y="4953240"/>
              <a:ext cx="609480" cy="1218600"/>
              <a:chOff x="914400" y="4953240"/>
              <a:chExt cx="609480" cy="1218600"/>
            </a:xfrm>
          </p:grpSpPr>
          <p:sp>
            <p:nvSpPr>
              <p:cNvPr id="307" name=""/>
              <p:cNvSpPr/>
              <p:nvPr/>
            </p:nvSpPr>
            <p:spPr>
              <a:xfrm>
                <a:off x="914400" y="495324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9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914400" y="5257800"/>
                <a:ext cx="609480" cy="3042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C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914400" y="556236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FF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914400" y="586728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FF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11" name=""/>
            <p:cNvSpPr/>
            <p:nvPr/>
          </p:nvSpPr>
          <p:spPr>
            <a:xfrm>
              <a:off x="682560" y="4494240"/>
              <a:ext cx="16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Linux/Alpha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2502360" y="4494240"/>
            <a:ext cx="814680" cy="1677960"/>
            <a:chOff x="2502360" y="4494240"/>
            <a:chExt cx="814680" cy="1677960"/>
          </a:xfrm>
        </p:grpSpPr>
        <p:grpSp>
          <p:nvGrpSpPr>
            <p:cNvPr id="313" name=""/>
            <p:cNvGrpSpPr/>
            <p:nvPr/>
          </p:nvGrpSpPr>
          <p:grpSpPr>
            <a:xfrm>
              <a:off x="2590920" y="4953240"/>
              <a:ext cx="609480" cy="1218960"/>
              <a:chOff x="2590920" y="4953240"/>
              <a:chExt cx="609480" cy="1218960"/>
            </a:xfrm>
          </p:grpSpPr>
          <p:sp>
            <p:nvSpPr>
              <p:cNvPr id="314" name=""/>
              <p:cNvSpPr/>
              <p:nvPr/>
            </p:nvSpPr>
            <p:spPr>
              <a:xfrm>
                <a:off x="2590920" y="556272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C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590920" y="586764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9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590920" y="495324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FF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590920" y="525780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FF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18" name=""/>
            <p:cNvSpPr/>
            <p:nvPr/>
          </p:nvSpPr>
          <p:spPr>
            <a:xfrm>
              <a:off x="2502360" y="4494240"/>
              <a:ext cx="8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un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1523880" y="5105520"/>
            <a:ext cx="1067040" cy="914400"/>
            <a:chOff x="1523880" y="5105520"/>
            <a:chExt cx="1067040" cy="914400"/>
          </a:xfrm>
        </p:grpSpPr>
        <p:sp>
          <p:nvSpPr>
            <p:cNvPr id="320" name=""/>
            <p:cNvSpPr/>
            <p:nvPr/>
          </p:nvSpPr>
          <p:spPr>
            <a:xfrm>
              <a:off x="1523880" y="5105520"/>
              <a:ext cx="1067040" cy="9144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523880" y="5410080"/>
              <a:ext cx="1067040" cy="3049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1523880" y="5409720"/>
              <a:ext cx="1067040" cy="3049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1523880" y="5105520"/>
              <a:ext cx="1067040" cy="9144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4347000" y="5865840"/>
            <a:ext cx="389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wo’s complement representa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(Covered next lecture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 flipV="1">
            <a:off x="3352680" y="5638320"/>
            <a:ext cx="914400" cy="3812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6324480" y="4191120"/>
            <a:ext cx="609840" cy="1218600"/>
            <a:chOff x="6324480" y="4191120"/>
            <a:chExt cx="609840" cy="1218600"/>
          </a:xfrm>
        </p:grpSpPr>
        <p:sp>
          <p:nvSpPr>
            <p:cNvPr id="327" name=""/>
            <p:cNvSpPr/>
            <p:nvPr/>
          </p:nvSpPr>
          <p:spPr>
            <a:xfrm>
              <a:off x="6324480" y="4191120"/>
              <a:ext cx="60984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324480" y="4495680"/>
              <a:ext cx="60984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324480" y="4800600"/>
              <a:ext cx="609840" cy="304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324480" y="5105160"/>
              <a:ext cx="60984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6093720" y="2513160"/>
            <a:ext cx="1017360" cy="1677600"/>
            <a:chOff x="6093720" y="2513160"/>
            <a:chExt cx="1017360" cy="1677600"/>
          </a:xfrm>
        </p:grpSpPr>
        <p:grpSp>
          <p:nvGrpSpPr>
            <p:cNvPr id="332" name=""/>
            <p:cNvGrpSpPr/>
            <p:nvPr/>
          </p:nvGrpSpPr>
          <p:grpSpPr>
            <a:xfrm>
              <a:off x="6324480" y="2972160"/>
              <a:ext cx="609480" cy="1218600"/>
              <a:chOff x="6324480" y="2972160"/>
              <a:chExt cx="609480" cy="1218600"/>
            </a:xfrm>
          </p:grpSpPr>
          <p:sp>
            <p:nvSpPr>
              <p:cNvPr id="333" name=""/>
              <p:cNvSpPr/>
              <p:nvPr/>
            </p:nvSpPr>
            <p:spPr>
              <a:xfrm>
                <a:off x="6324480" y="297216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6D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324480" y="3276720"/>
                <a:ext cx="609480" cy="3042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3B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324480" y="358128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324480" y="388620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37" name=""/>
            <p:cNvSpPr/>
            <p:nvPr/>
          </p:nvSpPr>
          <p:spPr>
            <a:xfrm>
              <a:off x="6093720" y="251316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lpha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C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7912440" y="2513160"/>
            <a:ext cx="814680" cy="1677960"/>
            <a:chOff x="7912440" y="2513160"/>
            <a:chExt cx="814680" cy="1677960"/>
          </a:xfrm>
        </p:grpSpPr>
        <p:grpSp>
          <p:nvGrpSpPr>
            <p:cNvPr id="339" name=""/>
            <p:cNvGrpSpPr/>
            <p:nvPr/>
          </p:nvGrpSpPr>
          <p:grpSpPr>
            <a:xfrm>
              <a:off x="8001000" y="2972160"/>
              <a:ext cx="609480" cy="1218960"/>
              <a:chOff x="8001000" y="2972160"/>
              <a:chExt cx="609480" cy="1218960"/>
            </a:xfrm>
          </p:grpSpPr>
          <p:sp>
            <p:nvSpPr>
              <p:cNvPr id="340" name=""/>
              <p:cNvSpPr/>
              <p:nvPr/>
            </p:nvSpPr>
            <p:spPr>
              <a:xfrm>
                <a:off x="8001000" y="358164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3B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8001000" y="388656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6D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8001000" y="297216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8001000" y="327672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44" name=""/>
            <p:cNvSpPr/>
            <p:nvPr/>
          </p:nvSpPr>
          <p:spPr>
            <a:xfrm>
              <a:off x="7912440" y="2513160"/>
              <a:ext cx="8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un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C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6934320" y="3124080"/>
            <a:ext cx="1066680" cy="914400"/>
            <a:chOff x="6934320" y="3124080"/>
            <a:chExt cx="1066680" cy="914400"/>
          </a:xfrm>
        </p:grpSpPr>
        <p:sp>
          <p:nvSpPr>
            <p:cNvPr id="346" name=""/>
            <p:cNvSpPr/>
            <p:nvPr/>
          </p:nvSpPr>
          <p:spPr>
            <a:xfrm>
              <a:off x="6934320" y="3124080"/>
              <a:ext cx="1066680" cy="9144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934320" y="3429000"/>
              <a:ext cx="1066680" cy="3049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6934320" y="3428640"/>
              <a:ext cx="1066680" cy="3049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6934320" y="3124080"/>
              <a:ext cx="1066680" cy="9144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4420080" y="2513160"/>
            <a:ext cx="992880" cy="1677600"/>
            <a:chOff x="4420080" y="2513160"/>
            <a:chExt cx="992880" cy="1677600"/>
          </a:xfrm>
        </p:grpSpPr>
        <p:grpSp>
          <p:nvGrpSpPr>
            <p:cNvPr id="351" name=""/>
            <p:cNvGrpSpPr/>
            <p:nvPr/>
          </p:nvGrpSpPr>
          <p:grpSpPr>
            <a:xfrm>
              <a:off x="4648320" y="2972160"/>
              <a:ext cx="609480" cy="1218600"/>
              <a:chOff x="4648320" y="2972160"/>
              <a:chExt cx="609480" cy="1218600"/>
            </a:xfrm>
          </p:grpSpPr>
          <p:sp>
            <p:nvSpPr>
              <p:cNvPr id="352" name=""/>
              <p:cNvSpPr/>
              <p:nvPr/>
            </p:nvSpPr>
            <p:spPr>
              <a:xfrm>
                <a:off x="4648320" y="297216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6D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648320" y="3276720"/>
                <a:ext cx="609480" cy="3042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3B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648320" y="358128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648320" y="388620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420080" y="2513160"/>
              <a:ext cx="99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Linux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C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5257800" y="3124080"/>
            <a:ext cx="1066680" cy="914400"/>
            <a:chOff x="5257800" y="3124080"/>
            <a:chExt cx="1066680" cy="914400"/>
          </a:xfrm>
        </p:grpSpPr>
        <p:sp>
          <p:nvSpPr>
            <p:cNvPr id="358" name=""/>
            <p:cNvSpPr/>
            <p:nvPr/>
          </p:nvSpPr>
          <p:spPr>
            <a:xfrm>
              <a:off x="5257800" y="4038480"/>
              <a:ext cx="106668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257800" y="3429000"/>
              <a:ext cx="106668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257800" y="3733920"/>
              <a:ext cx="106668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257800" y="3124080"/>
              <a:ext cx="106668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presenting Pointe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90520" y="1066680"/>
            <a:ext cx="8307360" cy="537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int B = -15213;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int *P = &amp;B;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57200" y="1828800"/>
            <a:ext cx="7467480" cy="120276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lpha Addr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ex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1    F    F    F    F    F    C    A    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inary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001 1111 1111 1111 1111 1111 1100 1010 0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8077320" y="1905120"/>
            <a:ext cx="609480" cy="1218600"/>
            <a:chOff x="8077320" y="1905120"/>
            <a:chExt cx="609480" cy="1218600"/>
          </a:xfrm>
        </p:grpSpPr>
        <p:sp>
          <p:nvSpPr>
            <p:cNvPr id="366" name=""/>
            <p:cNvSpPr/>
            <p:nvPr/>
          </p:nvSpPr>
          <p:spPr>
            <a:xfrm>
              <a:off x="8077320" y="1905120"/>
              <a:ext cx="609480" cy="30456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077320" y="2209680"/>
              <a:ext cx="609480" cy="30456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077320" y="2514600"/>
              <a:ext cx="609480" cy="30420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8077320" y="2819160"/>
              <a:ext cx="609480" cy="30456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8077320" y="685800"/>
            <a:ext cx="609480" cy="1219320"/>
            <a:chOff x="8077320" y="685800"/>
            <a:chExt cx="609480" cy="1219320"/>
          </a:xfrm>
        </p:grpSpPr>
        <p:sp>
          <p:nvSpPr>
            <p:cNvPr id="371" name=""/>
            <p:cNvSpPr/>
            <p:nvPr/>
          </p:nvSpPr>
          <p:spPr>
            <a:xfrm>
              <a:off x="8077320" y="685800"/>
              <a:ext cx="609480" cy="30492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077320" y="990720"/>
              <a:ext cx="609480" cy="30456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FC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077320" y="1295280"/>
              <a:ext cx="609480" cy="30492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FF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077320" y="1600200"/>
              <a:ext cx="609480" cy="30492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FF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7846560" y="22860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lpha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181160" y="3276720"/>
            <a:ext cx="6781680" cy="133416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un Addr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ex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E    F    F    F    F    B    2    C   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inary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110 1111 1111 1111 1111 1011 0010 11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62480" y="5791320"/>
            <a:ext cx="758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Different compilers &amp; machines assign different locations to object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7520" y="3581280"/>
            <a:ext cx="609480" cy="1218960"/>
            <a:chOff x="317520" y="3581280"/>
            <a:chExt cx="609480" cy="1218960"/>
          </a:xfrm>
        </p:grpSpPr>
        <p:sp>
          <p:nvSpPr>
            <p:cNvPr id="379" name=""/>
            <p:cNvSpPr/>
            <p:nvPr/>
          </p:nvSpPr>
          <p:spPr>
            <a:xfrm>
              <a:off x="317520" y="4190760"/>
              <a:ext cx="609480" cy="30492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F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7520" y="4495680"/>
              <a:ext cx="609480" cy="30456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2C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17520" y="3581280"/>
              <a:ext cx="609480" cy="30456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EF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17520" y="3885840"/>
              <a:ext cx="609480" cy="30492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FF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229320" y="312408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un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8251920" y="4495680"/>
            <a:ext cx="609480" cy="1218960"/>
            <a:chOff x="8251920" y="4495680"/>
            <a:chExt cx="609480" cy="1218960"/>
          </a:xfrm>
        </p:grpSpPr>
        <p:sp>
          <p:nvSpPr>
            <p:cNvPr id="385" name=""/>
            <p:cNvSpPr/>
            <p:nvPr/>
          </p:nvSpPr>
          <p:spPr>
            <a:xfrm>
              <a:off x="8251920" y="5105160"/>
              <a:ext cx="609480" cy="304920"/>
            </a:xfrm>
            <a:prstGeom prst="rect">
              <a:avLst/>
            </a:prstGeom>
            <a:solidFill>
              <a:srgbClr val="ffcc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FF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251920" y="5410080"/>
              <a:ext cx="609480" cy="304560"/>
            </a:xfrm>
            <a:prstGeom prst="rect">
              <a:avLst/>
            </a:prstGeom>
            <a:solidFill>
              <a:srgbClr val="ffcc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BF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251920" y="4495680"/>
              <a:ext cx="609480" cy="304560"/>
            </a:xfrm>
            <a:prstGeom prst="rect">
              <a:avLst/>
            </a:prstGeom>
            <a:solidFill>
              <a:srgbClr val="ffcc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D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251920" y="4800240"/>
              <a:ext cx="609480" cy="304920"/>
            </a:xfrm>
            <a:prstGeom prst="rect">
              <a:avLst/>
            </a:prstGeom>
            <a:solidFill>
              <a:srgbClr val="ffcc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F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8074440" y="403848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inux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181160" y="4495680"/>
            <a:ext cx="6781680" cy="133416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inux Addr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ex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B    F    F    F    F    8    D    4   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inary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011 1111 1111 1111 1111 1000 1101 01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presenting Float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Float F = 15213.0;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62120" y="3733920"/>
            <a:ext cx="6781680" cy="175140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EEE Single Precision Floating Point Representa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ex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4    6    6    D    B    4    0    0   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inary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100 0110 0110 1101 1011 0100 0000 0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5213: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1110 1101 1011 0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64640" y="5715000"/>
            <a:ext cx="76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Not same as integer representation, but consistent across machin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4645080" y="1446120"/>
            <a:ext cx="1692360" cy="1677600"/>
            <a:chOff x="4645080" y="1446120"/>
            <a:chExt cx="1692360" cy="1677600"/>
          </a:xfrm>
        </p:grpSpPr>
        <p:grpSp>
          <p:nvGrpSpPr>
            <p:cNvPr id="396" name=""/>
            <p:cNvGrpSpPr/>
            <p:nvPr/>
          </p:nvGrpSpPr>
          <p:grpSpPr>
            <a:xfrm>
              <a:off x="4876920" y="1905120"/>
              <a:ext cx="609480" cy="1218600"/>
              <a:chOff x="4876920" y="1905120"/>
              <a:chExt cx="609480" cy="1218600"/>
            </a:xfrm>
          </p:grpSpPr>
          <p:sp>
            <p:nvSpPr>
              <p:cNvPr id="397" name=""/>
              <p:cNvSpPr/>
              <p:nvPr/>
            </p:nvSpPr>
            <p:spPr>
              <a:xfrm>
                <a:off x="4876920" y="190512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876920" y="2209680"/>
                <a:ext cx="609480" cy="3042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B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876920" y="251424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6D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876920" y="281916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4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01" name=""/>
            <p:cNvSpPr/>
            <p:nvPr/>
          </p:nvSpPr>
          <p:spPr>
            <a:xfrm>
              <a:off x="4645080" y="1446120"/>
              <a:ext cx="16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Linux/Alpha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F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6464520" y="1446120"/>
            <a:ext cx="814680" cy="1677960"/>
            <a:chOff x="6464520" y="1446120"/>
            <a:chExt cx="814680" cy="1677960"/>
          </a:xfrm>
        </p:grpSpPr>
        <p:grpSp>
          <p:nvGrpSpPr>
            <p:cNvPr id="403" name=""/>
            <p:cNvGrpSpPr/>
            <p:nvPr/>
          </p:nvGrpSpPr>
          <p:grpSpPr>
            <a:xfrm>
              <a:off x="6553080" y="1905120"/>
              <a:ext cx="609480" cy="1218960"/>
              <a:chOff x="6553080" y="1905120"/>
              <a:chExt cx="609480" cy="1218960"/>
            </a:xfrm>
          </p:grpSpPr>
          <p:sp>
            <p:nvSpPr>
              <p:cNvPr id="404" name=""/>
              <p:cNvSpPr/>
              <p:nvPr/>
            </p:nvSpPr>
            <p:spPr>
              <a:xfrm>
                <a:off x="6553080" y="251460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B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553080" y="281952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553080" y="190512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4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553080" y="220968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6D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08" name=""/>
            <p:cNvSpPr/>
            <p:nvPr/>
          </p:nvSpPr>
          <p:spPr>
            <a:xfrm>
              <a:off x="6464520" y="1446120"/>
              <a:ext cx="8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un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F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5486400" y="2057400"/>
            <a:ext cx="1066680" cy="914400"/>
            <a:chOff x="5486400" y="2057400"/>
            <a:chExt cx="1066680" cy="914400"/>
          </a:xfrm>
        </p:grpSpPr>
        <p:sp>
          <p:nvSpPr>
            <p:cNvPr id="410" name=""/>
            <p:cNvSpPr/>
            <p:nvPr/>
          </p:nvSpPr>
          <p:spPr>
            <a:xfrm>
              <a:off x="5486400" y="2057400"/>
              <a:ext cx="1066680" cy="9144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486400" y="2362320"/>
              <a:ext cx="1066680" cy="3045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5486400" y="2362320"/>
              <a:ext cx="1066680" cy="3045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5486400" y="2057400"/>
              <a:ext cx="1066680" cy="9144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761040" y="6095880"/>
            <a:ext cx="720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Can see some relation to integer representation, but not obviou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62120" y="3733920"/>
            <a:ext cx="6781680" cy="175140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EEE Single Precision Floating Point Representa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ex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4    6    6    D    B    4    0    0   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inary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100 0110 0110 1101 1011 0100 0000 0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5213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    1110 1101 1011 0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762120" y="3733920"/>
            <a:ext cx="6781680" cy="1828800"/>
            <a:chOff x="762120" y="3733920"/>
            <a:chExt cx="6781680" cy="1828800"/>
          </a:xfrm>
        </p:grpSpPr>
        <p:sp>
          <p:nvSpPr>
            <p:cNvPr id="417" name=""/>
            <p:cNvSpPr/>
            <p:nvPr/>
          </p:nvSpPr>
          <p:spPr>
            <a:xfrm>
              <a:off x="3429000" y="533412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638680" y="533412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429000" y="5410080"/>
              <a:ext cx="220968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62120" y="3733920"/>
              <a:ext cx="6781680" cy="1751400"/>
            </a:xfrm>
            <a:prstGeom prst="rect">
              <a:avLst/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10843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IEEE Single Precision Floating Point Representation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10843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Hex: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  4    6    6    D    B    4    0    0    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Binary: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100 0110 0</a:t>
              </a:r>
              <a:r>
                <a:rPr b="1" lang="en-US" sz="1800" spc="-1" strike="noStrike">
                  <a:solidFill>
                    <a:srgbClr val="cc0000"/>
                  </a:solidFill>
                  <a:latin typeface="Courier New"/>
                </a:rPr>
                <a:t>110 1101 1011 01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0 0000 000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10843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5213: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          1110 1101 1011 0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5486400" y="1066680"/>
            <a:ext cx="3429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85920" indent="-385920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char S[6] = "15213"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presenting String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290160" y="1220760"/>
            <a:ext cx="847260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rings in C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presented by array of charact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character encoded in ASCII forma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tandard 7-bit encoding of character se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ther encodings exist, but uncomm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haracter “0” has code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0x3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igit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 has code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30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+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i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ring should be null-terminat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inal character = 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patibilit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yte ordering not an issu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ata are single byte quantiti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ext files generally platform independ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xcept for different conventions of line termination character(s)!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280200" y="190332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inux/Alpha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871400" y="190332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un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8035920" y="2362320"/>
            <a:ext cx="609480" cy="1828800"/>
            <a:chOff x="8035920" y="2362320"/>
            <a:chExt cx="609480" cy="1828800"/>
          </a:xfrm>
        </p:grpSpPr>
        <p:sp>
          <p:nvSpPr>
            <p:cNvPr id="427" name=""/>
            <p:cNvSpPr/>
            <p:nvPr/>
          </p:nvSpPr>
          <p:spPr>
            <a:xfrm>
              <a:off x="8035920" y="2972160"/>
              <a:ext cx="60948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3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035920" y="3276720"/>
              <a:ext cx="60948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3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8035920" y="2362320"/>
              <a:ext cx="60948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3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035920" y="2667240"/>
              <a:ext cx="60948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3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8035920" y="3581640"/>
              <a:ext cx="60948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3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035920" y="3886560"/>
              <a:ext cx="60948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6512040" y="2362320"/>
            <a:ext cx="609480" cy="1828800"/>
            <a:chOff x="6512040" y="2362320"/>
            <a:chExt cx="609480" cy="1828800"/>
          </a:xfrm>
        </p:grpSpPr>
        <p:sp>
          <p:nvSpPr>
            <p:cNvPr id="434" name=""/>
            <p:cNvSpPr/>
            <p:nvPr/>
          </p:nvSpPr>
          <p:spPr>
            <a:xfrm>
              <a:off x="6512040" y="2972160"/>
              <a:ext cx="60948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3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512040" y="3276720"/>
              <a:ext cx="60948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3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512040" y="2362320"/>
              <a:ext cx="60948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3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512040" y="2667240"/>
              <a:ext cx="60948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3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512040" y="3581640"/>
              <a:ext cx="60948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3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512040" y="3886560"/>
              <a:ext cx="60948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7121520" y="2514600"/>
            <a:ext cx="914400" cy="1523880"/>
            <a:chOff x="7121520" y="2514600"/>
            <a:chExt cx="914400" cy="1523880"/>
          </a:xfrm>
        </p:grpSpPr>
        <p:sp>
          <p:nvSpPr>
            <p:cNvPr id="441" name=""/>
            <p:cNvSpPr/>
            <p:nvPr/>
          </p:nvSpPr>
          <p:spPr>
            <a:xfrm>
              <a:off x="7121520" y="2514600"/>
              <a:ext cx="9144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121520" y="2819520"/>
              <a:ext cx="9144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121520" y="3124080"/>
              <a:ext cx="9144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121520" y="3429000"/>
              <a:ext cx="9144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21520" y="3733920"/>
              <a:ext cx="9144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121520" y="4038480"/>
              <a:ext cx="9144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chine-Level Code Represent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ncode Program as Sequence of Instruc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simple oper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rithmetic opera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ad or write memor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nditional branch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structions encoded as byt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lpha’s, Sun’s, Mac’s use 4 byte instruct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duced Instruction Set Computer (RISC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C’s use variable length instruct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mplex Instruction Set Computer (CISC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ifferent instruction types and encodings for different machin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ost code not binary compatibl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grams are Byte Sequences Too!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presenting Instruc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290520" y="1220400"/>
            <a:ext cx="3672000" cy="25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int sum(int x, int y)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{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return x+y;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}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066320" y="6019920"/>
            <a:ext cx="746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Different machines use totally different instructions and encoding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4645440" y="1446120"/>
            <a:ext cx="1291680" cy="2897280"/>
            <a:chOff x="4645440" y="1446120"/>
            <a:chExt cx="1291680" cy="2897280"/>
          </a:xfrm>
        </p:grpSpPr>
        <p:grpSp>
          <p:nvGrpSpPr>
            <p:cNvPr id="453" name=""/>
            <p:cNvGrpSpPr/>
            <p:nvPr/>
          </p:nvGrpSpPr>
          <p:grpSpPr>
            <a:xfrm>
              <a:off x="4876920" y="1905120"/>
              <a:ext cx="609480" cy="1218600"/>
              <a:chOff x="4876920" y="1905120"/>
              <a:chExt cx="609480" cy="1218600"/>
            </a:xfrm>
          </p:grpSpPr>
          <p:sp>
            <p:nvSpPr>
              <p:cNvPr id="454" name=""/>
              <p:cNvSpPr/>
              <p:nvPr/>
            </p:nvSpPr>
            <p:spPr>
              <a:xfrm>
                <a:off x="4876920" y="190512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876920" y="2209680"/>
                <a:ext cx="609480" cy="3042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876920" y="251424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3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876920" y="281916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4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58" name=""/>
            <p:cNvSpPr/>
            <p:nvPr/>
          </p:nvSpPr>
          <p:spPr>
            <a:xfrm>
              <a:off x="4645440" y="1446120"/>
              <a:ext cx="1291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lpha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sum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59" name=""/>
            <p:cNvGrpSpPr/>
            <p:nvPr/>
          </p:nvGrpSpPr>
          <p:grpSpPr>
            <a:xfrm>
              <a:off x="4876920" y="3124080"/>
              <a:ext cx="609480" cy="1219320"/>
              <a:chOff x="4876920" y="3124080"/>
              <a:chExt cx="609480" cy="1219320"/>
            </a:xfrm>
          </p:grpSpPr>
          <p:sp>
            <p:nvSpPr>
              <p:cNvPr id="460" name=""/>
              <p:cNvSpPr/>
              <p:nvPr/>
            </p:nvSpPr>
            <p:spPr>
              <a:xfrm>
                <a:off x="4876920" y="312408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4876920" y="342900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8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876920" y="373356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FA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876920" y="403848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6B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4" name=""/>
          <p:cNvGrpSpPr/>
          <p:nvPr/>
        </p:nvGrpSpPr>
        <p:grpSpPr>
          <a:xfrm>
            <a:off x="6327720" y="1446120"/>
            <a:ext cx="1089000" cy="2897280"/>
            <a:chOff x="6327720" y="1446120"/>
            <a:chExt cx="1089000" cy="2897280"/>
          </a:xfrm>
        </p:grpSpPr>
        <p:grpSp>
          <p:nvGrpSpPr>
            <p:cNvPr id="465" name=""/>
            <p:cNvGrpSpPr/>
            <p:nvPr/>
          </p:nvGrpSpPr>
          <p:grpSpPr>
            <a:xfrm>
              <a:off x="6553080" y="1905120"/>
              <a:ext cx="609480" cy="1218960"/>
              <a:chOff x="6553080" y="1905120"/>
              <a:chExt cx="609480" cy="1218960"/>
            </a:xfrm>
          </p:grpSpPr>
          <p:sp>
            <p:nvSpPr>
              <p:cNvPr id="466" name=""/>
              <p:cNvSpPr/>
              <p:nvPr/>
            </p:nvSpPr>
            <p:spPr>
              <a:xfrm>
                <a:off x="6553080" y="251460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E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553080" y="281952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553080" y="190512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8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6553080" y="220968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C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70" name=""/>
            <p:cNvSpPr/>
            <p:nvPr/>
          </p:nvSpPr>
          <p:spPr>
            <a:xfrm>
              <a:off x="6327720" y="1446120"/>
              <a:ext cx="108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un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sum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71" name=""/>
            <p:cNvGrpSpPr/>
            <p:nvPr/>
          </p:nvGrpSpPr>
          <p:grpSpPr>
            <a:xfrm>
              <a:off x="6553080" y="3124080"/>
              <a:ext cx="609480" cy="1219320"/>
              <a:chOff x="6553080" y="3124080"/>
              <a:chExt cx="609480" cy="1219320"/>
            </a:xfrm>
          </p:grpSpPr>
          <p:sp>
            <p:nvSpPr>
              <p:cNvPr id="472" name=""/>
              <p:cNvSpPr/>
              <p:nvPr/>
            </p:nvSpPr>
            <p:spPr>
              <a:xfrm>
                <a:off x="6553080" y="312408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9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553080" y="342900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553080" y="373356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553080" y="403848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9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6" name=""/>
          <p:cNvSpPr/>
          <p:nvPr/>
        </p:nvSpPr>
        <p:spPr>
          <a:xfrm>
            <a:off x="0" y="2590920"/>
            <a:ext cx="45720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 lvl="1" marL="595440" indent="-19656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or this example, Alpha &amp; Sun use two 4-byte instruction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916920" indent="-190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se differing numbers of instructions in other cas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595440" indent="-19656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C uses 7 instructions with lengths 1, 2, and 3 byte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916920" indent="-190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ame for NT and for Linu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2" marL="916920" indent="-190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T / Linux not fully binary compatib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308520" indent="-30852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7817400" y="1447920"/>
            <a:ext cx="973080" cy="4419360"/>
            <a:chOff x="7817400" y="1447920"/>
            <a:chExt cx="973080" cy="4419360"/>
          </a:xfrm>
        </p:grpSpPr>
        <p:grpSp>
          <p:nvGrpSpPr>
            <p:cNvPr id="478" name=""/>
            <p:cNvGrpSpPr/>
            <p:nvPr/>
          </p:nvGrpSpPr>
          <p:grpSpPr>
            <a:xfrm>
              <a:off x="7985160" y="1905120"/>
              <a:ext cx="609480" cy="1218960"/>
              <a:chOff x="7985160" y="1905120"/>
              <a:chExt cx="609480" cy="1218960"/>
            </a:xfrm>
          </p:grpSpPr>
          <p:sp>
            <p:nvSpPr>
              <p:cNvPr id="479" name=""/>
              <p:cNvSpPr/>
              <p:nvPr/>
            </p:nvSpPr>
            <p:spPr>
              <a:xfrm>
                <a:off x="7985160" y="251460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E5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7985160" y="281952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8B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7985160" y="190512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55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7985160" y="220968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89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83" name=""/>
            <p:cNvSpPr/>
            <p:nvPr/>
          </p:nvSpPr>
          <p:spPr>
            <a:xfrm>
              <a:off x="7817400" y="1447920"/>
              <a:ext cx="97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C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sum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84" name=""/>
            <p:cNvGrpSpPr/>
            <p:nvPr/>
          </p:nvGrpSpPr>
          <p:grpSpPr>
            <a:xfrm>
              <a:off x="7985160" y="3124080"/>
              <a:ext cx="609480" cy="1219320"/>
              <a:chOff x="7985160" y="3124080"/>
              <a:chExt cx="609480" cy="1219320"/>
            </a:xfrm>
          </p:grpSpPr>
          <p:sp>
            <p:nvSpPr>
              <p:cNvPr id="485" name=""/>
              <p:cNvSpPr/>
              <p:nvPr/>
            </p:nvSpPr>
            <p:spPr>
              <a:xfrm>
                <a:off x="7985160" y="312408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45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985160" y="342900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C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7985160" y="373356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985160" y="403848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45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489" name=""/>
            <p:cNvGrpSpPr/>
            <p:nvPr/>
          </p:nvGrpSpPr>
          <p:grpSpPr>
            <a:xfrm>
              <a:off x="8001000" y="4343400"/>
              <a:ext cx="609480" cy="1219320"/>
              <a:chOff x="8001000" y="4343400"/>
              <a:chExt cx="609480" cy="1219320"/>
            </a:xfrm>
          </p:grpSpPr>
          <p:sp>
            <p:nvSpPr>
              <p:cNvPr id="490" name=""/>
              <p:cNvSpPr/>
              <p:nvPr/>
            </p:nvSpPr>
            <p:spPr>
              <a:xfrm>
                <a:off x="8001000" y="434340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8001000" y="464832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89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8001000" y="495288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EC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8001000" y="525780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5D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94" name=""/>
            <p:cNvSpPr/>
            <p:nvPr/>
          </p:nvSpPr>
          <p:spPr>
            <a:xfrm>
              <a:off x="8001000" y="5562720"/>
              <a:ext cx="60948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C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Why Don’t Computers Use Base 10?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ase 10 Number Represent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at’s why fingers are known as “digits”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atural representation for financial transac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loating point number cannot exactly represent $1.2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ven carries through in scientific not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.5213 X 10</a:t>
            </a:r>
            <a:r>
              <a:rPr b="1" lang="en-US" sz="1800" spc="-1" strike="noStrike" baseline="30000">
                <a:solidFill>
                  <a:srgbClr val="000099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mplementing Electronicall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ard to stor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NIAC (First electronic computer) used 10 vacuum tubes / digi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ard to transmi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eed high precision to encode 10 signal levels on single wir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essy to implement digital logic func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ddition, multiplication, etc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oolean Algebra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17600" y="99072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eveloped by George Boole in 19th Centur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gebraic representation of logi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ncode “True” as 1 and “False” as 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228600" y="2133720"/>
            <a:ext cx="4432320" cy="2214360"/>
            <a:chOff x="228600" y="2133720"/>
            <a:chExt cx="4432320" cy="2214360"/>
          </a:xfrm>
        </p:grpSpPr>
        <p:sp>
          <p:nvSpPr>
            <p:cNvPr id="498" name=""/>
            <p:cNvSpPr/>
            <p:nvPr/>
          </p:nvSpPr>
          <p:spPr>
            <a:xfrm>
              <a:off x="228600" y="2133720"/>
              <a:ext cx="44323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85000"/>
            </a:bodyPr>
            <a:p>
              <a:pPr marL="327960" indent="-327960">
                <a:lnSpc>
                  <a:spcPct val="9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Arial"/>
                </a:rPr>
                <a:t>And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  <a:p>
              <a:pPr lvl="1" marL="632520" indent="-208800">
                <a:lnSpc>
                  <a:spcPct val="100000"/>
                </a:lnSpc>
                <a:spcBef>
                  <a:spcPts val="624"/>
                </a:spcBef>
                <a:buClr>
                  <a:srgbClr val="660033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A&amp;B = 1 when both A=1 and B=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aphicFrame>
          <p:nvGraphicFramePr>
            <p:cNvPr id="499" name=""/>
            <p:cNvGraphicFramePr/>
            <p:nvPr/>
          </p:nvGraphicFramePr>
          <p:xfrm>
            <a:off x="1752480" y="2971800"/>
            <a:ext cx="1397160" cy="137628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50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752480" y="2971800"/>
                      <a:ext cx="1397160" cy="1376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01" name=""/>
          <p:cNvGrpSpPr/>
          <p:nvPr/>
        </p:nvGrpSpPr>
        <p:grpSpPr>
          <a:xfrm>
            <a:off x="228600" y="4038480"/>
            <a:ext cx="4432320" cy="2291040"/>
            <a:chOff x="228600" y="4038480"/>
            <a:chExt cx="4432320" cy="2291040"/>
          </a:xfrm>
        </p:grpSpPr>
        <p:graphicFrame>
          <p:nvGraphicFramePr>
            <p:cNvPr id="502" name=""/>
            <p:cNvGraphicFramePr/>
            <p:nvPr/>
          </p:nvGraphicFramePr>
          <p:xfrm>
            <a:off x="1752480" y="4952880"/>
            <a:ext cx="1397160" cy="137664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50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752480" y="4952880"/>
                      <a:ext cx="1397160" cy="137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04" name=""/>
            <p:cNvSpPr/>
            <p:nvPr/>
          </p:nvSpPr>
          <p:spPr>
            <a:xfrm>
              <a:off x="228600" y="4038480"/>
              <a:ext cx="443232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85920" indent="-385920">
                <a:lnSpc>
                  <a:spcPct val="9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Arial"/>
                </a:rPr>
                <a:t>Not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  <a:p>
              <a:pPr lvl="1" marL="744480" indent="-245880">
                <a:lnSpc>
                  <a:spcPct val="100000"/>
                </a:lnSpc>
                <a:spcBef>
                  <a:spcPts val="624"/>
                </a:spcBef>
                <a:buClr>
                  <a:srgbClr val="660033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~A = 1 when A=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4419720" y="2133720"/>
            <a:ext cx="4432320" cy="2209680"/>
            <a:chOff x="4419720" y="2133720"/>
            <a:chExt cx="4432320" cy="2209680"/>
          </a:xfrm>
        </p:grpSpPr>
        <p:sp>
          <p:nvSpPr>
            <p:cNvPr id="506" name=""/>
            <p:cNvSpPr/>
            <p:nvPr/>
          </p:nvSpPr>
          <p:spPr>
            <a:xfrm>
              <a:off x="4419720" y="2133720"/>
              <a:ext cx="44323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3000"/>
            </a:bodyPr>
            <a:p>
              <a:pPr marL="358560" indent="-358560">
                <a:lnSpc>
                  <a:spcPct val="9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Arial"/>
                </a:rPr>
                <a:t>Or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  <a:p>
              <a:pPr lvl="1" marL="692280" indent="-228600">
                <a:lnSpc>
                  <a:spcPct val="100000"/>
                </a:lnSpc>
                <a:spcBef>
                  <a:spcPts val="624"/>
                </a:spcBef>
                <a:buClr>
                  <a:srgbClr val="660033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A|B = 1 when either A=1 or B=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aphicFrame>
          <p:nvGraphicFramePr>
            <p:cNvPr id="507" name=""/>
            <p:cNvGraphicFramePr/>
            <p:nvPr/>
          </p:nvGraphicFramePr>
          <p:xfrm>
            <a:off x="5918040" y="2967120"/>
            <a:ext cx="1397160" cy="1376280"/>
          </p:xfrm>
          <a:graphic>
            <a:graphicData uri="http://schemas.openxmlformats.org/presentationml/2006/ole">
              <p:oleObj progId="Word.Document.12" r:id="rId5" spid="">
                <p:embed/>
                <p:pic>
                  <p:nvPicPr>
                    <p:cNvPr id="50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918040" y="2967120"/>
                      <a:ext cx="1397160" cy="1376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09" name=""/>
          <p:cNvGrpSpPr/>
          <p:nvPr/>
        </p:nvGrpSpPr>
        <p:grpSpPr>
          <a:xfrm>
            <a:off x="4419720" y="4191120"/>
            <a:ext cx="4432320" cy="2514600"/>
            <a:chOff x="4419720" y="4191120"/>
            <a:chExt cx="4432320" cy="2514600"/>
          </a:xfrm>
        </p:grpSpPr>
        <p:graphicFrame>
          <p:nvGraphicFramePr>
            <p:cNvPr id="510" name=""/>
            <p:cNvGraphicFramePr/>
            <p:nvPr/>
          </p:nvGraphicFramePr>
          <p:xfrm>
            <a:off x="5638680" y="5329080"/>
            <a:ext cx="1397160" cy="1376640"/>
          </p:xfrm>
          <a:graphic>
            <a:graphicData uri="http://schemas.openxmlformats.org/presentationml/2006/ole">
              <p:oleObj progId="Word.Document.12" r:id="rId7" spid="">
                <p:embed/>
                <p:pic>
                  <p:nvPicPr>
                    <p:cNvPr id="51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638680" y="5329080"/>
                      <a:ext cx="1397160" cy="137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12" name=""/>
            <p:cNvSpPr/>
            <p:nvPr/>
          </p:nvSpPr>
          <p:spPr>
            <a:xfrm>
              <a:off x="4419720" y="4191120"/>
              <a:ext cx="44323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72000"/>
            </a:bodyPr>
            <a:p>
              <a:pPr marL="277560" indent="-277560">
                <a:lnSpc>
                  <a:spcPct val="9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Arial"/>
                </a:rPr>
                <a:t>Exclusive-Or (Xor)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  <a:p>
              <a:pPr lvl="1" marL="535680" indent="-176760">
                <a:lnSpc>
                  <a:spcPct val="100000"/>
                </a:lnSpc>
                <a:spcBef>
                  <a:spcPts val="624"/>
                </a:spcBef>
                <a:buClr>
                  <a:srgbClr val="660033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A^B = 1 when either A=1 or B=1, but not both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3" name=""/>
          <p:cNvGrpSpPr/>
          <p:nvPr/>
        </p:nvGrpSpPr>
        <p:grpSpPr>
          <a:xfrm>
            <a:off x="1539720" y="3228480"/>
            <a:ext cx="3048120" cy="1143360"/>
            <a:chOff x="1539720" y="3228480"/>
            <a:chExt cx="3048120" cy="1143360"/>
          </a:xfrm>
        </p:grpSpPr>
        <p:sp>
          <p:nvSpPr>
            <p:cNvPr id="514" name=""/>
            <p:cNvSpPr/>
            <p:nvPr/>
          </p:nvSpPr>
          <p:spPr>
            <a:xfrm flipV="1">
              <a:off x="1996920" y="3228480"/>
              <a:ext cx="1066680" cy="6094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996920" y="3838320"/>
              <a:ext cx="1066680" cy="5335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063600" y="3228840"/>
              <a:ext cx="1067040" cy="5331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V="1">
              <a:off x="3063600" y="3762000"/>
              <a:ext cx="1067040" cy="60984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438280" y="3276360"/>
              <a:ext cx="4730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454120" y="3990600"/>
              <a:ext cx="4730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~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216240" y="3276360"/>
              <a:ext cx="4730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~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232080" y="3990600"/>
              <a:ext cx="4730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130640" y="3762000"/>
              <a:ext cx="3045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692000" y="3838320"/>
              <a:ext cx="30492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539720" y="37620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435200" y="36860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26" name=""/>
          <p:cNvSpPr/>
          <p:nvPr/>
        </p:nvSpPr>
        <p:spPr>
          <a:xfrm>
            <a:off x="4956480" y="2895480"/>
            <a:ext cx="2719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Connection whe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&amp;~B | ~A&amp;B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pplication of Boolean Algebra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pplied to Digital Systems by Claude Shann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937 MIT Master’s Thesi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ason about networks of relay switch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ncode closed switch as 1, open switch as 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1676520" y="2743200"/>
            <a:ext cx="2819160" cy="838080"/>
            <a:chOff x="1676520" y="2743200"/>
            <a:chExt cx="2819160" cy="838080"/>
          </a:xfrm>
        </p:grpSpPr>
        <p:sp>
          <p:nvSpPr>
            <p:cNvPr id="530" name=""/>
            <p:cNvSpPr/>
            <p:nvPr/>
          </p:nvSpPr>
          <p:spPr>
            <a:xfrm>
              <a:off x="1676520" y="3124080"/>
              <a:ext cx="2819160" cy="457200"/>
            </a:xfrm>
            <a:custGeom>
              <a:avLst/>
              <a:gdLst/>
              <a:ahLst/>
              <a:rect l="l" t="t" r="r" b="b"/>
              <a:pathLst>
                <a:path w="1776" h="288">
                  <a:moveTo>
                    <a:pt x="0" y="288"/>
                  </a:moveTo>
                  <a:lnTo>
                    <a:pt x="288" y="288"/>
                  </a:lnTo>
                  <a:cubicBezTo>
                    <a:pt x="440" y="240"/>
                    <a:pt x="731" y="0"/>
                    <a:pt x="912" y="0"/>
                  </a:cubicBezTo>
                  <a:cubicBezTo>
                    <a:pt x="1093" y="0"/>
                    <a:pt x="1392" y="200"/>
                    <a:pt x="1536" y="240"/>
                  </a:cubicBezTo>
                  <a:lnTo>
                    <a:pt x="1776" y="240"/>
                  </a:lnTo>
                </a:path>
              </a:pathLst>
            </a:custGeom>
            <a:noFill/>
            <a:ln w="2844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816640" y="2743200"/>
              <a:ext cx="7200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A&amp;~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1600200" y="4038480"/>
            <a:ext cx="2819520" cy="874080"/>
            <a:chOff x="1600200" y="4038480"/>
            <a:chExt cx="2819520" cy="874080"/>
          </a:xfrm>
        </p:grpSpPr>
        <p:sp>
          <p:nvSpPr>
            <p:cNvPr id="533" name=""/>
            <p:cNvSpPr/>
            <p:nvPr/>
          </p:nvSpPr>
          <p:spPr>
            <a:xfrm flipV="1">
              <a:off x="1600200" y="4038480"/>
              <a:ext cx="2819520" cy="457200"/>
            </a:xfrm>
            <a:custGeom>
              <a:avLst/>
              <a:gdLst/>
              <a:ahLst/>
              <a:rect l="l" t="t" r="r" b="b"/>
              <a:pathLst>
                <a:path w="1776" h="288">
                  <a:moveTo>
                    <a:pt x="0" y="288"/>
                  </a:moveTo>
                  <a:lnTo>
                    <a:pt x="288" y="288"/>
                  </a:lnTo>
                  <a:cubicBezTo>
                    <a:pt x="440" y="240"/>
                    <a:pt x="731" y="0"/>
                    <a:pt x="912" y="0"/>
                  </a:cubicBezTo>
                  <a:cubicBezTo>
                    <a:pt x="1093" y="0"/>
                    <a:pt x="1392" y="200"/>
                    <a:pt x="1536" y="240"/>
                  </a:cubicBezTo>
                  <a:lnTo>
                    <a:pt x="1776" y="240"/>
                  </a:lnTo>
                </a:path>
              </a:pathLst>
            </a:custGeom>
            <a:noFill/>
            <a:ln w="2844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816640" y="4572000"/>
              <a:ext cx="7200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~A&amp;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35" name=""/>
          <p:cNvSpPr/>
          <p:nvPr/>
        </p:nvSpPr>
        <p:spPr>
          <a:xfrm>
            <a:off x="5105520" y="4495680"/>
            <a:ext cx="9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= A^B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80520" y="323640"/>
            <a:ext cx="7782120" cy="57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nteger Algebra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69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006640"/>
                <a:tab algn="l" pos="532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nteger Arithmetic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73120" indent="-2890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006640"/>
                <a:tab algn="l" pos="532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Z, +, *, –, 0, 1</a:t>
            </a: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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forms a “ring”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3120" indent="-289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006640"/>
                <a:tab algn="l" pos="532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ition is “sum” oper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3120" indent="-289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006640"/>
                <a:tab algn="l" pos="532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ltiplication is “product” oper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3120" indent="-289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006640"/>
                <a:tab algn="l" pos="532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–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s additive invers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3120" indent="-289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006640"/>
                <a:tab algn="l" pos="532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 is identity for su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3120" indent="-289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006640"/>
                <a:tab algn="l" pos="532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 is identity for produc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80520" y="323640"/>
            <a:ext cx="7782120" cy="57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oolean Algebra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319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69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006640"/>
                <a:tab algn="l" pos="532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oolean Algebra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73120" indent="-2890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006640"/>
                <a:tab algn="l" pos="532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{0,1}, |, &amp;, ~, 0, 1</a:t>
            </a: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orms a “Boolean algebra”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3120" indent="-289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006640"/>
                <a:tab algn="l" pos="532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r is “sum” oper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3120" indent="-289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006640"/>
                <a:tab algn="l" pos="532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nd is “product” oper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3120" indent="-289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006640"/>
                <a:tab algn="l" pos="532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~ is “complement” operation (not additive inverse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3120" indent="-289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006640"/>
                <a:tab algn="l" pos="532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 is identity for su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3120" indent="-289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006640"/>
                <a:tab algn="l" pos="532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 is identity for produc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3120" indent="0">
              <a:spcBef>
                <a:spcPts val="624"/>
              </a:spcBef>
              <a:buNone/>
              <a:tabLst>
                <a:tab algn="l" pos="2006640"/>
                <a:tab algn="l" pos="532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169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006640"/>
                <a:tab algn="l" pos="532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75960" y="871560"/>
            <a:ext cx="883908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lvl="1" marL="555840" indent="-28008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1143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Commutativit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58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43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| B    =  B | 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+ B  =  B + 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58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43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&amp; B    =  B &amp; 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* B  =  B * 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5840" indent="-28008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1143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Associativit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58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43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A |  B)  | C    =  A | (B | C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A + B) + C  =  A + (B + C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58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43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A &amp; B) &amp; C    =  A &amp; (B &amp; C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A * B) * C  =  A * (B * C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5840" indent="-28008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1143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Product distributes over su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58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43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&amp; (B | C)  =  (A &amp; B) | (A &amp; C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* (B + C)  =  A * B + B * 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5840" indent="-28008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1143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um and product identiti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58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43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| 0  =  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+ 0  =  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58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43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&amp; 1  =  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* 1  = A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5840" indent="-28008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1143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Zero is product annihilato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58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43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&amp; 0  =  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* 0  =  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5840" indent="-28008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1143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Cancellation of neg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58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43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~ (~ A) =  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– (– A)  =  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838080" y="228600"/>
            <a:ext cx="67820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359424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Boolean Algebra 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3300"/>
                </a:solidFill>
                <a:latin typeface="Symbol"/>
                <a:ea typeface="Symbol"/>
              </a:rPr>
              <a:t>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Integer Ring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952280" y="323640"/>
            <a:ext cx="5280120" cy="57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75960" y="837720"/>
            <a:ext cx="8762760" cy="522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lvl="1" marL="550080" indent="-27720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3000"/>
                <a:tab algn="l" pos="49212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oolean: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um distributes over produc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0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43000"/>
                <a:tab algn="l" pos="49212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| (B &amp; C)  =  (A | B) &amp; (A | C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+ (B * C) 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(A + B) * (B + C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0080" indent="-27720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1143000"/>
                <a:tab algn="l" pos="49212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oolean: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Idempotenc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0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43000"/>
                <a:tab algn="l" pos="49212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| A  =  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 + A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21160" indent="-158400">
              <a:lnSpc>
                <a:spcPct val="97000"/>
              </a:lnSpc>
              <a:spcBef>
                <a:spcPts val="224"/>
              </a:spcBef>
              <a:buClr>
                <a:srgbClr val="003300"/>
              </a:buClr>
              <a:buSzPct val="90000"/>
              <a:buFont typeface="Wingdings" charset="2"/>
              <a:buChar char=""/>
              <a:tabLst>
                <a:tab algn="l" pos="1143000"/>
                <a:tab algn="l" pos="49212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 is true” or “A is true” = “A is true”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50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43000"/>
                <a:tab algn="l" pos="49212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&amp; A  =  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 * A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0080" indent="-27720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1143000"/>
                <a:tab algn="l" pos="49212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oolean: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Absorp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0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43000"/>
                <a:tab algn="l" pos="49212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| (A &amp; B)  =  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+ (A * B)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21160" indent="-158400">
              <a:lnSpc>
                <a:spcPct val="97000"/>
              </a:lnSpc>
              <a:spcBef>
                <a:spcPts val="224"/>
              </a:spcBef>
              <a:buClr>
                <a:srgbClr val="003300"/>
              </a:buClr>
              <a:buSzPct val="90000"/>
              <a:buFont typeface="Wingdings" charset="2"/>
              <a:buChar char=""/>
              <a:tabLst>
                <a:tab algn="l" pos="1143000"/>
                <a:tab algn="l" pos="49212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 is true” or “A is true and B is true” = “A is true”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50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43000"/>
                <a:tab algn="l" pos="49212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&amp; (A | B)  =  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* (A + B)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0080" indent="-27720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1143000"/>
                <a:tab algn="l" pos="49212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oolean: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Laws of Complemen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0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43000"/>
                <a:tab algn="l" pos="49212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| ~A  =  1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 + –A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21160" indent="-158400">
              <a:lnSpc>
                <a:spcPct val="97000"/>
              </a:lnSpc>
              <a:spcBef>
                <a:spcPts val="224"/>
              </a:spcBef>
              <a:buClr>
                <a:srgbClr val="003300"/>
              </a:buClr>
              <a:buSzPct val="90000"/>
              <a:buFont typeface="Wingdings" charset="2"/>
              <a:buChar char=""/>
              <a:tabLst>
                <a:tab algn="l" pos="1143000"/>
                <a:tab algn="l" pos="49212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 is true” or “A is false”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50080" indent="-27720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1143000"/>
                <a:tab algn="l" pos="49212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ing: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Every element has additive invers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0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43000"/>
                <a:tab algn="l" pos="49212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| ~A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+ –A = 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066680" y="228600"/>
            <a:ext cx="67820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359424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Boolean Algebra 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3300"/>
                </a:solidFill>
                <a:latin typeface="Symbol"/>
                <a:ea typeface="Symbol"/>
              </a:rPr>
              <a:t>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Integer Ring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809520" y="457200"/>
            <a:ext cx="66582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perties of &amp; and ^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304920" y="45720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1494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657600"/>
                <a:tab algn="l" pos="5537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oolean Ring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04000" indent="-25416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657600"/>
                <a:tab algn="l" pos="5537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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{0,1}, ^, &amp;,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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0, 1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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04000" indent="-2541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657600"/>
                <a:tab algn="l" pos="5537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dentical to integers mod 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04000" indent="-2541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657600"/>
                <a:tab algn="l" pos="5537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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s identity operation: </a:t>
            </a:r>
            <a:r>
              <a:rPr b="1" i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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A) = 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75276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3657600"/>
                <a:tab algn="l" pos="5537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 ^ A = 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1494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657600"/>
                <a:tab algn="l" pos="5537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perty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oolean Ring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04000" indent="-254160">
              <a:spcBef>
                <a:spcPts val="624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3657600"/>
                <a:tab algn="l" pos="5537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mutative sum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^ B  =  B ^ 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04000" indent="-254160">
              <a:spcBef>
                <a:spcPts val="624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3657600"/>
                <a:tab algn="l" pos="5537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mutative produc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&amp; B  =  B &amp; 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04000" indent="-254160">
              <a:spcBef>
                <a:spcPts val="624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3657600"/>
                <a:tab algn="l" pos="5537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ssociative sum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A ^ B) ^ C  =  A ^ (B ^ C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04000" indent="-254160">
              <a:spcBef>
                <a:spcPts val="624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3657600"/>
                <a:tab algn="l" pos="5537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ssociative produc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A &amp; B) &amp; C  =  A &amp; (B &amp; C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04000" indent="-254160">
              <a:spcBef>
                <a:spcPts val="624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3657600"/>
                <a:tab algn="l" pos="5537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d. over sum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&amp; (B ^ C)  =  (A &amp; B) ^ (B &amp; C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04000" indent="-254160">
              <a:spcBef>
                <a:spcPts val="624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3657600"/>
                <a:tab algn="l" pos="5537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 is sum identity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^ 0  =  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04000" indent="-254160">
              <a:spcBef>
                <a:spcPts val="624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3657600"/>
                <a:tab algn="l" pos="5537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 is prod. identity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&amp; 1  =  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04000" indent="-254160">
              <a:spcBef>
                <a:spcPts val="624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3657600"/>
                <a:tab algn="l" pos="5537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 is product annihilator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&amp; 0 = 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04000" indent="-254160">
              <a:spcBef>
                <a:spcPts val="624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3657600"/>
                <a:tab algn="l" pos="5537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itive invers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^ A  =  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lations Between Opera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eMorgan’s Law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press &amp; in terms of |, and vice-vers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 &amp; B  =  ~(~A | ~B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 and B are true if and only if neither A nor B is fals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 | B  =  ~(~A &amp; ~B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 or B are true if and only if A and B are not both fals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clusive-Or using Inclusive O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 ^ B  =  (~A &amp; B) | (A &amp; ~B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xactly one of A and B is tru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 ^ B  =  (A | B) &amp; ~(A &amp; B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ither A is true, or B is true, but not both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6840" y="323640"/>
            <a:ext cx="7056360" cy="57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General Boolean Algebra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290520" y="1220400"/>
            <a:ext cx="8167680" cy="492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1255680"/>
                <a:tab algn="l" pos="1774800"/>
                <a:tab algn="l" pos="4113360"/>
                <a:tab algn="l" pos="5484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perate on Bit Vecto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1255680"/>
                <a:tab algn="l" pos="1774800"/>
                <a:tab algn="l" pos="4113360"/>
                <a:tab algn="l" pos="5484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255680"/>
                <a:tab algn="l" pos="1774800"/>
                <a:tab algn="l" pos="4113360"/>
                <a:tab algn="l" pos="5484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perations applied bitwis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1255680"/>
                <a:tab algn="l" pos="1774800"/>
                <a:tab algn="l" pos="4113360"/>
                <a:tab algn="l" pos="5484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1255680"/>
                <a:tab algn="l" pos="1774800"/>
                <a:tab algn="l" pos="4113360"/>
                <a:tab algn="l" pos="5484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1255680"/>
                <a:tab algn="l" pos="1774800"/>
                <a:tab algn="l" pos="4113360"/>
                <a:tab algn="l" pos="5484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1255680"/>
                <a:tab algn="l" pos="1774800"/>
                <a:tab algn="l" pos="4113360"/>
                <a:tab algn="l" pos="5484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ll of the Properties of Boolean Algebra Appl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1255680"/>
                <a:tab algn="l" pos="1774800"/>
                <a:tab algn="l" pos="4113360"/>
                <a:tab algn="l" pos="5484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0">
              <a:lnSpc>
                <a:spcPct val="97000"/>
              </a:lnSpc>
              <a:spcBef>
                <a:spcPts val="224"/>
              </a:spcBef>
              <a:buNone/>
              <a:tabLst>
                <a:tab algn="l" pos="1255680"/>
                <a:tab algn="l" pos="1774800"/>
                <a:tab algn="l" pos="4113360"/>
                <a:tab algn="l" pos="5484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763560" y="2666880"/>
            <a:ext cx="1704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110100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&amp; 0101010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0100000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838080" y="3298680"/>
            <a:ext cx="152424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592360" y="2666880"/>
            <a:ext cx="1704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110100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| 0101010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0111110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666880" y="3298680"/>
            <a:ext cx="152424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421160" y="2666880"/>
            <a:ext cx="1704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110100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^ 0101010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0011110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0" y="3298680"/>
            <a:ext cx="152388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325920" y="2666880"/>
            <a:ext cx="1704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~ 0101010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1010101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400800" y="3298680"/>
            <a:ext cx="160020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63560" y="3352680"/>
            <a:ext cx="17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0100000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897280" y="33526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0111110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726080" y="33526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0011110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630840" y="33526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1010101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6840" y="323640"/>
            <a:ext cx="8001000" cy="57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presenting &amp; Manipulating Set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290520" y="1220400"/>
            <a:ext cx="8167680" cy="492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8196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1255680"/>
                <a:tab algn="l" pos="1774800"/>
                <a:tab algn="l" pos="4113360"/>
                <a:tab algn="l" pos="5484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present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255680"/>
                <a:tab algn="l" pos="1774800"/>
                <a:tab algn="l" pos="4113360"/>
                <a:tab algn="l" pos="5484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idth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w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it vector represents subsets of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{0, …,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–1}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255680"/>
                <a:tab algn="l" pos="1774800"/>
                <a:tab algn="l" pos="4113360"/>
                <a:tab algn="l" pos="5484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0" i="1" lang="en-US" sz="20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= 1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f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4720" indent="0">
              <a:lnSpc>
                <a:spcPct val="97000"/>
              </a:lnSpc>
              <a:spcBef>
                <a:spcPts val="224"/>
              </a:spcBef>
              <a:buNone/>
              <a:tabLst>
                <a:tab algn="l" pos="0"/>
                <a:tab algn="l" pos="1255680"/>
                <a:tab algn="l" pos="1774800"/>
                <a:tab algn="l" pos="4113360"/>
                <a:tab algn="l" pos="5484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01101001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{ 0, 3, 5, 6 }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4720" indent="0">
              <a:lnSpc>
                <a:spcPct val="97000"/>
              </a:lnSpc>
              <a:spcBef>
                <a:spcPts val="249"/>
              </a:spcBef>
              <a:buNone/>
              <a:tabLst>
                <a:tab algn="l" pos="0"/>
                <a:tab algn="l" pos="1255680"/>
                <a:tab algn="l" pos="1774800"/>
                <a:tab algn="l" pos="4113360"/>
                <a:tab algn="l" pos="5484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69696"/>
                </a:solidFill>
                <a:latin typeface="Courier New"/>
              </a:rPr>
              <a:t>7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65</a:t>
            </a:r>
            <a:r>
              <a:rPr b="1" lang="en-US" sz="2000" spc="-1" strike="noStrike">
                <a:solidFill>
                  <a:srgbClr val="969696"/>
                </a:solidFill>
                <a:latin typeface="Courier New"/>
              </a:rPr>
              <a:t>4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3</a:t>
            </a:r>
            <a:r>
              <a:rPr b="1" lang="en-US" sz="2000" spc="-1" strike="noStrike">
                <a:solidFill>
                  <a:srgbClr val="969696"/>
                </a:solidFill>
                <a:latin typeface="Courier New"/>
              </a:rPr>
              <a:t>21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0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34720" indent="0">
              <a:lnSpc>
                <a:spcPct val="97000"/>
              </a:lnSpc>
              <a:spcBef>
                <a:spcPts val="249"/>
              </a:spcBef>
              <a:buNone/>
              <a:tabLst>
                <a:tab algn="l" pos="0"/>
                <a:tab algn="l" pos="1255680"/>
                <a:tab algn="l" pos="1774800"/>
                <a:tab algn="l" pos="4113360"/>
                <a:tab algn="l" pos="5484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34720" indent="0">
              <a:lnSpc>
                <a:spcPct val="97000"/>
              </a:lnSpc>
              <a:spcBef>
                <a:spcPts val="224"/>
              </a:spcBef>
              <a:buNone/>
              <a:tabLst>
                <a:tab algn="l" pos="0"/>
                <a:tab algn="l" pos="1255680"/>
                <a:tab algn="l" pos="1774800"/>
                <a:tab algn="l" pos="4113360"/>
                <a:tab algn="l" pos="5484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01010101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{ 0, 2, 4, 6 }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4720" indent="0">
              <a:lnSpc>
                <a:spcPct val="97000"/>
              </a:lnSpc>
              <a:spcBef>
                <a:spcPts val="249"/>
              </a:spcBef>
              <a:buNone/>
              <a:tabLst>
                <a:tab algn="l" pos="0"/>
                <a:tab algn="l" pos="1255680"/>
                <a:tab algn="l" pos="1774800"/>
                <a:tab algn="l" pos="4113360"/>
                <a:tab algn="l" pos="5484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69696"/>
                </a:solidFill>
                <a:latin typeface="Courier New"/>
              </a:rPr>
              <a:t>7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6</a:t>
            </a:r>
            <a:r>
              <a:rPr b="1" lang="en-US" sz="2000" spc="-1" strike="noStrike">
                <a:solidFill>
                  <a:srgbClr val="969696"/>
                </a:solidFill>
                <a:latin typeface="Courier New"/>
              </a:rPr>
              <a:t>5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4</a:t>
            </a:r>
            <a:r>
              <a:rPr b="1" lang="en-US" sz="2000" spc="-1" strike="noStrike">
                <a:solidFill>
                  <a:srgbClr val="969696"/>
                </a:solidFill>
                <a:latin typeface="Courier New"/>
              </a:rPr>
              <a:t>3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2</a:t>
            </a:r>
            <a:r>
              <a:rPr b="1" lang="en-US" sz="2000" spc="-1" strike="noStrike">
                <a:solidFill>
                  <a:srgbClr val="969696"/>
                </a:solidFill>
                <a:latin typeface="Courier New"/>
              </a:rPr>
              <a:t>1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0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8196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1255680"/>
                <a:tab algn="l" pos="1774800"/>
                <a:tab algn="l" pos="4113360"/>
                <a:tab algn="l" pos="5484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pera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255680"/>
                <a:tab algn="l" pos="1774800"/>
                <a:tab algn="l" pos="4113360"/>
                <a:tab algn="l" pos="5484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&amp;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tersectio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1000001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{ 0, 6 }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255680"/>
                <a:tab algn="l" pos="1774800"/>
                <a:tab algn="l" pos="4113360"/>
                <a:tab algn="l" pos="5484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|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nio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1111101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{ 0, 2, 3, 4, 5, 6 }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255680"/>
                <a:tab algn="l" pos="1774800"/>
                <a:tab algn="l" pos="4113360"/>
                <a:tab algn="l" pos="5484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^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ymmetric differenc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0111100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{ 2, 3, 4, 5 }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255680"/>
                <a:tab algn="l" pos="1774800"/>
                <a:tab algn="l" pos="4113360"/>
                <a:tab algn="l" pos="5484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~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lemen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0101010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{ 1, 3, 5, 7 }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1255680"/>
                <a:tab algn="l" pos="1774800"/>
                <a:tab algn="l" pos="4113360"/>
                <a:tab algn="l" pos="5484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4720" indent="0">
              <a:lnSpc>
                <a:spcPct val="97000"/>
              </a:lnSpc>
              <a:spcBef>
                <a:spcPts val="224"/>
              </a:spcBef>
              <a:buNone/>
              <a:tabLst>
                <a:tab algn="l" pos="1255680"/>
                <a:tab algn="l" pos="1774800"/>
                <a:tab algn="l" pos="4113360"/>
                <a:tab algn="l" pos="5484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inary Representa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marL="300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ase 2 Number Represent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80680" indent="-1915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present 15213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1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s 11101101101101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80680" indent="-1915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present 1.20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1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s 1.0011001100110011[0011]…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80680" indent="-1915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present 1.5213 X 10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as 1.1101101101101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X 2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</a:rPr>
              <a:t>13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00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lectronic Implement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80680" indent="-1915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sy to store with bistable elemen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80680" indent="-1915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liably transmitted on noisy and inaccurate wires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00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00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00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00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00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00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80680" indent="-1915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raightforward implementation of arithmetic func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763920" y="4114800"/>
            <a:ext cx="6856200" cy="2197080"/>
            <a:chOff x="763920" y="4114800"/>
            <a:chExt cx="6856200" cy="2197080"/>
          </a:xfrm>
        </p:grpSpPr>
        <p:sp>
          <p:nvSpPr>
            <p:cNvPr id="87" name=""/>
            <p:cNvSpPr/>
            <p:nvPr/>
          </p:nvSpPr>
          <p:spPr>
            <a:xfrm>
              <a:off x="1676520" y="5715000"/>
              <a:ext cx="5943600" cy="381240"/>
            </a:xfrm>
            <a:prstGeom prst="rect">
              <a:avLst/>
            </a:prstGeom>
            <a:solidFill>
              <a:srgbClr val="00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676520" y="4724640"/>
              <a:ext cx="5943600" cy="380880"/>
            </a:xfrm>
            <a:prstGeom prst="rect">
              <a:avLst/>
            </a:prstGeom>
            <a:solidFill>
              <a:srgbClr val="00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676520" y="4883400"/>
              <a:ext cx="5924520" cy="1136520"/>
            </a:xfrm>
            <a:custGeom>
              <a:avLst/>
              <a:gdLst/>
              <a:ahLst/>
              <a:rect l="l" t="t" r="r" b="b"/>
              <a:pathLst>
                <a:path w="3578" h="716">
                  <a:moveTo>
                    <a:pt x="0" y="706"/>
                  </a:moveTo>
                  <a:cubicBezTo>
                    <a:pt x="54" y="694"/>
                    <a:pt x="101" y="657"/>
                    <a:pt x="157" y="653"/>
                  </a:cubicBezTo>
                  <a:cubicBezTo>
                    <a:pt x="202" y="649"/>
                    <a:pt x="248" y="646"/>
                    <a:pt x="294" y="643"/>
                  </a:cubicBezTo>
                  <a:cubicBezTo>
                    <a:pt x="377" y="658"/>
                    <a:pt x="462" y="670"/>
                    <a:pt x="547" y="685"/>
                  </a:cubicBezTo>
                  <a:cubicBezTo>
                    <a:pt x="628" y="655"/>
                    <a:pt x="660" y="660"/>
                    <a:pt x="768" y="653"/>
                  </a:cubicBezTo>
                  <a:cubicBezTo>
                    <a:pt x="792" y="648"/>
                    <a:pt x="875" y="632"/>
                    <a:pt x="894" y="632"/>
                  </a:cubicBezTo>
                  <a:cubicBezTo>
                    <a:pt x="938" y="632"/>
                    <a:pt x="977" y="659"/>
                    <a:pt x="1021" y="664"/>
                  </a:cubicBezTo>
                  <a:cubicBezTo>
                    <a:pt x="1073" y="669"/>
                    <a:pt x="1125" y="670"/>
                    <a:pt x="1178" y="674"/>
                  </a:cubicBezTo>
                  <a:cubicBezTo>
                    <a:pt x="1209" y="670"/>
                    <a:pt x="1241" y="669"/>
                    <a:pt x="1273" y="664"/>
                  </a:cubicBezTo>
                  <a:cubicBezTo>
                    <a:pt x="1284" y="662"/>
                    <a:pt x="1298" y="661"/>
                    <a:pt x="1305" y="653"/>
                  </a:cubicBezTo>
                  <a:cubicBezTo>
                    <a:pt x="1324" y="628"/>
                    <a:pt x="1329" y="595"/>
                    <a:pt x="1347" y="569"/>
                  </a:cubicBezTo>
                  <a:cubicBezTo>
                    <a:pt x="1416" y="462"/>
                    <a:pt x="1419" y="362"/>
                    <a:pt x="1463" y="253"/>
                  </a:cubicBezTo>
                  <a:cubicBezTo>
                    <a:pt x="1480" y="209"/>
                    <a:pt x="1520" y="153"/>
                    <a:pt x="1547" y="116"/>
                  </a:cubicBezTo>
                  <a:cubicBezTo>
                    <a:pt x="1568" y="86"/>
                    <a:pt x="1605" y="60"/>
                    <a:pt x="1642" y="53"/>
                  </a:cubicBezTo>
                  <a:cubicBezTo>
                    <a:pt x="1704" y="40"/>
                    <a:pt x="1831" y="21"/>
                    <a:pt x="1831" y="21"/>
                  </a:cubicBezTo>
                  <a:cubicBezTo>
                    <a:pt x="1897" y="24"/>
                    <a:pt x="1964" y="26"/>
                    <a:pt x="2031" y="32"/>
                  </a:cubicBezTo>
                  <a:cubicBezTo>
                    <a:pt x="2045" y="33"/>
                    <a:pt x="2058" y="42"/>
                    <a:pt x="2073" y="42"/>
                  </a:cubicBezTo>
                  <a:cubicBezTo>
                    <a:pt x="2130" y="42"/>
                    <a:pt x="2194" y="20"/>
                    <a:pt x="2252" y="11"/>
                  </a:cubicBezTo>
                  <a:cubicBezTo>
                    <a:pt x="2274" y="17"/>
                    <a:pt x="2292" y="35"/>
                    <a:pt x="2315" y="42"/>
                  </a:cubicBezTo>
                  <a:cubicBezTo>
                    <a:pt x="2338" y="49"/>
                    <a:pt x="2364" y="49"/>
                    <a:pt x="2389" y="53"/>
                  </a:cubicBezTo>
                  <a:cubicBezTo>
                    <a:pt x="2450" y="36"/>
                    <a:pt x="2493" y="31"/>
                    <a:pt x="2557" y="42"/>
                  </a:cubicBezTo>
                  <a:cubicBezTo>
                    <a:pt x="2578" y="49"/>
                    <a:pt x="2598" y="71"/>
                    <a:pt x="2620" y="64"/>
                  </a:cubicBezTo>
                  <a:cubicBezTo>
                    <a:pt x="2654" y="52"/>
                    <a:pt x="2679" y="18"/>
                    <a:pt x="2715" y="11"/>
                  </a:cubicBezTo>
                  <a:cubicBezTo>
                    <a:pt x="2732" y="7"/>
                    <a:pt x="2750" y="3"/>
                    <a:pt x="2768" y="0"/>
                  </a:cubicBezTo>
                  <a:cubicBezTo>
                    <a:pt x="2929" y="161"/>
                    <a:pt x="2957" y="167"/>
                    <a:pt x="3041" y="411"/>
                  </a:cubicBezTo>
                  <a:cubicBezTo>
                    <a:pt x="3071" y="498"/>
                    <a:pt x="3069" y="597"/>
                    <a:pt x="3157" y="643"/>
                  </a:cubicBezTo>
                  <a:cubicBezTo>
                    <a:pt x="3289" y="619"/>
                    <a:pt x="3221" y="590"/>
                    <a:pt x="3347" y="716"/>
                  </a:cubicBezTo>
                  <a:cubicBezTo>
                    <a:pt x="3378" y="712"/>
                    <a:pt x="3411" y="716"/>
                    <a:pt x="3441" y="706"/>
                  </a:cubicBezTo>
                  <a:cubicBezTo>
                    <a:pt x="3452" y="701"/>
                    <a:pt x="3452" y="681"/>
                    <a:pt x="3462" y="674"/>
                  </a:cubicBezTo>
                  <a:cubicBezTo>
                    <a:pt x="3489" y="652"/>
                    <a:pt x="3545" y="653"/>
                    <a:pt x="3578" y="653"/>
                  </a:cubicBezTo>
                </a:path>
              </a:pathLst>
            </a:custGeom>
            <a:noFill/>
            <a:ln w="255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1447560" y="6096240"/>
              <a:ext cx="2286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447560" y="4724640"/>
              <a:ext cx="2286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63920" y="59436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0.0V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63920" y="55627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0.5V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63920" y="4953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2.8V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63920" y="45720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3.3V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676520" y="4267440"/>
              <a:ext cx="220968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191120" y="4267440"/>
              <a:ext cx="22860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781680" y="4267440"/>
              <a:ext cx="76212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86200" y="4191120"/>
              <a:ext cx="0" cy="16002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191120" y="4191120"/>
              <a:ext cx="0" cy="9144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77120" y="4191120"/>
              <a:ext cx="0" cy="9144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781680" y="4191120"/>
              <a:ext cx="0" cy="15238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514600" y="4114800"/>
              <a:ext cx="4730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52880" y="4114800"/>
              <a:ext cx="4730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010280" y="4114800"/>
              <a:ext cx="304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1447560" y="5715000"/>
              <a:ext cx="2286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1447560" y="5105520"/>
              <a:ext cx="2286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09120" y="323640"/>
            <a:ext cx="6777000" cy="57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it-Level Operations in C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704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577960"/>
                <a:tab algn="l" pos="320040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perations &amp;,  |,  ~,  ^ Available in C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577960"/>
                <a:tab algn="l" pos="320040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pply to any “integral” data typ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00160" indent="-2286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577960"/>
                <a:tab algn="l" pos="320040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long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short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cha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577960"/>
                <a:tab algn="l" pos="320040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iew arguments as bit vecto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577960"/>
                <a:tab algn="l" pos="320040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rguments applied bit-wis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704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577960"/>
                <a:tab algn="l" pos="320040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mples (Char data type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14600" indent="-23580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577960"/>
                <a:tab algn="l" pos="320040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~0x41 --&gt;  0xB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0016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2577960"/>
                <a:tab algn="l" pos="320040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~01000001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--&gt;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10111110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Courier New"/>
              </a:rPr>
              <a:t>2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14600" indent="-23580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577960"/>
                <a:tab algn="l" pos="320040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~0x00 --&gt;  0xFF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0016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2577960"/>
                <a:tab algn="l" pos="320040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~00000000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--&gt;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11111111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Courier New"/>
              </a:rPr>
              <a:t>2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14600" indent="-23580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577960"/>
                <a:tab algn="l" pos="320040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x69 &amp; 0x55  --&gt;  0x4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0016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2577960"/>
                <a:tab algn="l" pos="320040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01101001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 &amp; 01010101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 --&gt; 01000001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Courier New"/>
              </a:rPr>
              <a:t>2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14600" indent="-23580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577960"/>
                <a:tab algn="l" pos="320040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x69 | 0x55  --&gt;  0x7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0016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2577960"/>
                <a:tab algn="l" pos="320040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01101001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 | 01010101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 --&gt; 01111101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Courier New"/>
              </a:rPr>
              <a:t>2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0016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2577960"/>
                <a:tab algn="l" pos="320040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6840" y="323640"/>
            <a:ext cx="7653240" cy="57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trast: Logic Operations in C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90160" y="1220760"/>
            <a:ext cx="589428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585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998720"/>
                <a:tab algn="l" pos="257328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trast to Logical Operato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2280" indent="-22860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998720"/>
                <a:tab algn="l" pos="257328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&amp;&amp;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||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!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65960" indent="-2214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998720"/>
                <a:tab algn="l" pos="257328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View 0 as “False”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65960" indent="-2214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998720"/>
                <a:tab algn="l" pos="257328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nything nonzero as “True”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65960" indent="-2214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998720"/>
                <a:tab algn="l" pos="257328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lways return 0 or 1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65960" indent="-2214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998720"/>
                <a:tab algn="l" pos="257328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arly termina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585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998720"/>
                <a:tab algn="l" pos="257328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mples (char data type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2280" indent="-22860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998720"/>
                <a:tab algn="l" pos="257328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!0x41  --&gt;  0x0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22860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998720"/>
                <a:tab algn="l" pos="257328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!0x00  --&gt;  0x0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22860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998720"/>
                <a:tab algn="l" pos="257328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!!0x41 --&gt;  0x0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1998720"/>
                <a:tab algn="l" pos="257328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22860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998720"/>
                <a:tab algn="l" pos="257328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x69 &amp;&amp; 0x55  --&gt;  0x0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22860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998720"/>
                <a:tab algn="l" pos="257328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x69 || 0x55  --&gt;  0x0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22860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998720"/>
                <a:tab algn="l" pos="257328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 &amp;&amp; *p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voids null pointer access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0">
              <a:spcBef>
                <a:spcPts val="624"/>
              </a:spcBef>
              <a:buNone/>
              <a:tabLst>
                <a:tab algn="l" pos="1998720"/>
                <a:tab algn="l" pos="257328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80520" y="323640"/>
            <a:ext cx="6053400" cy="57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hift Opera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96728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7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065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eft Shift: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x &lt;&lt; 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9360" indent="-2408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065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hift bit-vecto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left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y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posi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23200" indent="-2332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065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hrow away extra bits on lef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23200" indent="-2332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065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ill with 0’s on righ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7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065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ight Shift: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x &gt;&gt; 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9360" indent="-2408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065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hift bit-vecto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right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y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posi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23200" indent="-2332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065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hrow away extra bits on righ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29360" indent="-2408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065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gical shif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23200" indent="-2332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065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ill with 0’s on lef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29360" indent="-2408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065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rithmetic shif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23200" indent="-2332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065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plicate most significant bit on righ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23200" indent="-2332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065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seful with two’s complement integer representa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2320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2065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781680" y="137160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110001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410080" y="137160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rgument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781680" y="182880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00010</a:t>
            </a:r>
            <a:r>
              <a:rPr b="1" i="1" lang="en-US" sz="1800" spc="-1" strike="noStrike">
                <a:solidFill>
                  <a:srgbClr val="ffffff"/>
                </a:solidFill>
                <a:latin typeface="Courier New"/>
              </a:rPr>
              <a:t>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410080" y="182880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&lt;&lt; 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781680" y="228600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urier New"/>
              </a:rPr>
              <a:t>00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011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410080" y="228600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og.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&gt;&gt; 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781680" y="274320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urier New"/>
              </a:rPr>
              <a:t>00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011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410080" y="274320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rith.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&gt;&gt; 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781680" y="358128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010001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410080" y="358128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rgument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781680" y="403848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00010</a:t>
            </a:r>
            <a:r>
              <a:rPr b="1" i="1" lang="en-US" sz="1800" spc="-1" strike="noStrike">
                <a:solidFill>
                  <a:srgbClr val="ffffff"/>
                </a:solidFill>
                <a:latin typeface="Courier New"/>
              </a:rPr>
              <a:t>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410080" y="403848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&lt;&lt; 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781680" y="449568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urier New"/>
              </a:rPr>
              <a:t>00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101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410080" y="449568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og.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&gt;&gt; 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781680" y="495288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urier New"/>
              </a:rPr>
              <a:t>11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101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410080" y="495288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rith.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&gt;&gt; 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781680" y="182880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0010</a:t>
            </a:r>
            <a:r>
              <a:rPr b="1" i="1" lang="en-US" sz="1800" spc="-1" strike="noStrike">
                <a:solidFill>
                  <a:srgbClr val="ffffff"/>
                </a:solidFill>
                <a:latin typeface="Courier New"/>
              </a:rPr>
              <a:t>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781680" y="182880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0010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781680" y="228600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urier New"/>
              </a:rPr>
              <a:t>0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11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781680" y="228600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0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11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781680" y="274320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urier New"/>
              </a:rPr>
              <a:t>0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11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781680" y="274320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0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11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781680" y="403848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0010</a:t>
            </a:r>
            <a:r>
              <a:rPr b="1" i="1" lang="en-US" sz="1800" spc="-1" strike="noStrike">
                <a:solidFill>
                  <a:srgbClr val="ffffff"/>
                </a:solidFill>
                <a:latin typeface="Courier New"/>
              </a:rPr>
              <a:t>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781680" y="449568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urier New"/>
              </a:rPr>
              <a:t>0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01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781680" y="495288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urier New"/>
              </a:rPr>
              <a:t>1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01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781680" y="403848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0010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781680" y="449568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0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01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781680" y="495288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1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01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837720" y="323640"/>
            <a:ext cx="5875560" cy="57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ol Stuff with Xor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343400" y="1447920"/>
            <a:ext cx="4267080" cy="213336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void funny(int *x, int *y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*x = *x ^ *y;    /* #1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*y = *x ^ *y;    /* #2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*x = *x ^ *y;    /* #3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3365280" cy="19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itwise Xor is form of addi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ith extra property that every value is its own additive invers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0016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 ^ A = 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1460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4952880" y="4343400"/>
            <a:ext cx="2210040" cy="3808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743200" y="4343400"/>
            <a:ext cx="2209680" cy="3808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828800" y="4343400"/>
            <a:ext cx="914400" cy="380880"/>
          </a:xfrm>
          <a:prstGeom prst="rect">
            <a:avLst/>
          </a:prstGeom>
          <a:solidFill>
            <a:srgbClr val="ffc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2743200" y="4724280"/>
            <a:ext cx="4419720" cy="381240"/>
            <a:chOff x="2743200" y="4724280"/>
            <a:chExt cx="4419720" cy="381240"/>
          </a:xfrm>
        </p:grpSpPr>
        <p:sp>
          <p:nvSpPr>
            <p:cNvPr id="607" name=""/>
            <p:cNvSpPr/>
            <p:nvPr/>
          </p:nvSpPr>
          <p:spPr>
            <a:xfrm>
              <a:off x="4952880" y="4724280"/>
              <a:ext cx="2210040" cy="38124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743200" y="4724280"/>
              <a:ext cx="2209680" cy="38124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^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09" name=""/>
          <p:cNvSpPr/>
          <p:nvPr/>
        </p:nvSpPr>
        <p:spPr>
          <a:xfrm>
            <a:off x="1828800" y="4724280"/>
            <a:ext cx="914400" cy="381240"/>
          </a:xfrm>
          <a:prstGeom prst="rect">
            <a:avLst/>
          </a:prstGeom>
          <a:solidFill>
            <a:srgbClr val="ffc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10" name=""/>
          <p:cNvGrpSpPr/>
          <p:nvPr/>
        </p:nvGrpSpPr>
        <p:grpSpPr>
          <a:xfrm>
            <a:off x="2743200" y="5105520"/>
            <a:ext cx="4419720" cy="380880"/>
            <a:chOff x="2743200" y="5105520"/>
            <a:chExt cx="4419720" cy="380880"/>
          </a:xfrm>
        </p:grpSpPr>
        <p:sp>
          <p:nvSpPr>
            <p:cNvPr id="611" name=""/>
            <p:cNvSpPr/>
            <p:nvPr/>
          </p:nvSpPr>
          <p:spPr>
            <a:xfrm>
              <a:off x="4952880" y="5105520"/>
              <a:ext cx="2210040" cy="38088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(A^B)^B = 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743200" y="5105520"/>
              <a:ext cx="2209680" cy="38088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^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13" name=""/>
          <p:cNvSpPr/>
          <p:nvPr/>
        </p:nvSpPr>
        <p:spPr>
          <a:xfrm>
            <a:off x="1828800" y="5105520"/>
            <a:ext cx="914400" cy="380880"/>
          </a:xfrm>
          <a:prstGeom prst="rect">
            <a:avLst/>
          </a:prstGeom>
          <a:solidFill>
            <a:srgbClr val="ffc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2743200" y="5486400"/>
            <a:ext cx="4419720" cy="380880"/>
            <a:chOff x="2743200" y="5486400"/>
            <a:chExt cx="4419720" cy="380880"/>
          </a:xfrm>
        </p:grpSpPr>
        <p:sp>
          <p:nvSpPr>
            <p:cNvPr id="615" name=""/>
            <p:cNvSpPr/>
            <p:nvPr/>
          </p:nvSpPr>
          <p:spPr>
            <a:xfrm>
              <a:off x="4952880" y="5486400"/>
              <a:ext cx="2210040" cy="38088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743200" y="5486400"/>
              <a:ext cx="2209680" cy="38088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(A^B)^A = 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17" name=""/>
          <p:cNvSpPr/>
          <p:nvPr/>
        </p:nvSpPr>
        <p:spPr>
          <a:xfrm>
            <a:off x="1828800" y="5486400"/>
            <a:ext cx="914400" cy="380880"/>
          </a:xfrm>
          <a:prstGeom prst="rect">
            <a:avLst/>
          </a:prstGeom>
          <a:solidFill>
            <a:srgbClr val="ffc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2743200" y="5867280"/>
            <a:ext cx="4419720" cy="381240"/>
            <a:chOff x="2743200" y="5867280"/>
            <a:chExt cx="4419720" cy="381240"/>
          </a:xfrm>
        </p:grpSpPr>
        <p:sp>
          <p:nvSpPr>
            <p:cNvPr id="619" name=""/>
            <p:cNvSpPr/>
            <p:nvPr/>
          </p:nvSpPr>
          <p:spPr>
            <a:xfrm>
              <a:off x="4952880" y="5867280"/>
              <a:ext cx="2210040" cy="38124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743200" y="5867280"/>
              <a:ext cx="2209680" cy="38124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1828800" y="5867280"/>
            <a:ext cx="914400" cy="381240"/>
          </a:xfrm>
          <a:prstGeom prst="rect">
            <a:avLst/>
          </a:prstGeom>
          <a:solidFill>
            <a:srgbClr val="ffc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952880" y="3962520"/>
            <a:ext cx="2210040" cy="3808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3962520"/>
            <a:ext cx="2209680" cy="3808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in Point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t’s All About Bits &amp; Byt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umb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gram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ex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ifferent Machines Follow Different Conven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ord siz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yte order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presenta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oolean Algebra is Mathematical Basi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asic form encodes “false” as 0, “true” as 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eneral form like bit-level operations in 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Good for representing &amp; manipulating set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yte-Oriented Memory Organiz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grams Refer to Virtual Address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ceptually very large array of byt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ctually implemented with hierarchy of different memory typ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RAM, DRAM, disk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nly allocate for regions actually used by program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 Unix and Windows NT, address space private to particular “process”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rogram being execute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rogram can clobber its own data, but not that of other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piler + Run-Time System Control Alloc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ere different program objects should be stor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ltiple mechanisms: static, stack, and hea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 any case, all allocation within single virtual address spa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ncoding Byte Valu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yte = 8 bit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inary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0000000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o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1111111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cimal: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1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o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55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1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exadecimal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0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16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o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F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16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ase 16 number representa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se characters ‘0’ to ‘9’ and ‘A’ to ‘F’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rite FA1D37B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Arial"/>
              </a:rPr>
              <a:t>16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in C as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0xFA1D37B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r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fa1d37b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6705720" y="1064880"/>
            <a:ext cx="1866600" cy="4551840"/>
            <a:chOff x="6705720" y="1064880"/>
            <a:chExt cx="1866600" cy="4551840"/>
          </a:xfrm>
        </p:grpSpPr>
        <p:grpSp>
          <p:nvGrpSpPr>
            <p:cNvPr id="113" name=""/>
            <p:cNvGrpSpPr/>
            <p:nvPr/>
          </p:nvGrpSpPr>
          <p:grpSpPr>
            <a:xfrm>
              <a:off x="6705720" y="1959120"/>
              <a:ext cx="1752480" cy="3657600"/>
              <a:chOff x="6705720" y="1959120"/>
              <a:chExt cx="1752480" cy="3657600"/>
            </a:xfrm>
          </p:grpSpPr>
          <p:sp>
            <p:nvSpPr>
              <p:cNvPr id="114" name=""/>
              <p:cNvSpPr/>
              <p:nvPr/>
            </p:nvSpPr>
            <p:spPr>
              <a:xfrm>
                <a:off x="6705720" y="19591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162920" y="19591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620120" y="195912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00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705720" y="21877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162920" y="21877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620120" y="218772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00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705720" y="24163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162920" y="24163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620120" y="241632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01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705720" y="26449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162920" y="26449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7620120" y="264492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01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705720" y="28735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162920" y="28735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620120" y="287352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10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705720" y="31021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5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162920" y="31021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5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620120" y="310212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10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705720" y="33307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162920" y="33307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620120" y="333072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11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705720" y="35593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7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162920" y="35593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7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620120" y="355932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11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705720" y="37879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162920" y="37879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620120" y="378792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00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705720" y="40165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9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162920" y="40165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9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620120" y="401652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00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705720" y="42451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162920" y="42451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620120" y="424512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01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705720" y="44737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B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162920" y="44737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620120" y="447372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01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5720" y="47023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C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162920" y="47023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620120" y="470232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10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705720" y="49309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D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162920" y="49309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620120" y="493092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10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705720" y="51595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E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162920" y="51595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620120" y="515952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11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705720" y="53881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F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162920" y="53881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5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7620120" y="538812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11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 rot="19282200">
              <a:off x="6781320" y="1496520"/>
              <a:ext cx="59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He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19282200">
              <a:off x="7189560" y="1353600"/>
              <a:ext cx="105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Decimal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19282200">
              <a:off x="7663680" y="1405800"/>
              <a:ext cx="89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Binary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chine Word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achine Has “Word Size”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minal size of integer-valued dat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cluding address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ost current machines are 32 bits (4 bytes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imits addresses to 4GB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ecoming too small for memory-intensive applicat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igh-end systems are 64 bits (8 bytes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otentially address </a:t>
            </a:r>
            <a:r>
              <a:rPr b="1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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1.8 X 10</a:t>
            </a:r>
            <a:r>
              <a:rPr b="1" lang="en-US" sz="1800" spc="-1" strike="noStrike" baseline="30000">
                <a:solidFill>
                  <a:srgbClr val="000099"/>
                </a:solidFill>
                <a:latin typeface="Arial"/>
              </a:rPr>
              <a:t>19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byt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chines support multiple data forma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ractions or multiples of word siz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lways integral number of byt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28480" y="323640"/>
            <a:ext cx="8128080" cy="57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Word-Oriented Memory Organiz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434340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166840"/>
                <a:tab algn="l" pos="3436920"/>
                <a:tab algn="l" pos="3995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ddresses Specify Byte Loca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166840"/>
                <a:tab algn="l" pos="3436920"/>
                <a:tab algn="l" pos="3995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ress of first byte in wor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166840"/>
                <a:tab algn="l" pos="3436920"/>
                <a:tab algn="l" pos="3995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resses of successive words differ by 4 (32-bit) or 8 (64-bit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737400" y="1523880"/>
            <a:ext cx="6094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37400" y="1828800"/>
            <a:ext cx="6094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37400" y="2133720"/>
            <a:ext cx="6094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37400" y="2438280"/>
            <a:ext cx="6094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737400" y="2743200"/>
            <a:ext cx="6094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737400" y="3048120"/>
            <a:ext cx="6094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737400" y="3352680"/>
            <a:ext cx="6094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737400" y="3657600"/>
            <a:ext cx="6094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737400" y="3962520"/>
            <a:ext cx="6094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737400" y="4267080"/>
            <a:ext cx="6094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37400" y="4572000"/>
            <a:ext cx="6094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737400" y="4876920"/>
            <a:ext cx="6094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99880" y="15238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499880" y="18288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00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499880" y="21337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00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499880" y="2438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00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499880" y="274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00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499880" y="30481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00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499880" y="33526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00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499880" y="3657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007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499880" y="3962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00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499880" y="42670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00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499880" y="45720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01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499880" y="48769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01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5791320" y="1523880"/>
            <a:ext cx="609120" cy="4876560"/>
            <a:chOff x="5791320" y="1523880"/>
            <a:chExt cx="609120" cy="4876560"/>
          </a:xfrm>
        </p:grpSpPr>
        <p:sp>
          <p:nvSpPr>
            <p:cNvPr id="194" name=""/>
            <p:cNvSpPr/>
            <p:nvPr/>
          </p:nvSpPr>
          <p:spPr>
            <a:xfrm>
              <a:off x="5791320" y="3962160"/>
              <a:ext cx="609120" cy="2438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1320" y="1523880"/>
              <a:ext cx="609120" cy="2438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4876920" y="1523880"/>
            <a:ext cx="609120" cy="4876560"/>
            <a:chOff x="4876920" y="1523880"/>
            <a:chExt cx="609120" cy="4876560"/>
          </a:xfrm>
        </p:grpSpPr>
        <p:sp>
          <p:nvSpPr>
            <p:cNvPr id="197" name=""/>
            <p:cNvSpPr/>
            <p:nvPr/>
          </p:nvSpPr>
          <p:spPr>
            <a:xfrm>
              <a:off x="4876920" y="1523880"/>
              <a:ext cx="609120" cy="12189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876920" y="2742840"/>
              <a:ext cx="609120" cy="12193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876920" y="3962160"/>
              <a:ext cx="609120" cy="12193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876920" y="5181480"/>
              <a:ext cx="609120" cy="12189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4725720" y="914400"/>
            <a:ext cx="89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32-bi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ord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631920" y="99072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yt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449840" y="9907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ddr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737400" y="5181480"/>
            <a:ext cx="6094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499880" y="51814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01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737400" y="5486400"/>
            <a:ext cx="6094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499880" y="54864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01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737400" y="5791320"/>
            <a:ext cx="6094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499880" y="57913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01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37400" y="6095880"/>
            <a:ext cx="6094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99880" y="60958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01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640120" y="882720"/>
            <a:ext cx="89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64-bi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ord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791320" y="2362320"/>
            <a:ext cx="609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Addr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=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??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791320" y="4724280"/>
            <a:ext cx="609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Addr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=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??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876920" y="1752480"/>
            <a:ext cx="609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Addr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=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??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876920" y="2971800"/>
            <a:ext cx="609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Addr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=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??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876920" y="4191120"/>
            <a:ext cx="609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Addr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=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??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76920" y="5410080"/>
            <a:ext cx="609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Addr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=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??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952880" y="2209680"/>
            <a:ext cx="457200" cy="228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000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952880" y="3429000"/>
            <a:ext cx="457200" cy="228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0004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952880" y="4648320"/>
            <a:ext cx="457200" cy="228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0008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952880" y="5867280"/>
            <a:ext cx="457200" cy="228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00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867280" y="2819520"/>
            <a:ext cx="457200" cy="228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000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67280" y="5181480"/>
            <a:ext cx="457200" cy="228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0008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ata Representa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47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r" pos="4113360"/>
                <a:tab algn="r" pos="6176880"/>
                <a:tab algn="r" pos="777888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zes of C Objects (in Bytes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69960" indent="-2210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r" pos="4113360"/>
                <a:tab algn="r" pos="6176880"/>
                <a:tab algn="r" pos="777888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 Data Typ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aq Alph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ypical 32-bi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tel IA3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31400" indent="-2142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r" pos="4113360"/>
                <a:tab algn="r" pos="6176880"/>
                <a:tab algn="r" pos="777888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t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31400" indent="-2142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r" pos="4113360"/>
                <a:tab algn="r" pos="6176880"/>
                <a:tab algn="r" pos="777888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ong int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8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31400" indent="-2142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r" pos="4113360"/>
                <a:tab algn="r" pos="6176880"/>
                <a:tab algn="r" pos="777888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har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31400" indent="-2142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r" pos="4113360"/>
                <a:tab algn="r" pos="6176880"/>
                <a:tab algn="r" pos="777888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hort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31400" indent="-2142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r" pos="4113360"/>
                <a:tab algn="r" pos="6176880"/>
                <a:tab algn="r" pos="777888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loat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31400" indent="-2142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r" pos="4113360"/>
                <a:tab algn="r" pos="6176880"/>
                <a:tab algn="r" pos="777888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ouble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8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8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31400" indent="-2142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r" pos="4113360"/>
                <a:tab algn="r" pos="6176880"/>
                <a:tab algn="r" pos="777888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ong double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8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8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0/12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31400" indent="-2142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r" pos="4113360"/>
                <a:tab algn="r" pos="6176880"/>
                <a:tab algn="r" pos="777888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har *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8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440000" indent="-20556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r" pos="4113360"/>
                <a:tab algn="r" pos="6176880"/>
                <a:tab algn="r" pos="777888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r any other pointer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yte Order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ow should bytes within multi-byte word be ordered in memory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ven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n’s, Mac’s are “Big Endian” machin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east significant byte has highest addres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phas, PC’s are “Little Endian” machin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east significant byte has lowest addres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13:19:16Z</dcterms:created>
  <dc:creator>Randal E. Bryant and David R. O'Hallaron</dc:creator>
  <dc:description/>
  <dc:language>en-US</dc:language>
  <cp:lastModifiedBy>droh</cp:lastModifiedBy>
  <cp:lastPrinted>1998-08-27T18:17:18Z</cp:lastPrinted>
  <dcterms:modified xsi:type="dcterms:W3CDTF">2002-10-28T20:23:39Z</dcterms:modified>
  <cp:revision>57</cp:revision>
  <dc:subject/>
  <dc:title>Bits and Bytes</dc:title>
</cp:coreProperties>
</file>