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14204ABE-8D3D-4520-8094-F751F9FEAFC6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22200" y="1904760"/>
            <a:ext cx="3343320" cy="1562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 5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720" y="3833640"/>
            <a:ext cx="5227560" cy="20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EEE Floating Point Standa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thematical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4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660033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365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rmalized Encod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5516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1000"/>
          </a:bodyPr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alu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F = 15213.0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-910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5213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11101101101101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= 1.1101101101101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X 2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ignificand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1101101101101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011011011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0000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ponen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Bia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27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40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0011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4495680"/>
            <a:ext cx="6781680" cy="2168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loating Point Representation (Class 02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4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100 0110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 1101 1011 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477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normalized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onent valu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–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ia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+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ificand valu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M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xx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x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bits of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r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resents value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e that have distinct values +0 and –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bers very close to 0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se precision as get small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adual underflow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5842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al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resents value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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infinit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tion that overflow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th positive and nega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3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1.0/0.0 =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0/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0 = +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0/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0 =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-a-Number (NaN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resents case when no numeric value can be determin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sqrt(–1),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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976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 of Floating Point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l Number Encodin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2828880"/>
            <a:ext cx="7315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53280" y="32860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53280" y="3438360"/>
            <a:ext cx="5335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55440" y="31431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a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686800" y="32860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33526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505320"/>
            <a:ext cx="53316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6720" y="32097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a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33526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69160" y="231948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6560" y="229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88800" y="3273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39400" y="244800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De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9120" y="24480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50640" y="2462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De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6880" y="2448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267080" y="2819520"/>
            <a:ext cx="22860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495320" y="2819520"/>
            <a:ext cx="22860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3440" y="3276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213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ny Floating Point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-bit Floating Point 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sign bit is in the most significant bi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ext four bits are the exponent, with a bias of 7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last three bits are th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ame General Form as IEEE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rmalized, denormal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ation of 0, NaN, infin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32000" y="4572000"/>
            <a:ext cx="304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36920" y="4572000"/>
            <a:ext cx="1752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89400" y="4572000"/>
            <a:ext cx="1828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67360" y="4265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9084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6224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557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416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alues Related to the Expon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32280" y="1143000"/>
            <a:ext cx="504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6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enorm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6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3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/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f, Na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5740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Ran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73280" y="892080"/>
            <a:ext cx="511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 exp  frac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8*1/64 = 1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8*1/64 = 2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/8*1/64 = 6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/8*1/64 = 7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/8*1/64 = 8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1 001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/8*1/64 = 9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0 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4/8*1/2 = 14/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0 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/8*1/2 = 15/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1 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/8*1   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1 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/8*1    = 9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1 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/8*1   = 10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1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4/8*128 = 2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1110 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/8*128 = 24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1111 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/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77520" y="16765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st to ze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39080" y="2757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st de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38720" y="30481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mallest 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38720" y="411480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st to 1 below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38360" y="466236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st to 1 abo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81680" y="1828800"/>
            <a:ext cx="269640" cy="4092480"/>
            <a:chOff x="6781680" y="1828800"/>
            <a:chExt cx="269640" cy="4092480"/>
          </a:xfrm>
        </p:grpSpPr>
        <p:sp>
          <p:nvSpPr>
            <p:cNvPr id="197" name=""/>
            <p:cNvSpPr/>
            <p:nvPr/>
          </p:nvSpPr>
          <p:spPr>
            <a:xfrm flipH="1">
              <a:off x="6781680" y="182880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6792120" y="294948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6792120" y="324000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792120" y="430704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6792120" y="485460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792120" y="592128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7038360" y="57294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st 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00" y="198108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6800" y="434340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3095640"/>
            <a:ext cx="83059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6153120"/>
            <a:ext cx="83059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tribution of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0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6-bit IEEE-like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 = 3 exponent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 = 2 fraction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as is 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ice how the distribution gets denser toward zero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4038480"/>
          <a:ext cx="8326440" cy="10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38480"/>
                    <a:ext cx="8326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3311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tribution of Valu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lose-up view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0520" y="1728720"/>
            <a:ext cx="830736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6-bit IEEE-like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 = 3 exponent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 = 2 fraction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as is 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04640" y="3772080"/>
          <a:ext cx="8336160" cy="110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3772080"/>
                    <a:ext cx="83361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553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esting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escription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Numeric Value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Zero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.0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mallest Pos. Denorm.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23,52}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1.4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4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uble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4.9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32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Largest Denormalized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1…1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1.0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)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1.18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3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uble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2.2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30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mallest Pos. Normalized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.0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Just larger than largest denormal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One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1…1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.0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Largest Normalized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1…1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1…1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2.0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)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7,1023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3.4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3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uble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1.8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30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375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307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each of the following C expressions, either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0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rgue that it is true for all argument value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0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plain why not tru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3080" y="2135160"/>
            <a:ext cx="525456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float)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double)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(float)(double) 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== (float) 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-(-f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3 == 2/3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lt; 0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d*2) &lt; 0.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gt;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f &gt; -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* d &gt;= 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+f)-d == 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2360" y="2655720"/>
            <a:ext cx="2612880" cy="1197720"/>
          </a:xfrm>
          <a:prstGeom prst="rect">
            <a:avLst/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f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d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8880" y="4321080"/>
            <a:ext cx="189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ume neith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n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N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493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al Properties of Enco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P Zero Same as Integer Zer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bits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(Almost) Use Unsigned Integer Comparis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first compare sign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consider -0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aNs problema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ll be greater than any other val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at should comparison yield?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wise O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norm vs. normaliz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rmalized vs. infin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102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eptual View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compute exact resul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e it fit into desired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ly overflow if exponent too lar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ly round to fit into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r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ounding Modes (illustrate with $ rounding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1.4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1.6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1.5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2.5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–$1.50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down 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up 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arest Even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default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1720" y="5562720"/>
            <a:ext cx="820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  Round down: rounded result is close to but no greater than true resul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.  Round up: rounded result is close to but no less than true result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683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er Look at Round-To-Eve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fault Rounding M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get any other kind without dropping into assemb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others are statistically bia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m of set of positive numbers will consistently be over- or under- estima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pplying to Other Decimal Places / Bit Posi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exactly halfway between two possible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ound so that least significant digit is ev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round to nearest hundred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49999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Less than half wa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5000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Greater than half wa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50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Half way—round up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50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Half way—round down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5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ounding Binary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7012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nary Fractional Numb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” when least significant bit i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lf way when bits to right of rounding position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to nearest 1/4 (2 bits right of binary poin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e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ed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3/3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0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&lt;1/2—down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3/1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0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1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&gt;1/2—up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1/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7/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11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.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1/2—up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5/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10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1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1/2—down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1/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706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P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1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1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1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660033"/>
                </a:solidFill>
                <a:latin typeface="Courier New"/>
              </a:rPr>
              <a:t>*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2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2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ct Resul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^ 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ifica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* 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on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+ 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x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2,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ight, increm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range, overflow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f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gest chore is multiplying significa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5511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P Ad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1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1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2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2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um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ct Resul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significa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ult of signed align &amp; ad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on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x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2,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ight, increm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&lt; 1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i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e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ositions, decrem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flow 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ran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f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203720" y="1395360"/>
            <a:ext cx="4089240" cy="1944720"/>
            <a:chOff x="4203720" y="1395360"/>
            <a:chExt cx="4089240" cy="1944720"/>
          </a:xfrm>
        </p:grpSpPr>
        <p:sp>
          <p:nvSpPr>
            <p:cNvPr id="232" name=""/>
            <p:cNvSpPr/>
            <p:nvPr/>
          </p:nvSpPr>
          <p:spPr>
            <a:xfrm>
              <a:off x="4432320" y="1765440"/>
              <a:ext cx="20318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33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660033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660033"/>
                  </a:solidFill>
                  <a:latin typeface="Arial"/>
                </a:rPr>
                <a:t>s1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Arial"/>
                </a:rPr>
                <a:t> M1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84800" y="2298600"/>
              <a:ext cx="2032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33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660033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660033"/>
                  </a:solidFill>
                  <a:latin typeface="Arial"/>
                </a:rPr>
                <a:t>s2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Arial"/>
                </a:rPr>
                <a:t> M2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77120" y="1460520"/>
              <a:ext cx="0" cy="2030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29600" y="1460520"/>
              <a:ext cx="0" cy="2030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9720" y="1523880"/>
              <a:ext cx="17272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95520" y="1395360"/>
              <a:ext cx="7160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66"/>
                  </a:solidFill>
                  <a:latin typeface="Arial"/>
                </a:rPr>
                <a:t>E1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i="1" lang="en-US" sz="1400" spc="-1" strike="noStrike">
                  <a:solidFill>
                    <a:srgbClr val="000066"/>
                  </a:solidFill>
                  <a:latin typeface="Arial"/>
                </a:rPr>
                <a:t>E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2320" y="2340000"/>
              <a:ext cx="31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03720" y="2895480"/>
              <a:ext cx="40892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08640" y="3060720"/>
              <a:ext cx="3708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33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660033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660033"/>
                  </a:solidFill>
                  <a:latin typeface="Arial"/>
                </a:rPr>
                <a:t>s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Arial"/>
                </a:rPr>
                <a:t> M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53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hematical Properties of FP Ad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re to those of Abelian 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ed under addition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may generate infinity or Na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t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ci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verflow and inexactness of roun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additive identity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ry element has additive inver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M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infinities &amp; Na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notonic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M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infinities &amp; Na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7696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h. Properties of FP Mul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re to Commutative 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ed under multiplication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may generate infinity or Na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Commut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is Associ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ility of overflow, inexactness of roun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multiplicative identity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distributes over addition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ility of overflow, inexactness of roun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notonic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&amp;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 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*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*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M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infinities &amp; Na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274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Guarantees Two Leve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ver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sting betwee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hanges numeric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uncates fractional par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rounding toward zer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defined when out of ran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enerally saturates to TMin or TMax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ct conversion, as long as int ha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≤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53 bit word siz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ll round according to rounding m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nswers to Floating Point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2209680"/>
            <a:ext cx="792468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float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double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(float)(double)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== (float) 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-(-f)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3 == 2/3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lt; 0.0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d*2) &lt; 0.0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gt; f 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f &gt; -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* d &gt;= 0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+f)-d ==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52480" y="838080"/>
            <a:ext cx="2613240" cy="1197720"/>
          </a:xfrm>
          <a:prstGeom prst="rect">
            <a:avLst/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nt x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float f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ouble d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880" y="914400"/>
            <a:ext cx="189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ume neith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n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N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2209680"/>
            <a:ext cx="79246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float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24 bit signific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double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: 53 bit signific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(float)(double)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: increases preci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== (float) 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loses preci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-(-f)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: Just change sign 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3 == 2/3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2/3 =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lt; 0.0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d*2) &lt; 0.0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gt; f 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f &gt; -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* d &gt;= 0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+f)-d ==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Not associati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63248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EEE Floating Poi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EEE Standard 754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stablished in 1985 as uniform standard for floating point 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fore that, many idiosyncratic forma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rted by all major CPU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riven by Numerical Concer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ice standards for rounding, overflow, under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make go fa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erical analysts predominated over hardware types in defining standa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iane 5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2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oded 37 seconds after liftof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rgo worth $500 mill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d horizontal velocity as floating point numb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ed to 16-bit integ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ed OK for Ariane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flowed for Ariane 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d same softwa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4" name="ariane5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60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219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EEE Floating Point Has Clear Mathematical  Properti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s numbers of form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reason about operations independent of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 if computed with perfect precision and then round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the same as real 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olates associativity/distributiv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kes life difficult for compilers &amp; serious numerical applications programm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actional Binary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160" y="4703400"/>
            <a:ext cx="8472600" cy="108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43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s to right of “binary point” represent fractional powers of 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s rational numb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39720" y="2565360"/>
            <a:ext cx="5029200" cy="533520"/>
            <a:chOff x="1539720" y="2565360"/>
            <a:chExt cx="5029200" cy="533520"/>
          </a:xfrm>
        </p:grpSpPr>
        <p:sp>
          <p:nvSpPr>
            <p:cNvPr id="91" name=""/>
            <p:cNvSpPr/>
            <p:nvPr/>
          </p:nvSpPr>
          <p:spPr>
            <a:xfrm>
              <a:off x="1539720" y="2565360"/>
              <a:ext cx="3812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i="1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2096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i="1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6396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4484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25720" y="2565360"/>
              <a:ext cx="3812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82920" y="2565360"/>
              <a:ext cx="3812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416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4504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8804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</a:t>
              </a:r>
              <a:r>
                <a:rPr b="0" i="1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25920" y="256536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• • 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01840" y="256536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• • 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06960" y="2565360"/>
              <a:ext cx="7596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19256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2560" y="1981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2560" y="167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04800" y="1092240"/>
            <a:ext cx="4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en-US" sz="1800" spc="-1" strike="noStrike" baseline="30000">
                <a:solidFill>
                  <a:srgbClr val="800000"/>
                </a:solidFill>
                <a:latin typeface="Times New Roman"/>
              </a:rPr>
              <a:t>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5800" y="762120"/>
            <a:ext cx="3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8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2489040"/>
            <a:ext cx="244440" cy="1778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2209680"/>
            <a:ext cx="609840" cy="4572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1930320"/>
            <a:ext cx="974880" cy="73656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1295280"/>
            <a:ext cx="2210040" cy="13716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990720"/>
            <a:ext cx="2514600" cy="167616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01840" y="1828800"/>
            <a:ext cx="762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4188960" y="3046320"/>
            <a:ext cx="244440" cy="1778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205160" y="3046320"/>
            <a:ext cx="609840" cy="4572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4221000" y="3046320"/>
            <a:ext cx="974880" cy="73656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4204800" y="3046320"/>
            <a:ext cx="2210040" cy="13716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5331960" y="3351240"/>
            <a:ext cx="762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9800" y="3048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16280" y="3352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/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16280" y="3672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1960" y="4267080"/>
            <a:ext cx="3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lang="en-US" sz="1800" spc="-1" strike="noStrike" baseline="30000">
                <a:solidFill>
                  <a:srgbClr val="800000"/>
                </a:solidFill>
                <a:latin typeface="Times New Roman"/>
              </a:rPr>
              <a:t>–</a:t>
            </a:r>
            <a:r>
              <a:rPr b="0" i="1" lang="en-US" sz="1800" spc="-1" strike="noStrike" baseline="30000">
                <a:solidFill>
                  <a:srgbClr val="8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863960" y="5651640"/>
                <a:ext cx="92736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4280" y="228600"/>
            <a:ext cx="797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ac. Binary Number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-3/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1.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-7/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10.1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3/6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0.1111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vide by 2 by shifting righ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y by 2 by shifting le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s of form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111111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st below 1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/2 + 1/4 + 1/8 + … + 1/2</a:t>
            </a:r>
            <a:r>
              <a:rPr b="1" i="1" lang="en-US" sz="1800" spc="-1" strike="noStrike" baseline="30000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+ …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1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notation 1.0 –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84280" y="228600"/>
            <a:ext cx="797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able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exactly represent numbers of the form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/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 numbers have repeating bit repres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/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0101010101[0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/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001100110011[001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/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0001100110011[001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umerical 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gn bit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determines whether number is negative or posi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gnificand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M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lly a fractional value in range [1.0,2.0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ponent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weights value by power of tw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cod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SB is sign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7632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Repres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3378240"/>
            <a:ext cx="355680" cy="35568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3378240"/>
            <a:ext cx="2108160" cy="355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3378240"/>
            <a:ext cx="4470480" cy="3556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cod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SB is sign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z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ecision: 8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, 23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2 bits tot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 precision: 11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, 52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64 bits tot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ed precision: 15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, 63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found in Intel-compatible machin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d in 80 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bit wast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7632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Precis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295280" y="1676520"/>
            <a:ext cx="6985080" cy="355320"/>
            <a:chOff x="1295280" y="1676520"/>
            <a:chExt cx="6985080" cy="355320"/>
          </a:xfrm>
        </p:grpSpPr>
        <p:sp>
          <p:nvSpPr>
            <p:cNvPr id="136" name=""/>
            <p:cNvSpPr/>
            <p:nvPr/>
          </p:nvSpPr>
          <p:spPr>
            <a:xfrm>
              <a:off x="1295280" y="1676520"/>
              <a:ext cx="355680" cy="3553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6520" y="1676520"/>
              <a:ext cx="2108160" cy="355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x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1676520"/>
              <a:ext cx="4470480" cy="35532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365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rmalized” Numeric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onent coded as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biase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 Exp – Bia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xp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unsigned value denoted by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exp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Bia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Bias val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ngle precision: 127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…254,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-126…127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uble precision: 1023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…2046,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-1022…1023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 general: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ia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 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e-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- 1, where e is number of exponent bi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gnificand coded with implied leading 1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M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.xx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xxx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bits of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r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nimum when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000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= 1.0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ximum when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111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= 2.0 –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t extra leading bit for “fre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3-01-17T22:40:49Z</dcterms:modified>
  <cp:revision>62</cp:revision>
  <dc:subject/>
  <dc:title>Floating Point</dc:title>
</cp:coreProperties>
</file>