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E55CF249-7FA2-4ACE-B134-512C5A57B280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low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2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97200" indent="-207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t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97200" indent="-207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s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97200" indent="-207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-then-el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97200" indent="-207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eties of Lo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97200" indent="-207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witch Statem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6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3716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828800"/>
            <a:ext cx="381492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d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 (x &gt; 1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37160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1828800"/>
            <a:ext cx="381456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goto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43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o-While”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3120" y="5229000"/>
            <a:ext cx="8282160" cy="85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backward branch to continue loop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take branch when “while” condition hol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29528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752480"/>
            <a:ext cx="2819520" cy="31064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go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251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o-While” Loop Compi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0520" y="5176440"/>
            <a:ext cx="3463920" cy="126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su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1752480"/>
            <a:ext cx="548640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fact_goto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sult *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c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--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1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are x :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 L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g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1295280"/>
            <a:ext cx="2298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9907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371600"/>
            <a:ext cx="2514600" cy="9118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91440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371600"/>
            <a:ext cx="2438280" cy="118620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0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“Do-While”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825516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lvl="1" marL="504360" indent="-200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od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any C stat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55640" indent="-148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compound statement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04360" indent="-200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expression returning integ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= 0 interpreted as fals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 interpreted as tr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657600"/>
            <a:ext cx="2210040" cy="184716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men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men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ment</a:t>
            </a:r>
            <a:r>
              <a:rPr b="1" i="1" lang="en-US" sz="18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447920"/>
            <a:ext cx="381492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wh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x &gt; 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990720"/>
            <a:ext cx="3124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rst 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447920"/>
            <a:ext cx="3814560" cy="365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while_go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(x &gt; 1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3300"/>
                </a:solidFill>
                <a:latin typeface="Courier New"/>
              </a:rPr>
              <a:t> done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33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959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ile” Loop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255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is code equivalent to the do-while versio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jump out of loop if test fai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4479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828800"/>
            <a:ext cx="3814920" cy="2557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while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x &gt; 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1371600"/>
            <a:ext cx="3429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1828800"/>
            <a:ext cx="3814560" cy="39294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while_goto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(x &gt; 1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33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619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tual “While” Loop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4724280"/>
            <a:ext cx="37339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s same inner loop as do-while ver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ards loop entry with extra t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71600" y="9907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447920"/>
            <a:ext cx="1905120" cy="6375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276720"/>
            <a:ext cx="28954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-While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3809880"/>
            <a:ext cx="2362320" cy="17348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99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“While”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320040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3657600"/>
            <a:ext cx="2362320" cy="200916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2362320"/>
            <a:ext cx="0" cy="761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3505320"/>
            <a:ext cx="7617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”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0520" y="3962520"/>
            <a:ext cx="8307360" cy="14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231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gorith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oit property that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+ 2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+ 4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+ … 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–1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s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·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· 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· … · (…(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</a:rPr>
              <a:t>n 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–1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 2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…)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 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876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z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= 1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when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6876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z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hen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= 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xity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(log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914400"/>
            <a:ext cx="716256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x raised to nonnegative power p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pwr_for(int x, unsigned 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result = 1; p != 0; p = p&gt;&gt;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648320" y="5195520"/>
            <a:ext cx="1600200" cy="597240"/>
            <a:chOff x="4648320" y="5195520"/>
            <a:chExt cx="1600200" cy="597240"/>
          </a:xfrm>
        </p:grpSpPr>
        <p:sp>
          <p:nvSpPr>
            <p:cNvPr id="177" name=""/>
            <p:cNvSpPr/>
            <p:nvPr/>
          </p:nvSpPr>
          <p:spPr>
            <a:xfrm rot="16200000">
              <a:off x="5334120" y="4509720"/>
              <a:ext cx="228600" cy="1600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234"/>
                  </a:lnTo>
                  <a:cubicBezTo>
                    <a:pt x="10800" y="9134"/>
                    <a:pt x="5400" y="10034"/>
                    <a:pt x="0" y="10034"/>
                  </a:cubicBezTo>
                  <a:cubicBezTo>
                    <a:pt x="5400" y="10034"/>
                    <a:pt x="10800" y="10934"/>
                    <a:pt x="10800" y="1183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6080" y="542448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</a:rPr>
                <a:t>n–1 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im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324480" y="5181480"/>
            <a:ext cx="2286000" cy="1202760"/>
          </a:xfrm>
          <a:prstGeom prst="rect">
            <a:avLst/>
          </a:prstGeom>
          <a:solidFill>
            <a:srgbClr val="33cccc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* 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* ((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5743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ipwr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066680"/>
            <a:ext cx="693396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x raised to nonnegative power p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pwr_for(int x, unsigned 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result = 1; p != 0; p = p&gt;&gt;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76520" y="4191120"/>
          <a:ext cx="5981760" cy="250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191120"/>
                    <a:ext cx="598176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520560"/>
            <a:ext cx="657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”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95680" y="1752480"/>
            <a:ext cx="3505320" cy="78048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1447920"/>
            <a:ext cx="342900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!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p&gt;&gt;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219320"/>
            <a:ext cx="3448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 For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4267080"/>
            <a:ext cx="1600200" cy="3632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08600" y="3809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4272120"/>
            <a:ext cx="1600200" cy="3632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!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4272120"/>
            <a:ext cx="1600200" cy="3632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p &gt;&gt;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876920"/>
            <a:ext cx="2971800" cy="14605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584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”</a:t>
            </a:r>
            <a:r>
              <a:rPr b="1" lang="en-US" sz="3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“While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1905120"/>
            <a:ext cx="68580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523880"/>
            <a:ext cx="3352680" cy="780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1523880"/>
            <a:ext cx="3352680" cy="14605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114800" y="2895480"/>
            <a:ext cx="533520" cy="30492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3276720"/>
            <a:ext cx="2895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3809880"/>
            <a:ext cx="3814920" cy="255780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106668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ile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106668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819520"/>
            <a:ext cx="2895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-While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3352680"/>
            <a:ext cx="3814920" cy="228348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3505320"/>
            <a:ext cx="533160" cy="30456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8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 C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ngle Bit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rry Fla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 Fla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ero Fla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 Fla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icitly Set By Arithmetic 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analog: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t = a + 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F set if carry out from most significant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to detect unsigned overflow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F set 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F set 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&lt;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set if two’s complement ov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a&gt;0 &amp;&amp; b&gt;0 &amp;&amp; t&lt;0) || (a&lt;0 &amp;&amp; b&lt;0 &amp;&amp; t&gt;=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Set by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80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” Loop Compi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85800" y="4343400"/>
            <a:ext cx="1600200" cy="820440"/>
            <a:chOff x="685800" y="4343400"/>
            <a:chExt cx="1600200" cy="820440"/>
          </a:xfrm>
        </p:grpSpPr>
        <p:sp>
          <p:nvSpPr>
            <p:cNvPr id="210" name=""/>
            <p:cNvSpPr/>
            <p:nvPr/>
          </p:nvSpPr>
          <p:spPr>
            <a:xfrm>
              <a:off x="1143000" y="434340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Ini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" y="4800600"/>
              <a:ext cx="1600200" cy="3632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result =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880" y="4343400"/>
            <a:ext cx="1600200" cy="825120"/>
            <a:chOff x="2666880" y="4343400"/>
            <a:chExt cx="1600200" cy="825120"/>
          </a:xfrm>
        </p:grpSpPr>
        <p:sp>
          <p:nvSpPr>
            <p:cNvPr id="213" name=""/>
            <p:cNvSpPr/>
            <p:nvPr/>
          </p:nvSpPr>
          <p:spPr>
            <a:xfrm>
              <a:off x="3017880" y="434340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Tes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66880" y="4805280"/>
              <a:ext cx="1600200" cy="3632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 !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62120" y="5410080"/>
            <a:ext cx="1600200" cy="825480"/>
            <a:chOff x="762120" y="5410080"/>
            <a:chExt cx="1600200" cy="825480"/>
          </a:xfrm>
        </p:grpSpPr>
        <p:sp>
          <p:nvSpPr>
            <p:cNvPr id="216" name=""/>
            <p:cNvSpPr/>
            <p:nvPr/>
          </p:nvSpPr>
          <p:spPr>
            <a:xfrm>
              <a:off x="838080" y="54100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Updat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2120" y="5872320"/>
              <a:ext cx="1600200" cy="3632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 = p &gt;&gt;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791320" y="4572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5029200"/>
            <a:ext cx="2971800" cy="14605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1430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676520"/>
            <a:ext cx="3814920" cy="255780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1295280"/>
            <a:ext cx="2743200" cy="3106440"/>
          </a:xfrm>
          <a:prstGeom prst="rect">
            <a:avLst/>
          </a:prstGeom>
          <a:solidFill>
            <a:srgbClr val="cc99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=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p &gt;&gt;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!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590920"/>
            <a:ext cx="68580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05160" y="151920"/>
            <a:ext cx="373356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witch Statem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92560" y="1218960"/>
            <a:ext cx="3975120" cy="47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 Op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ies of conditio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od if few ca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low if man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okup branch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oids condition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e when cases are small integer consta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C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icks one based on case struct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g in examp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default giv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80880"/>
            <a:ext cx="4876920" cy="584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en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ADD, MULT, MINUS, DIV, MOD, BAD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p_typ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unparse_symbol(op_type o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 (o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ADD 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+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MUL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*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MINU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-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DIV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/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MO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%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BA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?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6451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mp Tabl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562000" y="1371600"/>
            <a:ext cx="2896200" cy="4952880"/>
            <a:chOff x="5562000" y="1371600"/>
            <a:chExt cx="2896200" cy="4952880"/>
          </a:xfrm>
        </p:grpSpPr>
        <p:grpSp>
          <p:nvGrpSpPr>
            <p:cNvPr id="229" name=""/>
            <p:cNvGrpSpPr/>
            <p:nvPr/>
          </p:nvGrpSpPr>
          <p:grpSpPr>
            <a:xfrm>
              <a:off x="5867280" y="1371600"/>
              <a:ext cx="2590920" cy="838080"/>
              <a:chOff x="5867280" y="1371600"/>
              <a:chExt cx="2590920" cy="838080"/>
            </a:xfrm>
          </p:grpSpPr>
          <p:sp>
            <p:nvSpPr>
              <p:cNvPr id="230" name=""/>
              <p:cNvSpPr/>
              <p:nvPr/>
            </p:nvSpPr>
            <p:spPr>
              <a:xfrm>
                <a:off x="6858000" y="1371600"/>
                <a:ext cx="1600200" cy="8380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867280" y="137160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Targ0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867280" y="2362320"/>
              <a:ext cx="2590920" cy="838080"/>
              <a:chOff x="5867280" y="2362320"/>
              <a:chExt cx="2590920" cy="838080"/>
            </a:xfrm>
          </p:grpSpPr>
          <p:sp>
            <p:nvSpPr>
              <p:cNvPr id="233" name=""/>
              <p:cNvSpPr/>
              <p:nvPr/>
            </p:nvSpPr>
            <p:spPr>
              <a:xfrm>
                <a:off x="6858000" y="2362320"/>
                <a:ext cx="1600200" cy="8380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67280" y="236232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Targ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867280" y="3352680"/>
              <a:ext cx="2590920" cy="838440"/>
              <a:chOff x="5867280" y="3352680"/>
              <a:chExt cx="2590920" cy="838440"/>
            </a:xfrm>
          </p:grpSpPr>
          <p:sp>
            <p:nvSpPr>
              <p:cNvPr id="236" name=""/>
              <p:cNvSpPr/>
              <p:nvPr/>
            </p:nvSpPr>
            <p:spPr>
              <a:xfrm>
                <a:off x="6858000" y="3352680"/>
                <a:ext cx="1600200" cy="83844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67280" y="335268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Targ2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562000" y="5486400"/>
              <a:ext cx="2864520" cy="838080"/>
              <a:chOff x="5562000" y="5486400"/>
              <a:chExt cx="2864520" cy="838080"/>
            </a:xfrm>
          </p:grpSpPr>
          <p:sp>
            <p:nvSpPr>
              <p:cNvPr id="239" name=""/>
              <p:cNvSpPr/>
              <p:nvPr/>
            </p:nvSpPr>
            <p:spPr>
              <a:xfrm>
                <a:off x="6826320" y="5486400"/>
                <a:ext cx="1600200" cy="8380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66"/>
                    </a:solidFill>
                    <a:latin typeface="Arial"/>
                  </a:rPr>
                  <a:t>n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–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62000" y="548640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Targ</a:t>
                </a:r>
                <a:r>
                  <a:rPr b="1" i="1" lang="en-US" sz="1800" spc="-1" strike="noStrike">
                    <a:solidFill>
                      <a:srgbClr val="000066"/>
                    </a:solidFill>
                    <a:latin typeface="Courier New"/>
                  </a:rPr>
                  <a:t>n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-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6858000" y="4343400"/>
              <a:ext cx="16002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971800" y="1447920"/>
            <a:ext cx="2590560" cy="2438280"/>
            <a:chOff x="2971800" y="1447920"/>
            <a:chExt cx="2590560" cy="2438280"/>
          </a:xfrm>
        </p:grpSpPr>
        <p:sp>
          <p:nvSpPr>
            <p:cNvPr id="243" name=""/>
            <p:cNvSpPr/>
            <p:nvPr/>
          </p:nvSpPr>
          <p:spPr>
            <a:xfrm>
              <a:off x="3962160" y="144792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Targ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160" y="182880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Targ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62160" y="2209680"/>
              <a:ext cx="16002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Targ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62160" y="350532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Targ</a:t>
              </a:r>
              <a:r>
                <a:rPr b="1" i="1" lang="en-US" sz="1800" spc="-1" strike="noStrike">
                  <a:solidFill>
                    <a:srgbClr val="000066"/>
                  </a:solidFill>
                  <a:latin typeface="Courier New"/>
                </a:rPr>
                <a:t>n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62160" y="2590920"/>
              <a:ext cx="160020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71800" y="1447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jtab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371600" y="4876920"/>
            <a:ext cx="2971800" cy="63756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arget = JTab[op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*targe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1447920"/>
            <a:ext cx="2286000" cy="2557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(o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val_0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val_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val_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9144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witch For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960" y="441972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rox. Transl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5000" y="9144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mp Tab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2600" y="8380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mp Targe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0866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witch Statement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3975120" cy="41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anching Possibilit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5257800"/>
            <a:ext cx="3441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u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4343400"/>
            <a:ext cx="59356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parse_symbol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5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are op : 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a .L4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gt; goto d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*.L57(,%eax,4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oto Table[op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1066680"/>
            <a:ext cx="33368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umerated Valu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UL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INU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IV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371600"/>
            <a:ext cx="510516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en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ADD, MULT, MINUS, DIV, MOD, BAD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p_typ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unparse_symbol(op_type o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 (o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86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Setup Explan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mbolic Labe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els of form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L</a:t>
            </a:r>
            <a:r>
              <a:rPr b="1" i="1" lang="en-US" sz="2000" spc="-1" strike="noStrike">
                <a:solidFill>
                  <a:srgbClr val="003300"/>
                </a:solidFill>
                <a:latin typeface="Courier New"/>
              </a:rPr>
              <a:t>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ranslated into addresses by assemb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ble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arget requires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e address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L5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ump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Jump target is denoted by labe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L49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mp *.L57(,%eax,4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art of jump table denoted by labe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5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holds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scale by factor of 4 to get offset into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etch target from effective Addres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57 + op*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5334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mp Tab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3962520"/>
            <a:ext cx="33372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umerated Valu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UL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INU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IV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371600"/>
            <a:ext cx="2976840" cy="255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section .ro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7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838080"/>
            <a:ext cx="3441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ble Cont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1295280"/>
            <a:ext cx="4251240" cy="502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3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+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2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*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3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5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-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7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/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5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37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%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6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63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?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all Through to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94280" y="762120"/>
            <a:ext cx="3441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rgets &amp; Comple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391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witch Statement Completion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8255160" cy="784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uzz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value returned wh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invali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sw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t beginning of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is becomes the returned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vantage of Jump Ta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do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way branch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1066680"/>
            <a:ext cx="593568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4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5448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54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e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L49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ecomes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75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e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L57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ecomes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bc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2133720"/>
            <a:ext cx="8610480" cy="2009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8048718 &lt;unparse_symbol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1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pushl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1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5          movl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1b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45 08       movl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1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3 f8 05       cmpl   $0x5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2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7 39          ja 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2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f 24 85 c0 8b jmp    *0x8048bc0(,%eax,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134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bject Cod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ump Ta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n’t show up in disassembled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inspect using GD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db code-examp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x/6xw 0x8048bc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mine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he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ecimal format “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rds” (4-bytes each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command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help 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 to get format docum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bc0 &lt;_fini+32&gt;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30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37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40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4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50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5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051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racting Jump Table from Bin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394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ump Table Stored in Read Only Data Segment (.rodata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ous fixed values needed by your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examine with objdum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bjdump code-examples –s –-section=.ro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w everything in indicated segm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rd to rea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ble entries shown with reversed byte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30870408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ally means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0804873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3962520"/>
            <a:ext cx="8839080" cy="1460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ontents of section .rodata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bc0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30870408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37870408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40870408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4787040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0...7...@...G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bd0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50870408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5787040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46616374 28256429  P...W...Fact(%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be0 203d2025 6c640a00 43686172 203d2025   = %ld..Char = 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45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tting Condition Code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licit Setting by Compare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p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pl b,a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computing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a-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out setting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F set if carry out from most significant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for unsigned comparis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F set 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== 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F set 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a-b) &lt;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set if two’s complement ov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a&gt;0 &amp;&amp; b&lt;0 &amp;&amp; (a-b)&lt;0) || (a&lt;0 &amp;&amp; b&gt;0 &amp;&amp; (a-b)&gt;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6832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assembled Targ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0520" y="5181480"/>
            <a:ext cx="8307360" cy="12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 %esi,%es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oes not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ed to align instructions for better cache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0" y="1219320"/>
            <a:ext cx="8915400" cy="365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b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b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2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a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a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1e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04873e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9 f6   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d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d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1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f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f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0e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04874e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9 f6   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5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5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0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3f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3f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59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ching Disassembled Targ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1828800"/>
            <a:ext cx="4800600" cy="365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b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2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a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1e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f6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d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1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f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0e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f6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5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0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3f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286000"/>
            <a:ext cx="297180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t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3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37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40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4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5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5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133720" y="1980720"/>
            <a:ext cx="1676160" cy="838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133720" y="2590560"/>
            <a:ext cx="160020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33720" y="3352320"/>
            <a:ext cx="167616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3886200"/>
            <a:ext cx="1600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4267080"/>
            <a:ext cx="167616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4572000"/>
            <a:ext cx="167616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arse Switch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47960" y="1220760"/>
            <a:ext cx="3949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practical to use jump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uld require 1000 entr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vious translation into if-then-else would have max. of 9 te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1219320"/>
            <a:ext cx="4647960" cy="5026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Return x/111 if x is multip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&amp; &lt;= 999.  -1 otherwis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div111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(x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  0: return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111: return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222: return 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333: return 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444: return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555: return 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666: return 6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777: return 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888: return 8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999: return 9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fault: return 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arse Switch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47960" y="1220760"/>
            <a:ext cx="3949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res x to possible case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s different places depending on outco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1219320"/>
            <a:ext cx="4647960" cy="338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444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44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e L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 L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111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1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e L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 L1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st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e L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2759040"/>
            <a:ext cx="2362320" cy="392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5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6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2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7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3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1295280" y="3429000"/>
            <a:ext cx="609480" cy="721440"/>
            <a:chOff x="1295280" y="3429000"/>
            <a:chExt cx="609480" cy="721440"/>
          </a:xfrm>
        </p:grpSpPr>
        <p:sp>
          <p:nvSpPr>
            <p:cNvPr id="300" name=""/>
            <p:cNvSpPr/>
            <p:nvPr/>
          </p:nvSpPr>
          <p:spPr>
            <a:xfrm flipH="1">
              <a:off x="1599840" y="3429000"/>
              <a:ext cx="30492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5280" y="3809880"/>
              <a:ext cx="414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800600" y="4308480"/>
            <a:ext cx="609120" cy="721440"/>
            <a:chOff x="4800600" y="4308480"/>
            <a:chExt cx="609120" cy="721440"/>
          </a:xfrm>
        </p:grpSpPr>
        <p:sp>
          <p:nvSpPr>
            <p:cNvPr id="303" name=""/>
            <p:cNvSpPr/>
            <p:nvPr/>
          </p:nvSpPr>
          <p:spPr>
            <a:xfrm flipH="1">
              <a:off x="5105160" y="4308480"/>
              <a:ext cx="30456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00600" y="4689360"/>
              <a:ext cx="41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324480" y="4308480"/>
            <a:ext cx="609480" cy="721440"/>
            <a:chOff x="6324480" y="4308480"/>
            <a:chExt cx="609480" cy="721440"/>
          </a:xfrm>
        </p:grpSpPr>
        <p:sp>
          <p:nvSpPr>
            <p:cNvPr id="306" name=""/>
            <p:cNvSpPr/>
            <p:nvPr/>
          </p:nvSpPr>
          <p:spPr>
            <a:xfrm flipH="1">
              <a:off x="6629040" y="4308480"/>
              <a:ext cx="30492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24480" y="4689360"/>
              <a:ext cx="414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048120" y="4308480"/>
            <a:ext cx="609120" cy="721440"/>
            <a:chOff x="3048120" y="4308480"/>
            <a:chExt cx="609120" cy="721440"/>
          </a:xfrm>
        </p:grpSpPr>
        <p:sp>
          <p:nvSpPr>
            <p:cNvPr id="309" name=""/>
            <p:cNvSpPr/>
            <p:nvPr/>
          </p:nvSpPr>
          <p:spPr>
            <a:xfrm flipH="1">
              <a:off x="3352680" y="4308480"/>
              <a:ext cx="30456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8120" y="4689360"/>
              <a:ext cx="41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5486400" y="25146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971800" y="1676520"/>
            <a:ext cx="1295280" cy="7617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67080" y="1676520"/>
            <a:ext cx="1143000" cy="7617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2438280"/>
            <a:ext cx="1143000" cy="914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609840" cy="914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981080" y="2438280"/>
            <a:ext cx="914400" cy="914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9200" y="2514600"/>
            <a:ext cx="380880" cy="838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05320" y="3429000"/>
            <a:ext cx="304560" cy="7621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29200" y="3429000"/>
            <a:ext cx="533520" cy="838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3080" y="3429000"/>
            <a:ext cx="533520" cy="838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arse Switch Cod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0520" y="5181480"/>
            <a:ext cx="8307360" cy="12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ganizes cases as binary t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arithmic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67080" y="1752480"/>
            <a:ext cx="0" cy="3812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95480" y="25146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34290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52680" y="34290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2880" y="34290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34290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43434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86400" y="43434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10280" y="43434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600200" y="1447920"/>
            <a:ext cx="5788080" cy="3054240"/>
            <a:chOff x="1600200" y="1447920"/>
            <a:chExt cx="5788080" cy="3054240"/>
          </a:xfrm>
        </p:grpSpPr>
        <p:sp>
          <p:nvSpPr>
            <p:cNvPr id="333" name=""/>
            <p:cNvSpPr/>
            <p:nvPr/>
          </p:nvSpPr>
          <p:spPr>
            <a:xfrm>
              <a:off x="3962520" y="1447920"/>
              <a:ext cx="682560" cy="46332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4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0920" y="22096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08400" y="2209680"/>
              <a:ext cx="68292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7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00200" y="31240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7320" y="31240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2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54440" y="31240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5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81560" y="3124080"/>
              <a:ext cx="68292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88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29000" y="40384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3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81480" y="4038480"/>
              <a:ext cx="68292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6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05720" y="40384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99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719360" y="379260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28605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38480" y="209880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4120" y="289548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7749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48520" y="37749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81680" y="46893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37749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05320" y="46893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57800" y="472428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05320" y="167652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95280" y="350532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52480" y="357336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59320" y="167652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25800" y="182880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4280" y="251460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78640" y="25146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45120" y="266688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342108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69000" y="342108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35840" y="357336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33720" y="250668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87720" y="250668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54200" y="265896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434340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441180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43434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4120" y="44118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0800" y="43434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4118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504600" y="350532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971080" y="350532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144400" y="357336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611600" y="357336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613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iz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407664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 Control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-then-el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-wh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witc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ssembler Control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jum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al jum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mpile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generate assembly code to implement more complex contro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038120" y="837720"/>
            <a:ext cx="455940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ndard Techniqu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 loops converted to do-while form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rge switch statements use jump tabl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ditions in CISC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ISC machines generally have condition code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ditions in RISC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 general registers to store condition inform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ecial comparison instruc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on Alpha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ple $16,1,$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ts register $1 to 1 when Register $16 &lt;= 1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0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tting Condition Code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licit Setting by Test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st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s condition codes based on value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to have one of the operands be a ma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stl b,a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computing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a&amp;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out setting destination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F set wh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&amp;b =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F set wh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&amp;b &lt;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74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Condition C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2070000"/>
          <a:ext cx="8229600" cy="47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70000"/>
                    <a:ext cx="82296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X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single byte based on combinations of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Condition Code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553392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X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single byte based on combinations of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of 8 addressable byte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bedded within first 4 integer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 not alter remaining 3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zb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finish jo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a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d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74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d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25146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c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25146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29718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b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29718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b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3657600"/>
            <a:ext cx="381492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t 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x &gt;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105520"/>
            <a:ext cx="579096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ax,8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are x :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g %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l = x &gt;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zbl %al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ro rest of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62720" y="556272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89880" y="537048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e inverted ordering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72428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080" y="152280"/>
            <a:ext cx="2031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m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1600200"/>
          <a:ext cx="822960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0520" y="685800"/>
            <a:ext cx="8307360" cy="57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X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o different part of code depending on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365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al Branch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286000"/>
            <a:ext cx="312408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gt;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1371600"/>
            <a:ext cx="380988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max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a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L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d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2514600"/>
            <a:ext cx="304920" cy="144792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97520" y="3048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1676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45600" y="17524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449568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84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96520" y="152280"/>
            <a:ext cx="831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al Branch Exampl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191120"/>
            <a:ext cx="6095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ax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 :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L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066680"/>
            <a:ext cx="388620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oto_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ok = (x &lt;= 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val 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5334120"/>
            <a:ext cx="304920" cy="30456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15880" y="533088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kipped when x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19720" y="1649160"/>
            <a:ext cx="4178160" cy="25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allows “goto” as means of transferring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ser to machine-level programming sty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lly considered bad coding sty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8:26Z</dcterms:modified>
  <cp:revision>74</cp:revision>
  <dc:subject/>
  <dc:title>Machine Level Programming II</dc:title>
</cp:coreProperties>
</file>